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0C4-C362-49C8-91A6-D7C72362E4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5F22-FF7A-4164-AF53-A54CAB2BDA4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F9B-B41D-452E-8E96-7ED795EF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816-CB65-4F2A-8A0B-20CB48C4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92F-1C42-4442-9E85-98D8BB9A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16C-0483-4968-94F9-E3571BF6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24F4-781F-49C8-9B46-0E176B5E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C192-B8ED-4844-87EE-C48D059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0463-81D0-4269-B0E7-528DDFA4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8DF3-DBDA-480F-B999-306CB05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C33C-7469-4C74-B2B5-CBB92C78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A4B2-3932-469C-AA4C-E1C999CD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80D6-2436-4458-9F66-DA474F6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E00-0647-42CE-8B47-80C02153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7418-AA11-4BC6-B053-09E55E1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0703-0E08-43E2-8F8F-88493138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12E8-D8D1-40C2-B7E9-27FAEB27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068-12F7-4B29-8685-2A65D013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4ED2-EACA-4261-AF15-E6BD482F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43F6-F24F-4ABC-98FE-A318010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9741-359B-40F5-86E9-4D96DF4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E7FD-7304-4F9D-8EF5-DADF4FDE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9B558-236A-40E2-BD7A-C1C84AEE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68F1-B486-4607-9A1C-213F120B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BE1-0C9E-44B1-85F3-5CF3D79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C62C1-811A-4F6C-B982-83BA1243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4C8B-B65E-4E6D-8CE2-8BE349E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52F1-4007-4723-A41F-F8D296D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6D33-0021-4C26-93CF-0E10FB6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A2F2-DFEE-4B83-89C6-89E6A1C7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AFBC-E64C-4366-9B17-ECD7EE64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E0A7-24AD-4442-9F2B-B31C77A3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51E1-E52A-4C2C-A1BA-66870F2B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59D88-9B98-4632-8BBF-0368A15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638F-6E15-4E22-A498-E54EE87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4DB-FD3E-4D09-A308-5F3DAE4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8847-F5A4-4378-9539-2C6463B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B0E1B-4553-4264-87C0-BC95C37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5191-5F45-4F05-92A4-CFB0E344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E205-3115-4B5E-9C50-AEADDB26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7B8B-302F-4B73-BA1E-8904998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8F0E-1028-4AED-B31E-11DFFC95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B8ED-5315-4498-97EF-47BE5022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D3E4F-8BA5-48A5-B89B-E619DA79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ABDA-7C90-4E36-8CA6-FCF4DF22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494E-0A71-402E-8E91-1E0EFAFD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755-711C-4F4E-A792-166E7FE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22F5-E3B9-4ADE-A5A1-24D0FFDB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6D672-B103-4101-B3D0-CAD910D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77D3B-F7EB-4905-BCDB-99E00FB1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87C13-A908-4890-8280-8B23F9A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3BDF-A367-49A9-893D-778994F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E7227-AA35-441B-9B55-9B70A26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D5B26-C55E-48B3-B6B8-A40A2DBD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364CD-A36B-467B-980C-F8419EB8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8806E-6C71-49DD-8DA8-35E1CCAB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7790-A896-48D4-B933-B0C7C01B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585-EE6A-4A19-99D0-88B6A42C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41F6-10E5-4F90-997A-A66A725C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A9F4-E824-4F7D-98F7-933AEF78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989A-8760-4003-A32E-63A7F1D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2636-3DFE-42AA-A85E-663A9B2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C690E-99C4-4F25-95C0-C3E2A34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8018B-517C-4CF7-BDA3-602DFC2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B7AA6-7DC9-45A4-B208-DE2838A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77286-33D8-4C3D-BD40-453C14DD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66DA3-9BEA-42DC-B5A2-D002AC8A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87705-538A-425D-8F32-E54FD9D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18D-559C-4F07-BE4D-A3E0970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C3121-D177-4F74-A738-EE63CA8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6CE3-84B1-4A6A-AA1E-3C5641B0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E8E5-AB93-4179-9BD7-2F1EEE92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758D-E14F-4941-BF96-4FDBF673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1AAE1-E123-4325-8507-12C1CDF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8200A-0531-4DFF-A963-0861DF8D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5859F-37C8-451F-855D-29E58D3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CEAF0-D0DD-488D-A4BB-16EC257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60863-BDFF-4E77-A201-9124B686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98EE6-5299-4073-A841-A689C6E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CFD-DCF1-4DDE-AFD5-B5C55D2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E22A4-F570-4D1F-B93B-17F7A65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E3DF9-431E-42AF-B9C0-02973CD8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2CC38-C627-4D57-B58F-8A747F72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2FE7B-E145-4C94-8ECE-E271063B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23AD-CFDF-40F6-AF52-6ADB1E03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47A-73F7-462F-8D4E-55376BB0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5D88-1E3F-44AB-93D8-C9F91D4D16F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688B-0A25-4BDB-B220-75C194AAB56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6323-4A8A-43E4-8F79-2D90DA9B77D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F6B6-341C-4F8F-B7D3-366EF820DEE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7E5D-1CB5-46C0-82C1-02353FB0A0A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C1C6-BDDB-4500-99A8-2062162D5CFA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32A2-E4D0-4C8E-B89E-8DD83EE28B4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4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64448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istribución de Viajes: Método de Furness y Método Gravitac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alcular los parámetros de los modelos y realizar estimaciones futuras de la matriz origen-desti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480" y="18568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sea predecir la distribución de viajes para cierta ciudad intermedia de Chile dividida en cinco grandes zonas. Se tienen los resultados de una encuesta origen-destino para dicha ciudad, de la cual se extrajo la matriz de viajes, y además una predicción de la matriz de costos generalizados y de la generación y atracción de cada zona para el período que se desea predeci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28480" y="1447560"/>
            <a:ext cx="7429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mediante el método de Furness la matriz origen-destino fu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Determine la matriz que se obtiene utilizando el método gravitacional, co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alice un análisis de sensibilidad para el parámetro beta, es decir,  calcule la matriz con el método gravitacional para diferentes valores de be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mpare e interprete los resultados obtenidos en los puntos anteriores. Desarrolle y redacte bien sus idea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cálculos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01T19:33:28Z</dcterms:modified>
  <cp:revision>46</cp:revision>
  <dc:subject/>
  <dc:title>Taller I CI43A</dc:title>
</cp:coreProperties>
</file>