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9B25-30F9-4FF5-9303-5C0F23F8C084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7029-82DF-4405-8254-68A4B6DA8AD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A0D2-068C-4C7B-9EA1-7B723CA45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8D22-ACBC-4D12-8A4A-6FAAA75D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7686-89F7-476F-BCAF-762FFEEFF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1008-E95D-464E-89BC-A46005DDD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F1F6-0D13-4AA1-A0C8-77AE0FEAE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E176-EB25-4634-AF42-BF9180E7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DB17-ED70-43B8-AC6E-D8F195E0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DF8E-F2C1-420C-B906-A93FB958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42A5-2A33-4B33-A6A6-7057AAD9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88F6-6309-49FB-A478-ED39A267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4B05-22B2-416B-BA1C-C46E9291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C885-ED9E-43C0-AAAB-03E3B124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451A-9894-471B-8532-5626D36B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2204-6503-4A9A-BFC4-2CA6299F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475C-6775-4804-8808-BD82A972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6273-B089-4EC8-A5C7-6A7D9A9AD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E7B4-97A5-4872-9B25-4CC43B569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2E5E0-FF4E-4C93-98E6-6C96EBBBC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6A382-FF00-49D0-91AE-02D03155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C27CA-D91F-49E5-9DE5-826F6CB6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E520F-89F6-4152-83A5-2250CF22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20DBF-EB61-4109-80A0-06743FCC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2F37-2FDB-48DB-8C2D-99D4AE78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DDB33-1359-4331-BBE4-6972CEE8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29ED3-A241-4310-AC0B-68E0FEE8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234E5-70E2-4927-B914-584F2DB0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F0AFC-276D-4941-ADF2-2BCC0263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40A11-60D8-42B3-8C59-0231E2E3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4225A-07C2-4DC0-9CAC-0F0BD01F1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FBE75-007F-4300-BFB4-ED17FCC2C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CBE15-61D5-41E5-8B3F-B1E5A25ED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09061-6F1B-46DE-BC4E-2D40BA0D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7CA76-FD62-49A5-B51D-71F5FCC4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15E9-E4A0-4136-9E0E-9BA100A6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B7572-2370-4E4D-AAD8-DFCD99F0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354A1-9447-4457-B27D-F9A4D706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74CA8-F523-40B8-BD26-88044CF9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4B3FB-C498-44DF-951E-00152361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DE3D3-2C81-4EFC-9183-8833B4C5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86841-2E09-49B8-8040-3DC84F05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9EC78-880C-4940-9780-DD0276D0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E147D-4397-4722-B27F-3FC7FEC4C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51C87-5286-4B16-AF32-FF05B6B8A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E470B-5B2D-4D37-AB40-1DAE783FE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ADF7-BD6C-4C7F-AC37-0B29EBDC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87B66-1F9B-47C9-999E-56BD9781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FAC98-B154-47DF-9FAC-15968136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6E45E-88D4-40AC-AF1D-64AD4BF1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3C66F-58E5-4093-8674-3E56B7C0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D972B-E756-492A-A502-D15A1B20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F9E17-61C8-4DF2-86F0-66F3B57D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ACFDD-A832-4D73-AF60-43847F63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F433B-FABB-4DC6-B738-D0D18BBE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6B5EB-070D-4124-BE68-18CA5BA6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22BF9-70BB-477D-B764-D8D50528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9F27-9D12-4F88-9924-BB1DFAFC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613D4-B893-4851-BDC0-4D4B9425D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E374D-9DC8-4BCA-BAA6-ED94E35BD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EBC97-639E-4DB6-A3A5-32E9E1E8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DCBD3-6A1C-42E9-8D54-254B9D27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84FF7-F00B-4624-8006-6A5339A6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39DC2-808D-4A2D-AF6E-BDEDD556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E35A3-3523-4DCC-8DC8-8E1535E5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75AD2-4F83-4C39-8CD3-88038DD9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55D54-99FF-4771-8EB6-A8B0FB54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AEC07-90E0-4BEB-8B8A-5B24B7CB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9342-3C49-4EAD-A0C7-A428AD83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146E3-9E94-48C3-BF25-59EB2F26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CABF9-B229-4BCF-A341-B90C4892B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A812F-07FE-4687-9C99-243DF1EEB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3D6DB-3A4A-4868-8959-110439C43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E5285-5231-4335-B115-33FF1C82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F4E84-A615-47EA-B80B-49DA092F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A2AAD-4556-4427-A663-03995B0B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E8736-7310-4C0F-B202-08D8DBE3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3F19B-0938-4BAD-AE80-5567D267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71030-66BF-4C20-A5F3-AB942C63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DD23-7E96-4028-BDDC-8DEB353E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7E439-759C-41F2-ABDB-BD3C2BA2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613A3-F238-4BAB-9851-1636210A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0FE4F-44F9-4C04-B251-7310CB3B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7FAF3-A936-41C7-A42A-E983A0AD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B5B51-176A-4D5E-9B71-8E5DDF57C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1E46-15E0-47EE-B0B0-9CCB94AD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4FEC-7770-42B8-A66D-5DFD601FD92D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C6B8-3556-494D-A0B2-76EC4504D9C2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2704-B137-4A31-B0AF-30E457E9C412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516E-4438-4631-AA19-43B5C13E2A85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84EF-1071-4FE0-BCFC-953C705549DA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6A9C-CB93-432E-AD25-3979DAFB12F2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7561-630C-4A09-B2AB-0F57992F296D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4 CI43A/IN640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64448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Distribución de Viajes: Método de Furness y Método Gravitacion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Objetivo: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alcular los parámetros de los modelos y realizar estimaciones futuras de la matriz origen-destin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28480" y="185688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sea predecir la distribución de viajes para cierta ciudad intermedia de Chile dividida en cinco grandes zonas. Se tienen los resultados de una encuesta origen-destino para dicha ciudad, de la cual se extrajo la matriz de viajes, y además una predicción de la matriz de costos generalizados y de la generación y atracción de cada zona para el período que se desea predeci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28480" y="1447560"/>
            <a:ext cx="7429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alcule mediante el método de Furness la matriz origen-destino futur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Determine la matriz que se obtiene utilizando el método gravitacional, con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Realice un análisis de sensibilidad para el parámetro beta, es decir,  calcule la matriz con el método gravitacional para diferentes valores de bet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mpare e interprete los resultados obtenidos en los puntos anteriores. Desarrolle y redacte bien sus idea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n entregar los archivos con el siguiente formato: apellido1_apellido2.do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sunto: Taller n°4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ncluir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breve informe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el desarrollo del taller y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archivo .xls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los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cálculos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l punto base se asigna de acuerdo a la presentación y orden de los archiv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9-09-01T19:33:28Z</dcterms:modified>
  <cp:revision>46</cp:revision>
  <dc:subject/>
  <dc:title>Taller I CI43A</dc:title>
</cp:coreProperties>
</file>