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1164-CDC0-4BD9-B0C2-09E66A38C40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2C59-75E9-40A7-B5F7-88FEF29D339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0F3-EA58-42DF-94B9-61DBCE5B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4F5-EC7A-40B1-B809-ED3C1F01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1A2D-A623-4EAA-B030-C042C30B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35E-4D68-4038-9451-1365732F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D831-B9CD-4AA3-B4A1-8022D65F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52EE-8FE5-4EE0-87AF-BFF88C06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F015-9095-4AD0-866D-E91A5C45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93D2-CCF8-4E6D-AE0D-E8254EE1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7979-69F1-44D1-8CD6-DEB49805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6589-07EF-498A-8515-76FB9C06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FF0F-13F5-4C93-8472-7AE46506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D51-9547-4130-B124-7BD21A10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29B5-F325-4FCF-8F60-5FCFD905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EAE2-7902-4E4D-A9BF-4A818A63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12F8-08B2-4DDD-90CF-D4E2EDFC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0289-D66F-4A34-8708-936ED6F0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7B05-9551-4CAD-9E07-5280439C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F71ED-077C-4059-B652-B8E2F298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0454C-59E0-4188-BF4D-53049827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2224F-1E19-42EB-9291-8E38CEC7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61BC2-2C4C-4959-A541-6A102238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7CBF5-2765-4603-B824-F39424C1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402-F0E5-4EFA-832D-9C5B9AB6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C4FC2-122B-4840-8269-1472B776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2406C-8914-4892-B6E3-A2D4E98D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5F47F-5DCA-47D4-B959-4917AFD3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0853-6DFA-4CB8-95A3-BC5091C1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F08C-A094-4374-8690-6C5CCDB6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1BABF-622A-4F96-ACD0-033DF574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F3F9-998B-466C-BA8D-ED73D48E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12861-F3E8-4764-B780-797C5A07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43742-BC4E-48B9-A15B-B8D02C11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1F547-ED0D-46A7-ABB5-80B6921B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B26F-B642-43F6-A785-BC88D265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1B8B1-4431-4EE8-AF23-87F99739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42968-8EEF-48C7-927E-97AB669A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CE828-DC4C-44C8-9E80-B76EF4F3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66CDF-493D-495C-BF3D-9B0090FC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97017-9F64-4951-BA11-B0723C27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CABB6-35AE-47B9-9EAF-F367236B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4413A-1ADE-4CFE-B0AE-6CD01BB6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D1D82-37E5-4ED6-AC9A-79EC4853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5834A-739C-43AA-8E1F-E2A93ACE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FDB51-CE60-47F4-AF23-AD0E3B1C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833-5950-48B8-9FA5-BBD4E027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9A85E-405A-4894-B5BB-5DFBEADE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0A092-5D57-470B-8889-41A7614C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B53C4-37C8-4768-B60C-30C9EAF5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48F09-4D48-41D8-AE96-41F8DEF7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5761E-3666-45D6-A1E3-291C4C90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523B3-958B-49C1-B683-DA1FCE37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2F038-4A58-46DD-A2BD-2BD31B63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C578A-DF88-4D23-80E2-74E09A36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1742C-E075-45E7-9AA5-675F7B59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78152-862F-4741-9A93-631BBFCD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123-5A6A-4DD0-B8B5-F55CA77B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DA031-6DB5-4CD3-8B69-0FC5053D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3F7B1-5736-41A6-9EAE-AA40C23D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22B56-C5F5-4F5F-9FC6-B22B13A6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A75C0-B036-41D3-8193-9C96484A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18F4A-BFA2-4078-9087-978E30E1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CF6CC-AE87-475D-8ECF-FBE507FB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08300-5E16-422D-865E-996EF8A9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A5EF8-7C71-461B-AFA2-D8EB85E9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2DF6B-9ECA-4FBC-ABB9-0CFA8CED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8C4D2-942A-4A1C-B963-CB86627E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B5F-EFE4-4B79-BEEE-84C59D80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6DD19-33AF-4CFE-986E-48243A9A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EF3C7-1CD6-498D-8FD8-FA516763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2E2B8-6E62-45BF-844E-849DAF6D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16432-A663-465C-87E6-2EF36B48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D28B2-0503-4BC8-BC01-5DC8D85B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E4B5D-B74C-401B-8485-603A98CD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32ACF-FE40-4769-8EAA-BE748CD3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F0E7B-5C81-4C25-8E7F-A4CFB004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43E1E-795A-4E55-868B-0442793A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18F09-2879-4742-A814-83FBD9A9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821-7BC4-463A-83B7-285418CC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66557-69A3-44E0-99C0-E41A9314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1EB36-374D-4AD5-9800-A0A186B3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0A5BA-CF15-44FF-9A70-1322B200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E393C-FB5F-4468-A554-C7097E42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2653B-A8CB-463B-9B77-FC0BC264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675-87B9-4391-898E-71F84D56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01B2-9100-460D-A5C9-F8827213C5A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0BAD-EDD3-4663-9BF8-6945058AB87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0B7D-DF15-43B3-B266-927D8968AC1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64E3-42B1-437F-9C4C-3808E5E8E5E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3E03-8F0A-407F-B2DB-8C6F30C4DBC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8246-B4DF-4EA3-8F8C-FB954039650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6F24-38A9-4A59-B268-26DCCAB9A16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4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Furness y Método Gravita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 los modelos y realizar estimaciones futuras de la matriz origen-desti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mediante el método de Furness la matriz origen-destino futu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que se obtiene utilizando el método gravitacional, con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alice un análisis de sensibilidad para el parámetro beta, es decir,  calcule la matriz con el método gravitacional para diferentes valores de be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e interprete los resultados obtenidos en los puntos anteriores. Desarrolle y redacte bien sus idea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4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1T19:33:28Z</dcterms:modified>
  <cp:revision>46</cp:revision>
  <dc:subject/>
  <dc:title>Taller I CI43A</dc:title>
</cp:coreProperties>
</file>