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02DB-6BA8-4D12-9107-4547C8DB7B3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853-EE5A-4DF8-BEB8-6A07AEE919E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57D-5A3B-4C03-8BFB-022FAF4D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2F2-310A-4E27-AEB1-5DA58A08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0BD-2F14-4840-B2A8-A36B6501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FC0-6F2C-4057-9E2A-0896B8A4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4361-81CB-4A5F-A70A-84C13B2F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4E6-13F2-47A3-8F48-46221400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D65-2FE0-4A7D-9390-4E2EC564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9FD-FA13-4DA8-917A-8AA3A670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7929-537F-48E8-B98C-3AE204C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5FBA-DFCA-4E59-B461-5147B5F0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0C7B-39E2-4C14-B345-D1A262DD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9B7-D06C-447F-B0EB-5EA2DA25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BCE-8711-4AA8-9DEF-5530CE47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3B9C-D6B0-4AB1-B86A-1B4AFAE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269-E4C4-448B-A4D7-48E33070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70E8-1460-49D5-AE53-3CA31D92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7A32-C62C-4A5F-A53C-EAB72DB4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83D3-DD7F-40CF-B0A0-B1B91C37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CD0B-70A2-4927-962D-471A7F9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D43A-C96D-42CE-BB2A-F7C303B4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ACC8-F81F-4C86-9F23-AC0606EE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667C-5831-47EC-A81D-7C5FD470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890-AC6A-469B-9821-D072771E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EE5A-E124-4348-A9DB-D6A1A52D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3BA2-0154-4EFC-8FB4-61644436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ED2B-A4D1-4690-9EDD-B2E84A0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F37C-AE5B-4D93-B7A4-0772006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B485-19EB-430B-B014-6BB04C0E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86BC-34E4-473E-B764-5F5C706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3771-5FCF-4D8F-9C12-DD7487C1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A792-69C0-41A0-BA39-DFB1A05B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5A49-AE72-4D72-8EB7-149CC466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CF8D-7F3C-4298-B5C8-7B55CAC8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F8E-9A53-4A8E-AC70-21DB8C9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3581-BE88-480B-8C5D-55A457A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AE19-55D8-41DE-8F45-9754E520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B757-04BE-42E8-B5C8-A597F0B5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44EF-FD56-41F5-ACAF-3D4B986B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38C2-7590-4EE3-B3CF-94DCB18D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080F-3B94-4C49-A63B-CF0BD65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E9D7-5C9A-4CAA-8BEF-53B7C6F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8E99-E616-4D69-B880-F67473FD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0DDA-DCC6-4E3B-B4B5-24F2FB25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B8F82-4A1D-4328-98C4-9A15033B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CE4-F17D-495D-85F3-8AEB2EC3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78CA-5251-41B9-8AB3-5635427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9890-5815-437C-A150-9C8EAFF7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B2B41-6F8B-4138-A54B-F84B5215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8DD30-5200-4ED6-A7B5-58F807F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AAA9-89E8-4203-8BE1-74C10B73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B101-DD8C-4044-A28F-7072D8A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528FB-78A4-4C7A-9D04-A01046B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9FCD8-7938-4FAD-ABC4-CF3CD0B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50240-23EF-489D-9922-F20D38E7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2A59-B65E-412F-910F-B12D7F9B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683-54A8-4D9F-9700-EEA6763C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73224-813E-4770-BB53-C0F17053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AC9E6-30D8-4FE6-B541-AB319E92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90A3-A21A-4E7D-8DE4-7751D59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2101F-CF51-4F4B-97DB-FB85A3AC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2FF5-454F-4E17-B81C-3AC3F30B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150CB-0CDC-4B34-A8F9-1F5D9EE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AFC62-8BB8-4392-BDEE-0B58791F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1280B-FA23-4B49-9892-128294D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2D0C0-5574-426F-A339-B3B19BF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166E8-FBF5-4914-AFAD-C5662C2C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6C0-704E-4BF3-9DEA-86CE623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922A-2279-41EE-B217-8ED319D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C765C-5B1D-4251-A0F0-F5762E27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37AD5-2B35-4029-9EC8-1DA5E805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1872-40B1-43D8-A74F-575FA38D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C65CB-6BBD-4D0D-BF63-2D8EABC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BA30F-31BE-4417-ABF7-3210A1FA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487B-261B-4C9B-98CB-0DC8FBB0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F2D9-8FBC-41CE-A668-FF111820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29F44-F21D-4FE3-94E9-4DEB0083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A508F-8845-4234-88A3-E87AEF6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AFC-7AF2-433C-998C-14BA2AB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7D815-910B-4BFD-BDDA-49CD917E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00DB1-CA41-4CD0-B0DE-5FB0FC7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613D9-204F-4F32-89F4-25BC2E5B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D344F-E9B1-4DC9-B398-6DC63928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829E-C6AB-4344-AA23-03FB2B48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8FC-7521-475A-982F-CBFD372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DDBB-C05C-4888-94E3-F50165CF469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C4BF-865F-49DA-BAD2-CA5CCEC74EF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85D1-5DDE-47D6-BB7D-35685E284FC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CA94-0510-465B-9BB2-38CB8FFA5FE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499-7C24-4767-BE9F-627E807CD11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CE1C-731A-49C8-8BAA-08D1CEF0C76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CA15-BF22-4592-A3DE-B710F927E29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2314"/>
                </a:solidFill>
                <a:latin typeface="Calibri"/>
                <a:ea typeface="Arial"/>
              </a:rPr>
              <a:t>Taller 3 Análisis de sistemas de Transport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4.- Defina una zona que incluya la manzana de la Facultad de Ciencias Físicas y Matemáticas de la Universidad de Chile.  Sea claro en describir el perímetr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5.- Aplique el modelo a dicha zona. Para las variables explicativas (x) realice estimaciones basadas en su conocimiento de la zo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6.- Analice los resultados obteni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Otros 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Estudio-2 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 </cp:lastModifiedBy>
  <dcterms:modified xsi:type="dcterms:W3CDTF">2009-08-19T16:26:23Z</dcterms:modified>
  <cp:revision>46</cp:revision>
  <dc:subject/>
  <dc:title>Taller I CI43A</dc:title>
</cp:coreProperties>
</file>