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2D977-05D6-4921-A7F5-F54A229FB017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782BE-0032-4A7C-9C1D-54FC83801D1C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08725-7E0A-4FBC-9DAF-D24F29287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AC699-9EC2-42E5-837D-E9E853002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F1169-77E2-4F8F-9B41-1DBB130C1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AC067-59B1-40F7-8FBE-0AC5E61F3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2AB82-6A18-4AD5-A5ED-CAC3419B0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69EB4-BA00-4D47-8F11-530523108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9B242-2BC8-4FCE-B460-D3F99D16E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6DC67-EA22-4821-B981-F9E95C75F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BA07C-DE4B-4344-A636-FBB0B62E4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4B89D-FCFF-4F3C-B9DE-3E6B42148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A252A-F2DA-475A-8DA6-570CA4F13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07E14-7C2C-4B93-8A8A-163568614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98E9F-1ECD-4FC1-8709-731FE617A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608BD-1575-45FC-8A85-9871E7FF9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E4B2C-FB06-4184-94FC-F41CDA9ED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7921D-C5C0-4646-B508-C791ED441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F7399-DEA7-4AE0-88C3-642DE02FB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98492E-5A6F-44A1-9911-CF8CA17ED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AF3EB1-92DD-44D5-B4B2-80C546BE6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F9D9E7-FCAF-405B-97BE-87724053C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8D52F0-4B92-4AEA-B1F2-4D3FF1B45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57E489-42CA-43B9-941C-1F1EB2DD2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7E2D9-0229-45ED-AC08-4036E0C56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D17413-E309-4ED9-9BC1-19436295E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57054E-46B9-4B36-AA67-410F9B383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F02F7D-B277-41F8-992C-D2CA6F890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8ADB6E-2D03-4C12-8A7A-AAA8BD2AF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83D7DD-110B-413C-A881-134DB08D4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318C39-F916-4A57-9F50-836A2AF36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64FCDD-78B2-4128-8C63-C18510CB9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121C73-640D-4D70-8CB7-B39FDFD6C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DD44BA-37AF-4FB5-B792-C12725534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54A28F-13EE-4653-B0B8-36833CAC2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6D464-99EC-4B87-BD2B-008B83565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B066A4-D6C8-48B3-BAB9-6AAE21FC1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322684-63FB-41AB-84F6-D7F43C7E9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5CD3A7-F692-4132-BF74-8CEFB6404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3D4639-8566-4D12-899B-0989D55A7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AE8922-DCA9-43A4-93B2-19DB34C00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EBB452-67D8-4600-A4D4-289CF5E3C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5ED7A7-813C-454F-81EA-A70586AAE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58825D-D3D4-4A40-A47A-A565CD3E3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D469D5-CA5F-4B4D-926D-7195B7BF6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09AB94-9FDB-466E-8A34-CD57B5CA1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E059F-7692-48AD-9025-D29E3F5B8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A24EA0-BD1F-4BAB-ACC6-2C7353512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196702-F01A-4E2B-A7D8-E147E4644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07ECCF-8FC8-4F8A-B58D-628B24202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8C4927-976F-4295-918D-498445D8A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8267C7-C6F7-47E8-B308-4F28A1E4E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15588A-88E1-40BC-AA70-4EF694AA6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5C4609-FFBC-45BD-AD14-B2258718E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4D3794-0809-4B35-8915-A7A7A8AF8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0A4D1E-7534-4BDB-897B-3B1FED7A3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08A4A6-A063-4BE1-9953-5DB5F0D4E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CCAF5-0F44-4393-914D-5656EB823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F543F8-A5AE-4F03-BE25-A04A934BB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56A2DC-BDD0-4A43-943D-5FB7B39F7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74F60E-F153-4E35-BE8C-2CD151264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42E7E5-A461-4FE9-8CA6-377FDC69E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1FFBA8-F47C-4DA6-A401-BD3B4D413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080DAA-7430-4052-B8ED-3CCA95C70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EE2D02-0EC5-4A5C-A770-24C2C7BF8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1F6A6C-A4D8-4EDD-9405-2A8A9BF96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6B2E36-A00F-4A28-B5FB-A051AD454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17D137-59B7-481B-9A9B-091686F5E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CED47-1D1C-4BC4-B7F4-1B06AA043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19AC0C-6B57-43A8-9A4D-C9F9D1E16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F358A2-1D0D-4D1E-9BEE-79D4FDE80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54B5F1-7F25-471D-97F5-5D62CB9AF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4E844B-F247-41C0-8308-1E135FD15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0A8BE7-7F0B-452A-818F-588DB1C7E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2E556F-9E54-48F1-8F06-678A86B4B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E21C88-59B1-4DE3-9FC7-4EE1A072E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141C95-CD7F-43E0-8120-05CED20B8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181550-36F6-444B-917D-BFFC52823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21DAA3-2A2D-4E74-AE1E-5567A0BBF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1B68E-EDA6-4678-92A4-6D1F0543D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70BAD2-B837-4DF8-A4B8-553F39699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5BCF0B-8E01-48E9-A717-950412989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530289-CA5D-42B1-AB75-27BA83AAC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019B80-0296-4ECA-A57D-FB28FA9CB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E9C5DD-2A3D-4351-AC92-B737C86AF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4EA09-2316-43F3-96CC-32587E7AF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Circular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7 Elipse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10 Anillo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10 Anillo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11 Rectángulo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A6BDD-5472-4DE8-AE7D-A7E8AE00CEC9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14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6 Circular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7 Elipse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10 Anillo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10 Anillo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11 Rectángulo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14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12 Elipse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12 Elipse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13 Elipse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71DD2-BAAA-453E-A41B-7C69BF9B116D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12 Rectángulo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13 Rectángulo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15 Elipse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15 Elipse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16 Elipse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4372A-977A-4353-874A-C32D521BCE24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A7420-DE6B-4256-8A70-AC737DFDAC84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12 Rectángulo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13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57525-BE36-4E33-B914-4C6C78555D96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E6A97-2C66-4511-84F6-ABECEBF347B9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12 Rectángulo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12 Rectángulo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13 Proceso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15 Proceso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FB4AB-18DA-477E-873B-F717D00C4873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28840" y="85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572314"/>
                </a:solidFill>
                <a:latin typeface="Calibri"/>
                <a:ea typeface="Arial"/>
              </a:rPr>
              <a:t>Taller 3 Análisis de sistemas de Transporte</a:t>
            </a:r>
            <a:endParaRPr b="0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spcAft>
                <a:spcPts val="601"/>
              </a:spcAft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spcAft>
                <a:spcPts val="601"/>
              </a:spcAft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Generación y Atracción de Viaj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spcAft>
                <a:spcPts val="601"/>
              </a:spcAft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Objetivo:  </a:t>
            </a: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Analizar y aplicar modelos de generación y atracción de viajes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spcAft>
                <a:spcPts val="601"/>
              </a:spcAft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Modelos:  calibrados a partir de la información obtenida de la EOD2001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300" spc="-1" strike="noStrike">
                <a:solidFill>
                  <a:srgbClr val="572314"/>
                </a:solidFill>
                <a:latin typeface="Gill Sans MT"/>
              </a:rPr>
              <a:t>Actividad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Las actividades enunciadas en estas diapositivas deben ser realizadas para los modelos de generación y para los modelos de atracción que se muestran más adelante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1.- Comente acerca de lo que representa el intercepto (constante) en el modelo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2.- Analice los modelos que se presentan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ill Sans MT"/>
              </a:rPr>
              <a:t>¿Son razonables las variables incluidas?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ill Sans MT"/>
              </a:rPr>
              <a:t>¿Incluiría alguna otra?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ill Sans MT"/>
              </a:rPr>
              <a:t>Refiérase a los signos y magnitudes de los coeficientes  de cada uno de los atributos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300" spc="-1" strike="noStrike">
                <a:solidFill>
                  <a:srgbClr val="572314"/>
                </a:solidFill>
                <a:latin typeface="Gill Sans MT"/>
              </a:rPr>
              <a:t>Actividad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9688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3.- Elija justificadamente uno de los dos modelo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9688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4.- Defina una zona que incluya la manzana de la Facultad de Ciencias Físicas y Matemáticas de la Universidad de Chile.  Sea claro en describir el perímetro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9688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5.- Aplique el modelo a dicha zona. Para las variables explicativas (x) realice estimaciones basadas en su conocimiento de la zona.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9688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6.- Analice los resultados obtenidos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9688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96880" indent="-5144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300" spc="-1" strike="noStrike">
                <a:solidFill>
                  <a:srgbClr val="572314"/>
                </a:solidFill>
                <a:latin typeface="Gill Sans MT"/>
              </a:rPr>
              <a:t>Modelo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ill Sans MT"/>
              </a:rPr>
              <a:t>Variables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333" name=""/>
          <p:cNvGraphicFramePr/>
          <p:nvPr/>
        </p:nvGraphicFramePr>
        <p:xfrm>
          <a:off x="1714680" y="2143080"/>
          <a:ext cx="6500520" cy="4143600"/>
        </p:xfrm>
        <a:graphic>
          <a:graphicData uri="http://schemas.openxmlformats.org/drawingml/2006/table">
            <a:tbl>
              <a:tblPr/>
              <a:tblGrid>
                <a:gridCol w="1062000"/>
                <a:gridCol w="5438520"/>
              </a:tblGrid>
              <a:tr h="258840"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Sigl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Descripció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258840"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SCON_R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Superficie Construida Destinada a Residencias (m2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480"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SCON_I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Superficie Construida Destinada a industrias (m2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0640"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SCON_CO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Superficie Construida Destinada a Comercio (m2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480"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SCON_S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Superficie Construida Destinada a Servicios (m2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840"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SCON_S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Superficie Construida Destinada a Salud (m2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840"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SCON_ED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Superficie Construida Destinada a Educación (m2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840"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SCON_AL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Superficie Construida Destinada a Almacenamiento y Bodegas (m2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840"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SCON_ES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Superficie Construida Destinada a Estacionamientos (m2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480"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SCON_OT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Superficie Construida Destinada a Otros (m2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840"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SCON_TO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Superficie Total Construida (m2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0280"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HOG_TO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Total de Hogar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840"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MAT_B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Matriculas de Enseñanza Básic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840"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MAT_M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Matriculas de Enseñanza Med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840"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MAT_SU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Matriculas de Enseñanza Superio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840"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MAT_TO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Total de Matricul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300" spc="-1" strike="noStrike">
                <a:solidFill>
                  <a:srgbClr val="572314"/>
                </a:solidFill>
                <a:latin typeface="Gill Sans MT"/>
              </a:rPr>
              <a:t>Generación de Viaj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ill Sans MT"/>
              </a:rPr>
              <a:t>Propósito: Otros (distinto de estudio y trabajo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ill Sans MT"/>
              </a:rPr>
              <a:t>Período: Fuera de punta (10:00-12:00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ill Sans MT"/>
              </a:rPr>
              <a:t>Basados en el hogar retorno y no basados en el hogar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300" spc="-1" strike="noStrike">
                <a:solidFill>
                  <a:srgbClr val="572314"/>
                </a:solidFill>
                <a:latin typeface="Gill Sans MT"/>
              </a:rPr>
              <a:t>Generación de Viaj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ill Sans MT"/>
              </a:rPr>
              <a:t>Modelo 1.a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ill Sans MT"/>
              </a:rPr>
              <a:t>Modelo 1.b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338" name=""/>
          <p:cNvGraphicFramePr/>
          <p:nvPr/>
        </p:nvGraphicFramePr>
        <p:xfrm>
          <a:off x="2071800" y="2071800"/>
          <a:ext cx="6000480" cy="1214280"/>
        </p:xfrm>
        <a:graphic>
          <a:graphicData uri="http://schemas.openxmlformats.org/drawingml/2006/table">
            <a:tbl>
              <a:tblPr/>
              <a:tblGrid>
                <a:gridCol w="2286000"/>
                <a:gridCol w="1036440"/>
                <a:gridCol w="841320"/>
                <a:gridCol w="995400"/>
                <a:gridCol w="841320"/>
              </a:tblGrid>
              <a:tr h="2426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V. Independien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Coeficien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Error típ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Probabilida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24300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Intercept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1,67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70,266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09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2,5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SCON_CO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01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0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,02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0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26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SCON_HA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00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00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,24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2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MAT_TO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138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0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,93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6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39" name=""/>
          <p:cNvGraphicFramePr/>
          <p:nvPr/>
        </p:nvGraphicFramePr>
        <p:xfrm>
          <a:off x="3643200" y="3571920"/>
          <a:ext cx="2689200" cy="350640"/>
        </p:xfrm>
        <a:graphic>
          <a:graphicData uri="http://schemas.openxmlformats.org/drawingml/2006/table">
            <a:tbl>
              <a:tblPr/>
              <a:tblGrid>
                <a:gridCol w="1749600"/>
                <a:gridCol w="939600"/>
              </a:tblGrid>
              <a:tr h="17532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R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959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532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R2 Ajustad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955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40" name=""/>
          <p:cNvGraphicFramePr/>
          <p:nvPr/>
        </p:nvGraphicFramePr>
        <p:xfrm>
          <a:off x="2214720" y="4929120"/>
          <a:ext cx="5857560" cy="1143000"/>
        </p:xfrm>
        <a:graphic>
          <a:graphicData uri="http://schemas.openxmlformats.org/drawingml/2006/table">
            <a:tbl>
              <a:tblPr/>
              <a:tblGrid>
                <a:gridCol w="2230200"/>
                <a:gridCol w="1013040"/>
                <a:gridCol w="822240"/>
                <a:gridCol w="971640"/>
                <a:gridCol w="820440"/>
              </a:tblGrid>
              <a:tr h="25560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V. Independien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Coeficien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Error típ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Probabilida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747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SCON_CO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014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00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,15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0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70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SCON_HA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00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00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,398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1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MAT_TO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14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04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,4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1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41" name=""/>
          <p:cNvGraphicFramePr/>
          <p:nvPr/>
        </p:nvGraphicFramePr>
        <p:xfrm>
          <a:off x="3857760" y="6357960"/>
          <a:ext cx="2595600" cy="350640"/>
        </p:xfrm>
        <a:graphic>
          <a:graphicData uri="http://schemas.openxmlformats.org/drawingml/2006/table">
            <a:tbl>
              <a:tblPr/>
              <a:tblGrid>
                <a:gridCol w="1655640"/>
                <a:gridCol w="939960"/>
              </a:tblGrid>
              <a:tr h="17532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R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975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532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R2 Ajustad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973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300" spc="-1" strike="noStrike">
                <a:solidFill>
                  <a:srgbClr val="572314"/>
                </a:solidFill>
                <a:latin typeface="Gill Sans MT"/>
              </a:rPr>
              <a:t>Atracción de Viaj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ill Sans MT"/>
              </a:rPr>
              <a:t>Propósito: Estudio-2 (Media y Superior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ill Sans MT"/>
              </a:rPr>
              <a:t>Período: Punta (07:15-09:15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ill Sans MT"/>
              </a:rPr>
              <a:t>Basados en el hogar ida y no basados en el hogar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300" spc="-1" strike="noStrike">
                <a:solidFill>
                  <a:srgbClr val="572314"/>
                </a:solidFill>
                <a:latin typeface="Gill Sans MT"/>
              </a:rPr>
              <a:t>Atracción de Viaj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ill Sans MT"/>
              </a:rPr>
              <a:t>Modelo 2.a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ill Sans MT"/>
              </a:rPr>
              <a:t>Modelo 2.b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346" name=""/>
          <p:cNvGraphicFramePr/>
          <p:nvPr/>
        </p:nvGraphicFramePr>
        <p:xfrm>
          <a:off x="2143080" y="2071800"/>
          <a:ext cx="5643720" cy="1357200"/>
        </p:xfrm>
        <a:graphic>
          <a:graphicData uri="http://schemas.openxmlformats.org/drawingml/2006/table">
            <a:tbl>
              <a:tblPr/>
              <a:tblGrid>
                <a:gridCol w="1779480"/>
                <a:gridCol w="1078200"/>
                <a:gridCol w="876240"/>
                <a:gridCol w="1035000"/>
                <a:gridCol w="874800"/>
              </a:tblGrid>
              <a:tr h="2714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V. Independien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Coeficien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Error típ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Probabilida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2714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Intercept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-679,90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451,3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-1,50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14,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14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HOG_TO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0,07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0,009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7,897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0,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14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MAT_M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0,45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0,04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9,309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0,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14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MAT_SU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0,4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0,033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14,685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0,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47" name=""/>
          <p:cNvGraphicFramePr/>
          <p:nvPr/>
        </p:nvGraphicFramePr>
        <p:xfrm>
          <a:off x="3429000" y="3714840"/>
          <a:ext cx="2335320" cy="350640"/>
        </p:xfrm>
        <a:graphic>
          <a:graphicData uri="http://schemas.openxmlformats.org/drawingml/2006/table">
            <a:tbl>
              <a:tblPr/>
              <a:tblGrid>
                <a:gridCol w="1395360"/>
                <a:gridCol w="939960"/>
              </a:tblGrid>
              <a:tr h="17532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R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0,984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532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R2 Ajustad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0,98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48" name=""/>
          <p:cNvGraphicFramePr/>
          <p:nvPr/>
        </p:nvGraphicFramePr>
        <p:xfrm>
          <a:off x="2286000" y="4929120"/>
          <a:ext cx="5357880" cy="928800"/>
        </p:xfrm>
        <a:graphic>
          <a:graphicData uri="http://schemas.openxmlformats.org/drawingml/2006/table">
            <a:tbl>
              <a:tblPr/>
              <a:tblGrid>
                <a:gridCol w="1689120"/>
                <a:gridCol w="1023840"/>
                <a:gridCol w="831960"/>
                <a:gridCol w="982800"/>
                <a:gridCol w="830160"/>
              </a:tblGrid>
              <a:tr h="2318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V. Independien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Coeficien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Error típ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Probabilida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23328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HOG_TO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0,065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0,007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8,49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0,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8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MAT_M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0,43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0,0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9,15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0,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8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MAT_SU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0,508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0,03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15,356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0,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49" name=""/>
          <p:cNvGraphicFramePr/>
          <p:nvPr/>
        </p:nvGraphicFramePr>
        <p:xfrm>
          <a:off x="3500280" y="6143760"/>
          <a:ext cx="2489400" cy="350640"/>
        </p:xfrm>
        <a:graphic>
          <a:graphicData uri="http://schemas.openxmlformats.org/drawingml/2006/table">
            <a:tbl>
              <a:tblPr/>
              <a:tblGrid>
                <a:gridCol w="1549440"/>
                <a:gridCol w="939960"/>
              </a:tblGrid>
              <a:tr h="17532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R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0,989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532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R2 Ajustad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0,988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300" spc="-1" strike="noStrike">
                <a:solidFill>
                  <a:srgbClr val="572314"/>
                </a:solidFill>
                <a:latin typeface="Gill Sans MT"/>
              </a:rPr>
              <a:t>Consideracion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ill Sans MT"/>
              </a:rPr>
              <a:t>S</a:t>
            </a: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e deben entregar los archivos con el siguiente formato: apellido1_apellido2.doc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Enviar al mail del curso: tallerci43a@gmail.com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Asunto: Taller n°3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Incluir un breve informe con el desarrollo del taller y un archivo .xls con los cálculos según corresponda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5T21:02:17Z</dcterms:created>
  <dc:creator>hsilva</dc:creator>
  <dc:description/>
  <dc:language>en-US</dc:language>
  <cp:lastModifiedBy> </cp:lastModifiedBy>
  <dcterms:modified xsi:type="dcterms:W3CDTF">2009-08-19T16:26:23Z</dcterms:modified>
  <cp:revision>46</cp:revision>
  <dc:subject/>
  <dc:title>Taller I CI43A</dc:title>
</cp:coreProperties>
</file>