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C9B3-EAAE-4D49-A586-AF705D96F85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7F0C-BBC2-416D-9BB5-B68C1023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FD89-C38E-4BC7-879C-CD9471B3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8E40-C764-4C3B-B5DB-9478CB1BE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B1E2-6527-4B7E-B5BC-F5C19664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4C7C-B8A4-410E-869A-03E39872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AD57-C921-4F91-A60A-76456406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58D2-4DFD-4281-BD12-097F10B4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9F21-41E6-4DEF-83A3-BC70EEB6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54BB-F3E5-41B1-A14A-CF8638F2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7CD8-FBA0-42D6-A80F-7746A8A2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DE54-CC8A-47D0-811D-02D1D177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FB13-DADC-41A9-8B44-4403E026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188F-F01D-435C-8825-5215E1AC483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sub-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ó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ar o enviar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odelo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Modelos de equilibri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7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9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0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3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4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5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6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8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0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41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3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4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6500"/>
                            </p:stCondLst>
                            <p:childTnLst>
                              <p:par>
                                <p:cTn id="5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700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95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4500"/>
                            </p:stCondLst>
                            <p:childTnLst>
                              <p:par>
                                <p:cTn id="6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920" y="106668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cis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3520" y="17701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iajar o 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57200" y="27050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hacia do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57200" y="3581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57200" y="45086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or 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571920" y="1809720"/>
            <a:ext cx="22096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495600" y="2781360"/>
            <a:ext cx="25146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419640" y="3657600"/>
            <a:ext cx="27432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648240" y="4581360"/>
            <a:ext cx="2286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057400" y="5445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o clásic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1692360" y="64612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¿Son separables estas deci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181560" y="9558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¿localiz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 flipH="1">
            <a:off x="5892480" y="1171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3589200" y="946080"/>
            <a:ext cx="22100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1979640" y="5950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o de cinc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El producto en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4"/>
              <p:cNvSpPr txBox="1"/>
              <p:nvPr/>
            </p:nvSpPr>
            <p:spPr>
              <a:xfrm>
                <a:off x="2971800" y="1828800"/>
                <a:ext cx="24192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Rectangle 16"/>
          <p:cNvSpPr/>
          <p:nvPr/>
        </p:nvSpPr>
        <p:spPr>
          <a:xfrm>
            <a:off x="685800" y="29718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k: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t: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i: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j: 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se puede mirar cada viaje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es necesario juntar viajes “pare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Period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unta mañana, punta tarde, meses del año, fines de semana, feriado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udiantes, trabajadores, tercera edad, género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20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propósito de 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egún EOD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Al trabajo         3.789.844         23,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Al estudio         2.927.932         18,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 compras       2.743.003         16,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mic Sans MS"/>
              </a:rPr>
              <a:t>Buscar/dejar     1.351.610            8,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r a alguien      1.074.993           6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ramites               858.583          5,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creación           760.869          4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tro                     754.974          4,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Acompañar             664.865          4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 trabajo             485.340          3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De salud                  426.578          2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espa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Zo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riterios: tamaño y número de zonas, compatibilidad con otras zonificaciones, homogene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052640" y="1009800"/>
            <a:ext cx="7038720" cy="4838400"/>
          </a:xfrm>
          <a:prstGeom prst="rect">
            <a:avLst/>
          </a:prstGeom>
          <a:ln w="0">
            <a:noFill/>
          </a:ln>
        </p:spPr>
      </p:pic>
      <p:sp>
        <p:nvSpPr>
          <p:cNvPr id="81" name="2 CuadroTexto"/>
          <p:cNvSpPr/>
          <p:nvPr/>
        </p:nvSpPr>
        <p:spPr>
          <a:xfrm>
            <a:off x="1214280" y="5000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79 zona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3 CuadroTexto"/>
          <p:cNvSpPr/>
          <p:nvPr/>
        </p:nvSpPr>
        <p:spPr>
          <a:xfrm>
            <a:off x="4786200" y="5000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21 zona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4 CuadroTexto"/>
          <p:cNvSpPr/>
          <p:nvPr/>
        </p:nvSpPr>
        <p:spPr>
          <a:xfrm>
            <a:off x="1500120" y="5753160"/>
            <a:ext cx="57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DICTUC (2003) Informe final EOD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5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86" name="Line 6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9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4876920" y="426708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Text Box 12"/>
          <p:cNvSpPr/>
          <p:nvPr/>
        </p:nvSpPr>
        <p:spPr>
          <a:xfrm>
            <a:off x="4952880" y="533412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9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Text Box 10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4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0" name="Text Box 15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2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23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5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6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 </cp:lastModifiedBy>
  <dcterms:modified xsi:type="dcterms:W3CDTF">2009-08-07T14:57:22Z</dcterms:modified>
  <cp:revision>70</cp:revision>
  <dc:subject/>
  <dc:title>Sin título de diapositiva</dc:title>
</cp:coreProperties>
</file>