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50D9-7E47-4530-85A9-C3E84CA0285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2210-51CF-44BD-8651-3DF4CA82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4B97-8BCD-4166-A532-93257B3A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430-9E7C-4ED9-9ECB-F1AC97B1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1B3C-287E-4A00-9AF0-682EA639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387-8B14-42FB-9819-18616A75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5E04-A661-4553-91EB-7D3CDD90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4FE-2B94-424B-8496-FD442F91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476E-3B9F-4F88-82BC-29307F73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218-C005-499E-9579-0F72E642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30A5-8032-43FE-8D2A-732F8EB0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837E-0658-4863-93F7-5F32C729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2EDE-3D32-4249-B941-611A1163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9343-E164-4C1E-A61B-70DE4E4AD00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ub-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ar o enviar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odelos de equilibri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7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8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1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3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4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650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00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95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4500"/>
                            </p:stCondLst>
                            <p:childTnLst>
                              <p:par>
                                <p:cTn id="6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920" y="10666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ci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3520" y="1770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iajar o 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57200" y="27050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hacia do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57200" y="3581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57200" y="45086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or 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571920" y="1809720"/>
            <a:ext cx="22096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495600" y="2781360"/>
            <a:ext cx="2514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419640" y="3657600"/>
            <a:ext cx="27432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648240" y="4581360"/>
            <a:ext cx="2286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057400" y="5445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o clásic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692360" y="64612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Son separables estas deci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181560" y="9558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¿local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H="1">
            <a:off x="5892480" y="1171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3589200" y="946080"/>
            <a:ext cx="22100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1979640" y="595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o de cinc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El producto en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4"/>
              <p:cNvSpPr txBox="1"/>
              <p:nvPr/>
            </p:nvSpPr>
            <p:spPr>
              <a:xfrm>
                <a:off x="2971800" y="1828800"/>
                <a:ext cx="2419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Rectangle 16"/>
          <p:cNvSpPr/>
          <p:nvPr/>
        </p:nvSpPr>
        <p:spPr>
          <a:xfrm>
            <a:off x="685800" y="29718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k: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t: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i: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j: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puede mirar cada viaje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es necesario juntar viajes “par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Period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unta mañana, punta tarde, meses del año, fines de semana, feriad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udiantes, trabajadores, tercera edad, género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20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propósito de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egún EOD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l trabajo         3.789.844         23,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Al estudio         2.927.932         18,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compras       2.743.003         16,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mic Sans MS"/>
              </a:rPr>
              <a:t>Buscar/dejar     1.351.610            8,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r a alguien      1.074.993           6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ramites               858.583          5,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creación           760.869          4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tro                     754.974          4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Acompañar             664.865          4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 trabajo             485.340          3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De salud                  426.578          2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espa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Zo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riterios: tamaño y número de zonas, compatibilidad con otras zonificaciones, homogene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052640" y="1009800"/>
            <a:ext cx="7038720" cy="4838400"/>
          </a:xfrm>
          <a:prstGeom prst="rect">
            <a:avLst/>
          </a:prstGeom>
          <a:ln w="0">
            <a:noFill/>
          </a:ln>
        </p:spPr>
      </p:pic>
      <p:sp>
        <p:nvSpPr>
          <p:cNvPr id="81" name="2 CuadroTexto"/>
          <p:cNvSpPr/>
          <p:nvPr/>
        </p:nvSpPr>
        <p:spPr>
          <a:xfrm>
            <a:off x="1214280" y="5000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79 zona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3 CuadroTexto"/>
          <p:cNvSpPr/>
          <p:nvPr/>
        </p:nvSpPr>
        <p:spPr>
          <a:xfrm>
            <a:off x="4786200" y="5000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21 zona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4 CuadroTexto"/>
          <p:cNvSpPr/>
          <p:nvPr/>
        </p:nvSpPr>
        <p:spPr>
          <a:xfrm>
            <a:off x="1500120" y="5753160"/>
            <a:ext cx="57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DICTUC (2003) Informe final EOD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5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6" name="Line 6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9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Text Box 12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9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Text Box 10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4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" name="Text Box 15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2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23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5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6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 </cp:lastModifiedBy>
  <dcterms:modified xsi:type="dcterms:W3CDTF">2009-08-07T14:57:22Z</dcterms:modified>
  <cp:revision>70</cp:revision>
  <dc:subject/>
  <dc:title>Sin título de diapositiva</dc:title>
</cp:coreProperties>
</file>