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A83-0E46-43BF-AE07-CB4177A5EF8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1919-9239-419D-8A0A-0AD276CFB2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074-5F7E-4E2E-A9F0-D1969778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DA8-B24C-4F1A-94C4-C47195A3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322-E69C-4222-A54A-900AB650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EF2-3B00-40E8-AFB7-7E19727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58FF-13F8-4445-A577-044EA3BF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39D5-A5EA-4712-A05E-2BBDC948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9AA5-7C51-44E9-A90A-46543DA1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D5B4-03CE-47F6-8C9C-D98E8F59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3285-5606-4B1C-B01A-F849F798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A5D-8AD7-49D0-A7AF-7246BB7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F396-7E2E-4842-820E-C247E70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BBF-23C5-4776-ACB4-AD1B2B68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7057-34C6-4643-83D2-E948922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86A8-2E6C-4045-A810-D035467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D71-568B-409B-8021-6119E5E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1E5-B603-4C55-85CD-5DFB5FD1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610-8DE3-4D51-B6F5-52FFAAE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0825-01AB-4310-995C-B7BEF0B6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243C-231A-41F3-93E1-16DEEB87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8F93-3039-44F7-8684-1130566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F045-2295-47B8-B0A7-79E0D1A5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BD25-A7B1-4481-A954-7BA5BA5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16E-3C3E-46CA-BC22-C8880F1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2148-7CF8-45B6-84C1-C8157708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CC24-D0F7-4440-9B81-A805C12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18C5-A587-4B8E-9791-64B8520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58C3-9627-4154-B165-681F3ED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76C8-70C2-4D09-9925-7371D675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CC5E-1566-4599-9043-37004F74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A46E-0D25-43AF-B860-90243D2C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C6EE-4902-42EE-9F01-7678C188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4E38-7E95-4271-AA83-214230C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9424-9489-40C0-99A7-20A9F65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8FC-1718-4210-9455-97C5D82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5724-EEF9-4A7C-BE50-66787981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DC3A-1AD2-45B3-99EC-871A45B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A528-D15A-44C7-8951-D859904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E0D1-34BA-45B1-A648-11892B4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BE38-5475-43B1-AF93-EA67F7B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D7B3-FE42-4256-B134-8EB83EB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0F13-FDCC-413F-AC55-32CB54D1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B56F-57E2-453C-B150-272F6565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EFAD-23C8-4E1B-8D00-977D4084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6BBCF-0583-4B66-85B3-284AFA22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88E-A1AA-4497-893A-43D8612A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6351-E053-41B8-A7B8-8047BCC9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801D-74E4-4E43-995E-F839C6E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F26E-3129-4522-93D1-231F23C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9F0CD-3C3A-4BF2-ACE0-B121157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55A1-599E-4CB4-8DB3-16C20DA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7FA7-08DE-464B-A81E-6E13FF6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F9C4-2312-4C77-9EAC-9033AEF5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73A4-6BA6-4517-B322-F3384E6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8EBA-C19E-44E5-BB11-6B269D73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E1E1-BC21-4A95-87CF-579D4D41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4CB-97FA-46E5-A7A1-5669C72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0A4C-EFBA-4FCF-A460-CBAF9C6B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8235-3369-44E5-AC1E-07CC5DFC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329A-FF79-47A7-94A6-A2AB9AC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DD5B-39BE-42E1-A0FF-45F368B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C469-A8CC-4D5E-A1F7-B57187A8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2EC4-1CA5-495B-A179-19E0E906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A8D8-2A8D-4E5F-833B-183669C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B061-6E85-449E-93D1-C21F53C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706BA-E272-4311-89E2-494D43C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C876-4BA8-4027-B237-7EC757BD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BF7-1A35-4FBA-886B-8F42DBB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07A4-5AE8-4B21-8E60-6E285AB1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EA21-A457-4D88-899C-47ABC2D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17A5-A370-488F-BB83-457AFB11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ADA8-7A11-48AD-9DE9-7A673374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9ACD-DBCB-4C91-A9B7-479D4ED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F7CE-A443-4D95-B4E3-F93A86B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279F-3EA6-4164-866C-8556BCC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00F6-6DE6-45FF-92D0-9FC030B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93D5-3F84-40B7-8F5A-1E90E03A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3F78D-1262-40CA-AFDB-243B579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359-F3F2-4B5F-A89E-73C26D2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F759-8939-4CDE-BF5A-9C3D68B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57C4-268F-45C8-864B-83B33FA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C4E1-46E9-4D82-A7F6-FD964D7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3968-3910-4045-A73B-41241D29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4267-933F-4F32-BFCC-3CC26E5D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59A-3BCC-45EE-BB05-6E89B6C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70F-5ED6-479F-9773-172D2FD1474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EE8-B77C-4BB0-84E6-7D7FD376CC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7B5-F9B0-4D9D-8CB0-BDF6A1F2D70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E1B-C121-4754-ADE7-1AA487E64A1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FC5F-7465-4BBC-BAB7-6A6E3C4E1C2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F59-0E7F-4520-81C9-36C2498C871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C42-2AB8-4BCD-875F-8CAC8F36039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alumno</cp:lastModifiedBy>
  <dcterms:modified xsi:type="dcterms:W3CDTF">2009-08-05T18:28:02Z</dcterms:modified>
  <cp:revision>15</cp:revision>
  <dc:subject/>
  <dc:title>Taller I CI43A </dc:title>
</cp:coreProperties>
</file>