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5DAA-20F3-4E4D-A9F8-4DC14DA62E8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8F74-BCB5-4A5B-B680-FF62FA1674C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239-E685-470C-A36A-08903FF7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531-D6B7-43D0-BBE3-C7CDEF45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B58-88F9-419C-BCA2-850EE1A1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CBB-1D11-44CE-8B4E-C13FAF13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038B-2DF7-4760-B030-DC0BE787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DC1E-B5DF-410D-BAFE-BC367BF5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FC38-DED9-4005-955B-F790B381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FB7E-E241-45CC-900F-9E716B8A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DED6-A303-4893-AAF3-356CBE25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60E8-9CCB-4484-8CB5-2D054ED8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A392-4114-4F2D-8F1D-4F10B73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B68-FDB9-4577-B0E6-79441C01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581F-DE42-4114-8F86-91B7BE3B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F6E6-3FF7-462E-A6C6-0D254262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FA2A-1B1F-45F2-B352-7BBB7ADA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DEC5-05F6-4C2E-88D4-FC54C82D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CFEC-42DB-4C76-86CA-D5C95F33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8B21-C012-4E0C-8491-BE4A6045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BA64-F0B0-4744-A103-CD65B50E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D7A1-D9E6-4C8D-BFC2-746EAEBF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39EC4-C470-4109-B785-58578D53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CB7C2-7A4D-4174-9C8A-78EF59C6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DCA-70F9-48EB-9653-CCBD506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E4602-C543-4405-B377-BAA7382E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1D27-CE52-4D3F-B3AF-62E6A749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54A7D-F78D-4EBC-84C8-371DA528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95E3-78C9-4520-8465-F2164875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5DB3-D0F1-4497-B55F-B30702F0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5A76-038E-4164-AB57-0EFB7120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C6AE-1C55-4861-B6E1-B68EF3F4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7996-DFE8-4985-AC2F-EB2D1535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D62A-A50D-4136-9802-C981EF5D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2641E-9444-4B60-B983-550F1BB1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801-9B65-4F28-8A9C-F62793C0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E1D7B-B25D-4905-93F1-1DC5390C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F566-CC93-4A9C-A305-F3CD2420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EC07-7B3D-44D2-ABD7-974E53A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FDE0B-C1D4-4C25-A37F-843ECE28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63785-5F48-4BF9-96A6-164F54D2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232A9-295A-4D33-A918-E1264F8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08190-2041-4704-A0FF-477D7E77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7CC3A-334D-41F1-83AA-C1131C67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1D547-B6C2-4F6F-B88D-4B423A2B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9435C-A9E6-44F1-B971-5D21C34A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9C0-0921-478D-83CF-279D216C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AC7C2-888C-4717-92B4-93A570BE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0F4EB-7C01-4C5A-B533-8E4B9D5C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7B5B3-BD1E-41D8-B07A-11C683B8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03A8-604B-429B-A024-FBEA9EFA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2B7EE-18FB-4BE9-98E6-1C54D76B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32C4B-7BB5-4EC2-893A-9443F441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8E0F-8D78-4AF7-8CE0-C487FAD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8F4A9-EC9C-477B-AD85-64CAEBF5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E714F-DF1C-4930-AADE-053E596B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81F84-008C-48BB-AE1A-CF4CAD30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12C-0F30-45B7-8715-2FA99D8F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407D7-5CC0-4954-B033-A2C63733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C6D5C-F8DC-49EB-8AEE-56C3705F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455E5-D8CA-406D-9AE1-502A531D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B5CE8-396C-4BF1-BD04-3A5F94C9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32422-7053-4138-9D80-232D1A01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45A40-66FE-4B61-8244-3FDEECC1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E4FCD-1499-4F75-9213-203ED6E5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2DE85-BDE1-406A-8FCC-B295F7EB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87ABA-40C2-424B-A517-AA58DB58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6528D-D77E-4E7B-BDF3-B77A6825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62D-29F7-4F2C-A48B-F8FAAEE8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DF0AD-7F09-4412-9057-23E61812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C7B3-6F5A-4978-AE94-95F30470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AAB92-EE3C-4EDC-B49F-7A6F8966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62241-53E0-454E-85C5-9C1FDFE3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A7ACC-D984-425F-BB21-34C761EC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88564-19BB-42F2-9580-61D1BDE8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0A1C9-898C-4355-9703-BCD646FA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D5A8C-24F9-4955-9D1C-43F0E268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2EA7-2867-435D-99AC-F561C8DA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82B82-664E-4191-ADF7-502378DC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C54-570B-488F-ACD4-4B7D344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1F662-D035-49D7-A486-06030A9A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0F61C-F1B1-4A23-B93A-524E68C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3F607-2285-4407-BD8B-D112B1C0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70ECA-686B-4C3A-AEF8-5F3AD845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D691F-13DE-4108-A906-C67370E5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CFB-2948-4F68-AB97-BBE7EB23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7D0C-0B6A-4127-B726-18C080C4D0F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BF78-404A-410C-8D64-38A3DED8842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FDA5-A8BB-4226-81F2-D6F6356A7F6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88D1-5CA3-42B8-BBE3-EE1B2069785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9CFA-162E-4C75-A901-A5C711BC314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F7BA-00C8-4E12-B8F1-D31995962A9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C2AA-B937-4029-8C40-E66087EB8FE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Resolver y graficar el equilibrio en ambos merc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Graficar las curvas de exceso de demanda y exceso de oferta según correspond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Encontrar la ecuación de demanda de transporte y graficar su curv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cantidad a transportar si el transporte fuese gratuito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33480" indent="-4762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f271c"/>
                </a:solidFill>
                <a:latin typeface="Gill Sans MT"/>
              </a:rPr>
              <a:t>¿</a:t>
            </a:r>
            <a:r>
              <a:rPr b="0" lang="es-CL" sz="20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Cuál es la máxima tarifa a cobrar para que exista transport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4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Dibujar la curva de oferta de transporte t=30+Q/8 y encontrar el punto de equilibrio de este merc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5 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Utilizando el resultado de la pregunta 4, indique cuáles serían los precios y las cantidades demandadas y consumidas en las isl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Gill Sans MT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6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4f271c"/>
                </a:solidFill>
                <a:latin typeface="Gill Sans MT"/>
                <a:ea typeface="Times New Roman"/>
              </a:rPr>
              <a:t>Analice quienes ganan y quienes pierden en el nuevo escenario.</a:t>
            </a:r>
            <a:r>
              <a:rPr b="0" lang="es-CL" sz="2400" spc="-1" strike="noStrike">
                <a:solidFill>
                  <a:srgbClr val="8dc765"/>
                </a:solidFill>
                <a:latin typeface="Gill Sans MT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52600" indent="-55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alumno</cp:lastModifiedBy>
  <dcterms:modified xsi:type="dcterms:W3CDTF">2009-08-05T18:28:02Z</dcterms:modified>
  <cp:revision>15</cp:revision>
  <dc:subject/>
  <dc:title>Taller I CI43A </dc:title>
</cp:coreProperties>
</file>