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A395F-2B45-4D80-ABDB-24B7A739D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BA4D3-25D2-4889-A4DC-FCB534A93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C65EF-B01D-4B7F-8522-3935C702F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0B203-5915-41FA-8732-1AE4481DA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F80DA-DB61-4D78-8005-F29A33686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6871C-06E6-45CD-8526-09D811538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5F427-DCF5-4475-AC33-0585873DC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7F855-29C4-40B8-9881-4A0444096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73C1E-3737-45E0-ABCD-8801C8C81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16BE0-337A-41DA-98CD-65B0AA96A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0AB54-B093-4C07-91D5-EE6EEFFAA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6C36E-F725-4DCE-92AE-06148431B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F9275-4EDC-492C-933E-74EFCC9ED7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CI43A Análisis de Sistemas de Transporte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edicción de fluj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974880" y="2347920"/>
            <a:ext cx="20732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 --&gt; T’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--&gt; A´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352680" y="25765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800600" y="265284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 --&gt; F’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62120" y="41148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Supues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Existe un mercado por servicios de transporte que puede ser separado y analizado en forma independiente de los demás mercados.</a:t>
            </a:r>
            <a:br>
              <a:rPr sz="2800"/>
            </a:b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i.e. Las relaciones de tipo 1 pueden ser separadas de las de tipo 2 y 3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ercados puntu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80880" y="1676520"/>
            <a:ext cx="52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omic Sans MS"/>
              </a:rPr>
              <a:t>En el mercado de transpor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105520" y="510552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D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Comic Sans MS"/>
              </a:rPr>
              <a:t>(-1)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0" y="2286000"/>
            <a:ext cx="6248520" cy="3660120"/>
            <a:chOff x="0" y="2286000"/>
            <a:chExt cx="6248520" cy="3660120"/>
          </a:xfrm>
        </p:grpSpPr>
        <p:sp>
          <p:nvSpPr>
            <p:cNvPr id="167" name=""/>
            <p:cNvSpPr/>
            <p:nvPr/>
          </p:nvSpPr>
          <p:spPr>
            <a:xfrm flipV="1">
              <a:off x="762120" y="2437920"/>
              <a:ext cx="0" cy="312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62120" y="5562720"/>
              <a:ext cx="5105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28600" y="22860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562720" y="548640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72000" y="3733920"/>
              <a:ext cx="106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3300"/>
                  </a:solidFill>
                  <a:latin typeface="Comic Sans MS"/>
                </a:rPr>
                <a:t>O</a:t>
              </a:r>
              <a:r>
                <a:rPr b="0" lang="es-ES_tradnl" sz="2400" spc="-1" strike="noStrike" baseline="30000">
                  <a:solidFill>
                    <a:srgbClr val="ff3300"/>
                  </a:solidFill>
                  <a:latin typeface="Comic Sans MS"/>
                </a:rPr>
                <a:t>(-1)</a:t>
              </a:r>
              <a:r>
                <a:rPr b="0" lang="es-ES_tradnl" sz="2400" spc="-1" strike="noStrike">
                  <a:solidFill>
                    <a:srgbClr val="ff33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62320" y="243828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3300"/>
                  </a:solidFill>
                  <a:latin typeface="Comic Sans MS"/>
                </a:rPr>
                <a:t>O</a:t>
              </a:r>
              <a:r>
                <a:rPr b="0" lang="es-ES_tradnl" sz="2400" spc="-1" strike="noStrike" baseline="30000">
                  <a:solidFill>
                    <a:srgbClr val="ff3300"/>
                  </a:solidFill>
                  <a:latin typeface="Comic Sans MS"/>
                </a:rPr>
                <a:t>(-1)</a:t>
              </a:r>
              <a:r>
                <a:rPr b="0" lang="es-ES_tradnl" sz="2400" spc="-1" strike="noStrike">
                  <a:solidFill>
                    <a:srgbClr val="ff3300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514600" y="365760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3333cc"/>
                  </a:solidFill>
                  <a:latin typeface="Comic Sans MS"/>
                </a:rPr>
                <a:t>D</a:t>
              </a:r>
              <a:r>
                <a:rPr b="0" lang="es-ES_tradnl" sz="2400" spc="-1" strike="noStrike" baseline="30000">
                  <a:solidFill>
                    <a:srgbClr val="3333cc"/>
                  </a:solidFill>
                  <a:latin typeface="Comic Sans MS"/>
                </a:rPr>
                <a:t>(-1)</a:t>
              </a:r>
              <a:r>
                <a:rPr b="0" lang="es-ES_tradnl" sz="2400" spc="-1" strike="noStrike">
                  <a:solidFill>
                    <a:srgbClr val="3333cc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914400" y="2590920"/>
              <a:ext cx="1600200" cy="129528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V="1">
              <a:off x="990720" y="2666520"/>
              <a:ext cx="1295280" cy="12956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657600" y="4038480"/>
              <a:ext cx="1600200" cy="129564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V="1">
              <a:off x="3733920" y="4114800"/>
              <a:ext cx="1295280" cy="12952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371600" y="3581280"/>
              <a:ext cx="762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038480" y="4343400"/>
              <a:ext cx="76212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790560" y="323388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776160" y="4676760"/>
              <a:ext cx="36576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0" y="2971800"/>
              <a:ext cx="914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r>
                <a:rPr b="0" lang="es-ES_tradnl" sz="2400" spc="-1" strike="noStrike" baseline="-25000">
                  <a:solidFill>
                    <a:srgbClr val="000000"/>
                  </a:solidFill>
                  <a:latin typeface="Comic Sans MS"/>
                </a:rPr>
                <a:t>1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0" y="4495680"/>
              <a:ext cx="914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r>
                <a:rPr b="0" lang="es-ES_tradnl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flipV="1">
              <a:off x="6248520" y="2437920"/>
              <a:ext cx="0" cy="312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>
            <a:off x="6248520" y="556272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6248520" y="3581280"/>
            <a:ext cx="1904760" cy="10670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001000" y="31240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EO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248520" y="3124080"/>
            <a:ext cx="2133360" cy="152424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48720" y="48006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ED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04920" y="5867280"/>
            <a:ext cx="845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8000"/>
                </a:solidFill>
                <a:latin typeface="Comic Sans MS"/>
              </a:rPr>
              <a:t>Ubicar: Q dada una tarifa de transporte t, Qmax, tma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Comic Sans MS"/>
              </a:rPr>
              <a:t>Mercado de transpor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80880" y="1676520"/>
            <a:ext cx="52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omic Sans MS"/>
              </a:rPr>
              <a:t>En el mercado de transpor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04920" y="6156360"/>
            <a:ext cx="845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omic Sans MS"/>
              </a:rPr>
              <a:t>Graficar la curva de demanda por transpor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omic Sans MS"/>
              </a:rPr>
              <a:t>Agregar una curva de oferta de transporte e identificar equilib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4724280" y="2437920"/>
            <a:ext cx="0" cy="3124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724280" y="556272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0" y="2437920"/>
            <a:ext cx="3352680" cy="3584520"/>
            <a:chOff x="0" y="2437920"/>
            <a:chExt cx="3352680" cy="3584520"/>
          </a:xfrm>
        </p:grpSpPr>
        <p:sp>
          <p:nvSpPr>
            <p:cNvPr id="197" name=""/>
            <p:cNvSpPr/>
            <p:nvPr/>
          </p:nvSpPr>
          <p:spPr>
            <a:xfrm flipV="1">
              <a:off x="685800" y="2437920"/>
              <a:ext cx="0" cy="312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85800" y="5562720"/>
              <a:ext cx="2514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685800" y="3581280"/>
              <a:ext cx="1905120" cy="10670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438280" y="312408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3300"/>
                  </a:solidFill>
                  <a:latin typeface="Comic Sans MS"/>
                </a:rPr>
                <a:t>EO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85800" y="3124080"/>
              <a:ext cx="2133720" cy="152424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286000" y="480060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3333cc"/>
                  </a:solidFill>
                  <a:latin typeface="Comic Sans MS"/>
                </a:rPr>
                <a:t>ED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0" y="2743200"/>
              <a:ext cx="914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r>
                <a:rPr b="0" lang="es-ES_tradnl" sz="2400" spc="-1" strike="noStrike" baseline="-25000">
                  <a:solidFill>
                    <a:srgbClr val="000000"/>
                  </a:solidFill>
                  <a:latin typeface="Comic Sans MS"/>
                </a:rPr>
                <a:t>1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0" y="4495680"/>
              <a:ext cx="914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r>
                <a:rPr b="0" lang="es-ES_tradnl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219320" y="350532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 flipH="1">
              <a:off x="685800" y="35053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 flipH="1">
              <a:off x="685800" y="434340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85800" y="365760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62120" y="556272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0" y="3200400"/>
              <a:ext cx="914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r>
                <a:rPr b="0" lang="es-ES_tradnl" sz="2400" spc="-1" strike="noStrike" baseline="-25000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0" y="4038480"/>
              <a:ext cx="914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r>
                <a:rPr b="0" lang="es-ES_tradnl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890720" y="3962520"/>
              <a:ext cx="14400" cy="16002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295280" y="556272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Qma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Comic Sans MS"/>
              </a:rPr>
              <a:t>Mercado de transpor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80880" y="1676520"/>
            <a:ext cx="52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omic Sans MS"/>
              </a:rPr>
              <a:t>Nuevo equilibr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04920" y="563868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omic Sans MS"/>
              </a:rPr>
              <a:t>¿quiénes ganan y quienes pierde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1981080" y="2437920"/>
            <a:ext cx="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981080" y="502920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33520" y="2743200"/>
            <a:ext cx="1523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0- P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981080" y="3200400"/>
            <a:ext cx="2057400" cy="1828800"/>
          </a:xfrm>
          <a:prstGeom prst="line">
            <a:avLst/>
          </a:prstGeom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50292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Qm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819520" y="2895480"/>
            <a:ext cx="60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Qmax=Q(t=0)=ED1(p1=p2)=EO2(p1=p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CI43A Análisis de Sistemas de Transpor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31240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Analicemos unidimensionalmente (teniendo claro que no lo es).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V: volumen o magnitud de flujos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S: características del nivel de servicio experimentado por un cierto flujo de usuarios en T.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S=S(T,V) </a:t>
            </a:r>
            <a:r>
              <a:rPr b="0" lang="es-ES_trad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función de servicio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V=D(A,S) </a:t>
            </a:r>
            <a:r>
              <a:rPr b="0" lang="es-ES_trad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función de demanda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838080" y="7621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CI43A Análisis de Sistemas de Transpor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3657600"/>
            <a:ext cx="1523880" cy="4597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p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05320" y="3505320"/>
            <a:ext cx="1676160" cy="119124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odelo de equilib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990720" y="2514600"/>
            <a:ext cx="2666880" cy="1142640"/>
            <a:chOff x="990720" y="2514600"/>
            <a:chExt cx="2666880" cy="1142640"/>
          </a:xfrm>
        </p:grpSpPr>
        <p:sp>
          <p:nvSpPr>
            <p:cNvPr id="52" name=""/>
            <p:cNvSpPr/>
            <p:nvPr/>
          </p:nvSpPr>
          <p:spPr>
            <a:xfrm>
              <a:off x="1981080" y="2514600"/>
              <a:ext cx="1676520" cy="825480"/>
            </a:xfrm>
            <a:prstGeom prst="rect">
              <a:avLst/>
            </a:pr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Modelo de ofert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flipV="1">
              <a:off x="990720" y="2971440"/>
              <a:ext cx="9903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990720" y="4114800"/>
            <a:ext cx="2743200" cy="1654920"/>
            <a:chOff x="990720" y="4114800"/>
            <a:chExt cx="2743200" cy="1654920"/>
          </a:xfrm>
        </p:grpSpPr>
        <p:sp>
          <p:nvSpPr>
            <p:cNvPr id="55" name=""/>
            <p:cNvSpPr/>
            <p:nvPr/>
          </p:nvSpPr>
          <p:spPr>
            <a:xfrm>
              <a:off x="2057400" y="4578480"/>
              <a:ext cx="1676520" cy="1191240"/>
            </a:xfrm>
            <a:prstGeom prst="rect">
              <a:avLst/>
            </a:pr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Modelo de demand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990720" y="4114800"/>
              <a:ext cx="106668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657600" y="297180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3733920" y="4343040"/>
            <a:ext cx="4572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4572000" y="2460600"/>
            <a:ext cx="2514600" cy="1557000"/>
            <a:chOff x="4572000" y="2460600"/>
            <a:chExt cx="2514600" cy="1557000"/>
          </a:xfrm>
        </p:grpSpPr>
        <p:sp>
          <p:nvSpPr>
            <p:cNvPr id="60" name=""/>
            <p:cNvSpPr/>
            <p:nvPr/>
          </p:nvSpPr>
          <p:spPr>
            <a:xfrm>
              <a:off x="5257800" y="2460600"/>
              <a:ext cx="1828800" cy="1557000"/>
            </a:xfrm>
            <a:prstGeom prst="rect">
              <a:avLst/>
            </a:pr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Modelo de consumo de recurso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4572000" y="2895480"/>
              <a:ext cx="68580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4572000" y="4152960"/>
            <a:ext cx="2548080" cy="1557000"/>
            <a:chOff x="4572000" y="4152960"/>
            <a:chExt cx="2548080" cy="1557000"/>
          </a:xfrm>
        </p:grpSpPr>
        <p:sp>
          <p:nvSpPr>
            <p:cNvPr id="63" name=""/>
            <p:cNvSpPr/>
            <p:nvPr/>
          </p:nvSpPr>
          <p:spPr>
            <a:xfrm>
              <a:off x="5291280" y="4152960"/>
              <a:ext cx="1828800" cy="1557000"/>
            </a:xfrm>
            <a:prstGeom prst="rect">
              <a:avLst/>
            </a:pr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Modelo de desplazamiento de actividad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572000" y="4343400"/>
              <a:ext cx="68580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5181480" y="2895480"/>
            <a:ext cx="3733920" cy="1981080"/>
            <a:chOff x="5181480" y="2895480"/>
            <a:chExt cx="3733920" cy="1981080"/>
          </a:xfrm>
        </p:grpSpPr>
        <p:sp>
          <p:nvSpPr>
            <p:cNvPr id="66" name=""/>
            <p:cNvSpPr/>
            <p:nvPr/>
          </p:nvSpPr>
          <p:spPr>
            <a:xfrm>
              <a:off x="7238880" y="3648240"/>
              <a:ext cx="1676520" cy="459720"/>
            </a:xfrm>
            <a:prstGeom prst="rect">
              <a:avLst/>
            </a:pr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Impacto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086600" y="2895480"/>
              <a:ext cx="83808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>
              <a:off x="7162920" y="4114440"/>
              <a:ext cx="76176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181480" y="3886200"/>
              <a:ext cx="2057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 flipH="1">
            <a:off x="3733560" y="525780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3657240" y="259092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Mercados puntu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Modelo conceptual que nos permitirá entender la generación de viajes. 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Bibliografía: generación y efectos de mercados de transporte Jara-Gálvez (1975). También en: Apuntes de análisis de sistemas de transporte Martínez y Tudela (1992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Supongamos la existencia de dos mercados, inicialmente aislados, donde se produce y consume un mismo bi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¿Qué sucede si se conecta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ercados puntu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562720" y="1523880"/>
            <a:ext cx="327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q: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antidad producid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p: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eci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04920" y="1600200"/>
            <a:ext cx="1676160" cy="8254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ercado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228600" y="2437920"/>
            <a:ext cx="4419720" cy="3736800"/>
            <a:chOff x="228600" y="2437920"/>
            <a:chExt cx="4419720" cy="3736800"/>
          </a:xfrm>
        </p:grpSpPr>
        <p:sp>
          <p:nvSpPr>
            <p:cNvPr id="78" name=""/>
            <p:cNvSpPr/>
            <p:nvPr/>
          </p:nvSpPr>
          <p:spPr>
            <a:xfrm flipV="1">
              <a:off x="762120" y="2437920"/>
              <a:ext cx="0" cy="312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762120" y="5562720"/>
              <a:ext cx="3733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28600" y="25146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114800" y="57150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5562720" y="2438280"/>
            <a:ext cx="3276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Comic Sans MS"/>
              </a:rPr>
              <a:t>O1</a:t>
            </a: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: Oferta. Cantidad del bien </a:t>
            </a:r>
            <a:r>
              <a:rPr b="0" i="1" lang="en-US" sz="2000" spc="-1" strike="noStrike">
                <a:solidFill>
                  <a:srgbClr val="ff3300"/>
                </a:solidFill>
                <a:latin typeface="Comic Sans MS"/>
              </a:rPr>
              <a:t>x</a:t>
            </a: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 que está dispuesta a ofrecer la(s) empresa(s) a un precio p. O1=O1(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562720" y="3886200"/>
            <a:ext cx="3276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mic Sans MS"/>
              </a:rPr>
              <a:t>D1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: Demanda. Cantidad del bien </a:t>
            </a:r>
            <a:r>
              <a:rPr b="0" i="1" lang="en-US" sz="2000" spc="-1" strike="noStrike">
                <a:solidFill>
                  <a:srgbClr val="3333cc"/>
                </a:solidFill>
                <a:latin typeface="Comic Sans MS"/>
              </a:rPr>
              <a:t>x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que están dispuestos a adquirir los consumidores a un precio p. D1=D1(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762120" y="3276720"/>
            <a:ext cx="3886200" cy="2286000"/>
            <a:chOff x="762120" y="3276720"/>
            <a:chExt cx="3886200" cy="2286000"/>
          </a:xfrm>
        </p:grpSpPr>
        <p:sp>
          <p:nvSpPr>
            <p:cNvPr id="85" name=""/>
            <p:cNvSpPr/>
            <p:nvPr/>
          </p:nvSpPr>
          <p:spPr>
            <a:xfrm>
              <a:off x="762120" y="3505320"/>
              <a:ext cx="3047760" cy="2057400"/>
            </a:xfrm>
            <a:custGeom>
              <a:avLst/>
              <a:gdLst/>
              <a:ahLst/>
              <a:rect l="l" t="t" r="r" b="b"/>
              <a:pathLst>
                <a:path w="2208" h="1392">
                  <a:moveTo>
                    <a:pt x="0" y="1392"/>
                  </a:moveTo>
                  <a:cubicBezTo>
                    <a:pt x="268" y="1044"/>
                    <a:pt x="536" y="696"/>
                    <a:pt x="864" y="480"/>
                  </a:cubicBezTo>
                  <a:cubicBezTo>
                    <a:pt x="1192" y="264"/>
                    <a:pt x="1744" y="176"/>
                    <a:pt x="1968" y="96"/>
                  </a:cubicBezTo>
                  <a:cubicBezTo>
                    <a:pt x="2192" y="16"/>
                    <a:pt x="2200" y="8"/>
                    <a:pt x="2208" y="0"/>
                  </a:cubicBezTo>
                </a:path>
              </a:pathLst>
            </a:custGeom>
            <a:noFill/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962520" y="32767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3300"/>
                  </a:solidFill>
                  <a:latin typeface="Comic Sans MS"/>
                </a:rPr>
                <a:t>O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838080" y="2895480"/>
            <a:ext cx="4114800" cy="2364840"/>
            <a:chOff x="838080" y="2895480"/>
            <a:chExt cx="4114800" cy="2364840"/>
          </a:xfrm>
        </p:grpSpPr>
        <p:sp>
          <p:nvSpPr>
            <p:cNvPr id="88" name=""/>
            <p:cNvSpPr/>
            <p:nvPr/>
          </p:nvSpPr>
          <p:spPr>
            <a:xfrm>
              <a:off x="838080" y="2895480"/>
              <a:ext cx="3429000" cy="2133720"/>
            </a:xfrm>
            <a:custGeom>
              <a:avLst/>
              <a:gdLst/>
              <a:ahLst/>
              <a:rect l="l" t="t" r="r" b="b"/>
              <a:pathLst>
                <a:path w="2160" h="1344">
                  <a:moveTo>
                    <a:pt x="0" y="0"/>
                  </a:moveTo>
                  <a:cubicBezTo>
                    <a:pt x="180" y="392"/>
                    <a:pt x="360" y="784"/>
                    <a:pt x="720" y="1008"/>
                  </a:cubicBezTo>
                  <a:cubicBezTo>
                    <a:pt x="1080" y="1232"/>
                    <a:pt x="1620" y="1288"/>
                    <a:pt x="2160" y="1344"/>
                  </a:cubicBezTo>
                </a:path>
              </a:pathLst>
            </a:custGeom>
            <a:noFill/>
            <a:ln w="93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267080" y="48006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3333cc"/>
                  </a:solidFill>
                  <a:latin typeface="Comic Sans MS"/>
                </a:rPr>
                <a:t>D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ercados puntu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0880" y="1676520"/>
            <a:ext cx="32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n el espacio p-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228600" y="2437920"/>
            <a:ext cx="4419720" cy="3736800"/>
            <a:chOff x="228600" y="2437920"/>
            <a:chExt cx="4419720" cy="3736800"/>
          </a:xfrm>
        </p:grpSpPr>
        <p:sp>
          <p:nvSpPr>
            <p:cNvPr id="93" name=""/>
            <p:cNvSpPr/>
            <p:nvPr/>
          </p:nvSpPr>
          <p:spPr>
            <a:xfrm flipV="1">
              <a:off x="762120" y="2437920"/>
              <a:ext cx="0" cy="312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62120" y="5562720"/>
              <a:ext cx="3733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28600" y="25146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114800" y="57150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562720" y="2438280"/>
            <a:ext cx="327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1*,q1*: equilibrio aisl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67280" y="3200400"/>
            <a:ext cx="327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En el mercado 2 la situación es análog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62120" y="2590920"/>
            <a:ext cx="2895480" cy="2971800"/>
          </a:xfrm>
          <a:custGeom>
            <a:avLst/>
            <a:gdLst/>
            <a:ahLst/>
            <a:rect l="l" t="t" r="r" b="b"/>
            <a:pathLst>
              <a:path w="2208" h="1392">
                <a:moveTo>
                  <a:pt x="0" y="1392"/>
                </a:moveTo>
                <a:cubicBezTo>
                  <a:pt x="268" y="1044"/>
                  <a:pt x="536" y="696"/>
                  <a:pt x="864" y="480"/>
                </a:cubicBezTo>
                <a:cubicBezTo>
                  <a:pt x="1192" y="264"/>
                  <a:pt x="1744" y="176"/>
                  <a:pt x="1968" y="96"/>
                </a:cubicBezTo>
                <a:cubicBezTo>
                  <a:pt x="2192" y="16"/>
                  <a:pt x="2200" y="8"/>
                  <a:pt x="2208" y="0"/>
                </a:cubicBezTo>
              </a:path>
            </a:pathLst>
          </a:custGeom>
          <a:noFill/>
          <a:ln w="93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809880" y="24382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O</a:t>
            </a:r>
            <a:r>
              <a:rPr b="0" lang="es-ES_tradnl" sz="2400" spc="-1" strike="noStrike" baseline="30000">
                <a:solidFill>
                  <a:srgbClr val="ff3300"/>
                </a:solidFill>
                <a:latin typeface="Comic Sans MS"/>
              </a:rPr>
              <a:t>(-1)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38080" y="2286000"/>
            <a:ext cx="3429000" cy="2133720"/>
          </a:xfrm>
          <a:custGeom>
            <a:avLst/>
            <a:gdLst/>
            <a:ahLst/>
            <a:rect l="l" t="t" r="r" b="b"/>
            <a:pathLst>
              <a:path w="2160" h="1344">
                <a:moveTo>
                  <a:pt x="0" y="0"/>
                </a:moveTo>
                <a:cubicBezTo>
                  <a:pt x="180" y="392"/>
                  <a:pt x="360" y="784"/>
                  <a:pt x="720" y="1008"/>
                </a:cubicBezTo>
                <a:cubicBezTo>
                  <a:pt x="1080" y="1232"/>
                  <a:pt x="1620" y="1288"/>
                  <a:pt x="2160" y="1344"/>
                </a:cubicBezTo>
              </a:path>
            </a:pathLst>
          </a:custGeom>
          <a:noFill/>
          <a:ln w="93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267080" y="41911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D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Comic Sans MS"/>
              </a:rPr>
              <a:t>(-1)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1752480" y="3733920"/>
            <a:ext cx="14400" cy="1828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761760" y="373392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35053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1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447920" y="56386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q1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ercados puntu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1676520"/>
            <a:ext cx="32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ercado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486400" y="2133720"/>
            <a:ext cx="327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omic Sans MS"/>
              </a:rPr>
              <a:t>Ambos mercados se conecta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0" y="2437920"/>
            <a:ext cx="7924680" cy="3813120"/>
            <a:chOff x="0" y="2437920"/>
            <a:chExt cx="7924680" cy="3813120"/>
          </a:xfrm>
        </p:grpSpPr>
        <p:sp>
          <p:nvSpPr>
            <p:cNvPr id="111" name=""/>
            <p:cNvSpPr/>
            <p:nvPr/>
          </p:nvSpPr>
          <p:spPr>
            <a:xfrm flipH="1">
              <a:off x="4419360" y="4800600"/>
              <a:ext cx="14040" cy="7621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2" name=""/>
            <p:cNvGrpSpPr/>
            <p:nvPr/>
          </p:nvGrpSpPr>
          <p:grpSpPr>
            <a:xfrm>
              <a:off x="0" y="2437920"/>
              <a:ext cx="7924680" cy="3813120"/>
              <a:chOff x="0" y="2437920"/>
              <a:chExt cx="7924680" cy="3813120"/>
            </a:xfrm>
          </p:grpSpPr>
          <p:sp>
            <p:nvSpPr>
              <p:cNvPr id="113" name=""/>
              <p:cNvSpPr/>
              <p:nvPr/>
            </p:nvSpPr>
            <p:spPr>
              <a:xfrm flipV="1">
                <a:off x="762120" y="2437920"/>
                <a:ext cx="0" cy="3124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762120" y="5562720"/>
                <a:ext cx="6781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228600" y="2514600"/>
                <a:ext cx="533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000000"/>
                    </a:solidFill>
                    <a:latin typeface="Comic Sans MS"/>
                  </a:rPr>
                  <a:t>p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7391520" y="579132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000000"/>
                    </a:solidFill>
                    <a:latin typeface="Comic Sans MS"/>
                  </a:rPr>
                  <a:t>q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715000" y="335268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ff3300"/>
                    </a:solidFill>
                    <a:latin typeface="Comic Sans MS"/>
                  </a:rPr>
                  <a:t>O</a:t>
                </a:r>
                <a:r>
                  <a:rPr b="0" lang="es-ES_tradnl" sz="2400" spc="-1" strike="noStrike" baseline="30000">
                    <a:solidFill>
                      <a:srgbClr val="ff3300"/>
                    </a:solidFill>
                    <a:latin typeface="Comic Sans MS"/>
                  </a:rPr>
                  <a:t>(-1)</a:t>
                </a:r>
                <a:r>
                  <a:rPr b="0" lang="es-ES_tradnl" sz="2400" spc="-1" strike="noStrike">
                    <a:solidFill>
                      <a:srgbClr val="ff3300"/>
                    </a:solidFill>
                    <a:latin typeface="Comic Sans MS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895480" y="2971800"/>
                <a:ext cx="3429000" cy="2133720"/>
              </a:xfrm>
              <a:custGeom>
                <a:avLst/>
                <a:gdLst/>
                <a:ahLst/>
                <a:rect l="l" t="t" r="r" b="b"/>
                <a:pathLst>
                  <a:path w="2160" h="1344">
                    <a:moveTo>
                      <a:pt x="0" y="0"/>
                    </a:moveTo>
                    <a:cubicBezTo>
                      <a:pt x="180" y="392"/>
                      <a:pt x="360" y="784"/>
                      <a:pt x="720" y="1008"/>
                    </a:cubicBezTo>
                    <a:cubicBezTo>
                      <a:pt x="1080" y="1232"/>
                      <a:pt x="1620" y="1288"/>
                      <a:pt x="2160" y="1344"/>
                    </a:cubicBezTo>
                  </a:path>
                </a:pathLst>
              </a:custGeom>
              <a:noFill/>
              <a:ln w="936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477120" y="480060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3333cc"/>
                    </a:solidFill>
                    <a:latin typeface="Comic Sans MS"/>
                  </a:rPr>
                  <a:t>D</a:t>
                </a:r>
                <a:r>
                  <a:rPr b="0" lang="es-ES_tradnl" sz="2400" spc="-1" strike="noStrike" baseline="30000">
                    <a:solidFill>
                      <a:srgbClr val="3333cc"/>
                    </a:solidFill>
                    <a:latin typeface="Comic Sans MS"/>
                  </a:rPr>
                  <a:t>(-1)</a:t>
                </a:r>
                <a:r>
                  <a:rPr b="0" lang="es-ES_tradnl" sz="2400" spc="-1" strike="noStrike">
                    <a:solidFill>
                      <a:srgbClr val="3333cc"/>
                    </a:solidFill>
                    <a:latin typeface="Comic Sans MS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flipH="1">
                <a:off x="762120" y="4786200"/>
                <a:ext cx="3643200" cy="1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449568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000000"/>
                    </a:solidFill>
                    <a:latin typeface="Comic Sans MS"/>
                  </a:rPr>
                  <a:t>p2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038480" y="563868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000000"/>
                    </a:solidFill>
                    <a:latin typeface="Comic Sans MS"/>
                  </a:rPr>
                  <a:t>q2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3" name=""/>
            <p:cNvSpPr/>
            <p:nvPr/>
          </p:nvSpPr>
          <p:spPr>
            <a:xfrm>
              <a:off x="2666880" y="3657600"/>
              <a:ext cx="2971800" cy="1523880"/>
            </a:xfrm>
            <a:custGeom>
              <a:avLst/>
              <a:gdLst/>
              <a:ahLst/>
              <a:rect l="l" t="t" r="r" b="b"/>
              <a:pathLst>
                <a:path w="1872" h="960">
                  <a:moveTo>
                    <a:pt x="0" y="960"/>
                  </a:moveTo>
                  <a:cubicBezTo>
                    <a:pt x="396" y="920"/>
                    <a:pt x="792" y="880"/>
                    <a:pt x="1104" y="720"/>
                  </a:cubicBezTo>
                  <a:cubicBezTo>
                    <a:pt x="1416" y="560"/>
                    <a:pt x="1744" y="120"/>
                    <a:pt x="1872" y="0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ercados puntu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228600" y="2437920"/>
            <a:ext cx="7696080" cy="3813120"/>
            <a:chOff x="228600" y="2437920"/>
            <a:chExt cx="7696080" cy="3813120"/>
          </a:xfrm>
        </p:grpSpPr>
        <p:sp>
          <p:nvSpPr>
            <p:cNvPr id="126" name=""/>
            <p:cNvSpPr/>
            <p:nvPr/>
          </p:nvSpPr>
          <p:spPr>
            <a:xfrm flipV="1">
              <a:off x="762120" y="2437920"/>
              <a:ext cx="0" cy="312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62120" y="5562720"/>
              <a:ext cx="6781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28600" y="25146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91520" y="579132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" name=""/>
          <p:cNvSpPr/>
          <p:nvPr/>
        </p:nvSpPr>
        <p:spPr>
          <a:xfrm>
            <a:off x="5486400" y="2133720"/>
            <a:ext cx="327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omic Sans MS"/>
              </a:rPr>
              <a:t>Ambos mercados se conecta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4343400" y="3352680"/>
            <a:ext cx="3352680" cy="1907640"/>
            <a:chOff x="4343400" y="3352680"/>
            <a:chExt cx="3352680" cy="1907640"/>
          </a:xfrm>
        </p:grpSpPr>
        <p:sp>
          <p:nvSpPr>
            <p:cNvPr id="132" name=""/>
            <p:cNvSpPr/>
            <p:nvPr/>
          </p:nvSpPr>
          <p:spPr>
            <a:xfrm>
              <a:off x="5715000" y="3352680"/>
              <a:ext cx="106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3300"/>
                  </a:solidFill>
                  <a:latin typeface="Comic Sans MS"/>
                </a:rPr>
                <a:t>O</a:t>
              </a:r>
              <a:r>
                <a:rPr b="0" lang="es-ES_tradnl" sz="2400" spc="-1" strike="noStrike" baseline="30000">
                  <a:solidFill>
                    <a:srgbClr val="ff3300"/>
                  </a:solidFill>
                  <a:latin typeface="Comic Sans MS"/>
                </a:rPr>
                <a:t>(-1)</a:t>
              </a:r>
              <a:r>
                <a:rPr b="0" lang="es-ES_tradnl" sz="2400" spc="-1" strike="noStrike">
                  <a:solidFill>
                    <a:srgbClr val="ff33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572000" y="3809880"/>
              <a:ext cx="1752480" cy="1295640"/>
            </a:xfrm>
            <a:custGeom>
              <a:avLst/>
              <a:gdLst/>
              <a:ahLst/>
              <a:rect l="l" t="t" r="r" b="b"/>
              <a:pathLst>
                <a:path w="2160" h="1344">
                  <a:moveTo>
                    <a:pt x="0" y="0"/>
                  </a:moveTo>
                  <a:cubicBezTo>
                    <a:pt x="180" y="392"/>
                    <a:pt x="360" y="784"/>
                    <a:pt x="720" y="1008"/>
                  </a:cubicBezTo>
                  <a:cubicBezTo>
                    <a:pt x="1080" y="1232"/>
                    <a:pt x="1620" y="1288"/>
                    <a:pt x="2160" y="1344"/>
                  </a:cubicBezTo>
                </a:path>
              </a:pathLst>
            </a:custGeom>
            <a:noFill/>
            <a:ln w="93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477120" y="4800600"/>
              <a:ext cx="12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3333cc"/>
                  </a:solidFill>
                  <a:latin typeface="Comic Sans MS"/>
                </a:rPr>
                <a:t>D</a:t>
              </a:r>
              <a:r>
                <a:rPr b="0" lang="es-ES_tradnl" sz="2400" spc="-1" strike="noStrike" baseline="30000">
                  <a:solidFill>
                    <a:srgbClr val="3333cc"/>
                  </a:solidFill>
                  <a:latin typeface="Comic Sans MS"/>
                </a:rPr>
                <a:t>(-1)</a:t>
              </a:r>
              <a:r>
                <a:rPr b="0" lang="es-ES_tradnl" sz="2400" spc="-1" strike="noStrike">
                  <a:solidFill>
                    <a:srgbClr val="3333cc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343400" y="3886200"/>
              <a:ext cx="1295280" cy="1371600"/>
            </a:xfrm>
            <a:custGeom>
              <a:avLst/>
              <a:gdLst/>
              <a:ahLst/>
              <a:rect l="l" t="t" r="r" b="b"/>
              <a:pathLst>
                <a:path w="1872" h="960">
                  <a:moveTo>
                    <a:pt x="0" y="960"/>
                  </a:moveTo>
                  <a:cubicBezTo>
                    <a:pt x="396" y="920"/>
                    <a:pt x="792" y="880"/>
                    <a:pt x="1104" y="720"/>
                  </a:cubicBezTo>
                  <a:cubicBezTo>
                    <a:pt x="1416" y="560"/>
                    <a:pt x="1744" y="120"/>
                    <a:pt x="1872" y="0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1523880" y="2286000"/>
            <a:ext cx="2286000" cy="1602720"/>
            <a:chOff x="1523880" y="2286000"/>
            <a:chExt cx="2286000" cy="1602720"/>
          </a:xfrm>
        </p:grpSpPr>
        <p:sp>
          <p:nvSpPr>
            <p:cNvPr id="137" name=""/>
            <p:cNvSpPr/>
            <p:nvPr/>
          </p:nvSpPr>
          <p:spPr>
            <a:xfrm>
              <a:off x="1676520" y="2743200"/>
              <a:ext cx="1218960" cy="1143000"/>
            </a:xfrm>
            <a:custGeom>
              <a:avLst/>
              <a:gdLst/>
              <a:ahLst/>
              <a:rect l="l" t="t" r="r" b="b"/>
              <a:pathLst>
                <a:path w="2208" h="1392">
                  <a:moveTo>
                    <a:pt x="0" y="1392"/>
                  </a:moveTo>
                  <a:cubicBezTo>
                    <a:pt x="268" y="1044"/>
                    <a:pt x="536" y="696"/>
                    <a:pt x="864" y="480"/>
                  </a:cubicBezTo>
                  <a:cubicBezTo>
                    <a:pt x="1192" y="264"/>
                    <a:pt x="1744" y="176"/>
                    <a:pt x="1968" y="96"/>
                  </a:cubicBezTo>
                  <a:cubicBezTo>
                    <a:pt x="2192" y="16"/>
                    <a:pt x="2200" y="8"/>
                    <a:pt x="2208" y="0"/>
                  </a:cubicBezTo>
                </a:path>
              </a:pathLst>
            </a:custGeom>
            <a:noFill/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590920" y="236232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3300"/>
                  </a:solidFill>
                  <a:latin typeface="Comic Sans MS"/>
                </a:rPr>
                <a:t>O</a:t>
              </a:r>
              <a:r>
                <a:rPr b="0" lang="es-ES_tradnl" sz="2400" spc="-1" strike="noStrike" baseline="30000">
                  <a:solidFill>
                    <a:srgbClr val="ff3300"/>
                  </a:solidFill>
                  <a:latin typeface="Comic Sans MS"/>
                </a:rPr>
                <a:t>(-1)</a:t>
              </a:r>
              <a:r>
                <a:rPr b="0" lang="es-ES_tradnl" sz="2400" spc="-1" strike="noStrike">
                  <a:solidFill>
                    <a:srgbClr val="ff3300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523880" y="2286000"/>
              <a:ext cx="1600200" cy="1143000"/>
            </a:xfrm>
            <a:custGeom>
              <a:avLst/>
              <a:gdLst/>
              <a:ahLst/>
              <a:rect l="l" t="t" r="r" b="b"/>
              <a:pathLst>
                <a:path w="2160" h="1344">
                  <a:moveTo>
                    <a:pt x="0" y="0"/>
                  </a:moveTo>
                  <a:cubicBezTo>
                    <a:pt x="180" y="392"/>
                    <a:pt x="360" y="784"/>
                    <a:pt x="720" y="1008"/>
                  </a:cubicBezTo>
                  <a:cubicBezTo>
                    <a:pt x="1080" y="1232"/>
                    <a:pt x="1620" y="1288"/>
                    <a:pt x="2160" y="1344"/>
                  </a:cubicBezTo>
                </a:path>
              </a:pathLst>
            </a:custGeom>
            <a:noFill/>
            <a:ln w="93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895480" y="342900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3333cc"/>
                  </a:solidFill>
                  <a:latin typeface="Comic Sans MS"/>
                </a:rPr>
                <a:t>D</a:t>
              </a:r>
              <a:r>
                <a:rPr b="0" lang="es-ES_tradnl" sz="2400" spc="-1" strike="noStrike" baseline="30000">
                  <a:solidFill>
                    <a:srgbClr val="3333cc"/>
                  </a:solidFill>
                  <a:latin typeface="Comic Sans MS"/>
                </a:rPr>
                <a:t>(-1)</a:t>
              </a:r>
              <a:r>
                <a:rPr b="0" lang="es-ES_tradnl" sz="2400" spc="-1" strike="noStrike">
                  <a:solidFill>
                    <a:srgbClr val="3333cc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1" name=""/>
          <p:cNvSpPr/>
          <p:nvPr/>
        </p:nvSpPr>
        <p:spPr>
          <a:xfrm>
            <a:off x="685800" y="5791320"/>
            <a:ext cx="7924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omic Sans MS"/>
              </a:rPr>
              <a:t>¿qué va a suceder con los productores y consumidores de ambos mercado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ercados puntu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228600" y="2437920"/>
            <a:ext cx="7848720" cy="3279600"/>
            <a:chOff x="228600" y="2437920"/>
            <a:chExt cx="7848720" cy="3279600"/>
          </a:xfrm>
        </p:grpSpPr>
        <p:sp>
          <p:nvSpPr>
            <p:cNvPr id="144" name=""/>
            <p:cNvSpPr/>
            <p:nvPr/>
          </p:nvSpPr>
          <p:spPr>
            <a:xfrm flipV="1">
              <a:off x="762120" y="2437920"/>
              <a:ext cx="0" cy="312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62120" y="5562720"/>
              <a:ext cx="6781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28600" y="25146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543800" y="52578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3809880" y="1600200"/>
            <a:ext cx="3276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En M1 se genera exceso de deman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85800" y="586728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omic Sans MS"/>
              </a:rPr>
              <a:t>Escribir las ecuaciones de exceso de oferta y exceso de deman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omic Sans MS"/>
              </a:rPr>
              <a:t>¿nueva condición de equilibrio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1523880" y="2438280"/>
            <a:ext cx="2514600" cy="1679040"/>
            <a:chOff x="1523880" y="2438280"/>
            <a:chExt cx="2514600" cy="1679040"/>
          </a:xfrm>
        </p:grpSpPr>
        <p:sp>
          <p:nvSpPr>
            <p:cNvPr id="151" name=""/>
            <p:cNvSpPr/>
            <p:nvPr/>
          </p:nvSpPr>
          <p:spPr>
            <a:xfrm>
              <a:off x="2971800" y="243828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3300"/>
                  </a:solidFill>
                  <a:latin typeface="Comic Sans MS"/>
                </a:rPr>
                <a:t>O</a:t>
              </a:r>
              <a:r>
                <a:rPr b="0" lang="es-ES_tradnl" sz="2400" spc="-1" strike="noStrike" baseline="30000">
                  <a:solidFill>
                    <a:srgbClr val="ff3300"/>
                  </a:solidFill>
                  <a:latin typeface="Comic Sans MS"/>
                </a:rPr>
                <a:t>(-1)</a:t>
              </a:r>
              <a:r>
                <a:rPr b="0" lang="es-ES_tradnl" sz="2400" spc="-1" strike="noStrike">
                  <a:solidFill>
                    <a:srgbClr val="ff3300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124080" y="365760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3333cc"/>
                  </a:solidFill>
                  <a:latin typeface="Comic Sans MS"/>
                </a:rPr>
                <a:t>D</a:t>
              </a:r>
              <a:r>
                <a:rPr b="0" lang="es-ES_tradnl" sz="2400" spc="-1" strike="noStrike" baseline="30000">
                  <a:solidFill>
                    <a:srgbClr val="3333cc"/>
                  </a:solidFill>
                  <a:latin typeface="Comic Sans MS"/>
                </a:rPr>
                <a:t>(-1)</a:t>
              </a:r>
              <a:r>
                <a:rPr b="0" lang="es-ES_tradnl" sz="2400" spc="-1" strike="noStrike">
                  <a:solidFill>
                    <a:srgbClr val="3333cc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523880" y="2590920"/>
              <a:ext cx="1600200" cy="129528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flipV="1">
              <a:off x="1600200" y="2666520"/>
              <a:ext cx="1295280" cy="12956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5029200" y="3733920"/>
            <a:ext cx="2666880" cy="1831320"/>
            <a:chOff x="5029200" y="3733920"/>
            <a:chExt cx="2666880" cy="1831320"/>
          </a:xfrm>
        </p:grpSpPr>
        <p:sp>
          <p:nvSpPr>
            <p:cNvPr id="156" name=""/>
            <p:cNvSpPr/>
            <p:nvPr/>
          </p:nvSpPr>
          <p:spPr>
            <a:xfrm>
              <a:off x="5943600" y="3733920"/>
              <a:ext cx="106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3300"/>
                  </a:solidFill>
                  <a:latin typeface="Comic Sans MS"/>
                </a:rPr>
                <a:t>O</a:t>
              </a:r>
              <a:r>
                <a:rPr b="0" lang="es-ES_tradnl" sz="2400" spc="-1" strike="noStrike" baseline="30000">
                  <a:solidFill>
                    <a:srgbClr val="ff3300"/>
                  </a:solidFill>
                  <a:latin typeface="Comic Sans MS"/>
                </a:rPr>
                <a:t>(-1)</a:t>
              </a:r>
              <a:r>
                <a:rPr b="0" lang="es-ES_tradnl" sz="2400" spc="-1" strike="noStrike">
                  <a:solidFill>
                    <a:srgbClr val="ff33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477120" y="5105520"/>
              <a:ext cx="12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3333cc"/>
                  </a:solidFill>
                  <a:latin typeface="Comic Sans MS"/>
                </a:rPr>
                <a:t>D</a:t>
              </a:r>
              <a:r>
                <a:rPr b="0" lang="es-ES_tradnl" sz="2400" spc="-1" strike="noStrike" baseline="30000">
                  <a:solidFill>
                    <a:srgbClr val="3333cc"/>
                  </a:solidFill>
                  <a:latin typeface="Comic Sans MS"/>
                </a:rPr>
                <a:t>(-1)</a:t>
              </a:r>
              <a:r>
                <a:rPr b="0" lang="es-ES_tradnl" sz="2400" spc="-1" strike="noStrike">
                  <a:solidFill>
                    <a:srgbClr val="3333cc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029200" y="4038480"/>
              <a:ext cx="1600200" cy="129564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>
              <a:off x="5105520" y="4114800"/>
              <a:ext cx="1295280" cy="12952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6019920" y="2819520"/>
            <a:ext cx="327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En M2 se genera exceso de ofer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981080" y="3581280"/>
            <a:ext cx="76212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410080" y="4343400"/>
            <a:ext cx="76212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1T08:07:30Z</dcterms:created>
  <dc:creator>Marcela Munizaga</dc:creator>
  <dc:description/>
  <dc:language>en-US</dc:language>
  <cp:lastModifiedBy>Marcela Munizaga</cp:lastModifiedBy>
  <dcterms:modified xsi:type="dcterms:W3CDTF">2007-07-30T15:36:38Z</dcterms:modified>
  <cp:revision>56</cp:revision>
  <dc:subject/>
  <dc:title>Sin título de diapositiva</dc:title>
</cp:coreProperties>
</file>