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000B-927E-4D4D-811C-73B59BE5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1EE-1AE0-4B73-97CE-B68047E2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1E6-9093-40A3-BD74-639C0801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CB3D-1796-4C94-8351-FC7C12C9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2D6-D177-4369-BCB7-E0DFA8C2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59D-EDC5-484A-A478-61C6746C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8C0-707C-4893-846E-80142284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459D-87EF-4D2E-85D1-1F98A2C6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2D74-4E54-401E-A541-7534C511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ACA-141A-4C63-B915-C795F3EF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706-C665-4AF3-AC4D-F50596D4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C27-CAF9-42B0-95D6-D09F1F42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AB91-47F8-4943-B5F5-DB46E00571C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ipo doc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Marcela Muniz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xiliar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Hugo Sil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 Lunes y Viernes 12:00-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eres: miércoles 14 a 16, requisito para aprobar. 30% de la nota f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9051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ces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19810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7242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6483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32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8098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33240" y="18493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78320" y="35053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962520"/>
            <a:ext cx="7162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1320" y="41148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requ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41148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espacial = localización de activid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tores agrícolas, centros urbanos, centros produ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, industria, servicios, edu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es de transporte: via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: aéreo, acuático, terrestre: camión, tren, bus,auto, a 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ciones: frecuencia, tarifas, recorridos, detenciones, tasas de carga y descarga, sistemas de información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8954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la Serie de Concentración Tecnológica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 Civil Industr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l paquete de electivos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 Matemáti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icar 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¿Qué está pasando en Santiago?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2: 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3: 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4: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</cp:lastModifiedBy>
  <dcterms:modified xsi:type="dcterms:W3CDTF">2009-07-27T13:57:51Z</dcterms:modified>
  <cp:revision>37</cp:revision>
  <dc:subject/>
  <dc:title>Definiciones y conceptos básicos</dc:title>
</cp:coreProperties>
</file>