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5F5BFA-97A4-46AF-ABE4-F2E311FA552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8CF322-FA8D-41A9-A0D6-BBFA0B3C1F7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8489DC-A193-4EE0-B9ED-84BF1DAD59A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562A48-D69C-4C78-B282-061C8E88B5B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241DC3-BC58-478F-AD3B-6735DD0AD95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636706-C421-4B6F-9BC0-FE5F345C794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924EDB-1985-42F8-A7A6-A58475D55E1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D4D3F0-F2B7-4B2D-AAF2-0026D1BF33D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2D90B0-AFE6-4164-8464-03A6279E643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2858E8-EF29-4998-9CD4-ED430120D3C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0CCDB1-AB4A-4B91-B797-223B520FDAD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C3635B-0BFF-4C8F-847D-D1012901B47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02120C-ACC8-498F-9313-7C310B85AFC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7F1-E6D4-41AA-884C-FC6FCBD0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759-845E-42C7-B9A4-16BF312B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687-E212-4715-8529-C436CE26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7AB-95B6-44C7-894B-68CB4025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7FB-C8C2-49E6-A8D0-76F1F989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E71-A315-4AF9-973F-67FE6E68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2E6-85E3-437A-88E9-D9482533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B68-6622-4766-8998-C64AA746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BE1-99E5-4F43-9217-E354249C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BB2-0F98-4AEE-91E5-77BDB61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E97-8F8F-4072-89D8-2420991A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A0A-023F-4960-BA78-AA99EC43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88A7-03C3-45FB-8917-511D39AFA4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00240" y="5500800"/>
            <a:ext cx="5356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íbal Morales Ri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rnando Pa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6600"/>
                </a:solidFill>
                <a:latin typeface="Arial"/>
              </a:rPr>
              <a:t>Sistemas de Moneda Complemen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4578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929120" y="3357720"/>
            <a:ext cx="3657600" cy="1596960"/>
          </a:xfrm>
          <a:prstGeom prst="rect">
            <a:avLst/>
          </a:prstGeom>
          <a:ln w="0">
            <a:noFill/>
          </a:ln>
        </p:spPr>
      </p:pic>
      <p:sp>
        <p:nvSpPr>
          <p:cNvPr id="108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9 Rectángulo"/>
          <p:cNvSpPr/>
          <p:nvPr/>
        </p:nvSpPr>
        <p:spPr>
          <a:xfrm>
            <a:off x="2428920" y="39290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nco d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000760" y="50004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6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es de Tru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Pregun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7 Imagen" descr="preguntas.jpg"/>
          <p:cNvPicPr/>
          <p:nvPr/>
        </p:nvPicPr>
        <p:blipFill>
          <a:blip r:embed="rId1"/>
          <a:stretch/>
        </p:blipFill>
        <p:spPr>
          <a:xfrm>
            <a:off x="5715000" y="1785960"/>
            <a:ext cx="31798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Título"/>
          <p:cNvSpPr/>
          <p:nvPr/>
        </p:nvSpPr>
        <p:spPr>
          <a:xfrm>
            <a:off x="785880" y="57168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Agen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Rectángulo"/>
          <p:cNvSpPr/>
          <p:nvPr/>
        </p:nvSpPr>
        <p:spPr>
          <a:xfrm>
            <a:off x="1000080" y="1285920"/>
            <a:ext cx="707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es el dine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as 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Monedas Complemen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os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world-in-hands.jpg"/>
          <p:cNvPicPr/>
          <p:nvPr/>
        </p:nvPicPr>
        <p:blipFill>
          <a:blip r:embed="rId2"/>
          <a:stretch/>
        </p:blipFill>
        <p:spPr>
          <a:xfrm>
            <a:off x="5643720" y="3459240"/>
            <a:ext cx="350028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c000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¿Qué es el diner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342880" y="3362760"/>
            <a:ext cx="618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ero es un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erdo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los integrantes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el fin de utilizar algo com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Rectángulo"/>
          <p:cNvSpPr/>
          <p:nvPr/>
        </p:nvSpPr>
        <p:spPr>
          <a:xfrm>
            <a:off x="1857240" y="1717560"/>
            <a:ext cx="7072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nero Normal 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qué si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Característic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Rectángulo"/>
          <p:cNvSpPr/>
          <p:nvPr/>
        </p:nvSpPr>
        <p:spPr>
          <a:xfrm>
            <a:off x="1857240" y="17175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r de compra Ge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crea por deuda banc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oneda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nacionales o de agrupaciones de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Benef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Rectángulo"/>
          <p:cNvSpPr/>
          <p:nvPr/>
        </p:nvSpPr>
        <p:spPr>
          <a:xfrm>
            <a:off x="1857240" y="17175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 Global 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proyectos a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Lími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Rectángulo"/>
          <p:cNvSpPr/>
          <p:nvPr/>
        </p:nvSpPr>
        <p:spPr>
          <a:xfrm>
            <a:off x="1857240" y="1717560"/>
            <a:ext cx="70725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rgo plazo? Sustentabi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capital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entración de la Riquez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Monedas Complementar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Rectángulo"/>
          <p:cNvSpPr/>
          <p:nvPr/>
        </p:nvSpPr>
        <p:spPr>
          <a:xfrm>
            <a:off x="2143080" y="30718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9 Rectángulo"/>
          <p:cNvSpPr/>
          <p:nvPr/>
        </p:nvSpPr>
        <p:spPr>
          <a:xfrm>
            <a:off x="6786720" y="31431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3000240" y="41432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e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1 Rectángulo"/>
          <p:cNvSpPr/>
          <p:nvPr/>
        </p:nvSpPr>
        <p:spPr>
          <a:xfrm>
            <a:off x="5286240" y="421488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ist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 Rectángulo"/>
          <p:cNvSpPr/>
          <p:nvPr/>
        </p:nvSpPr>
        <p:spPr>
          <a:xfrm>
            <a:off x="2000160" y="535788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ero no pu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13 Conector recto de flecha"/>
          <p:cNvCxnSpPr>
            <a:stCxn id="82" idx="3"/>
            <a:endCxn id="84" idx="1"/>
          </p:cNvCxnSpPr>
          <p:nvPr/>
        </p:nvCxnSpPr>
        <p:spPr>
          <a:xfrm flipV="1">
            <a:off x="3571920" y="5250600"/>
            <a:ext cx="71496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5" name="14 Conector recto de flecha"/>
          <p:cNvCxnSpPr>
            <a:stCxn id="82" idx="3"/>
            <a:endCxn id="86" idx="1"/>
          </p:cNvCxnSpPr>
          <p:nvPr/>
        </p:nvCxnSpPr>
        <p:spPr>
          <a:xfrm>
            <a:off x="3571560" y="5679720"/>
            <a:ext cx="14295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4" name="15 Rectángulo"/>
          <p:cNvSpPr/>
          <p:nvPr/>
        </p:nvSpPr>
        <p:spPr>
          <a:xfrm>
            <a:off x="4286160" y="492912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as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6 Rectángulo"/>
          <p:cNvSpPr/>
          <p:nvPr/>
        </p:nvSpPr>
        <p:spPr>
          <a:xfrm>
            <a:off x="5000760" y="5572080"/>
            <a:ext cx="1928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17 Conector recto de flecha"/>
          <p:cNvCxnSpPr>
            <a:stCxn id="82" idx="3"/>
          </p:cNvCxnSpPr>
          <p:nvPr/>
        </p:nvCxnSpPr>
        <p:spPr>
          <a:xfrm>
            <a:off x="3571920" y="5680080"/>
            <a:ext cx="1000800" cy="892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8" name="18 Rectángulo"/>
          <p:cNvSpPr/>
          <p:nvPr/>
        </p:nvSpPr>
        <p:spPr>
          <a:xfrm>
            <a:off x="4214880" y="2857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4 Rectángulo"/>
          <p:cNvSpPr/>
          <p:nvPr/>
        </p:nvSpPr>
        <p:spPr>
          <a:xfrm>
            <a:off x="4714920" y="642924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572080" y="4287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5143680" y="3571920"/>
            <a:ext cx="3381120" cy="2705040"/>
          </a:xfrm>
          <a:prstGeom prst="rect">
            <a:avLst/>
          </a:prstGeom>
          <a:ln w="0">
            <a:noFill/>
          </a:ln>
        </p:spPr>
      </p:pic>
      <p:sp>
        <p:nvSpPr>
          <p:cNvPr id="94" name="22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llas en Aero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3 Rectángulo"/>
          <p:cNvSpPr/>
          <p:nvPr/>
        </p:nvSpPr>
        <p:spPr>
          <a:xfrm>
            <a:off x="2500200" y="435780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eque de Sodex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857840" y="3500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714920" y="928800"/>
            <a:ext cx="3840120" cy="2350800"/>
          </a:xfrm>
          <a:prstGeom prst="rect">
            <a:avLst/>
          </a:prstGeom>
          <a:ln w="0">
            <a:noFill/>
          </a:ln>
        </p:spPr>
      </p:pic>
      <p:sp>
        <p:nvSpPr>
          <p:cNvPr id="101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nto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9 Rectángulo"/>
          <p:cNvSpPr/>
          <p:nvPr/>
        </p:nvSpPr>
        <p:spPr>
          <a:xfrm>
            <a:off x="2428920" y="46432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48:32Z</dcterms:created>
  <dc:creator>alumnodii</dc:creator>
  <dc:description/>
  <dc:language>en-US</dc:language>
  <cp:lastModifiedBy>Fernando Pablos</cp:lastModifiedBy>
  <dcterms:modified xsi:type="dcterms:W3CDTF">2009-10-21T12:24:30Z</dcterms:modified>
  <cp:revision>57</cp:revision>
  <dc:subject/>
  <dc:title>Diapositiva 1</dc:title>
</cp:coreProperties>
</file>