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E524AD-C0B0-4F50-BD89-BF0641F77BE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AC4C29-7F78-494B-A27D-A67C833EF92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B7FFE6-2A8A-460D-918F-1BF70688636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85F80C-BB4D-4469-B342-3F0099B529D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84975B-DE78-44B0-92A8-D411C19845E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7D2958-F58E-42B6-A108-D34DD46A3CA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14AFBB-7F1B-4FDC-8A2C-2566510965D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E51E10-17C7-4A6A-AE2C-18568D08999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A5F990-34BF-4811-8452-34A2F0BA70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9951C6-46FC-46EC-A2C2-5AEBC8BA45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6FFFD7-B01F-4FEF-9ED9-899903E56C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20AB4B-F2E4-447B-AB3F-0165E193809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9FC208-6C4A-4DC2-9E1A-15E208186D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059-8A8A-47D6-AAF9-4D6D1241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341-A0DA-46D9-8939-FA29E082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722-F7BD-4526-A39F-21CA1821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B98-98B8-4CC2-ACDE-CDCC1279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FA5-FD9E-44ED-985F-4789BE36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257-5F2C-4E33-8AC5-F3B1E1B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5E2-D582-4A2E-BA40-FCEA6467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88F-9C0C-4A14-BA1E-442B7F9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39E-D062-459A-B4B1-D7CAA81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964-4B1F-4848-9B0A-4201FE3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3A6-4B68-403A-B60A-1F91D26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14E-D8DE-4916-949C-E5ED2CD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250-2582-44AB-A5E2-496DAD2901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00240" y="5500800"/>
            <a:ext cx="5356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íbal Morales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rnando Pa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6600"/>
                </a:solidFill>
                <a:latin typeface="Arial"/>
              </a:rPr>
              <a:t>Sistemas de Moneda Comple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4578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29120" y="3357720"/>
            <a:ext cx="3657600" cy="1596960"/>
          </a:xfrm>
          <a:prstGeom prst="rect">
            <a:avLst/>
          </a:prstGeom>
          <a:ln w="0">
            <a:noFill/>
          </a:ln>
        </p:spPr>
      </p:pic>
      <p:sp>
        <p:nvSpPr>
          <p:cNvPr id="108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Rectángulo"/>
          <p:cNvSpPr/>
          <p:nvPr/>
        </p:nvSpPr>
        <p:spPr>
          <a:xfrm>
            <a:off x="2428920" y="3929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o d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6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de Tr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Preg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7 Imagen" descr="preguntas.jpg"/>
          <p:cNvPicPr/>
          <p:nvPr/>
        </p:nvPicPr>
        <p:blipFill>
          <a:blip r:embed="rId1"/>
          <a:stretch/>
        </p:blipFill>
        <p:spPr>
          <a:xfrm>
            <a:off x="5715000" y="1785960"/>
            <a:ext cx="31798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78588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1000080" y="128592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el dine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Moneda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world-in-hands.jpg"/>
          <p:cNvPicPr/>
          <p:nvPr/>
        </p:nvPicPr>
        <p:blipFill>
          <a:blip r:embed="rId2"/>
          <a:stretch/>
        </p:blipFill>
        <p:spPr>
          <a:xfrm>
            <a:off x="5643720" y="3459240"/>
            <a:ext cx="35002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c000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¿Qué es el diner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342880" y="3362760"/>
            <a:ext cx="61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ero es u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os integrantes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fin de utilizar algo com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Rectángulo"/>
          <p:cNvSpPr/>
          <p:nvPr/>
        </p:nvSpPr>
        <p:spPr>
          <a:xfrm>
            <a:off x="1857240" y="1717560"/>
            <a:ext cx="707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nero Normal 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qué si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Característic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1857240" y="17175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r de compra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crea por deuda ban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ne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nacionales o de agrupaciones de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Benef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Rectángulo"/>
          <p:cNvSpPr/>
          <p:nvPr/>
        </p:nvSpPr>
        <p:spPr>
          <a:xfrm>
            <a:off x="1857240" y="17175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 Global 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proyectos a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Lím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1857240" y="1717560"/>
            <a:ext cx="70725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rgo plazo? Sustentabi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capital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ntración de la Riquez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Monedas Complementar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2143080" y="30718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6786720" y="31431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3000240" y="41432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e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5286240" y="42148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is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 Rectángulo"/>
          <p:cNvSpPr/>
          <p:nvPr/>
        </p:nvSpPr>
        <p:spPr>
          <a:xfrm>
            <a:off x="2000160" y="53578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ero no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3 Conector recto de flecha"/>
          <p:cNvCxnSpPr>
            <a:stCxn id="82" idx="3"/>
            <a:endCxn id="84" idx="1"/>
          </p:cNvCxnSpPr>
          <p:nvPr/>
        </p:nvCxnSpPr>
        <p:spPr>
          <a:xfrm flipV="1">
            <a:off x="3571920" y="5250600"/>
            <a:ext cx="7149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5" name="14 Conector recto de flecha"/>
          <p:cNvCxnSpPr>
            <a:stCxn id="82" idx="3"/>
            <a:endCxn id="86" idx="1"/>
          </p:cNvCxnSpPr>
          <p:nvPr/>
        </p:nvCxnSpPr>
        <p:spPr>
          <a:xfrm>
            <a:off x="3571560" y="5679720"/>
            <a:ext cx="14295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4" name="15 Rectángulo"/>
          <p:cNvSpPr/>
          <p:nvPr/>
        </p:nvSpPr>
        <p:spPr>
          <a:xfrm>
            <a:off x="4286160" y="4929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Rectángulo"/>
          <p:cNvSpPr/>
          <p:nvPr/>
        </p:nvSpPr>
        <p:spPr>
          <a:xfrm>
            <a:off x="5000760" y="557208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7 Conector recto de flecha"/>
          <p:cNvCxnSpPr>
            <a:stCxn id="82" idx="3"/>
          </p:cNvCxnSpPr>
          <p:nvPr/>
        </p:nvCxnSpPr>
        <p:spPr>
          <a:xfrm>
            <a:off x="3571920" y="5680080"/>
            <a:ext cx="1000800" cy="89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421488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4 Rectángulo"/>
          <p:cNvSpPr/>
          <p:nvPr/>
        </p:nvSpPr>
        <p:spPr>
          <a:xfrm>
            <a:off x="4714920" y="64292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572080" y="4287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3680" y="3571920"/>
            <a:ext cx="3381120" cy="2705040"/>
          </a:xfrm>
          <a:prstGeom prst="rect">
            <a:avLst/>
          </a:prstGeom>
          <a:ln w="0">
            <a:noFill/>
          </a:ln>
        </p:spPr>
      </p:pic>
      <p:sp>
        <p:nvSpPr>
          <p:cNvPr id="94" name="22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llas en Aero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2500200" y="435780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eque de Sodex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840120" cy="235080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2428920" y="4643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48:32Z</dcterms:created>
  <dc:creator>alumnodii</dc:creator>
  <dc:description/>
  <dc:language>en-US</dc:language>
  <cp:lastModifiedBy>Fernando Pablos</cp:lastModifiedBy>
  <dcterms:modified xsi:type="dcterms:W3CDTF">2009-10-21T12:24:30Z</dcterms:modified>
  <cp:revision>57</cp:revision>
  <dc:subject/>
  <dc:title>Diapositiva 1</dc:title>
</cp:coreProperties>
</file>