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161CB6-3902-44C0-92C3-FAD015F5463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2AE302-1EA7-4C81-AB89-73EB4F8B527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3A0A827-CBC8-4085-AE24-9715E2BB1D1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3D35DE2-C845-458B-A370-BAB61367FEB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0A5CF12-D78F-4A43-B01A-C4A20F574E0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4D6D8D-2CB9-4A32-8C3F-F393988407C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4E36B6-A7E8-4A02-AA4A-70EBAB93629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2A31AB-B625-49E1-8E1C-421C06B0329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B8837E-2845-4DFF-9985-EE9C78F07E5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5945FC-E230-4D2A-BD67-2400CD112AF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A98FBA-F3BC-4055-A7AB-BA773DFB695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3633A3D-64E3-4A87-A252-8A8F1039A4F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B2E5F7-8609-4BD7-8575-4A862CE7AE3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A41-FE3A-4015-95D0-19B8FE4E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F3B-D79F-4FC5-9417-6F5ABBE8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FD5-92E6-46D8-AD95-5A0D4FED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33C-CFD8-4616-8F40-9401E52F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E0A-C92C-4505-919E-0C9C5675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B0E-417E-49E1-9635-CBE9A58D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52B-6918-4719-975B-87AA5D5D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EA3-929D-405D-8EEA-78D0CD1F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565-1D88-4B23-89B6-A044B25E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17F-E5F2-4166-9042-9970A29D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7B8-BC4B-49AC-9478-5F2F481C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C4E-A41A-4563-883B-4B0F9747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9E6E-589D-4300-9AD1-1AEC8F4B3C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000240" y="5500800"/>
            <a:ext cx="53564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níbal Morales Ri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ernando Pab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643040"/>
            <a:ext cx="914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6600"/>
                </a:solidFill>
                <a:latin typeface="Arial"/>
              </a:rPr>
              <a:t>Sistemas de Moneda Complemen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4643280" y="857160"/>
            <a:ext cx="3457800" cy="157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4929120" y="3357720"/>
            <a:ext cx="3657600" cy="1596960"/>
          </a:xfrm>
          <a:prstGeom prst="rect">
            <a:avLst/>
          </a:prstGeom>
          <a:ln w="0">
            <a:noFill/>
          </a:ln>
        </p:spPr>
      </p:pic>
      <p:sp>
        <p:nvSpPr>
          <p:cNvPr id="108" name="8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c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9 Rectángulo"/>
          <p:cNvSpPr/>
          <p:nvPr/>
        </p:nvSpPr>
        <p:spPr>
          <a:xfrm>
            <a:off x="2428920" y="392904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nco del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5000760" y="500040"/>
            <a:ext cx="214308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6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des de True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Pregunt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7 Imagen" descr="preguntas.jpg"/>
          <p:cNvPicPr/>
          <p:nvPr/>
        </p:nvPicPr>
        <p:blipFill>
          <a:blip r:embed="rId1"/>
          <a:stretch/>
        </p:blipFill>
        <p:spPr>
          <a:xfrm>
            <a:off x="5715000" y="1785960"/>
            <a:ext cx="317988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Título"/>
          <p:cNvSpPr/>
          <p:nvPr/>
        </p:nvSpPr>
        <p:spPr>
          <a:xfrm>
            <a:off x="785880" y="57168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Agen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Rectángulo"/>
          <p:cNvSpPr/>
          <p:nvPr/>
        </p:nvSpPr>
        <p:spPr>
          <a:xfrm>
            <a:off x="1000080" y="1285920"/>
            <a:ext cx="7072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e es el dine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gunas 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ím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Monedas Complemen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gunos 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world-in-hands.jpg"/>
          <p:cNvPicPr/>
          <p:nvPr/>
        </p:nvPicPr>
        <p:blipFill>
          <a:blip r:embed="rId2"/>
          <a:stretch/>
        </p:blipFill>
        <p:spPr>
          <a:xfrm>
            <a:off x="5643720" y="3459240"/>
            <a:ext cx="3500280" cy="33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c000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¿Qué es el diner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2342880" y="3362760"/>
            <a:ext cx="618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ero es un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erdo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los integrantes de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dad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el fin de utilizar algo como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o de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 Rectángulo"/>
          <p:cNvSpPr/>
          <p:nvPr/>
        </p:nvSpPr>
        <p:spPr>
          <a:xfrm>
            <a:off x="1857240" y="1717560"/>
            <a:ext cx="7072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inero Normal o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a qué si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Característic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 Rectángulo"/>
          <p:cNvSpPr/>
          <p:nvPr/>
        </p:nvSpPr>
        <p:spPr>
          <a:xfrm>
            <a:off x="1857240" y="1717560"/>
            <a:ext cx="707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der de compra Gener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iduc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 crea por deuda banc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oneda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n nacionales o de agrupaciones de paí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Benefici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3 Rectángulo"/>
          <p:cNvSpPr/>
          <p:nvPr/>
        </p:nvSpPr>
        <p:spPr>
          <a:xfrm>
            <a:off x="1857240" y="1717560"/>
            <a:ext cx="7072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etencia Global y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iencia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timula proyectos a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timula crecimi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Lími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Rectángulo"/>
          <p:cNvSpPr/>
          <p:nvPr/>
        </p:nvSpPr>
        <p:spPr>
          <a:xfrm>
            <a:off x="1857240" y="1717560"/>
            <a:ext cx="707256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et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i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rgo plazo? Sustentabil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sarrollo capital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centración de la Riquez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1 Título"/>
          <p:cNvSpPr/>
          <p:nvPr/>
        </p:nvSpPr>
        <p:spPr>
          <a:xfrm>
            <a:off x="1500120" y="500040"/>
            <a:ext cx="76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>
                <a:solidFill>
                  <a:srgbClr val="c36b13"/>
                </a:solidFill>
                <a:latin typeface="Calibri"/>
              </a:rPr>
              <a:t>Monedas Complementari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 Rectángulo"/>
          <p:cNvSpPr/>
          <p:nvPr/>
        </p:nvSpPr>
        <p:spPr>
          <a:xfrm>
            <a:off x="2143080" y="307188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9 Rectángulo"/>
          <p:cNvSpPr/>
          <p:nvPr/>
        </p:nvSpPr>
        <p:spPr>
          <a:xfrm>
            <a:off x="6786720" y="31431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on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0 Rectángulo"/>
          <p:cNvSpPr/>
          <p:nvPr/>
        </p:nvSpPr>
        <p:spPr>
          <a:xfrm>
            <a:off x="3000240" y="414324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ebre part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1 Rectángulo"/>
          <p:cNvSpPr/>
          <p:nvPr/>
        </p:nvSpPr>
        <p:spPr>
          <a:xfrm>
            <a:off x="5286240" y="4214880"/>
            <a:ext cx="20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unción disti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2 Rectángulo"/>
          <p:cNvSpPr/>
          <p:nvPr/>
        </p:nvSpPr>
        <p:spPr>
          <a:xfrm>
            <a:off x="2000160" y="5357880"/>
            <a:ext cx="1571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nero no pue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13 Conector recto de flecha"/>
          <p:cNvCxnSpPr>
            <a:stCxn id="82" idx="3"/>
            <a:endCxn id="84" idx="1"/>
          </p:cNvCxnSpPr>
          <p:nvPr/>
        </p:nvCxnSpPr>
        <p:spPr>
          <a:xfrm flipV="1">
            <a:off x="3571920" y="5250600"/>
            <a:ext cx="71496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5" name="14 Conector recto de flecha"/>
          <p:cNvCxnSpPr>
            <a:stCxn id="82" idx="3"/>
            <a:endCxn id="86" idx="1"/>
          </p:cNvCxnSpPr>
          <p:nvPr/>
        </p:nvCxnSpPr>
        <p:spPr>
          <a:xfrm>
            <a:off x="3571560" y="5679720"/>
            <a:ext cx="1429560" cy="214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4" name="15 Rectángulo"/>
          <p:cNvSpPr/>
          <p:nvPr/>
        </p:nvSpPr>
        <p:spPr>
          <a:xfrm>
            <a:off x="4286160" y="492912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as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6 Rectángulo"/>
          <p:cNvSpPr/>
          <p:nvPr/>
        </p:nvSpPr>
        <p:spPr>
          <a:xfrm>
            <a:off x="5000760" y="5572080"/>
            <a:ext cx="1928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de oport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17 Conector recto de flecha"/>
          <p:cNvCxnSpPr>
            <a:stCxn id="82" idx="3"/>
          </p:cNvCxnSpPr>
          <p:nvPr/>
        </p:nvCxnSpPr>
        <p:spPr>
          <a:xfrm>
            <a:off x="3571920" y="5680080"/>
            <a:ext cx="1000800" cy="892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8" name="18 Rectángulo"/>
          <p:cNvSpPr/>
          <p:nvPr/>
        </p:nvSpPr>
        <p:spPr>
          <a:xfrm>
            <a:off x="4214880" y="2857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4 Rectángulo"/>
          <p:cNvSpPr/>
          <p:nvPr/>
        </p:nvSpPr>
        <p:spPr>
          <a:xfrm>
            <a:off x="4714920" y="6429240"/>
            <a:ext cx="107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5572080" y="428760"/>
            <a:ext cx="2543400" cy="254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5143680" y="3571920"/>
            <a:ext cx="3381120" cy="2705040"/>
          </a:xfrm>
          <a:prstGeom prst="rect">
            <a:avLst/>
          </a:prstGeom>
          <a:ln w="0">
            <a:noFill/>
          </a:ln>
        </p:spPr>
      </p:pic>
      <p:sp>
        <p:nvSpPr>
          <p:cNvPr id="94" name="22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llas en Aerol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3 Rectángulo"/>
          <p:cNvSpPr/>
          <p:nvPr/>
        </p:nvSpPr>
        <p:spPr>
          <a:xfrm>
            <a:off x="2500200" y="435780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heque de Sodex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2 Marcador de contenido"/>
          <p:cNvSpPr/>
          <p:nvPr/>
        </p:nvSpPr>
        <p:spPr>
          <a:xfrm>
            <a:off x="1714680" y="1643040"/>
            <a:ext cx="71434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16 Imagen" descr="ojo azul.JPG"/>
          <p:cNvPicPr/>
          <p:nvPr/>
        </p:nvPicPr>
        <p:blipFill>
          <a:blip r:embed="rId1"/>
          <a:stretch/>
        </p:blipFill>
        <p:spPr>
          <a:xfrm>
            <a:off x="1357200" y="0"/>
            <a:ext cx="64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4857840" y="3500280"/>
            <a:ext cx="2876400" cy="2876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4714920" y="928800"/>
            <a:ext cx="3840120" cy="2350800"/>
          </a:xfrm>
          <a:prstGeom prst="rect">
            <a:avLst/>
          </a:prstGeom>
          <a:ln w="0">
            <a:noFill/>
          </a:ln>
        </p:spPr>
      </p:pic>
      <p:sp>
        <p:nvSpPr>
          <p:cNvPr id="101" name="8 Rectángulo"/>
          <p:cNvSpPr/>
          <p:nvPr/>
        </p:nvSpPr>
        <p:spPr>
          <a:xfrm>
            <a:off x="2428920" y="157176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nto trans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9 Rectángulo"/>
          <p:cNvSpPr/>
          <p:nvPr/>
        </p:nvSpPr>
        <p:spPr>
          <a:xfrm>
            <a:off x="2428920" y="4643280"/>
            <a:ext cx="1643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2 Marcador de contenido"/>
          <p:cNvSpPr/>
          <p:nvPr/>
        </p:nvSpPr>
        <p:spPr>
          <a:xfrm>
            <a:off x="0" y="0"/>
            <a:ext cx="135720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qué es el diner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Algunas 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Lím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Monedas Complemen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9933"/>
                </a:solidFill>
                <a:latin typeface="Arial"/>
              </a:rPr>
              <a:t>Algunos Ejemp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5:48:32Z</dcterms:created>
  <dc:creator>alumnodii</dc:creator>
  <dc:description/>
  <dc:language>en-US</dc:language>
  <cp:lastModifiedBy>Fernando Pablos</cp:lastModifiedBy>
  <dcterms:modified xsi:type="dcterms:W3CDTF">2009-10-21T12:24:30Z</dcterms:modified>
  <cp:revision>57</cp:revision>
  <dc:subject/>
  <dc:title>Diapositiva 1</dc:title>
</cp:coreProperties>
</file>