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8.png" ContentType="image/png"/>
  <Override PartName="/ppt/media/image16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2459-AC2B-4F0F-AFBC-DA8E4DB1F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9E9A-6B0E-4BB7-AA55-A8DEA5E7DDB2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1C9C-CE51-4430-8C2A-63A93CC5BD6D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1A28-121F-4E8F-BF9D-624A63A8DFAA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62D3-22EA-4B39-9CA4-2BAB40B1A300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3620-2828-430E-BF19-749BFBE135E6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3599-C440-4A4D-B395-2BD4114D6D39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rigor indicador beneficios/matrícula es una aproximación muy gruesa a la cobertura de las ayudas estudiantiles, puesto que hay estudiantes con más de un beneficio y hay beneficios de becas que son otorgados a alumnos matriculados en otras instituciones de educación sup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5D60-A79D-4B28-A206-0BA8449E14A5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5A53-F439-4EF0-ACE4-1B9BF5167A7E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5222-48EC-4CF6-B236-BB806EADA933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93B5-1C4D-44F1-95D8-BC42E88B6DDA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B412-6DF6-4829-9AF9-364A3371C387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6D86-4145-4472-AD69-6A7980F9F261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4B8B-51F0-42BD-8055-EB59923A85B1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82BA-5F6E-48EA-B0AF-26EFC7F87849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DEBD-DFE6-45B9-8ED5-4000DEEB4DF8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92D8-C469-4133-B338-D00350B46F10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D31A-4AF1-4BAC-96FA-F7602C780A0A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D487-A3D2-4535-8524-47558021F628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DA57-E407-4AC2-80EB-60B5757E4CEF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5DA9-A0E9-4B6B-8F4A-87616C8B7C6B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E60A-D329-4D20-9BC7-D1341AC032A1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5160-B5F8-46A3-9B4B-DD2338D17EE0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1E14-1766-4F61-AF4A-4A128D054B18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D506-B914-4BD9-8658-C87574C6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7FC7-B1ED-4DDB-9CC8-68793365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251E-0BC6-45C5-A7EC-F5644F13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5E06-630C-4394-8153-070F46B1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E7EA-92BD-48EE-9925-218860B1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8255-A97D-445B-912B-2BCAB7C9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0275-8A4A-4664-BC3E-01BA491A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3DB6-CB0F-45DF-BF10-EB0F4EED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5252-3B0B-4368-BB6A-6544021A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2DEE-0DE2-4AE8-9BCC-AC0CA9A2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FF40-FD1B-48D6-BF13-40C7E094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C95B-BF2B-46AA-B37D-7CA6411F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6F00-4D1B-4A43-9D24-C790F4AC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DBE9-780E-47E0-BE15-E0AE2DDD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70D2-0DE0-4709-8D25-4879043E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3435-E708-42B1-A2B4-44B586F1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C620-6A54-474D-A3DD-1615CD28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3E5A-F2D3-4300-9325-7EFF39E8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E01A-C482-4080-B871-8FCB331D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C0A1-4A45-4603-A987-88BBAD53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DBE-9A54-4BD1-865C-9E4921FE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63CD-B787-4DDE-8851-9D28E84C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4156-9D19-4A3B-BCC1-BDCBB2BD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7E07-0A83-46DD-AA6B-25DB3376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980B-CD34-4FBC-ADA0-093E249A21A2}" type="slidenum">
              <a:rPr b="0" lang="en-US" sz="1000" spc="-1" strike="noStrike">
                <a:solidFill>
                  <a:srgbClr val="fbfff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5FF7-AA6E-43A4-A2F3-5EFE491F86DF}" type="slidenum">
              <a:rPr b="0" lang="en-US" sz="10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FINANCIAMIENTO Y REGULACIÓN DEL SISTEMA DE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Santiago, 9 de noviembre 2009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12" name="Rectangle 3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113" name="Rectangle 4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1" name="Line 42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2" name="Line 43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3" name="Line 44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4" name="Line 45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5" name="Line 46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9" name="Line 50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0" name="Line 51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1" name="Line 52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2" name="Line 53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3" name="Line 54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4" name="Line 55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5" name="Line 56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</p:grpSp>
      <p:sp>
        <p:nvSpPr>
          <p:cNvPr id="166" name="Text Box 57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Arial Black"/>
              </a:rPr>
              <a:t>Población 20-24 años con al menos educación media completa según deciles de ingreso de los hogares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1 Gráfico" descr=""/>
          <p:cNvPicPr/>
          <p:nvPr/>
        </p:nvPicPr>
        <p:blipFill>
          <a:blip r:embed="rId1"/>
          <a:stretch/>
        </p:blipFill>
        <p:spPr>
          <a:xfrm>
            <a:off x="-6480" y="774720"/>
            <a:ext cx="9279000" cy="6089760"/>
          </a:xfrm>
          <a:prstGeom prst="rect">
            <a:avLst/>
          </a:prstGeom>
          <a:ln w="0">
            <a:noFill/>
          </a:ln>
        </p:spPr>
      </p:pic>
      <p:sp>
        <p:nvSpPr>
          <p:cNvPr id="170" name="3 CuadroTexto"/>
          <p:cNvSpPr/>
          <p:nvPr/>
        </p:nvSpPr>
        <p:spPr>
          <a:xfrm>
            <a:off x="304920" y="45720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Tasa de graduación de educación secundari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Ingresos según años de escolaridad         </a:t>
            </a:r>
            <a:r>
              <a:rPr b="0" lang="es-CL" sz="1800" spc="-1" strike="noStrike">
                <a:solidFill>
                  <a:srgbClr val="cc9900"/>
                </a:solidFill>
                <a:latin typeface="Arial Black"/>
              </a:rPr>
              <a:t>($ Nov 2006)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860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Sólo el 20% de los hogares puede pagar arancel promedi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886040"/>
          <a:ext cx="8178840" cy="4421160"/>
        </p:xfrm>
        <a:graphic>
          <a:graphicData uri="http://schemas.openxmlformats.org/drawingml/2006/table">
            <a:tbl>
              <a:tblPr/>
              <a:tblGrid>
                <a:gridCol w="4089240"/>
                <a:gridCol w="408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Quintil de ingreso autónomo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ensualidad respecto a ingreso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4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87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4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29"/>
          <p:cNvSpPr/>
          <p:nvPr/>
        </p:nvSpPr>
        <p:spPr>
          <a:xfrm>
            <a:off x="609480" y="6248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, sobre la base de Aranda y Salas (2004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4"/>
          <p:cNvGraphicFramePr/>
          <p:nvPr/>
        </p:nvGraphicFramePr>
        <p:xfrm>
          <a:off x="0" y="0"/>
          <a:ext cx="884412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441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2"/>
          <p:cNvGraphicFramePr/>
          <p:nvPr/>
        </p:nvGraphicFramePr>
        <p:xfrm>
          <a:off x="0" y="609480"/>
          <a:ext cx="9258480" cy="577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25848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9900"/>
                </a:solidFill>
                <a:latin typeface="Arial Black"/>
              </a:rPr>
              <a:t>GASTO PÚBLICO Y PRIVADO EN EDUCACIÓN COMO % DEL PGB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cxnSp>
        <p:nvCxnSpPr>
          <p:cNvPr id="181" name="6 Conector recto de flecha"/>
          <p:cNvCxnSpPr/>
          <p:nvPr/>
        </p:nvCxnSpPr>
        <p:spPr>
          <a:xfrm flipH="1">
            <a:off x="3962160" y="3429000"/>
            <a:ext cx="838800" cy="457920"/>
          </a:xfrm>
          <a:prstGeom prst="straightConnector1">
            <a:avLst/>
          </a:prstGeom>
          <a:ln cap="sq" w="12600">
            <a:solidFill>
              <a:srgbClr val="cc66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84" name="3 Conector recto de flecha"/>
          <p:cNvCxnSpPr/>
          <p:nvPr/>
        </p:nvCxnSpPr>
        <p:spPr>
          <a:xfrm flipH="1">
            <a:off x="1980360" y="1599120"/>
            <a:ext cx="762840" cy="68652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Chart 3" descr=""/>
          <p:cNvPicPr/>
          <p:nvPr/>
        </p:nvPicPr>
        <p:blipFill>
          <a:blip r:embed="rId1"/>
          <a:stretch/>
        </p:blipFill>
        <p:spPr>
          <a:xfrm>
            <a:off x="225360" y="1316160"/>
            <a:ext cx="8925120" cy="5316480"/>
          </a:xfrm>
          <a:prstGeom prst="rect">
            <a:avLst/>
          </a:prstGeom>
          <a:ln w="0">
            <a:noFill/>
          </a:ln>
        </p:spPr>
      </p:pic>
      <p:sp>
        <p:nvSpPr>
          <p:cNvPr id="186" name="2 CuadroTexto"/>
          <p:cNvSpPr/>
          <p:nvPr/>
        </p:nvSpPr>
        <p:spPr>
          <a:xfrm>
            <a:off x="68580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ASTO POR ESTUDIANTE EN EDUCACIÓN TERCIARIA RESPECTO A PIB PER CAPITA EN PPC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hart 2" descr=""/>
          <p:cNvPicPr/>
          <p:nvPr/>
        </p:nvPicPr>
        <p:blipFill>
          <a:blip r:embed="rId1"/>
          <a:stretch/>
        </p:blipFill>
        <p:spPr>
          <a:xfrm>
            <a:off x="298440" y="1139760"/>
            <a:ext cx="8547120" cy="5724720"/>
          </a:xfrm>
          <a:prstGeom prst="rect">
            <a:avLst/>
          </a:prstGeom>
          <a:ln w="0">
            <a:noFill/>
          </a:ln>
        </p:spPr>
      </p:pic>
      <p:sp>
        <p:nvSpPr>
          <p:cNvPr id="188" name="2 Rectángulo"/>
          <p:cNvSpPr/>
          <p:nvPr/>
        </p:nvSpPr>
        <p:spPr>
          <a:xfrm>
            <a:off x="533520" y="2286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GASTO POR ESTUDIANTE EN EDUCACIÓN SECUNDARIA RESPECTO A PIB PER CAPITA EN PPC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PRESENTACIÓ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volución reciente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Temas central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docencia pregrad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Un sistema caro e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Producción de bienes públicos y propie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0" y="838080"/>
            <a:ext cx="8915400" cy="5410440"/>
          </a:xfrm>
          <a:prstGeom prst="rect">
            <a:avLst/>
          </a:prstGeom>
          <a:ln w="0">
            <a:noFill/>
          </a:ln>
        </p:spPr>
      </p:pic>
      <p:sp>
        <p:nvSpPr>
          <p:cNvPr id="190" name="Oval 7"/>
          <p:cNvSpPr/>
          <p:nvPr/>
        </p:nvSpPr>
        <p:spPr>
          <a:xfrm>
            <a:off x="228600" y="3962520"/>
            <a:ext cx="2590920" cy="990360"/>
          </a:xfrm>
          <a:prstGeom prst="ellipse">
            <a:avLst/>
          </a:prstGeom>
          <a:noFill/>
          <a:ln cap="sq"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92" name="Object 12"/>
          <p:cNvGraphicFramePr/>
          <p:nvPr/>
        </p:nvGraphicFramePr>
        <p:xfrm>
          <a:off x="0" y="228600"/>
          <a:ext cx="914400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ELEMENTOS CENTRAL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Masificación acces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cceso desigu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raduación secundaria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Calidad educación escolar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lto gasto total y aporte privad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ado alto costo requieren apoyo el 80% de los hoga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Sobre educando en años y baja eficiencia y calida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ROL DEL ESTADO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Fallas de coordinación e incentiv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Alineación incentivos de actor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Mercado de capitales y liquidez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uración, calidad y contenidos carrer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Investigación y extens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Fallas de información respecto a instituciones, carreras y mercado labor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quidad, igualdad de oportunidades, integración soci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LO PÚBLICO Y LO PRIVADO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“objetivos públicos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autonomía o impunidad: importancia de accountability), cohesión social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niversidades estat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portes públicos a universidades privadas relacionados con investigación y desarroll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Tahoma"/>
              </a:rPr>
              <a:t>POLÍTICA DE LAS POLÍTICA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xistencia de poderosos grupos de interé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studiantes, académicos, Iglesias, etc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ntrada de actores causada por políticas crea “path dependence” y modifica posibilidades de acción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jemplos: privados, ban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Respaldo para discus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no excluible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ecesidad de integrar sistemas de inform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9900"/>
                </a:solidFill>
                <a:latin typeface="Arial Black"/>
              </a:rPr>
              <a:t>ROL DEL ESTADO RESPECTO A EQUIDAD E IGUALDAD DE OPORTUNIDADE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oportunidades de término y mejorar distribución calidad educación escola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+ recursos en los más pobres (ej. subvención diferenciada)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Otros programas pro-retención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EQUIDAD EN ACCESO Y RETENCIÓN EN EDUCACIÓN SUPERIO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Acción afirmativa en acces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Necesidad de cursos de nivelación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Garantizar créditos y extensión a carreras cort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Incluir costo mantención en ayudas o favorecer horarios que permitan trabajo part-time, ej. Brasil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CRÉDITO CONTINGENTE A INGRES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s alternativa más eficiente (dependiendo del costo de administración) y just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Estudiantes tienen financiamiento para una actividad que se espera sea privadamente rentable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Futuros profesionales devuelven en función de su capacidad de pago (si les va mal no devuelven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Reduce “sobre educación” y demora en terminar carrera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6600"/>
                </a:solidFill>
                <a:latin typeface="Tahoma"/>
              </a:rPr>
              <a:t>Además, mejora el ajuste de la oferta de graduados a necesidades del mercado laboral, especialmente si acompañado por sistemas de información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Los subsidios a educación superior benefician a los grupos de mayores ingresos (ex-ante y ex-post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Problem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Financiamiento incierto: ¿me atrevo a arriesgarme si no tengo certeza que voy a contar con el 100% de los recursos que necesito?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Patrones culturales: más probable aspirar a educación superior si padres profesionales, aspiraciones del entorno, resistencia a endeudamiento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008000" y="1601640"/>
          <a:ext cx="830124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601640"/>
                    <a:ext cx="8301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5867280" y="1219320"/>
            <a:ext cx="2971800" cy="642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+ de 70% es primera generación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ás difícil controlar ingreso actual que ingreso futur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“</a:t>
            </a: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Sobre-educación”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universidades sin arancel diferenciad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uesto a graduad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No se discrimina diferencias de costo de las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Menos recursos a educación (se requieren ahora y el costo de oportunidad de recursos públicos es alto):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Recaudación probablemente entraría a rentas generales, no incrementaría disponibilidad recursos en instituciones más exitos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OS MALESTARES SOCI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Sociedad chilena no es meritocrátic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Pretende serlo con prueba de selección universitaria pero desigual calidad educación escolar, familia origen pesa y pre-Universitari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n el mercado laboral no hay igualdad de tra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sigual calidad educación escola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Desesperanza aprendida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Fracaso del sistema escolar para responder a las expectativa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Mala calidad de la educación entregada por algunas instituciones y falta de información adecuad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Tahoma"/>
              </a:rPr>
              <a:t>TASAS DE ENTRADA A EDUCACIÓN SUPERIOR TIPO 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0" name="1 Gráfico" descr=""/>
          <p:cNvPicPr/>
          <p:nvPr/>
        </p:nvPicPr>
        <p:blipFill>
          <a:blip r:embed="rId1"/>
          <a:stretch/>
        </p:blipFill>
        <p:spPr>
          <a:xfrm>
            <a:off x="-55440" y="1365120"/>
            <a:ext cx="92548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Tahoma"/>
              </a:rPr>
              <a:t>TASAS DE ENTRADA A EDUCACIÓN SUPERIOR TIPO B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2" name="1 Gráfico" descr=""/>
          <p:cNvPicPr/>
          <p:nvPr/>
        </p:nvPicPr>
        <p:blipFill>
          <a:blip r:embed="rId1"/>
          <a:stretch/>
        </p:blipFill>
        <p:spPr>
          <a:xfrm>
            <a:off x="-60480" y="1365120"/>
            <a:ext cx="92649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Tahoma"/>
              </a:rPr>
              <a:t>Matrícula bruta educación superior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447920"/>
          <a:ext cx="8077320" cy="512424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5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7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-0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5,3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8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Brasil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1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1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0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Chile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4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6,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48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éxico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3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2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anamá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9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7,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48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Uruguay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2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9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5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enezuela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9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1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4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ne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6" name="Picture 1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bru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8" name="Picture 1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ímites quintiles de ingreso autónomo de los hogares 2006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886040"/>
          <a:ext cx="8305920" cy="4209840"/>
        </p:xfrm>
        <a:graphic>
          <a:graphicData uri="http://schemas.openxmlformats.org/drawingml/2006/table">
            <a:tbl>
              <a:tblPr/>
              <a:tblGrid>
                <a:gridCol w="1255680"/>
                <a:gridCol w="1687680"/>
                <a:gridCol w="1611000"/>
                <a:gridCol w="1327320"/>
                <a:gridCol w="1211400"/>
                <a:gridCol w="1212840"/>
              </a:tblGrid>
              <a:tr h="67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Quintil Autónomo Regional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de personas en el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Ingreso Autónomo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ngreso autónomo per-cápita del hogar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Máx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27.66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29.12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9.40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268.693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65.85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9.40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83.658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87.722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04.44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83.66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0.656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607.34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73.74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0.66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36.50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.674.721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593.10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36.52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Sala Auditorio</cp:lastModifiedBy>
  <dcterms:modified xsi:type="dcterms:W3CDTF">2009-11-09T16:34:05Z</dcterms:modified>
  <cp:revision>61</cp:revision>
  <dc:subject/>
  <dc:title>ANÁLISIS ECONÓMICO DE LA EDUCACIÓN SUPERIOR</dc:title>
</cp:coreProperties>
</file>