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3C10-C434-4C82-9853-26019F5C6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10CF-99E9-4D15-A90C-E40F951D2307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F9F3-632D-4861-80FB-BA90BF7D485C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0671-3C80-4E55-A079-C8D8B0BBA60D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F47C-D564-463A-B508-6901E1C8C970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BE80-76C4-4063-A464-8C0D78488BCD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5E8D-075A-415A-A2C3-93537A64AD8D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AD6E-2024-4E1B-B055-3F03B43A2F1C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6B41-0D4C-4020-B0D4-5D2FD07DB3E3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F491-8593-447E-A7FC-737778481DE6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024C-2B5F-46D1-BE79-8811165D6E19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7494-E423-4A37-A8BF-5B9E5917EF28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6566-4943-4A9D-B7EC-C6BA6BAA05A5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82E1-03FC-4DE7-9C66-DE3734D34473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DEC6-1379-4EBA-906A-4258E825B9D4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B4BD-B864-4529-B4A0-9D3AA85727F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5A20-0873-446C-B3EB-109EF79AC74E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0173-8DA6-40F2-9AC8-71B04095FA37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301B-B573-4D23-B576-D9262863042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08D1-59D0-498F-9986-9F9C72BB6C73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56EA-4390-4795-B972-5671182BCAB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CBDF-13D7-471E-BCC1-9DCD09834573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CA59-EAA3-48CE-89FB-14F2F98EF00E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BEF9-2CE6-426B-87DD-B3D678930D8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AA4-5CAE-4C6E-BA58-DD389C51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900A-0E6F-40C9-A84B-52255707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807-A79D-4723-BD9D-94C02743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835B-23FC-46B3-AA87-12092BAC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0109-F7F9-4FA9-A7BD-393C6AC6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97CF-9714-4DE6-822B-39A99C78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6792-9BEB-4E8B-94E8-47EB8554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941D-92A2-4502-86EB-93A0578C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94CA-0754-41EB-9EB6-D9562744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78EC-4B77-4E47-B5E6-845F2F60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4CD3-C94F-4EFF-9A3F-685E6011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54B-B1A0-463F-BFD6-1863E29E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C4FA-0E0C-40B0-9CBD-337E314E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B564-8CB8-408D-B493-FCDBC19A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1009-1B43-4083-8364-03F8D5D9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06D7-3B50-4BAE-807E-C08CB101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0F84-91F1-49D6-85D0-7DC7B359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80D-6502-4087-AD49-13265E18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8D97-E029-4174-8340-0769FDA1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888-2B07-47A1-AD7E-E5387478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E2E0-0581-4466-98B5-B9508AA9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7C0D-696E-4285-82E4-0765AD0C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143-7E1E-4ED6-A614-4A624433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2EE-7742-4B6C-A6ED-088C083B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EC99-5A2A-49DA-BA6E-6CF632402155}" type="slidenum">
              <a:rPr b="0" lang="en-US" sz="1000" spc="-1" strike="noStrike">
                <a:solidFill>
                  <a:srgbClr val="fbfff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6F1B-4D25-438A-A914-C72B965DAFAE}" type="slidenum">
              <a:rPr b="0" lang="en-US" sz="10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Y REGULACIÓN DEL SISTEMA DE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9 de noviembre 2009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12" name="Rectangle 3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13" name="Rectangle 4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1" name="Line 42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2" name="Line 43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3" name="Line 44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4" name="Line 45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5" name="Line 46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9" name="Line 50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0" name="Line 51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1" name="Line 52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2" name="Line 53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3" name="Line 54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4" name="Line 55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5" name="Line 56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</p:grpSp>
      <p:sp>
        <p:nvSpPr>
          <p:cNvPr id="166" name="Text Box 57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1 Gráfico" descr=""/>
          <p:cNvPicPr/>
          <p:nvPr/>
        </p:nvPicPr>
        <p:blipFill>
          <a:blip r:embed="rId1"/>
          <a:stretch/>
        </p:blipFill>
        <p:spPr>
          <a:xfrm>
            <a:off x="-6480" y="774720"/>
            <a:ext cx="9279000" cy="6089760"/>
          </a:xfrm>
          <a:prstGeom prst="rect">
            <a:avLst/>
          </a:prstGeom>
          <a:ln w="0">
            <a:noFill/>
          </a:ln>
        </p:spPr>
      </p:pic>
      <p:sp>
        <p:nvSpPr>
          <p:cNvPr id="170" name="3 CuadroTexto"/>
          <p:cNvSpPr/>
          <p:nvPr/>
        </p:nvSpPr>
        <p:spPr>
          <a:xfrm>
            <a:off x="304920" y="4572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Tasa de graduación de educación secundar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29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4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2"/>
          <p:cNvGraphicFramePr/>
          <p:nvPr/>
        </p:nvGraphicFramePr>
        <p:xfrm>
          <a:off x="0" y="609480"/>
          <a:ext cx="9258480" cy="577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25848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cxnSp>
        <p:nvCxnSpPr>
          <p:cNvPr id="181" name="6 Conector recto de flecha"/>
          <p:cNvCxnSpPr/>
          <p:nvPr/>
        </p:nvCxnSpPr>
        <p:spPr>
          <a:xfrm flipH="1">
            <a:off x="3962160" y="3429000"/>
            <a:ext cx="838800" cy="457920"/>
          </a:xfrm>
          <a:prstGeom prst="straightConnector1">
            <a:avLst/>
          </a:prstGeom>
          <a:ln cap="sq" w="12600">
            <a:solidFill>
              <a:srgbClr val="cc66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84" name="3 Conector recto de flecha"/>
          <p:cNvCxnSpPr/>
          <p:nvPr/>
        </p:nvCxnSpPr>
        <p:spPr>
          <a:xfrm flipH="1">
            <a:off x="1980360" y="1599120"/>
            <a:ext cx="762840" cy="68652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Chart 3" descr=""/>
          <p:cNvPicPr/>
          <p:nvPr/>
        </p:nvPicPr>
        <p:blipFill>
          <a:blip r:embed="rId1"/>
          <a:stretch/>
        </p:blipFill>
        <p:spPr>
          <a:xfrm>
            <a:off x="225360" y="1316160"/>
            <a:ext cx="8925120" cy="5316480"/>
          </a:xfrm>
          <a:prstGeom prst="rect">
            <a:avLst/>
          </a:prstGeom>
          <a:ln w="0">
            <a:noFill/>
          </a:ln>
        </p:spPr>
      </p:pic>
      <p:sp>
        <p:nvSpPr>
          <p:cNvPr id="186" name="2 CuadroTexto"/>
          <p:cNvSpPr/>
          <p:nvPr/>
        </p:nvSpPr>
        <p:spPr>
          <a:xfrm>
            <a:off x="68580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ASTO POR ESTUDIANTE EN EDUCACIÓN TERCIARIA RESPECTO A PIB PER CAPITA EN PPC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hart 2" descr=""/>
          <p:cNvPicPr/>
          <p:nvPr/>
        </p:nvPicPr>
        <p:blipFill>
          <a:blip r:embed="rId1"/>
          <a:stretch/>
        </p:blipFill>
        <p:spPr>
          <a:xfrm>
            <a:off x="298440" y="1139760"/>
            <a:ext cx="8547120" cy="5724720"/>
          </a:xfrm>
          <a:prstGeom prst="rect">
            <a:avLst/>
          </a:prstGeom>
          <a:ln w="0">
            <a:noFill/>
          </a:ln>
        </p:spPr>
      </p:pic>
      <p:sp>
        <p:nvSpPr>
          <p:cNvPr id="188" name="2 Rectángulo"/>
          <p:cNvSpPr/>
          <p:nvPr/>
        </p:nvSpPr>
        <p:spPr>
          <a:xfrm>
            <a:off x="533520" y="2286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GASTO POR ESTUDIANTE EN EDUCACIÓN SECUNDARIA RESPECTO A PIB PER CAPITA EN PPC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PRESENTA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volución reciente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Temas centr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docencia pregrad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Un sistema caro e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roducción de bienes públicos y propie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0" y="838080"/>
            <a:ext cx="8915400" cy="5410440"/>
          </a:xfrm>
          <a:prstGeom prst="rect">
            <a:avLst/>
          </a:prstGeom>
          <a:ln w="0">
            <a:noFill/>
          </a:ln>
        </p:spPr>
      </p:pic>
      <p:sp>
        <p:nvSpPr>
          <p:cNvPr id="190" name="Oval 7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2" name="Object 12"/>
          <p:cNvGraphicFramePr/>
          <p:nvPr/>
        </p:nvGraphicFramePr>
        <p:xfrm>
          <a:off x="0" y="228600"/>
          <a:ext cx="91440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ado alto costo requieren apoy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obre educando en años y baja eficiencia y cal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OL DEL ESTAD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Fallas de coordinación e incentiv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ineación incentivos de actor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Mercado de capitales y liquidez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uración, calidad y contenido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Investigación y extens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Fallas de información respecto a instituciones, carreras y mercado labor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quidad, igualdad de oportunidades, integración soci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LO PÚBLICO Y LO PRIVADO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niversidades estat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rtes públicos a universidades privadas relacionados con investigación y desarroll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Tahoma"/>
              </a:rPr>
              <a:t>POLÍTICA DE LAS POLÍTICA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xistencia de poderosos grupos de interé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studiantes, académicos, Iglesias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ntrada de actores causada por políticas crea “path dependence” y modifica posibilidades de acción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jemplos: privados, ban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Respaldo para discus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ecesidad de integrar sistemas de inform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término y mejorar distribución calidad educación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+ recursos en los más pobres (ej. subvención diferenciada)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Otros programas pro-retención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EQUIDAD EN ACCESO Y RETENCIÓN EN EDUCACIÓN SUPERIO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Acción afirmativa en acces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Garantizar créditos y extensión a carreras cort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Incluir costo mantención en ayudas o favorecer horarios que permitan trabajo part-time, ej. Brasil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RÉDITO CONTINGENTE A INGRES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s alternativa más eficiente (dependiendo del costo de administración) y just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Reduce “sobre educación” y demora en terminar carrera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Además, mejora el ajuste de la oferta de graduados a necesidades del mercado laboral, especialmente si acompañado por sistemas de información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Los subsidios a educación superior benefician a los grupos de mayores ingresos (ex-ante y ex-post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“</a:t>
            </a: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Sobre-educación”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universidades sin arancel diferenciad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Desesperanza aprendida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Tahoma"/>
              </a:rPr>
              <a:t>TASAS DE ENTRADA A EDUCACIÓN SUPERIOR TIPO 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1 Gráfico" descr=""/>
          <p:cNvPicPr/>
          <p:nvPr/>
        </p:nvPicPr>
        <p:blipFill>
          <a:blip r:embed="rId1"/>
          <a:stretch/>
        </p:blipFill>
        <p:spPr>
          <a:xfrm>
            <a:off x="-55440" y="1365120"/>
            <a:ext cx="92548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Tahoma"/>
              </a:rPr>
              <a:t>TASAS DE ENTRADA A EDUCACIÓN SUPERIOR TIPO B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1 Gráfico" descr=""/>
          <p:cNvPicPr/>
          <p:nvPr/>
        </p:nvPicPr>
        <p:blipFill>
          <a:blip r:embed="rId1"/>
          <a:stretch/>
        </p:blipFill>
        <p:spPr>
          <a:xfrm>
            <a:off x="-60480" y="1365120"/>
            <a:ext cx="92649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Tahoma"/>
              </a:rPr>
              <a:t>Matrícula bruta educación superior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447920"/>
          <a:ext cx="8077320" cy="512424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5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7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0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5,3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8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Brasil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1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1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0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4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6,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48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éxico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3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2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anamá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9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7,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48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Uruguay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2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9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5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enezuela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9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1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4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6" name="Picture 1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8" name="Picture 1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Sala Auditorio</cp:lastModifiedBy>
  <dcterms:modified xsi:type="dcterms:W3CDTF">2009-11-09T16:34:05Z</dcterms:modified>
  <cp:revision>61</cp:revision>
  <dc:subject/>
  <dc:title>ANÁLISIS ECONÓMICO DE LA EDUCACIÓN SUPERIOR</dc:title>
</cp:coreProperties>
</file>