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ED3A-29FE-4488-96CB-AE813BF85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5070-DE5F-45A0-9E6B-A8122CF137FC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7056-4C29-4C86-B151-B6CA8C268E23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596C-1025-4AAB-870C-5D634F619CEC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BEC9-B6FB-4B14-AB95-5376D9517F2D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97D7-68E6-46ED-A33B-D02DFE235D1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EDA2-0D0D-4C8D-B785-FC4A385DB615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45CB-C68F-4E51-A39E-3518D0679C76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AD4F-1B3B-4EE6-AFA9-F08F8A6D328B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DECF-006B-4AA4-B159-AB2EF9452E1D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32F3-D033-4BA6-8ED2-028391667AD7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B18F-D0DD-47DF-BFE6-E4D7F832592D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F6E2-E393-46B7-8436-F596F44F98B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029A-12FC-4A6C-8BBD-A046257FC9C3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8E84-27BC-4750-BB35-34E4838EED90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40DB-2788-4B6F-9E87-DADB72D8240C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32BC-7111-4781-906E-0724AEF546A8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679E-9E3A-47B4-AA77-CA463865AA3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4B0B-846F-4640-BCB7-E8F272AD732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CFFB-92FC-459F-8462-3C763D6DDF6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6978-6B30-42D8-82A5-518204882D97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7507-95BC-4F74-BB6C-0AF10E7AC41B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08A4-242C-4176-AD5D-DEC669DF22FD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3AC1-15CD-44FC-990A-6BD2E2E4B0E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519-F318-4751-818D-4843C076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DB9-2DD2-4387-BF79-5617EDD9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D29-E5C3-4C2D-9277-5E0C8F64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D34-63DD-4F53-9D49-B99235EB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9677-B994-4FDA-B682-836A71A3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3A57-EE67-4198-B602-9C694C94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481A-EF77-4152-A8FA-E7BCB890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4949-79DA-46B3-82B7-34B8B365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2FFB-A93A-4CB3-BB91-38A7E60C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5197-5DC4-45CA-8A85-B6FDE19B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6C79-F91F-4F67-9ADF-7B175835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8A7-5D2E-4A3D-83E5-2021A796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98D5-DF35-4C7E-BE9E-8DA0FB29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DA57-E635-4AE5-A894-09604827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D116-37DC-42BE-B18B-3E859F00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D5D6-6F0F-4D42-A87D-E52FF36D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1825-F59C-412E-8125-93643B7F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FB34-54BC-427F-91A0-BD3E04C0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78C-2C90-4524-84F0-02A74C54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FD2-7DAA-47E9-BEC6-AEC8D674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4630-6B56-4B84-9214-2B5A8B29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CECC-3D10-429E-A692-B185A5A7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B71D-5FBB-4A0D-B2E2-38AF6439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A5B0-C84D-4032-A338-876BBE21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85BA-D50B-4B78-A829-76F7D3B0607A}" type="slidenum">
              <a:rPr b="0" lang="en-US" sz="1000" spc="-1" strike="noStrike">
                <a:solidFill>
                  <a:srgbClr val="fbfff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0B0E-BF22-4418-97A3-E2F41A91C67A}" type="slidenum">
              <a:rPr b="0" lang="en-US" sz="10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Y REGULACIÓN DEL SISTEMA DE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9 de noviembre 2009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12" name="Rectangle 3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13" name="Rectangle 4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1" name="Line 42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2" name="Line 43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3" name="Line 44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4" name="Line 45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5" name="Line 46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9" name="Line 50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0" name="Line 51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1" name="Line 52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2" name="Line 53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3" name="Line 54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4" name="Line 55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5" name="Line 56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</p:grpSp>
      <p:sp>
        <p:nvSpPr>
          <p:cNvPr id="166" name="Text Box 57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1 Gráfico" descr=""/>
          <p:cNvPicPr/>
          <p:nvPr/>
        </p:nvPicPr>
        <p:blipFill>
          <a:blip r:embed="rId1"/>
          <a:stretch/>
        </p:blipFill>
        <p:spPr>
          <a:xfrm>
            <a:off x="-6480" y="774720"/>
            <a:ext cx="9279000" cy="6089760"/>
          </a:xfrm>
          <a:prstGeom prst="rect">
            <a:avLst/>
          </a:prstGeom>
          <a:ln w="0">
            <a:noFill/>
          </a:ln>
        </p:spPr>
      </p:pic>
      <p:sp>
        <p:nvSpPr>
          <p:cNvPr id="170" name="3 CuadroTexto"/>
          <p:cNvSpPr/>
          <p:nvPr/>
        </p:nvSpPr>
        <p:spPr>
          <a:xfrm>
            <a:off x="304920" y="4572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asa de graduación de educación secundar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29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4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0" y="609480"/>
          <a:ext cx="9258480" cy="577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2584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cxnSp>
        <p:nvCxnSpPr>
          <p:cNvPr id="181" name="6 Conector recto de flecha"/>
          <p:cNvCxnSpPr/>
          <p:nvPr/>
        </p:nvCxnSpPr>
        <p:spPr>
          <a:xfrm flipH="1">
            <a:off x="3962160" y="3429000"/>
            <a:ext cx="838800" cy="457920"/>
          </a:xfrm>
          <a:prstGeom prst="straightConnector1">
            <a:avLst/>
          </a:prstGeom>
          <a:ln cap="sq" w="12600">
            <a:solidFill>
              <a:srgbClr val="cc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4" name="3 Conector recto de flecha"/>
          <p:cNvCxnSpPr/>
          <p:nvPr/>
        </p:nvCxnSpPr>
        <p:spPr>
          <a:xfrm flipH="1">
            <a:off x="1980360" y="1599120"/>
            <a:ext cx="762840" cy="68652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Chart 3" descr=""/>
          <p:cNvPicPr/>
          <p:nvPr/>
        </p:nvPicPr>
        <p:blipFill>
          <a:blip r:embed="rId1"/>
          <a:stretch/>
        </p:blipFill>
        <p:spPr>
          <a:xfrm>
            <a:off x="225360" y="1316160"/>
            <a:ext cx="8925120" cy="5316480"/>
          </a:xfrm>
          <a:prstGeom prst="rect">
            <a:avLst/>
          </a:prstGeom>
          <a:ln w="0">
            <a:noFill/>
          </a:ln>
        </p:spPr>
      </p:pic>
      <p:sp>
        <p:nvSpPr>
          <p:cNvPr id="186" name="2 CuadroTexto"/>
          <p:cNvSpPr/>
          <p:nvPr/>
        </p:nvSpPr>
        <p:spPr>
          <a:xfrm>
            <a:off x="68580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ASTO POR ESTUDIANTE EN EDUCACIÓN TERCIARIA RESPECTO A PIB PER CAPITA EN PPC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hart 2" descr=""/>
          <p:cNvPicPr/>
          <p:nvPr/>
        </p:nvPicPr>
        <p:blipFill>
          <a:blip r:embed="rId1"/>
          <a:stretch/>
        </p:blipFill>
        <p:spPr>
          <a:xfrm>
            <a:off x="298440" y="1139760"/>
            <a:ext cx="8547120" cy="5724720"/>
          </a:xfrm>
          <a:prstGeom prst="rect">
            <a:avLst/>
          </a:prstGeom>
          <a:ln w="0">
            <a:noFill/>
          </a:ln>
        </p:spPr>
      </p:pic>
      <p:sp>
        <p:nvSpPr>
          <p:cNvPr id="188" name="2 Rectángulo"/>
          <p:cNvSpPr/>
          <p:nvPr/>
        </p:nvSpPr>
        <p:spPr>
          <a:xfrm>
            <a:off x="533520" y="2286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GASTO POR ESTUDIANTE EN EDUCACIÓN SECUNDARIA RESPECTO A PIB PER CAPITA EN PPC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PRESENTA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volución reciente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emas centr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docencia pregrad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Un sistema caro e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roducción de bienes públicos y propie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0" y="838080"/>
            <a:ext cx="8915400" cy="5410440"/>
          </a:xfrm>
          <a:prstGeom prst="rect">
            <a:avLst/>
          </a:prstGeom>
          <a:ln w="0">
            <a:noFill/>
          </a:ln>
        </p:spPr>
      </p:pic>
      <p:sp>
        <p:nvSpPr>
          <p:cNvPr id="190" name="Oval 7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2" name="Object 12"/>
          <p:cNvGraphicFramePr/>
          <p:nvPr/>
        </p:nvGraphicFramePr>
        <p:xfrm>
          <a:off x="0" y="228600"/>
          <a:ext cx="91440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ado alto costo requieren apoy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obre educando en años y baja eficiencia y cal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OL DEL ESTAD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coordinación e incentiv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ineación incentivos de actor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ercado de capitales y liquid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uración, calidad y contenido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vestigación y extens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información respecto a instituciones, carreras y mercado labor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quidad, igualdad de oportunidades, integración soci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LO PÚBLICO Y LO PRIVADO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niversidades estat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rtes públicos a universidades privadas relacionados con investigación y desarroll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Tahoma"/>
              </a:rPr>
              <a:t>POLÍTICA DE LAS POLÍTICA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xistencia de poderosos grupos de interé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studiantes, académicos, Iglesias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ntrada de actores causada por políticas crea “path dependence” y modifica posibilidades de acción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jemplos: privados, ban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Respaldo para discus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ecesidad de integrar sistemas de inform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término y mejorar distribución calidad educación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+ recursos en los más pobres (ej. subvención diferenciada)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Otros programas pro-reten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EQUIDAD EN ACCESO Y RETENCIÓN EN EDUCACIÓN SUPERIO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Acción afirmativa en acces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Garantizar créditos y extensión a carreras cort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Incluir costo mantención en ayudas o favorecer horarios que permitan trabajo part-time, ej. Brasil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RÉDITO CONTINGENTE A INGRES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s alternativa más eficiente (dependiendo del costo de administración) y just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Reduce “sobre educación” y demora en terminar carrera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Además, mejora el ajuste de la oferta de graduados a necesidades del mercado laboral, especialmente si acompañado por sistemas de información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Los subsidios a educación superior benefician a los grupos de mayores ingresos (ex-ante y ex-post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“</a:t>
            </a: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Sobre-educación”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universidades sin arancel diferenciad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Desesperanza aprendida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1 Gráfico" descr=""/>
          <p:cNvPicPr/>
          <p:nvPr/>
        </p:nvPicPr>
        <p:blipFill>
          <a:blip r:embed="rId1"/>
          <a:stretch/>
        </p:blipFill>
        <p:spPr>
          <a:xfrm>
            <a:off x="-55440" y="1365120"/>
            <a:ext cx="92548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B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1 Gráfico" descr=""/>
          <p:cNvPicPr/>
          <p:nvPr/>
        </p:nvPicPr>
        <p:blipFill>
          <a:blip r:embed="rId1"/>
          <a:stretch/>
        </p:blipFill>
        <p:spPr>
          <a:xfrm>
            <a:off x="-60480" y="1365120"/>
            <a:ext cx="92649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Tahoma"/>
              </a:rPr>
              <a:t>Matrícula bruta educación superior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447920"/>
          <a:ext cx="8077320" cy="512424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5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7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0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5,3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8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0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4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6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éxico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3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amá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7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Uruguay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9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5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enezuel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4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6" name="Picture 1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8" name="Picture 1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Sala Auditorio</cp:lastModifiedBy>
  <dcterms:modified xsi:type="dcterms:W3CDTF">2009-11-09T16:34:05Z</dcterms:modified>
  <cp:revision>61</cp:revision>
  <dc:subject/>
  <dc:title>ANÁLISIS ECONÓMICO DE LA EDUCACIÓN SUPERIOR</dc:title>
</cp:coreProperties>
</file>