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0063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2840" y="171000"/>
            <a:ext cx="775332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2840" y="171000"/>
            <a:ext cx="775332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are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Century Schoolbook"/>
              </a:rPr>
              <a:t>y 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arey </a:t>
            </a:r>
            <a:r>
              <a:rPr b="1" lang="es-CL" sz="2400" spc="-1" strike="noStrike">
                <a:solidFill>
                  <a:srgbClr val="808080"/>
                </a:solidFill>
                <a:latin typeface="Times New Roman"/>
              </a:rPr>
              <a:t>Abog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90720" y="14479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Los Nuevos Desafíos de la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Protección al Consumido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n Ch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ime Lorenzini 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632448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3. Rol del Estado en la protección al consumidor:</a:t>
            </a: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3.1 Rol actual del Sernac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forma / Educa / Prote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rnac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sanciona (no es órgano fiscalizad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ondo Concursable Asociaciones de Consumidores (Fomen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6324480"/>
            <a:ext cx="2133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3.2 Interferencia entre las autoridades reguladoras en materia de protección al consumido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ta de claridad / coordinación entre órganos estatales en ámbitos de protección al consumi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tinguir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i) no hay regulación especial: retail / entretención / comercio /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ii) hay regulación especial:                                    Telecomunicaciones (SUBTEL) 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ectricidad – Gas (SEC) / Bancos (SBIF) / Isapres (Superintendencia de Salud) / Agua potable (S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6324480"/>
            <a:ext cx="2133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40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asos prácticos de interferencia entre los regulado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etra chica + modificación de cobros + publicidad engañosa + cobranzas extrajudiciales abusivas en actividad bancaria o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¿La sola existencia de un órgano fiscalizador impide la actuación de Sernac (y   tribunales) en protección del consumid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blemas que deben solucionarse en el futuro cercan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Conflicto de competencias (normas especiales pero de menor jerarquí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Derecho a la reparación del consumido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La captura del regulador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6324480"/>
            <a:ext cx="2133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puestas Presidenciables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FRE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ortalecimiento del Serna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Otorgarle al Sernac el mismo rango que el de las Superintendenc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rol preventiv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 colusión y mayor competencia de la banca, mediante la entrada de nuevos actores (banca extranjer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pervisión consolidada” del merc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reación de un consejo del mercado financiero (con influencia en todos los ámbitos: bancos, valores y segur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arios del Sernac la calidad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istros de F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ÑE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talecimiento de l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torregulación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ámbito publicitar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nac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a Superintendencia no tiene atribuciones para “proteger a los ciudadanos” y el Sernac no tiene competencias frente a la banca, la idea es representar a los consumidores frente a los Ban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630540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puestas Presidenciables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NRIQUEZ-OMIN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umento de fiscaliz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parte del Serna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RRATE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ific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 ley del consumid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llos en tiempos reducidos para demandas colec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icios indemnizatorios para consumido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ir calidad de las viviendas en la ley de consumi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jorar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Asociaciones de Consumi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der a funcionarios del Sernac calidad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istros de F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r ampli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cultad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la Fiscalía Nacional Económica y al Tribunal de Defensa de la Libre Competencia (combatir los carteles y la colusió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630540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afíos a Futuro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rnac en el futu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. Mayor presupuesto para fortalecer  acciones de tutel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udios de bienes y servicios de alto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quipo de trabajo para enfrentar exitosamente mayor volumen de juicios cole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Función reguladora debe separarse de la de fo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Sernac como organismo dentro del Ministerio de Economí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Mayor participación de los Consumidores en Procesos Tarif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630540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399600"/>
            <a:ext cx="89917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La empresas y la protección al consumidor:</a:t>
            </a: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a)  Incentivos legales para cumplir la le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racciones individuales  ¿temor a la sanc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lta promedio $700.000 (hasta $1.80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racciones masivas – temor a juicio colectiv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b) ¿auto-denunciarse en casos de infracciones masiv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racciones masivas en protección al consumidor: cobros indebidos en contratos masivos (retail, banca) / defectos de calidad o seguridad de bienes  o servicios (juguetes, contaminación de agua potable, suspensión de electricid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6324480"/>
            <a:ext cx="2133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azones para justificar la auto-denunc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mor a la sanción (millones de dóla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aciones de imagen corpor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ponsabilidad Social Empresa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ductas de auto-denunc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all (retiro de productos peligrosos en el   mercado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Chile, caso juguetes Matt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6324480"/>
            <a:ext cx="2133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fracción masiva – auto-denuncia ante Sernac /otra auto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sos en Chile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T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mediación colectiva con                                            Sernac año 2006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AS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ecciones caso F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to-denuncia ante autoridad sectorial no implica por si sola solución para consumidores (derecho a reparación en la L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canismos de compensación “ingenioso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azo para cumplir lo promet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6324480"/>
            <a:ext cx="2133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2840" y="32364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Malas prácticas empresariales y protección del consumidor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Ámbitos más comunes de malas prácticas en protección al consumidor: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ublicidad engañ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s de condiciones de contra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rvicios no solicitados (seguro de asistencia técnica Metrópol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 de proveedor sin consentimiento del cliente (fusiones – cesiones de carter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o de cobros (comisiones cuentas de ahorro Banco Est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tentados a la libre competencia y consecuencias en el derecho a reparación de los consumido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6324480"/>
            <a:ext cx="2133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380880"/>
            <a:ext cx="77533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914400"/>
            <a:ext cx="7239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114ffb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ué es la Protección a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114ffb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Nuevo consumidor chil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114ffb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Estado y la Protección a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114ffb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empresas y la Protección a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114ffb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las Prácticas de las empre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114ffb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ciones Colectivas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632448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luciones a malas prácticas empresari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esde la Regulación: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umento de multas / Mayores facilidades en acceso a la Justicia (juicios más fáciles) / ¿Aumentar el Esta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Soluciones distintas a la Regulació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) Incentivos posi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2) Autorregul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6324480"/>
            <a:ext cx="2133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2840" y="32364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rregulación en la Protección al Consumidor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ciativas tomadas por los propios entes comerciales (industrias, organizaciones profesionales, etc.) como complemento a lo exigido por la ley (colaboración autoridad-empresas), destinadas a mejorar su comportamiento y así elevar sus estándares de calidad, comprendiendo toda la experiencia del consumidor: calidad, información, post venta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630540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acterísticas Autorregulación: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ordancia con la legislación como requisito de cualquier acuerdo autorregulato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uciones a problemas de mercado tomadas por quienes manejan los conocimientos específ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itar sobre recargas regulato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o de la confianza de los consumi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canismos de solución de conflictos alternativos: Rápidos, baratos y eficaces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630540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torregulación en Chile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blicid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AR: Código Chileno de Ética Publicitaria,  Tiempo de tramitación: 2 semanas; Sanción Comercial (Fallo en prensa): Contenidos por sobre el Estándar legal, 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idad dirigida niñ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hibición de la violenci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ción 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dio Ambient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uerdos de Producción Limp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venio entre la industria y la Administración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ente o una declaración unilateral de la industri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e persigue buscar logros objetivos concre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630540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2840" y="1710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torregulación en Chile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lución de Conflictos o Reclam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je Cámara de Comercio Electrónico: Vía alternativa para la resolución de divergencia en el ámbito de la tecnología de la información (incumplimientos contractuales, proyectos informáticos fallido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ción Salud por parte de la Superintendencia de Salud: Conflictos con Aseguradores y con Prestadores Priv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je Cámara de Comercio: Solución de Conflictos Empresariales: Mediadores especializados por áreas: Sociedades Civiles y comerciales, seguros, construcción y asuntos inmobiliarios, propiedad industrial, exportaciones, asuntos marítimos, mineros, bancarios y financieros, entre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630540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afíos de la Autorregulación en el Futuro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bre Competenc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ratos De Adhesió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en sectorial prev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630540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16000" y="2492280"/>
            <a:ext cx="67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2781360"/>
            <a:ext cx="2449440" cy="79200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2133720"/>
            <a:ext cx="510552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incentivar la infracción mas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actualidad existen incentivos económicos para infringir la Ley, tratándose de pequeños mo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fender el interés disperso de los consumi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consumidores a diferencia de los proveedores no tienen incentivos para asociarse y para reclamar en estos ca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ii)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batir asimetr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nformación no está disponible para la mayoría de los consumid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285264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ciones de Clase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1295280"/>
            <a:ext cx="2514600" cy="68580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137160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ndamentos Económ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4292640"/>
            <a:ext cx="266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48000" y="1197000"/>
            <a:ext cx="360360" cy="540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651"/>
                </a:lnTo>
                <a:cubicBezTo>
                  <a:pt x="10800" y="7551"/>
                  <a:pt x="5400" y="8451"/>
                  <a:pt x="0" y="8451"/>
                </a:cubicBezTo>
                <a:cubicBezTo>
                  <a:pt x="5400" y="8451"/>
                  <a:pt x="10800" y="9351"/>
                  <a:pt x="10800" y="102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632448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38088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ACCIONES COLECTIV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76680" y="323640"/>
            <a:ext cx="937260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actos de las acciones colectivas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stema de atención de clientes y acciones col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uerdos o mediaciones para poner fin a acciones colectiv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Pren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risis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Auto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Consumidores (Facebook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 Manejo Inter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oordinación y manejo integrado distintas á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632448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1371600"/>
            <a:ext cx="82821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luciona en un procedimiento las infracciones y problemas que afectan a millones de 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corpora mecanismos de control para desincentivar la industria del reclam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corpora soluciones que se apartan de las reglas clásicas de los procedimientos judicial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) admisibilidad 2) intervención del E° 3) efecto 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rga om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 (resultados del juicios a todos los afectados)   4)libertad del tribunal para resolver en la sentenc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Características de las Acciones de Clase en Chi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632448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876276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¿Auge o caída de los juicios colectivo en Chile?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630540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47720" y="1973880"/>
            <a:ext cx="6686640" cy="4087440"/>
            <a:chOff x="1647720" y="1973880"/>
            <a:chExt cx="6686640" cy="4087440"/>
          </a:xfrm>
        </p:grpSpPr>
        <p:sp>
          <p:nvSpPr>
            <p:cNvPr id="208" name=""/>
            <p:cNvSpPr/>
            <p:nvPr/>
          </p:nvSpPr>
          <p:spPr>
            <a:xfrm>
              <a:off x="2098800" y="5164200"/>
              <a:ext cx="62355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98800" y="4784760"/>
              <a:ext cx="62355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98800" y="4394880"/>
              <a:ext cx="62355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98800" y="4015080"/>
              <a:ext cx="62355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98800" y="3637440"/>
              <a:ext cx="62355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98800" y="3257640"/>
              <a:ext cx="62355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98800" y="2868120"/>
              <a:ext cx="62355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98800" y="2489400"/>
              <a:ext cx="62355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98800" y="2109600"/>
              <a:ext cx="62355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98800" y="2109600"/>
              <a:ext cx="6235560" cy="343296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94280" y="5354280"/>
              <a:ext cx="496440" cy="188280"/>
            </a:xfrm>
            <a:prstGeom prst="rect">
              <a:avLst/>
            </a:prstGeom>
            <a:solidFill>
              <a:srgbClr val="0099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38560" y="4973040"/>
              <a:ext cx="496440" cy="569520"/>
            </a:xfrm>
            <a:prstGeom prst="rect">
              <a:avLst/>
            </a:prstGeom>
            <a:solidFill>
              <a:srgbClr val="0099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83280" y="2300040"/>
              <a:ext cx="507960" cy="3242880"/>
            </a:xfrm>
            <a:prstGeom prst="rect">
              <a:avLst/>
            </a:prstGeom>
            <a:solidFill>
              <a:srgbClr val="0099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77040" y="3447000"/>
              <a:ext cx="496440" cy="2095560"/>
            </a:xfrm>
            <a:prstGeom prst="rect">
              <a:avLst/>
            </a:prstGeom>
            <a:solidFill>
              <a:srgbClr val="0099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21760" y="4973040"/>
              <a:ext cx="496440" cy="569520"/>
            </a:xfrm>
            <a:prstGeom prst="rect">
              <a:avLst/>
            </a:prstGeom>
            <a:solidFill>
              <a:srgbClr val="0099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8800" y="2109600"/>
              <a:ext cx="0" cy="3432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21400" y="5542920"/>
              <a:ext cx="770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21400" y="5164200"/>
              <a:ext cx="770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21400" y="4784760"/>
              <a:ext cx="770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21400" y="4394880"/>
              <a:ext cx="770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21400" y="4015080"/>
              <a:ext cx="770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21400" y="3637440"/>
              <a:ext cx="770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21400" y="3257640"/>
              <a:ext cx="770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21400" y="2868120"/>
              <a:ext cx="770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21400" y="2489400"/>
              <a:ext cx="770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21400" y="2109600"/>
              <a:ext cx="770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98800" y="5542920"/>
              <a:ext cx="62355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098800" y="5542920"/>
              <a:ext cx="0" cy="72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344040" y="5542920"/>
              <a:ext cx="0" cy="72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588560" y="5542920"/>
              <a:ext cx="0" cy="72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844600" y="5542920"/>
              <a:ext cx="0" cy="72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7089840" y="5542920"/>
              <a:ext cx="0" cy="72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334360" y="5542920"/>
              <a:ext cx="0" cy="72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78400" y="5405400"/>
              <a:ext cx="12492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78400" y="5026320"/>
              <a:ext cx="1249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78400" y="4647960"/>
              <a:ext cx="1249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78400" y="4258080"/>
              <a:ext cx="1249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78400" y="3879360"/>
              <a:ext cx="1249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47720" y="3499920"/>
              <a:ext cx="25092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47720" y="3121200"/>
              <a:ext cx="25092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47720" y="2731320"/>
              <a:ext cx="2509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47720" y="2352600"/>
              <a:ext cx="2509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47720" y="1973880"/>
              <a:ext cx="2509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87440" y="5726160"/>
              <a:ext cx="50328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38560" y="5726160"/>
              <a:ext cx="504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83280" y="5726160"/>
              <a:ext cx="502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77040" y="5726160"/>
              <a:ext cx="5047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2007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21760" y="5726160"/>
              <a:ext cx="502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200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66480" y="5726160"/>
              <a:ext cx="502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2009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66480" y="5176080"/>
              <a:ext cx="498240" cy="3751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80136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1) ¿QUÉ ES LA PROTECCIÓN AL CONSUMIDOR?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32448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15279" t="27780" r="38063" b="7408"/>
          <a:stretch/>
        </p:blipFill>
        <p:spPr>
          <a:xfrm>
            <a:off x="0" y="1371600"/>
            <a:ext cx="4521240" cy="39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800600" y="4191120"/>
          <a:ext cx="5562720" cy="220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4191120"/>
                    <a:ext cx="55627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800600" y="1752480"/>
            <a:ext cx="35053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62120" y="1523880"/>
            <a:ext cx="77706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azones que explican la situación actual de los juicios colectivos en el paí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eficiencias en el procedimiento actual (demoras en tramitación – altos costos de litigar colectivamente para SERNAC, Asociación de Consumidores, Grupos de Consumidor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-763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¿Auge o caída de los juicios colectivo en Chi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632448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39960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yecto de ley: Fortalecimiento Juicios Colectivos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dimientos más expeditos: Posibilidad de las empresas de reparar el daño antes de judicializar el confli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nac: Verificar el cumplimiento de las sentencias cuando se vean afectados intereses colectivos o difus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ión civil podrá ser perseguida por cualquiera de los legitimados ac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afectados recibirán directamente una compensación mínima cuando las empresas sean sancionadas (siempre que haya denunciado previamente el hecho infraccion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630540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4267080"/>
            <a:ext cx="4191120" cy="1828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9480" y="1763640"/>
            <a:ext cx="3886200" cy="2008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705720" y="630540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952880" y="2362320"/>
          <a:ext cx="3810240" cy="23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362320"/>
                    <a:ext cx="381024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04920"/>
            <a:ext cx="9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(1) Instituciones reguladas por la  LP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773360"/>
            <a:ext cx="3105000" cy="57600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84464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rechos y deberes bás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565360"/>
            <a:ext cx="3105000" cy="57636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2708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frac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357720"/>
            <a:ext cx="3095640" cy="86508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3429000"/>
            <a:ext cx="36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gulación de los contrat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adhe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4508640"/>
            <a:ext cx="3105000" cy="50472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4581360"/>
            <a:ext cx="27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acultades del Sern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229360"/>
            <a:ext cx="3105000" cy="50472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530064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ciones colec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5950080"/>
            <a:ext cx="3105000" cy="50328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6021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2637000"/>
            <a:ext cx="1366920" cy="287280"/>
          </a:xfrm>
          <a:prstGeom prst="rightArrow">
            <a:avLst>
              <a:gd name="adj1" fmla="val 50000"/>
              <a:gd name="adj2" fmla="val 118954"/>
            </a:avLst>
          </a:prstGeom>
          <a:solidFill>
            <a:srgbClr val="fc01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2349360"/>
            <a:ext cx="3024000" cy="151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2421000"/>
            <a:ext cx="4176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la calidad de v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spensión de servi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idad engaño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632448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2819520"/>
            <a:ext cx="2232000" cy="115236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285264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rechos y Deberes Básicos Art. 3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67280" y="1052640"/>
            <a:ext cx="3324240" cy="72072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1125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ibre elección del bien o servi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1989000"/>
            <a:ext cx="3311280" cy="79236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2060640"/>
            <a:ext cx="3744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formación veraz y oport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(deber de informarse adecuadament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67280" y="2997360"/>
            <a:ext cx="3311280" cy="57600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3068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o discriminación arbitr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3789360"/>
            <a:ext cx="3324240" cy="71928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3860640"/>
            <a:ext cx="331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guridad en el consumo 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(protección de la salud y medioambient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4724280"/>
            <a:ext cx="3324240" cy="79236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40360" y="479736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recho a reparación e indemnización 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(Deber de acciona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5661000"/>
            <a:ext cx="3324240" cy="720720"/>
          </a:xfrm>
          <a:prstGeom prst="rect">
            <a:avLst/>
          </a:prstGeom>
          <a:solidFill>
            <a:srgbClr val="114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5661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ducación para un consumo respon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990720"/>
            <a:ext cx="503280" cy="5400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337"/>
                </a:lnTo>
                <a:cubicBezTo>
                  <a:pt x="10800" y="8237"/>
                  <a:pt x="5400" y="9137"/>
                  <a:pt x="0" y="9137"/>
                </a:cubicBezTo>
                <a:cubicBezTo>
                  <a:pt x="5400" y="9137"/>
                  <a:pt x="10800" y="10037"/>
                  <a:pt x="10800" y="1093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6477120"/>
            <a:ext cx="19047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(2) El nuevo consumidor en Chile</a:t>
            </a:r>
            <a:r>
              <a:rPr b="0" lang="es-ES" sz="40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mbios en los consumidores época ´90 a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mento del segmento adultos may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yor cultura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fensa de sus derech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Son más educados, Mayor % de estudiantes, son más pragmáticos y menos idealist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loran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cnolog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sus vidas (% importante de población creció con un computador) (uso intensivo de canales de contacto virtual – Facebook, otr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yor poder adquisitivo (acceso al crédito en todos los segment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n menos tiempos, valoran la rapidez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6324480"/>
            <a:ext cx="2133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47320"/>
            <a:ext cx="7753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nuevo consumidor chileno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305400"/>
            <a:ext cx="1904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08160" y="1447920"/>
            <a:ext cx="7935840" cy="3657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05120" y="4952880"/>
            <a:ext cx="6172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Impacto de Facebook en Ch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5.4 millones de chil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907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mento en actividades de entretenimiento (turismo, espectácul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mento en el uso del comercio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on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laman más (cultura del reclamo, mayor información) Impacto en: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istemas de atención de cl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res implíci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estándares de satisfacción y calidad sobreentendidos por el consumidor) ej. seguridad en estacionamientos / servicios técnicos disponibles para bienes y servicios modernos /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6324480"/>
            <a:ext cx="2133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57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nuevo consumidor chileno: impac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1T22:16:50Z</dcterms:created>
  <dc:creator>CAREY Y CIA.</dc:creator>
  <dc:description>charla de patentes general</dc:description>
  <cp:keywords>patente</cp:keywords>
  <dc:language>en-US</dc:language>
  <cp:lastModifiedBy>Jaime</cp:lastModifiedBy>
  <cp:lastPrinted>2002-10-22T00:19:45Z</cp:lastPrinted>
  <dcterms:modified xsi:type="dcterms:W3CDTF">2009-11-02T15:27:01Z</dcterms:modified>
  <cp:revision>139</cp:revision>
  <dc:subject>charla de patente general</dc:subject>
  <dc:title>patentes</dc:title>
</cp:coreProperties>
</file>