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7B4-0F49-46AE-B5C7-DF301D67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D98-ED97-4AD0-A3A9-299E01B8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D39-1865-498A-99D4-AAF1EA9E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035-AB08-4ECC-A129-0A2560E4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ABB-4C95-4AD9-B1D1-EC805F9E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7C2-79CF-4A02-9F5D-47834051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ABF-AA54-4A68-A5F4-2ADF5BFD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617-2CE7-45DA-9238-7EB165BE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F34-B49E-4ACD-BCD8-BCCFFC83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629-57B0-4165-8C1A-C2D54335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3D2-728C-4B93-A1DC-985C98E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A85-A826-4146-9C32-B60FAB9B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B6B8-3846-4516-8542-E8E48E0A8A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Julieta</cp:lastModifiedBy>
  <dcterms:modified xsi:type="dcterms:W3CDTF">2009-09-08T01:11:30Z</dcterms:modified>
  <cp:revision>39</cp:revision>
  <dc:subject/>
  <dc:title>Diapositiva 1</dc:title>
</cp:coreProperties>
</file>