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206-9C87-4C85-93C1-AEE4E55F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8D8-6ABF-4EF8-9056-AC16F7C9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E47-E645-4CA5-AF25-5D793EB8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FAF-3B78-4178-8A50-1241014C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175-A67C-4D99-932A-6BB8857B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080-710E-4B51-86D2-C809B597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013-E70B-42A3-9DA1-F32087E6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8F2-6994-4300-8AAC-F52B3622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90A-DF54-41E3-927C-66F36D9F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2C6-EDBA-46F3-87E6-70C488CE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6F5-57B2-44C4-A5B3-8E14379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229-65DC-4128-A90F-FED3085E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47FD-CF77-499F-B0F3-DD7DA35EE8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Julieta</cp:lastModifiedBy>
  <dcterms:modified xsi:type="dcterms:W3CDTF">2009-09-08T01:11:30Z</dcterms:modified>
  <cp:revision>39</cp:revision>
  <dc:subject/>
  <dc:title>Diapositiva 1</dc:title>
</cp:coreProperties>
</file>