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B5F-3199-4E65-8841-5773B8C3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8D4-29EA-484B-AC4C-257A18D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E16-039A-4C5A-BEDD-233B9AFA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299-7637-4E4E-9961-6D2CBF7C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6E7-F441-4C9A-AB23-947B4C9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1C6-5043-456D-86E1-3AA4802C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933-F5FA-4B23-B79E-F137C8B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432-9D3F-49E5-AA3E-70D4DF5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4BE-CEE4-4F1B-978A-08943689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064-EFAD-4A2B-948F-72EC54FF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13D-0F16-4A9C-ABED-A7AB786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837-239C-4E25-BFD0-245C2B88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8CDB-B054-410F-BB34-0E61366B25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Julieta</cp:lastModifiedBy>
  <dcterms:modified xsi:type="dcterms:W3CDTF">2009-09-08T01:11:30Z</dcterms:modified>
  <cp:revision>39</cp:revision>
  <dc:subject/>
  <dc:title>Diapositiva 1</dc:title>
</cp:coreProperties>
</file>