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3423-9133-493D-92CB-EF473C5BB1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600120" y="4352760"/>
            <a:ext cx="5657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00120" y="4343040"/>
            <a:ext cx="5657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ad Slide and discuss the defini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M is the connection of business functions and business applications with the focus being on the custom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hree sets of business activities involved in acquiring and retaining custom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e, including support and customer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marketing programs, including advertising, promotion, direct marketing and product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ology programs, which comprise the CRM ecosystem, fall into three cl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tical CRM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that perform the data collection and analysis of the custo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ional CRM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that allow the business functions to operate optimal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aborative CRM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that allow the enterprise to collaborate with other units and partne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enterprise application integration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connect the above systems within the enterprise to work toge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944-76D5-4327-88BB-1AB4291B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870-D33A-4300-985B-BE2CA3C5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8E1-993C-4859-BB3F-E371CA1A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4D6-5FC5-463A-895E-4A092742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8DD-0546-4BE6-9B56-7BBED2CE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AF7-4174-43F8-A7AE-6C51E9C5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828-1E28-4705-8679-FEDD35F0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B16-ED44-4D7A-A888-2D6244DB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D03-9E01-4918-9B3D-5F150642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FFB-B6E5-445D-AD54-5B7CB487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55B-4A4C-4E31-8BDB-43EBE06B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32D-2E0C-405D-AC75-DF914FC4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E2D2-A1E8-411D-A1F5-33104A47D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44880" y="3924360"/>
            <a:ext cx="8280" cy="9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44880" y="3924360"/>
            <a:ext cx="8280" cy="9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96960" y="3492360"/>
            <a:ext cx="59454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imes New Roman"/>
              </a:rPr>
              <a:t>¿Qué es CRM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987480"/>
            <a:ext cx="0" cy="2415960"/>
          </a:xfrm>
          <a:prstGeom prst="line">
            <a:avLst/>
          </a:prstGeom>
          <a:ln w="9360">
            <a:solidFill>
              <a:srgbClr val="cf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841400" y="3416400"/>
            <a:ext cx="6096240" cy="0"/>
          </a:xfrm>
          <a:prstGeom prst="line">
            <a:avLst/>
          </a:prstGeom>
          <a:ln w="9360">
            <a:solidFill>
              <a:srgbClr val="cf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3344760"/>
            <a:ext cx="138240" cy="138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2666880"/>
          <a:ext cx="9144000" cy="21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914400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8380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 costos de una inversión en C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ones de la Rentabilidad del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0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time Value del cliente (L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orno (ingresos – costos)  esperado  actu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Equity Financial Index (CE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clientes como 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time Value del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ribución neta a lo largo del ciclo de vida (en valor pres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 de Adqui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TV = A -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3276720"/>
            <a:ext cx="8305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= Horizonte de 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Margen generado por el cliente el añ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promocional dirigido al cliente el añ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 = Tasa de 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 = tasa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 = Costo de Adqui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09480" y="990720"/>
                <a:ext cx="70056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V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43080" y="0"/>
          <a:ext cx="84582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304920" y="990720"/>
            <a:ext cx="3429000" cy="2212200"/>
            <a:chOff x="304920" y="990720"/>
            <a:chExt cx="3429000" cy="2212200"/>
          </a:xfrm>
        </p:grpSpPr>
        <p:sp>
          <p:nvSpPr>
            <p:cNvPr id="165" name=""/>
            <p:cNvSpPr/>
            <p:nvPr/>
          </p:nvSpPr>
          <p:spPr>
            <a:xfrm>
              <a:off x="2895480" y="990720"/>
              <a:ext cx="83844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3520" y="12952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920" y="274320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00-20-25)*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0880" y="1219320"/>
            <a:ext cx="4191120" cy="4726800"/>
            <a:chOff x="380880" y="1219320"/>
            <a:chExt cx="4191120" cy="4726800"/>
          </a:xfrm>
        </p:grpSpPr>
        <p:sp>
          <p:nvSpPr>
            <p:cNvPr id="169" name=""/>
            <p:cNvSpPr/>
            <p:nvPr/>
          </p:nvSpPr>
          <p:spPr>
            <a:xfrm>
              <a:off x="3657600" y="1219320"/>
              <a:ext cx="9144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9680" y="1447920"/>
              <a:ext cx="1828800" cy="39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880" y="54864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50-25)*9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590920" y="1066680"/>
            <a:ext cx="4267080" cy="4650840"/>
            <a:chOff x="2590920" y="1066680"/>
            <a:chExt cx="4267080" cy="4650840"/>
          </a:xfrm>
        </p:grpSpPr>
        <p:sp>
          <p:nvSpPr>
            <p:cNvPr id="173" name=""/>
            <p:cNvSpPr/>
            <p:nvPr/>
          </p:nvSpPr>
          <p:spPr>
            <a:xfrm>
              <a:off x="6019920" y="1066680"/>
              <a:ext cx="8380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200040" y="1295280"/>
              <a:ext cx="304812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5257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55.000/(1,1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352680" y="6095880"/>
            <a:ext cx="5791320" cy="762120"/>
            <a:chOff x="3352680" y="6095880"/>
            <a:chExt cx="5791320" cy="762120"/>
          </a:xfrm>
        </p:grpSpPr>
        <p:sp>
          <p:nvSpPr>
            <p:cNvPr id="177" name=""/>
            <p:cNvSpPr/>
            <p:nvPr/>
          </p:nvSpPr>
          <p:spPr>
            <a:xfrm>
              <a:off x="8381880" y="6095880"/>
              <a:ext cx="76212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4571640" y="6400800"/>
              <a:ext cx="38098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52680" y="6095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LT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43080" y="0"/>
          <a:ext cx="84582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2133720" y="2133720"/>
            <a:ext cx="4876200" cy="1221480"/>
            <a:chOff x="2133720" y="2133720"/>
            <a:chExt cx="4876200" cy="1221480"/>
          </a:xfrm>
        </p:grpSpPr>
        <p:sp>
          <p:nvSpPr>
            <p:cNvPr id="183" name=""/>
            <p:cNvSpPr/>
            <p:nvPr/>
          </p:nvSpPr>
          <p:spPr>
            <a:xfrm>
              <a:off x="2133720" y="243828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V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2680" y="2666880"/>
              <a:ext cx="175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28640" y="2133720"/>
              <a:ext cx="15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-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8640" y="28954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- r + 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3760" y="228600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14400" y="4495680"/>
            <a:ext cx="365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=200               r= 0,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= 25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i=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 = 20.000/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716440" y="4876920"/>
            <a:ext cx="2986200" cy="951840"/>
            <a:chOff x="5716440" y="4876920"/>
            <a:chExt cx="2986200" cy="951840"/>
          </a:xfrm>
        </p:grpSpPr>
        <p:sp>
          <p:nvSpPr>
            <p:cNvPr id="190" name=""/>
            <p:cNvSpPr/>
            <p:nvPr/>
          </p:nvSpPr>
          <p:spPr>
            <a:xfrm>
              <a:off x="5716440" y="487692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-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30840" y="52930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30840" y="53690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73840" y="49881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59640" y="5064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9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cepto de Customer Equ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438280"/>
            <a:ext cx="7086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Cliente es una serie de oportunidades de negocio a lo largo d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edo verlo como un valor esperado de Gana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o un posible generador de utilidades, puedo llamarlo un ACTIVO. (equ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es un “activo” debiera poder calcular su val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bajo más bien con seg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ción del Activo Cl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19000" y="1085760"/>
          <a:ext cx="19242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085760"/>
                    <a:ext cx="1924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914400" y="1905120"/>
          <a:ext cx="7391520" cy="419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05120"/>
                    <a:ext cx="73915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ómo puedo aumentar  el activo clien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endo el costo de Adqui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ndo la tasa de captací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ando las ventas fu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ndo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do la duración del Ciclo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42880" y="2944800"/>
            <a:ext cx="6027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5400" y="2260440"/>
            <a:ext cx="718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840" y="3097080"/>
            <a:ext cx="832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3933720"/>
            <a:ext cx="531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65320" y="4692600"/>
            <a:ext cx="4968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endo C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s un </a:t>
            </a:r>
            <a:r>
              <a:rPr b="0" lang="es-ES_tradnl" sz="3200" spc="-1" strike="noStrike">
                <a:solidFill>
                  <a:srgbClr val="bbe0e3"/>
                </a:solidFill>
                <a:latin typeface="Arial"/>
              </a:rPr>
              <a:t> proceso organizacional y técnico con que una compañía busca mejorar su propia empresa alrededor de las conductas del cliente.  Corresponde a adquirir y proveer conocimiento sobre clientes y usa esta información para aumentar la rent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9000" y="1523880"/>
            <a:ext cx="161928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abilid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8840" y="4784760"/>
            <a:ext cx="1431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514600" y="13712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26708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362320" y="4647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334120" y="23619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18080" y="3176640"/>
            <a:ext cx="131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120" y="4572000"/>
            <a:ext cx="128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2082960"/>
            <a:ext cx="4800600" cy="2489040"/>
          </a:xfrm>
          <a:custGeom>
            <a:avLst/>
            <a:gdLst/>
            <a:ahLst/>
            <a:rect l="l" t="t" r="r" b="b"/>
            <a:pathLst>
              <a:path w="3024" h="1568">
                <a:moveTo>
                  <a:pt x="0" y="1568"/>
                </a:moveTo>
                <a:cubicBezTo>
                  <a:pt x="612" y="816"/>
                  <a:pt x="1224" y="64"/>
                  <a:pt x="1728" y="32"/>
                </a:cubicBezTo>
                <a:cubicBezTo>
                  <a:pt x="2232" y="0"/>
                  <a:pt x="2628" y="688"/>
                  <a:pt x="3024" y="13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467160"/>
            <a:ext cx="3809880" cy="1942920"/>
          </a:xfrm>
          <a:custGeom>
            <a:avLst/>
            <a:gdLst/>
            <a:ahLst/>
            <a:rect l="l" t="t" r="r" b="b"/>
            <a:pathLst>
              <a:path w="2400" h="1224">
                <a:moveTo>
                  <a:pt x="0" y="1224"/>
                </a:moveTo>
                <a:cubicBezTo>
                  <a:pt x="616" y="732"/>
                  <a:pt x="1232" y="240"/>
                  <a:pt x="1632" y="120"/>
                </a:cubicBezTo>
                <a:cubicBezTo>
                  <a:pt x="2032" y="0"/>
                  <a:pt x="2216" y="252"/>
                  <a:pt x="2400" y="5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dades Claves en la Relación con el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666440" y="2606400"/>
            <a:ext cx="177156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8960" y="3587760"/>
            <a:ext cx="1968480" cy="90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30760" y="2901960"/>
            <a:ext cx="1968480" cy="90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30760" y="4349880"/>
            <a:ext cx="1968480" cy="9014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4038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733920" y="3352320"/>
            <a:ext cx="9903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4038480"/>
            <a:ext cx="9903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8840" y="2270160"/>
            <a:ext cx="155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10800" y="3870360"/>
            <a:ext cx="157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71500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58280" y="3710160"/>
            <a:ext cx="10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28560" y="3024360"/>
            <a:ext cx="1210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38480" y="4471920"/>
            <a:ext cx="156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n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14640" y="5334120"/>
            <a:ext cx="216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79080" y="5867280"/>
            <a:ext cx="145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f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dq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Correo de Invit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Publicidad en medios escrit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Evento de Relaciones Públic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NI" sz="44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ánto cuesta adquirir un nuevo cli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ales son los métodos de Adquisición más efectiv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orreo de Saludos (“eventos del cliente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nicio de Conversaciones por parte de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nvitaciones a Eventos(Conciertos, cine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nvitaciones a Reuniones con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ga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l es la vida del cliente promed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vida promedio es 1/tasa de de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se disminuye la probabilidad de defe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jando el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ndo el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umento de Frecuencia de U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Upgrades de Produ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Venta Cruz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enes son los clientes menos ren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la 80/20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 es la mejor manera de transformar no rentables en ren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a de productos cru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minución de costos operacionales asociados a é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fili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ambio de Pre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ducción en Gastos Promo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8080" y="1219320"/>
            <a:ext cx="6629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mo decidir cuánto invertir en Captar Clientes y Cuanto en Reten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58672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571500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asado en : R.Blattberg et al. “Manage Marketing by the Customer Equity Te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95640" y="1989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2565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áqui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4797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es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14172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ll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71628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4221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148428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jecu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530064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Recla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587700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Trans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4437000"/>
            <a:ext cx="100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403280" y="2205000"/>
            <a:ext cx="79236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76360" y="2852640"/>
            <a:ext cx="71928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76360" y="3357360"/>
            <a:ext cx="720720" cy="50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476360" y="386064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32000" y="1773000"/>
            <a:ext cx="86508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4365720"/>
            <a:ext cx="9367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4292640"/>
            <a:ext cx="7938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414972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24720" y="148428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B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24720" y="2492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720" y="3500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24720" y="443700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24720" y="544500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47640" y="1699920"/>
            <a:ext cx="4177080" cy="4537440"/>
            <a:chOff x="3347640" y="1699920"/>
            <a:chExt cx="4177080" cy="4537440"/>
          </a:xfrm>
        </p:grpSpPr>
        <p:sp>
          <p:nvSpPr>
            <p:cNvPr id="86" name=""/>
            <p:cNvSpPr/>
            <p:nvPr/>
          </p:nvSpPr>
          <p:spPr>
            <a:xfrm flipH="1" flipV="1">
              <a:off x="3419640" y="1699920"/>
              <a:ext cx="4032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3419640" y="2205000"/>
              <a:ext cx="403200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347640" y="5013360"/>
              <a:ext cx="4103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3347640" y="5229360"/>
              <a:ext cx="4103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419640" y="1916280"/>
              <a:ext cx="403200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348000" y="3860640"/>
              <a:ext cx="417672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419640" y="1989000"/>
              <a:ext cx="4032000" cy="424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3419640" y="1844640"/>
              <a:ext cx="403200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419640" y="3068640"/>
              <a:ext cx="396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419640" y="3141720"/>
              <a:ext cx="403200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348000" y="2133720"/>
              <a:ext cx="410364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48000" y="2781360"/>
              <a:ext cx="41036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8366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rebuchet MS"/>
              </a:rPr>
              <a:t>Canales Relación con Clientes (antes de CR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09480" y="685800"/>
            <a:ext cx="8153640" cy="58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asa de Captación es función de lo que invierto en Cap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= tasa límite x {1-exp(-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x $A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es la tasa que se obtiene cuando se invierte $A por prosp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a constante por determinar CON DOS PREGUN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nto gastó el año pasado y que tasa obtuvo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al es la máxima tasa de captación y cuanto es lo que requeriría gastar para lograrlo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1398600"/>
          <a:ext cx="9144000" cy="406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98600"/>
                    <a:ext cx="914400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1447920"/>
            <a:ext cx="6705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uánto es lo óptimo  a gastar por prospecto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 cuanto es el valor (en valor presente) que obtendremos de un cliente. (su LT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cio por cliente adquirido =  LTV – $A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5029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interesa por prospecto, que es el número cono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5791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neficio por prospecto=  a*LTV –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0" y="1461960"/>
          <a:ext cx="9144000" cy="393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61960"/>
                    <a:ext cx="9144000" cy="39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2895480" y="533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TV=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685800"/>
            <a:ext cx="815364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asa de Retención  es función de lo que invierto en Re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 = tasa límite x {1-exp(-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x $R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 es la tasa que se obtiene cuando se invierte $R por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a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pongamos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4648320"/>
            <a:ext cx="723924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$m = margen promedio en un año por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ibución año Y por concepto de reten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$m - $R/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sa de retorno =d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r/(1+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0" y="1546200"/>
          <a:ext cx="8683560" cy="37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6200"/>
                    <a:ext cx="868356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43000" y="507960"/>
            <a:ext cx="5257800" cy="1701720"/>
          </a:xfrm>
          <a:custGeom>
            <a:avLst/>
            <a:gdLst/>
            <a:ahLst/>
            <a:rect l="l" t="t" r="r" b="b"/>
            <a:pathLst>
              <a:path w="3312" h="1072">
                <a:moveTo>
                  <a:pt x="0" y="976"/>
                </a:moveTo>
                <a:cubicBezTo>
                  <a:pt x="300" y="488"/>
                  <a:pt x="600" y="0"/>
                  <a:pt x="1152" y="16"/>
                </a:cubicBezTo>
                <a:cubicBezTo>
                  <a:pt x="1704" y="32"/>
                  <a:pt x="2944" y="896"/>
                  <a:pt x="3312" y="107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52280" y="1389240"/>
          <a:ext cx="89154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89240"/>
                    <a:ext cx="8915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8720" y="1716120"/>
            <a:ext cx="761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stomer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$m - $A + a($m - $R/r){r’/(1 - r’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iente a un número conocido de prospe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ncepto de RF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52560" y="441972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 = Rec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 =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 = Monetar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c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752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 desde la últim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3505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promedio de compras en el período de tiempo obser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etary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promedio de un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95640" y="1989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2565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4797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es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306864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ll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364500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4221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148428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jecu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537372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Recla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587700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Trans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4437000"/>
            <a:ext cx="100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403280" y="2205000"/>
            <a:ext cx="79236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476360" y="2852640"/>
            <a:ext cx="71928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476360" y="3357360"/>
            <a:ext cx="720720" cy="50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476360" y="386064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1773000"/>
            <a:ext cx="86508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436572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4292640"/>
            <a:ext cx="7938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414972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148428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B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24720" y="2492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4720" y="3500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443700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544500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76720" y="1773360"/>
            <a:ext cx="4248000" cy="4464000"/>
            <a:chOff x="3276720" y="1773360"/>
            <a:chExt cx="4248000" cy="4464000"/>
          </a:xfrm>
        </p:grpSpPr>
        <p:sp>
          <p:nvSpPr>
            <p:cNvPr id="125" name=""/>
            <p:cNvSpPr/>
            <p:nvPr/>
          </p:nvSpPr>
          <p:spPr>
            <a:xfrm>
              <a:off x="4572000" y="3645000"/>
              <a:ext cx="1871640" cy="863640"/>
            </a:xfrm>
            <a:prstGeom prst="flowChartMagneticDisk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348000" y="1773360"/>
              <a:ext cx="1152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3348000" y="2205000"/>
              <a:ext cx="115272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276720" y="2707920"/>
              <a:ext cx="122400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3348000" y="3357360"/>
              <a:ext cx="115272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419280" y="3933360"/>
              <a:ext cx="1081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348000" y="4149720"/>
              <a:ext cx="1224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48000" y="4292640"/>
              <a:ext cx="115272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48000" y="4365720"/>
              <a:ext cx="1224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48000" y="4437000"/>
              <a:ext cx="129528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516720" y="1989000"/>
              <a:ext cx="93492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16720" y="2923920"/>
              <a:ext cx="93492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16720" y="407664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16720" y="4149720"/>
              <a:ext cx="93492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16720" y="4221000"/>
              <a:ext cx="100800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8366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rebuchet MS"/>
              </a:rPr>
              <a:t>Relación con Clientes: C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38080" y="1371600"/>
            <a:ext cx="784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chas empresas determinan LTV como funció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FM. Lo que me gustaría es conociendo el RFM de un cliente en un instante T, estimar su L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remos en qué condiciones ésto es una buena aproxi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y interesante para empresas que tienen registro de sus clientes, pero que no tienen una relación contractual ú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3808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ogía Hab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1905120"/>
            <a:ext cx="73152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ivide el período de tiempo en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primero se agrupan los clientes en términos de Frequency ( número de compras repetidas en el primer período) y de  Recency(tiempo desde la última compra en ese perío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segundo se estima el gasto promedio por compra en el segundo período, para cada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511200"/>
            <a:ext cx="83059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38080" y="150840"/>
            <a:ext cx="73152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1600200"/>
            <a:ext cx="72388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per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ter F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ruce Har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a Lok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FM and CLV: Using Iso-value Curves for Customer Bas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Julio 2004,  Documento de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bbe0e3"/>
                </a:solidFill>
                <a:latin typeface="Arial"/>
              </a:rPr>
              <a:t>CRM OPERACIONAL</a:t>
            </a: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 (front off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Involucra todos los puntos de conta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Integración a través de todos e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bbe0e3"/>
                </a:solidFill>
                <a:latin typeface="Arial"/>
              </a:rPr>
              <a:t>CRM ANALITICO </a:t>
            </a: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(back offic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Comprensión y Planificación de las Actividades del Front Office para aumentar la rentabilidad de los cl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uente de datos Únic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90600" y="2147760"/>
            <a:ext cx="8030880" cy="3724200"/>
            <a:chOff x="390600" y="2147760"/>
            <a:chExt cx="8030880" cy="3724200"/>
          </a:xfrm>
        </p:grpSpPr>
        <p:graphicFrame>
          <p:nvGraphicFramePr>
            <p:cNvPr id="146" name=""/>
            <p:cNvGraphicFramePr/>
            <p:nvPr/>
          </p:nvGraphicFramePr>
          <p:xfrm>
            <a:off x="390600" y="2147760"/>
            <a:ext cx="2763000" cy="372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600" y="2147760"/>
                      <a:ext cx="2763000" cy="372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3268800" y="2147760"/>
              <a:ext cx="5152680" cy="36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2400" spc="-1" strike="noStrike">
                  <a:solidFill>
                    <a:srgbClr val="000000"/>
                  </a:solidFill>
                  <a:latin typeface="Lucida Sans Unicode"/>
                </a:rPr>
                <a:t>Con la base de Clientes como única fuente de datos, toda la empresa trabaja con una única perspectiva acerca  del cliente . Y cada nueva interacción se construya sobre las interacciones pasadas, y se convierte en base para otras interaccion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Rel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tivo bás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anar Participación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Ganar participación d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55920" y="1563840"/>
            <a:ext cx="60307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Comprensión del Comportamiento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Perfilamiento: Segmentación, Rentabilidad, Modelamiento del 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Construir y mantener Puntos de Conta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Gestión de la Campañas de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Diseñar, Simular, Planificar y Monitorear Campañ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Desarrollo de diálogos “Event driven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50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Comunicación con lo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Simplificación e integración de las Rel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Facilite la comunicación Multi ca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Automatización de la Fuerza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Gestiión de Leads y Oport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Genearción de Propuestas y Presen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1143000"/>
            <a:ext cx="7543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ftware más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ebel Systems     (Adex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piph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1:25:47Z</dcterms:created>
  <dc:creator>Dii</dc:creator>
  <dc:description/>
  <dc:language>en-US</dc:language>
  <cp:lastModifiedBy>academico</cp:lastModifiedBy>
  <dcterms:modified xsi:type="dcterms:W3CDTF">2009-05-29T05:00:18Z</dcterms:modified>
  <cp:revision>25</cp:revision>
  <dc:subject/>
  <dc:title>Diapositiva 1</dc:title>
</cp:coreProperties>
</file>