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E153-F466-4D2F-815E-97D988EFCE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00120" y="4352760"/>
            <a:ext cx="5657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0120" y="4343040"/>
            <a:ext cx="5657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ad Slide and discuss the defini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M is the connection of business functions and business applications with the focus being on the custom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hree sets of business activities involved in acquiring and retaining custom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, including support and customer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marketing programs, including advertising, promotion, direct marketing and product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y programs, which comprise the CRM ecosystem, fall into three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tic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perform the data collection and analysis of the custo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on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business functions to operate optimal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ve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enterprise to collaborate with other units and partne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nterprise application integration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connect the above systems within the enterprise to work toge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37A-A964-4C17-902A-76D3C6CC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7AC-C622-4AD3-B6B0-6EBD9B19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9B1-9B90-413F-A413-D642F592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585-74DB-48B1-8F53-4B1AA7CE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5B1-5B17-45E4-A612-9BAFD581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637-A6E1-46C3-944B-71F8369C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B8E-F785-49D2-83F2-007AEF0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BCC-8D3F-47C9-B67D-9629DD50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FB9-A6F6-49FF-B469-AF7EBDFA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DFE-557F-4847-8CD5-B65A49E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B0C-EAE3-4F3C-8179-C06C9BA5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E02-CCC0-4118-8212-C9F07050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EE46-5494-44DC-AD47-FF1EDCF6A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96960" y="3492360"/>
            <a:ext cx="59454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¿Qué es CR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987480"/>
            <a:ext cx="0" cy="241596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41400" y="3416400"/>
            <a:ext cx="6096240" cy="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344760"/>
            <a:ext cx="138240" cy="138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666880"/>
          <a:ext cx="9144000" cy="21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8380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costos de una inversión en C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ones de la Rentabilidad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0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Value del cliente (L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orno (ingresos – costos)  esperado  actu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Equity Financial Index (CE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clientes como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time Value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ibución neta a lo largo del ciclo de vida (en valor pres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V = A -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327672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= Horizonte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Margen generado por e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promocional dirigido a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Tasa de 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 = tasa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= Costo de 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9480" y="990720"/>
                <a:ext cx="70056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304920" y="990720"/>
            <a:ext cx="3429000" cy="2212200"/>
            <a:chOff x="304920" y="990720"/>
            <a:chExt cx="3429000" cy="2212200"/>
          </a:xfrm>
        </p:grpSpPr>
        <p:sp>
          <p:nvSpPr>
            <p:cNvPr id="165" name=""/>
            <p:cNvSpPr/>
            <p:nvPr/>
          </p:nvSpPr>
          <p:spPr>
            <a:xfrm>
              <a:off x="2895480" y="990720"/>
              <a:ext cx="83844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3520" y="12952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920" y="27432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00-20-25)*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880" y="1219320"/>
            <a:ext cx="4191120" cy="4726800"/>
            <a:chOff x="380880" y="1219320"/>
            <a:chExt cx="4191120" cy="4726800"/>
          </a:xfrm>
        </p:grpSpPr>
        <p:sp>
          <p:nvSpPr>
            <p:cNvPr id="169" name=""/>
            <p:cNvSpPr/>
            <p:nvPr/>
          </p:nvSpPr>
          <p:spPr>
            <a:xfrm>
              <a:off x="3657600" y="1219320"/>
              <a:ext cx="9144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9680" y="1447920"/>
              <a:ext cx="1828800" cy="39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50-25)*9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590920" y="1066680"/>
            <a:ext cx="4267080" cy="4650840"/>
            <a:chOff x="2590920" y="1066680"/>
            <a:chExt cx="4267080" cy="4650840"/>
          </a:xfrm>
        </p:grpSpPr>
        <p:sp>
          <p:nvSpPr>
            <p:cNvPr id="173" name=""/>
            <p:cNvSpPr/>
            <p:nvPr/>
          </p:nvSpPr>
          <p:spPr>
            <a:xfrm>
              <a:off x="6019920" y="1066680"/>
              <a:ext cx="8380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200040" y="1295280"/>
              <a:ext cx="304812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5257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5.000/(1,1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352680" y="6095880"/>
            <a:ext cx="5791320" cy="762120"/>
            <a:chOff x="3352680" y="6095880"/>
            <a:chExt cx="5791320" cy="762120"/>
          </a:xfrm>
        </p:grpSpPr>
        <p:sp>
          <p:nvSpPr>
            <p:cNvPr id="177" name=""/>
            <p:cNvSpPr/>
            <p:nvPr/>
          </p:nvSpPr>
          <p:spPr>
            <a:xfrm>
              <a:off x="8381880" y="6095880"/>
              <a:ext cx="76212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571640" y="6400800"/>
              <a:ext cx="3809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52680" y="6095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LT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133720" y="2133720"/>
            <a:ext cx="4876200" cy="1221480"/>
            <a:chOff x="2133720" y="2133720"/>
            <a:chExt cx="4876200" cy="1221480"/>
          </a:xfrm>
        </p:grpSpPr>
        <p:sp>
          <p:nvSpPr>
            <p:cNvPr id="183" name=""/>
            <p:cNvSpPr/>
            <p:nvPr/>
          </p:nvSpPr>
          <p:spPr>
            <a:xfrm>
              <a:off x="2133720" y="243828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2680" y="2666880"/>
              <a:ext cx="175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8640" y="213372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-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8640" y="28954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- r +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3760" y="228600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14400" y="449568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=200               r= 0,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= 25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i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 = 20.000/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716440" y="4876920"/>
            <a:ext cx="2986200" cy="951840"/>
            <a:chOff x="5716440" y="4876920"/>
            <a:chExt cx="2986200" cy="951840"/>
          </a:xfrm>
        </p:grpSpPr>
        <p:sp>
          <p:nvSpPr>
            <p:cNvPr id="190" name=""/>
            <p:cNvSpPr/>
            <p:nvPr/>
          </p:nvSpPr>
          <p:spPr>
            <a:xfrm>
              <a:off x="5716440" y="48769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-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30840" y="52930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30840" y="5369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73840" y="49881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9640" y="5064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9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epto de Customer Equ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438280"/>
            <a:ext cx="7086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liente es una serie de oportunidades de negocio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o verlo como un valor esperado de Gana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posible generador de utilidades, puedo llamarlo un ACTIVO. (equ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s un “activo” debiera poder calcular su va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o más bien con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ción del Activo Cl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14400" y="1905120"/>
          <a:ext cx="739152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05120"/>
                    <a:ext cx="739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puedo aumentar  el activo clien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endo el 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la tasa de captací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ando las ventas fu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do la duración del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42880" y="2944800"/>
            <a:ext cx="6027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5400" y="2260440"/>
            <a:ext cx="71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3097080"/>
            <a:ext cx="832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3933720"/>
            <a:ext cx="531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65320" y="4692600"/>
            <a:ext cx="4968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endo C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s un </a:t>
            </a:r>
            <a:r>
              <a:rPr b="0" lang="es-ES_tradnl" sz="3200" spc="-1" strike="noStrike">
                <a:solidFill>
                  <a:srgbClr val="bbe0e3"/>
                </a:solidFill>
                <a:latin typeface="Arial"/>
              </a:rPr>
              <a:t> proceso organizacional y técnico con que una compañía busca mejorar su propia empresa alrededor de las conductas del cliente.  Corresponde a adquirir y proveer conocimiento sobre clientes y usa esta información para aumentar la rent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8840" y="4784760"/>
            <a:ext cx="1431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2670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36232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334120" y="2361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18080" y="3176640"/>
            <a:ext cx="131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120" y="4572000"/>
            <a:ext cx="12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082960"/>
            <a:ext cx="4800600" cy="24890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467160"/>
            <a:ext cx="3809880" cy="1942920"/>
          </a:xfrm>
          <a:custGeom>
            <a:avLst/>
            <a:gdLst/>
            <a:ahLst/>
            <a:rect l="l" t="t" r="r" b="b"/>
            <a:pathLst>
              <a:path w="2400" h="1224">
                <a:moveTo>
                  <a:pt x="0" y="1224"/>
                </a:moveTo>
                <a:cubicBezTo>
                  <a:pt x="616" y="732"/>
                  <a:pt x="1232" y="240"/>
                  <a:pt x="1632" y="120"/>
                </a:cubicBezTo>
                <a:cubicBezTo>
                  <a:pt x="2032" y="0"/>
                  <a:pt x="2216" y="252"/>
                  <a:pt x="2400" y="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s Claves en la Relación con 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66440" y="2606400"/>
            <a:ext cx="177156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8960" y="35877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0760" y="29019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30760" y="4349880"/>
            <a:ext cx="1968480" cy="901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733920" y="3352320"/>
            <a:ext cx="990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4038480"/>
            <a:ext cx="990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8840" y="227016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10800" y="38703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58280" y="371016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28560" y="3024360"/>
            <a:ext cx="121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38480" y="4471920"/>
            <a:ext cx="156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4640" y="5334120"/>
            <a:ext cx="2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9080" y="5867280"/>
            <a:ext cx="145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f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dq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rreo de Invi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Publicidad en medios escri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vento de Relaciones Públic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NI" sz="4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nto cuesta adquirir un nuevo cli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ales son los métodos de Adquisición más efectiv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orreo de Saludos (“eventos del client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icio de Conversaciones por parte d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Eventos(Conciertos, cin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Reuniones con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 es la vida del cliente prome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ida promedio es 1/tasa de de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disminuye la probabilidad de defe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jando 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ndo el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umento de Frecuencia 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Upgrades de Produ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Venta Cruz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nes son los clientes menos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la 80/20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 es la mejor manera de transformar no rentables en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 de productos cru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inución de costos operacionales asociados a 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fil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mbio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ducción en Gastos Promo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121932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mo decidir cuánto invertir en Captar Clientes y Cuanto en Reten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58672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57150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ado en : R.Blattberg et al. “Manage Marketing by the Customer Equity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áqu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141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716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530064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4365720"/>
            <a:ext cx="9367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47640" y="1699920"/>
            <a:ext cx="4177080" cy="4537440"/>
            <a:chOff x="3347640" y="1699920"/>
            <a:chExt cx="4177080" cy="4537440"/>
          </a:xfrm>
        </p:grpSpPr>
        <p:sp>
          <p:nvSpPr>
            <p:cNvPr id="86" name=""/>
            <p:cNvSpPr/>
            <p:nvPr/>
          </p:nvSpPr>
          <p:spPr>
            <a:xfrm flipH="1" flipV="1">
              <a:off x="3419640" y="1699920"/>
              <a:ext cx="40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419640" y="2205000"/>
              <a:ext cx="403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347640" y="5013360"/>
              <a:ext cx="4103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347640" y="5229360"/>
              <a:ext cx="4103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419640" y="1916280"/>
              <a:ext cx="403200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348000" y="3860640"/>
              <a:ext cx="4176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19640" y="1989000"/>
              <a:ext cx="4032000" cy="424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419640" y="1844640"/>
              <a:ext cx="403200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19640" y="3068640"/>
              <a:ext cx="396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419640" y="3141720"/>
              <a:ext cx="403200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348000" y="2133720"/>
              <a:ext cx="410364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8000" y="2781360"/>
              <a:ext cx="41036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Canales Relación con Clientes (antes de CR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09480" y="685800"/>
            <a:ext cx="8153640" cy="58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Captación es función de lo que invierto en Cap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A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es la tasa que se obtiene cuando se invierte $A por pro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 por determinar CON DOS PREG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nto gastó el año pasado y que tasa obtuv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al es la máxima tasa de captación y cuanto es lo que requeriría gastar para lograrl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398600"/>
          <a:ext cx="9144000" cy="40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8600"/>
                    <a:ext cx="91440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1447920"/>
            <a:ext cx="6705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nto es lo óptimo  a gastar por prospec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 cuanto es el valor (en valor presente) que obtendremos de un cliente. (su L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o por cliente adquirido =  LTV – $A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5029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interesa por prospecto, que es el número 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neficio por prospecto=  a*LTV –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1461960"/>
          <a:ext cx="9144000" cy="39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1960"/>
                    <a:ext cx="914400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2895480" y="533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TV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685800"/>
            <a:ext cx="815364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Retención  es función de lo que invierto en Re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R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es la tasa que se obtiene cuando se invierte $R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ongamos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648320"/>
            <a:ext cx="723924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$m = margen promedio en un año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ción año Y por concepto de reten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$m - $R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retorno =d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r/(1+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1546200"/>
          <a:ext cx="8683560" cy="37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6200"/>
                    <a:ext cx="868356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43000" y="507960"/>
            <a:ext cx="5257800" cy="1701720"/>
          </a:xfrm>
          <a:custGeom>
            <a:avLst/>
            <a:gdLst/>
            <a:ahLst/>
            <a:rect l="l" t="t" r="r" b="b"/>
            <a:pathLst>
              <a:path w="3312" h="1072">
                <a:moveTo>
                  <a:pt x="0" y="976"/>
                </a:moveTo>
                <a:cubicBezTo>
                  <a:pt x="300" y="488"/>
                  <a:pt x="600" y="0"/>
                  <a:pt x="1152" y="16"/>
                </a:cubicBezTo>
                <a:cubicBezTo>
                  <a:pt x="1704" y="32"/>
                  <a:pt x="2944" y="896"/>
                  <a:pt x="3312" y="10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1389240"/>
          <a:ext cx="8915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89240"/>
                    <a:ext cx="8915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8720" y="1716120"/>
            <a:ext cx="761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stomer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$m - $A + a($m - $R/r){r’/(1 - r’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iente a un número conocido de prosp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ncepto de RF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52560" y="441972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Rec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 =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 = Monetar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752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 desde la últim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505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promedio de compras en el período de tiempo ob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etary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promedio de un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306864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3645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5373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436572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6720" y="1773360"/>
            <a:ext cx="4248000" cy="4464000"/>
            <a:chOff x="3276720" y="1773360"/>
            <a:chExt cx="4248000" cy="4464000"/>
          </a:xfrm>
        </p:grpSpPr>
        <p:sp>
          <p:nvSpPr>
            <p:cNvPr id="125" name=""/>
            <p:cNvSpPr/>
            <p:nvPr/>
          </p:nvSpPr>
          <p:spPr>
            <a:xfrm>
              <a:off x="4572000" y="3645000"/>
              <a:ext cx="1871640" cy="863640"/>
            </a:xfrm>
            <a:prstGeom prst="flowChartMagneticDisk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348000" y="1773360"/>
              <a:ext cx="1152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348000" y="2205000"/>
              <a:ext cx="11527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276720" y="2707920"/>
              <a:ext cx="1224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348000" y="3357360"/>
              <a:ext cx="1152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419280" y="3933360"/>
              <a:ext cx="1081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48000" y="4149720"/>
              <a:ext cx="1224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48000" y="4292640"/>
              <a:ext cx="11527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48000" y="4365720"/>
              <a:ext cx="1224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48000" y="4437000"/>
              <a:ext cx="12952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16720" y="1989000"/>
              <a:ext cx="93492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16720" y="2923920"/>
              <a:ext cx="934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16720" y="4076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6720" y="4149720"/>
              <a:ext cx="9349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16720" y="4221000"/>
              <a:ext cx="100800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Relación con Clientes: C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38080" y="137160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chas empresas determinan LTV como fun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. Lo que me gustaría es conociendo el RFM de un cliente en un instante T, estimar su L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remos en qué condiciones ésto es una buena aproxi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y interesante para empresas que tienen registro de sus clientes, pero que no tienen una relación contractual ú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ía 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905120"/>
            <a:ext cx="7315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el período de tiempo en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primero se agrupan los clientes en términos de Frequency ( número de compras repetidas en el primer período) y de  Recency(tiempo desde la última compra en ese perí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segundo se estima el gasto promedio por compra en el segundo período, para cada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511200"/>
            <a:ext cx="8305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38080" y="150840"/>
            <a:ext cx="73152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1600200"/>
            <a:ext cx="7238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per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ter F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uce Har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a Lok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 and CLV: Using Iso-value Curves for Customer Bas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ulio 2004,  Documento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OPERACIONAL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 (front off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volucra todos los puntos de 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tegración a través de todos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ANALITICO 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(back offi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Comprensión y Planificación de las Actividades del Front Office para aumentar la rentabilidad de los cl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uente de datos Únic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0600" y="2147760"/>
            <a:ext cx="8030880" cy="3724200"/>
            <a:chOff x="390600" y="2147760"/>
            <a:chExt cx="8030880" cy="3724200"/>
          </a:xfrm>
        </p:grpSpPr>
        <p:graphicFrame>
          <p:nvGraphicFramePr>
            <p:cNvPr id="146" name=""/>
            <p:cNvGraphicFramePr/>
            <p:nvPr/>
          </p:nvGraphicFramePr>
          <p:xfrm>
            <a:off x="390600" y="2147760"/>
            <a:ext cx="2763000" cy="37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600" y="2147760"/>
                      <a:ext cx="2763000" cy="37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268800" y="2147760"/>
              <a:ext cx="5152680" cy="36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400" spc="-1" strike="noStrike">
                  <a:solidFill>
                    <a:srgbClr val="000000"/>
                  </a:solidFill>
                  <a:latin typeface="Lucida Sans Unicode"/>
                </a:rPr>
                <a:t>Con la base de Clientes como única fuente de datos, toda la empresa trabaja con una única perspectiva acerca  del cliente . Y cada nueva interacción se construya sobre las interacciones pasadas, y se convierte en base para otras interaccion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Rel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tivo bás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anar Particip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Ganar participación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55920" y="1563840"/>
            <a:ext cx="6030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prensión del Comportamiento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Perfilamiento: Segmentación, Rentabilidad, Modelamiento del 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Construir y mantener Puntos de Cont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Gestión de la Campañas de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iseñar, Simular, Planificar y Monitorear Campañ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esarrollo de diálogos “Event driven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50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unicación con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Simplificación e integración de las Re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Facilite la comunicación Multi ca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Automatización de la Fuerza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stiión de Leads y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nearción de Propuestas y Presen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114300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ftware más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ebel Systems     (Adex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1:25:47Z</dcterms:created>
  <dc:creator>Dii</dc:creator>
  <dc:description/>
  <dc:language>en-US</dc:language>
  <cp:lastModifiedBy>academico</cp:lastModifiedBy>
  <dcterms:modified xsi:type="dcterms:W3CDTF">2009-05-29T05:00:18Z</dcterms:modified>
  <cp:revision>25</cp:revision>
  <dc:subject/>
  <dc:title>Diapositiva 1</dc:title>
</cp:coreProperties>
</file>