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89748-6465-4DAA-9E45-48CEDCC03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4402DD0-EA99-4631-BF84-225D8986F6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7A3B60D-88BE-4EAC-A41C-B7F0809B7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3435013-17D6-4135-90B7-D1203A7A52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DDD5BB-75CB-4688-83E9-57AC111E7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CCA244E-95A5-4170-AA54-C01A7DCBC5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6D80AAF-620E-497A-8A6D-357B2E28D4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B4F0E1A-031B-429C-8237-49FC358E56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C6B6A5D7-C040-4640-8592-9F0E112A64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392C056F-1577-44DB-AC7A-DE9DC31539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E87D247-BB0C-4D85-9130-952E0D04A6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D792EE5-0D2E-4775-8BE6-AD176C052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D64F8B7-D15B-4CE6-BAE9-46DD988921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2829F2E-4387-4D6B-89C1-220B0C3B16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659386C-31AD-499B-B5F2-36745D9171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1C173FA-2331-470D-8CB4-21428FB669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935FFF0B-69EA-4828-A892-48771AB91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D00DC6C-183E-41C2-85AC-DE50F0C971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05F2F8A-6433-4EE1-9DBB-4CE2AAD663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B7F67A9E-8930-4549-961F-CD31FF00B6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144282B-CBF1-4CA1-95A1-7AF0505E3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BD580BF-7C44-428B-A677-FC02CCCDA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3CD8670-6BE1-4517-A0FB-EE9E24C61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AB0FC30-4D1D-4699-82EA-E56341614A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14D2-6E76-4ADE-B4EB-9F66DD2DC22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6B28-E63B-4128-BABE-2C5FD50B4DD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39E0FF0-1B0D-4F52-BB3E-63C72EE0F683}"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1FBD8DB-F925-436C-81DE-DFB11977B3CE}"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7320CF5-0314-4B78-BF50-EF2AFD3191BB}"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C478C111-51A8-4301-8988-2D923DC2B676}"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B389A1DE-0F98-4588-8317-C99B371FE18A}"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F0DBFE7A-7620-4DE7-98C0-64C158017094}"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E41AA2F-AADC-4DFD-8C51-EFF0FBB44494}"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3C87952-59A8-4B9B-84E3-EB5F57264E5F}"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5AAC52E-389E-4988-9885-D852D404F3D5}"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CFCD948-184A-45E5-8216-8D1666B35D61}"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B46E6324-D4D8-4B88-AFE9-9740B7F8A6A8}"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75874C2A-5C8A-459F-B778-B983892291C9}"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008F069C-6F43-4D77-AE19-50B77644CDF3}"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E8B511FD-D7C1-4F48-9B64-F7BC524B0E1C}"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C60CC60-48CE-447F-A054-ED2A4491CC26}"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75691851-C132-4645-9136-D5E03C62D38D}"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A7B659A9-A155-4E00-9792-E141640B4ECA}"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19E397AD-6BA2-4666-9F6C-F3DF5058CC7E}"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24FB19CD-E657-47BC-9D4C-56396B9F43ED}"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8E03301-3339-4B79-B189-30C204401144}"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D684010-66C0-4158-A973-F46C30E813C5}"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9328131-809C-4977-A88D-94A7F91148BE}"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D616346-0C36-43BF-AD38-32EA72FF610A}"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DF700A8-D928-40D7-B37C-85C54B8629CB}"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2C4E2F13-2D46-4AEF-A3C2-F26E5148AEEC}"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56959C71-DD73-4538-A3D9-A18A2BC6522C}"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AA4C7B7-7871-449A-84FF-19952B77C36A}"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F7FCE34-FC62-461A-9ACA-81271C873E82}"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365B2F4D-E9B0-4FBF-8175-F7D8410EDA1C}"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4B261B7-F905-45CC-AB7F-B2C8EA5FCA40}"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393728D-99BF-4F89-8A14-464DB336D836}"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27762C41-E108-4971-AAAF-5FB76D16EB27}"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B2AD9BA-5240-49D2-A5EE-3C29E6613963}"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1B7C2BF-E5C3-4131-9A75-D0DCD7F53750}"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FBB21251-76C2-4964-B396-A5E62645489B}"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1AD0F298-0680-476D-8129-E0E8FC07F043}"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2F87092A-0784-4F0D-8CEA-369192BA80BC}"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E17254C6-98B7-44E9-9A80-677040A4A848}"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2BFC9E2A-9D07-4741-AEF9-427C555A84C8}"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533DDBDD-7ED5-42C8-AE38-B67A2D749E30}"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1CC0F8A-2DA1-42FF-B95C-178FA9D29F0F}"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407A58D-9604-4858-8DDC-BA3FB446842A}"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E75B42C7-73AA-4BCC-845A-12DE675C7769}"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3673A7C0-8574-4F12-9436-643F9F365FFE}"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FF087400-6940-45D6-8AE6-701B6D841935}"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D0CE4B3-1DFE-48FA-B29C-B6C5701ACB68}"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92A59FC-E461-48AF-9B32-622763C0E9D5}"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AB246DB-2660-4F7E-B5C3-A0EAD946F25D}"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39C0B94-1D7C-4A96-84BA-0F4DD522B887}"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BA46B34-5F88-41C9-8094-DBA0E611D709}"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E922D6C6-1CEA-43DC-97BA-489FC57441EB}"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6509C36-36A9-4B20-8890-6839B3B8BBF7}"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8E28A53-5DA6-4988-8739-57E394E07CAC}"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367DE544-93F8-4087-A375-0B62EC3F01D0}"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1A9EECF-819F-4EC1-9DF5-05F4165F0104}"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6D360093-4301-49FA-84C1-EF92A10995AF}"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AF455C3-927E-40E1-B545-B183152EEEE7}"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5D5B7A60-9138-4E6C-A2F0-A24D18271608}"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1E5C0B-A657-4083-A9B8-C40F98E4451D}"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40D6EB2-37A8-4619-9405-A8F5BE07088D}"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8D47FADD-B1F1-48B1-9D2A-E35331189019}"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D90D675-C79A-4110-83F0-5FD26A5CA51C}"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EA600A3-B47A-4D14-A7B3-E386F9F16176}"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09CA74DA-F663-4138-AC7D-A77813AFD411}"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D9C3DCFB-6A95-4F47-98EF-6B1BEEF745F3}"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066F7AC-4001-4A93-9C01-23059FF3FF0D}"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18BD22F-503C-484D-8A12-B47681F0D57D}"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BE2EC3A-4DF1-44C2-83DF-4BED45300E8F}"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1F5F921-9EE1-4FEB-9E65-82004D0B5B2C}"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A92FC2FC-30D0-4B43-AAA3-57A41C4352FD}"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CDC0BEE-6AAB-44F8-93C7-5755240F4DA9}"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D025175-5132-404F-9C53-CFF92CBCCB28}"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AD29CA9D-DA05-4016-8B11-08F8126CDA83}"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441CF53-C7F7-4BD7-BF33-19C5ED8156B4}"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9D698AD-06B4-4489-A062-F6A2B723A3B1}"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