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D2727-805F-4D4D-8DD5-7E66B83ABD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3CED050-BFDE-42B4-8930-352667C44A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D41038E-1071-4E1B-B9AA-2A9C121C5B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BB50962E-F598-426E-A207-2C95908717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7D7358-9595-42E9-B847-77336A730A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704B332-8E4B-46A5-91B1-7CE4C68969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D3FCBFE-D183-44D5-AFB7-3E72986BA6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C307D2B-31FA-4A9B-9DA5-3BE4A4FB3A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569AB80A-87AE-4FCE-99FC-A1E93991C3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ACA72B80-3D5F-49CF-8798-693D71877B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C747394-729F-49DC-ADF4-248FDCA1F7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6AE6005-C32B-480D-9C6D-8874A98F99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4EFC1B6-86CD-4B8A-AF66-AC285C5869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074A8E9-D069-467F-ACA6-5AA0BDD276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F0EBB3B7-87F0-4916-8545-BFDD144F97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9E962647-0B75-43CA-B570-38512DD141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307B8A9B-7F2D-4BAB-83E3-11CE0A8AB4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370137C-6C6B-42F6-AB48-6DE0E1DC5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FE61B6E-C0DB-4E98-9144-D36E9A2A9A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6920C7B8-0BEE-4DC9-ADFA-DF52AAF46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043D468-37B1-4ADA-A050-FDFDB3B7A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F7C1E76-04DD-4040-A072-E06C06BC65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E0D3DAC-9C27-485C-8B36-D758739290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B7C9DC4-7DA2-4E62-A372-D00D8BD647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4A47-C7ED-4D1D-910E-A70662D44D3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696D-AB3C-4268-8A6C-5C2AEB9209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EAEFFDD1-99F1-429F-B325-5E82063F3930}"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7EAAAF2-B7AC-43AD-90C2-ADF7375971D7}"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8D3DCF0-59FA-4F3F-B612-B763B724AEC2}"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36D52365-B809-45A6-8E85-33E71A1337F8}"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CB7C1E39-D958-4314-9EBC-F553A8BBB999}"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DC89B47C-0795-4173-BAF8-78620C17B399}"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5A539DBE-2FA6-44B2-9D7F-8F40304DA423}"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A52C1AB-7433-4713-9634-898928AA68B3}"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0B40AF2-965B-4851-93F6-C12A9B6203A4}"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28E83A1-A9A6-4D6C-8CAA-C78082ECB2FF}"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788BDCD1-AE9B-4F37-80DB-5D12F817E4C7}"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6A48B57D-A67C-4443-8E8F-8746C3069454}"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4F8E2B39-96A9-4B67-AC76-F332AA57AF2B}"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374050FC-D7AD-4B5F-9772-CA4CEBCA263B}"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A9F220F-0116-4E18-B56D-DF7C1DE2DCB1}"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494F6AC1-FB07-49E9-A14A-DEAE029E157F}"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E77BEB72-93A9-4CCF-8E9D-481AAFCA1C37}"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A3BD2748-C47A-40E1-A295-3412E0762F4A}"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362F2DB8-191C-48BD-8B98-6DD74131CBF2}"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5027A2C0-FAA1-4FCB-B39F-B49CE6DA9098}"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B6D17AB-1BD7-4CC7-BD19-F89EDC16E03A}"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C2EF9AD9-BAA3-4C34-A45B-2096818CD4E3}"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B9C68F9-8E38-4120-872B-2BE2A6EEEF7B}"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0AB5BF2-323B-40EC-B2CA-08724EFE746B}"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325379DB-800A-4524-96BC-FC39C905BD1F}"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FB294954-A7CC-4952-9F74-66C76A4D4BBE}"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6FB8C08-1834-419A-94F6-67918B75D959}"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773022F-5AF6-492D-A8E2-90AAE9CCEC86}"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883EB18F-8508-4948-85D0-7E1F0A04379B}"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D60B93B-A0A7-427F-AA2B-7A2C33FBC4A1}"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CB47BB6C-DF26-4778-98CB-3637A76463DC}"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AA25E7EB-BB14-4D3B-A141-0B932327D713}"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09457901-2CA4-4541-AA44-22455FA098EE}"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8B55B2F-871B-4B30-8C3E-8B2D0A20A530}"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98669CB9-CDF2-4C99-930F-E0ACBAE3049B}"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5B07A974-0D3D-474A-97CE-03472D45E3DF}"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9E62061B-FFC7-45D9-BB0E-36B2E81B13F4}"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A8480656-3A91-4731-9ACA-F6F989FBD80E}"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A91D5323-E068-42DA-B15E-9735412C093E}"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BEB9D111-6FDA-497C-A1B3-7C3D1654F9D5}"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608B6DF7-694D-4F8B-BDEE-3D15DB82FF72}"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C3A0472-19E4-4BD3-839E-F983F7656CDC}"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E54FF79A-5211-4C9B-90E7-69792FD6690B}"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7547FAF8-9ABF-4527-A701-9BB4094F9109}"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912D2006-E430-42FB-9D72-9F1A94F61ED8}"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7B962CE-9346-410D-A71A-12297EB4B70F}"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9BB0402-8224-40C7-9F33-2F35665B4DE8}"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561B067-93BD-42C0-8E8A-2F07A8A12262}"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A5FA36E-DDEF-4723-B1EE-61086269E861}"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8295FD4-EB87-47C2-ADFC-FB8DEBBE1E8A}"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43505323-9C9D-4796-825C-8B6B16D3F6C4}"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56457D22-049E-4928-93DF-E38FCBB6160B}"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C89B48D-66BD-4F7E-B91C-0A3A174CC4FA}"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4C6FB351-DAAB-4BAE-A048-9F4BE608C2DE}"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290ED0B-71F7-411A-BDF8-9C3A2DA57E4C}"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6E8DEA76-16FD-4F58-8A46-CF5B4A3FF5B4}"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E95419F-08A1-4331-B30F-14C58AA9D961}"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8F26BF3D-3892-4D8F-8580-3FA35DB8B2C4}"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B9C599F-DD34-4C3D-807D-E6874C0849B6}"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8C870D-8E1F-42EA-9AF7-46257DE33CA7}"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5B3A995-A0C6-4A11-87F4-45EF2EC89D07}"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DCBFA2C-1094-44AE-954E-6539ED89B673}"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ABE8B8B-A520-4286-B5E1-56D2325B48EA}"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16B6FEF6-E4BE-4897-88F0-C6E12A466349}"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34D3FB7F-8D4B-4B55-8EB0-FB26FCCEE473}"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D0DC5E7-692B-4ECF-B984-BD976BB6DBCA}"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ACD7AE1-F08C-40E9-A789-C5364E7CCEBA}"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8420558-AB74-4306-B0F1-CA49E27317B8}"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020AAD0-5D6F-44BE-9187-D84DD5FB1B50}"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32D12C66-3053-4B0C-97E2-C801D76D15B3}"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DE810092-C5E0-4C27-B011-64C2FA8DA200}"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68CCB73-20CC-4D01-B656-520C9BAA2173}"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4E229FF8-A018-4F0B-AC89-450067088CD4}"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8EDE116-B4BA-4DCA-834D-B98DA74950FB}"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612F395-1234-4642-B2DE-067E7AAB4D99}"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