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C4D8B-F5A9-45E4-A4BC-E601EE111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8A8F40C-4C5A-42F2-A226-5029AFAA4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4F5AE5C-873C-451D-9018-4BB485019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81D41D7-952E-43D7-9749-EDB66288FE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C9D4FD-2084-4E33-AE5A-F24822D23A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FA8FA0D-126E-42C0-A975-119A447962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F58AC46-3EC9-4886-B10E-2A237DA41B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7EC8459-4780-4C93-8387-E2A517A5E6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2F272473-D0EA-437A-8719-BFFDA10DE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2882E53D-E559-400D-BD0A-EA4CA0ECCA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4B5FC19-FD0A-4F92-AA1D-BCD26DA8DF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E4044E4-C651-4985-8014-1F92BAEB8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83871E5-E0E3-4269-8EF9-CE2287B02D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F8F3BEA-3756-409F-A1CC-9C533D0BA7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E4D2DB2-9FBE-4AC8-AF99-53D3E5025C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FF30190-BC0E-46A1-B3FB-9273EB8692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BB2A4A5-F45B-4AB2-872D-2FC5842E42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2F644EC-1BD7-4FEA-8011-B1327D0D6E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0BEF72-03F2-4589-9F45-47EE3E83B8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5088AEF-C26F-4572-8C5F-C52C4D2ADE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4AF3974-F668-4D04-8226-74E72B919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F886122-D050-4F13-B24A-ABE6E42003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1746D15-57ED-4A19-B950-444C81DE3E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910E48B-527F-4C0F-8779-586FE8290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B776-385B-404C-A5E9-AE168C2833C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4F07-5EAB-478C-BBC3-F66D015DC08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28DE35C4-69B3-4CA7-8810-970C18BCCEFD}"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B9E3958-C280-48FF-8D85-D0AD30CD1BBF}"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845127D-A2FC-4582-B543-BC114256010F}"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1F2BD62D-CC69-4FCE-86AA-413E225BC989}"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3718190A-C51D-4026-90D3-345FEE83C82B}"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B344CACD-0FCA-4F5A-9917-70DDDF9384F3}"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ED4FA48-374E-49F9-8769-B4CA5100A1AF}"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914AF92-0789-40A8-9FD7-97B295C857E0}"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5124DD4-2DB5-49EF-9BBB-96DE30E548F0}"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555F6AE-5640-4185-8911-D62F902B59AD}"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8D98AE04-BBAB-4CD6-8961-070C0A3DF4EA}"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0114B009-6D85-42C6-AF87-9F296A85F047}"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7BFFFAF0-23A9-4B4F-945F-55BBDDBE8252}"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EFDF840E-C139-48B0-8067-70FBBF5A1F18}"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0B47121-9E93-4C9F-A56D-034BE8160C5B}"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D95FD59F-9D97-42FA-B52E-6F024A68734C}"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E1A58734-51C3-42D5-9DA2-D6A53F365F71}"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7ECA1AE3-EEC3-4E66-AB70-B0DAFB0607F6}"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30F64E1F-9FC4-4A92-A1B5-E430266B1C8D}"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17CC43D-87EF-4258-9694-A10553986283}"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6831F3C-DCA9-45DB-B170-64FDEFD27925}"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2F670F8-22B5-4BD2-84FE-8C652F4772A5}"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7BC3247-332C-473D-BC40-ED62BEF76404}"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36A6B81-EDD8-4DFF-AB61-C0253D170315}"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04B136A4-377C-4138-AF82-DA49C550F4F8}"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5B4C7AEB-F6E9-495D-BFCC-865E2C96C1CC}"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292D03-648F-4EBB-B7E5-7D75320A0CD7}"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4D05722-6190-4F89-994D-5AE58CB77755}"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5AA42ACD-81D5-48A2-A04E-6CFCF37B3AF7}"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CC8D40D-B191-4A4E-9603-F0B3504D6AED}"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0A41A76-7F96-4FBD-94AB-CEDC1966AD9E}"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B624CE1-665C-4D9E-88DB-A45B968AD86C}"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E61E247-B0AD-4CD6-95FB-7BADE54C4D58}"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E1CC002-0C86-4FF9-92DD-0A9A6CF07B13}"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C3A6C66D-6957-40FC-AE38-87C59C4001C9}"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50EE6862-FC08-4A1A-83B9-1DC9040B25FE}"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E716D711-297A-44A0-B25F-48834BC08152}"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B1F6CF63-D99C-43FC-9966-0A66270BDF95}"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EDB82975-E927-4B08-BECC-5B8BF60794CE}"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5D724C4F-E664-4E62-B732-052AD8DD9806}"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6BB4842-4BD1-4578-8F83-BF6DB9B4AE9A}"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0BC67BB-C9A2-43DD-96C1-62AABD1A77B3}"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37A427D-449A-4F97-B36C-D9EA67D21E2D}"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84DB6F1A-9F10-4F56-8E24-A70409442BDA}"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64B1A73A-640D-4FBB-B549-E76CC8A2F7CB}"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33DF7AD-EE92-4F5B-ADD5-D75C1E60C07A}"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E50C81A-D0E9-4780-BD69-6D0D73757663}"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C15BE12-318B-4E25-8925-62B8005AAEC1}"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521472B-9F13-4874-A097-4853139EB0A0}"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810ED99-26F1-4492-A9AA-5E4EBA634AEB}"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C2AF1A75-769F-4D43-8346-A87047B48B67}"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26050078-37E7-4028-B395-F82392251F66}"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E8D1B4-C8D3-4A42-B8DC-FBA311451E6B}"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011F4F23-C1B9-48C5-9407-8D4D5428A5EF}"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1C1EFE9-B382-4FFE-A78B-7175F959971D}"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D6574912-1FD6-46C4-BDD0-583BE27BDDA2}"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F08B78A-DAF5-4B5D-B021-285342F4B2B8}"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AD7F6642-2A6D-4FEF-B93E-6EBF1A1FA697}"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25DF0CB-805F-4D20-BE05-701B32AF5487}"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24B4E2-1A72-4FCC-99E0-401F17321A53}"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D36B6C9-EDE4-4007-B31B-0562908A62F6}"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984E82E-0B93-4D03-9AB6-4B3852EAF690}"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43D1979-CF5F-4F2C-AF64-0BB8D7DE0A53}"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2CA63834-3FFF-4F41-B3DC-26138ADB5643}"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1B486521-8CE5-4555-BF42-BCAE5A552BC6}"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21DB7A3-EEC5-48B7-8679-ACE7136C5E3A}"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BF8AEA5-7779-48D1-BE18-844E7281D938}"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CBBE676-628B-473D-9B29-0CBE6901ED19}"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7B23A87-233D-4386-88B6-A3EC00D08AC1}"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5857D0E3-72D9-4F87-96B4-EB3EE61A25DC}"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E4A6EE1-6452-48CF-A8B7-FDA0F9E51FAC}"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5A1C076-2EAF-41A4-8E97-984AC3DDDAFB}"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7B3B76E1-3C75-4B25-9B78-48F639F03349}"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B41FC0E-E435-4E97-BD77-17707902CF2F}"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9932A4F-F142-4223-85BE-9048A31B08F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