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C9E7-DCAE-48FB-94A6-E7CB50F12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C9B0-0650-4168-8F98-20BC3B4B1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F2BC-B651-453C-BB8F-5D22BA240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415B-8E90-42D0-9622-27F8274EC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D6CB-31EF-4E00-8D2A-B3237C362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4DEE-CEEB-43BE-B5DF-CC0F7986B4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E2AD-62B5-491A-93FA-B049A98639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B911A-0398-44AB-9515-4ECD8D959C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8740B-5174-4B61-AEA1-FEC68270AB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F0BA2-49DA-4CBF-B2B2-3B68595E5B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C2B0-2BEB-4B00-88F8-EDFFC09FDE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B603-9750-4D69-BB0F-48D5E6EE64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5C64F-2DC7-4F67-8931-5FCC491AB1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DD17-BAB7-43E9-B282-F931089346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524D9-346D-4082-B609-3524E921AC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5E26-2D39-4CA9-9F7B-CA19B7A52D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3E4D-8301-4A66-9EE7-C55EA49DA9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1E73C-9778-4688-98AF-11C4D99FDD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6B8D-C23A-4006-98B3-8B29ED835A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6547-73A8-4081-A98B-359BD8FD5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E702-CF44-403B-A52B-97AB486A8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82D3-2885-4380-849A-8D1C58E0C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357B-9F1D-41E9-93EA-10A5FF7BD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7146-6CA0-42EB-A906-C64E697D8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9578-40FF-4701-B04A-6F372D60D21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573360"/>
            <a:ext cx="9144000" cy="3299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6148-3850-4322-91B1-A3E687E1107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900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90033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Importancia y beneficio del uso de modelos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La premisa básica de hacer ingeniería de marketing es que el proceso de construcción de modelos mejora las decisione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Mejorar la consistencia de las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xplorar más escenarios / opc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valuar el impacto relativo de las variab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Facilitar los procesos de decisión grupa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 actualizan los modelos mentales subjetivo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DE85-5260-44EA-9852-64D449B71925}" type="slidenum">
              <a:t>10</a:t>
            </a:fld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Antecedente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5640" y="1989000"/>
            <a:ext cx="7773480" cy="3821040"/>
            <a:chOff x="755640" y="1989000"/>
            <a:chExt cx="7773480" cy="38210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763272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364640" y="5229360"/>
              <a:ext cx="416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orrelación entre respuesta y pronó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Marketing Engineering (p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A8B2-A90A-4D68-9E92-6C4481C5F587}" type="slidenum">
              <a:t>11</a:t>
            </a:fld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ríticas a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Aunque pueden generar beneficios significativos, muchos administradores son reticentes a su aplicació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 veces los modelos mentales son suficientemente buenos. No se permiten adaptar a nuevas sit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os modelos son incompletos. Es preferible a no tener nada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dministradores no ven el costo de oportunidad de sus decisiones. No se cuantifica la pérdida de utilidad de cada decisión tomada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Modelos enfatizan el análisis por sobre la acción. Tendencia a integrar al analista y el tomador de decis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Temor de mandos medios de perder importancia. Los modelos no reemplazan, mas bien potencia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a dificultad en la implantación no justifica el costo. Avances tecnológicos ha disminuido costos y aumentado complejidad de las decisiones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00F1-FDEF-4A8C-B6A6-C2D977870F63}" type="slidenum">
              <a:t>12</a:t>
            </a:fld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modelos no son perfectos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661000"/>
            <a:ext cx="770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iempre es mejor tener algo que no tener nada (a menos que cueste demasiado car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300720" y="1636560"/>
            <a:ext cx="2808360" cy="2713320"/>
            <a:chOff x="6300720" y="1636560"/>
            <a:chExt cx="2808360" cy="2713320"/>
          </a:xfrm>
        </p:grpSpPr>
        <p:sp>
          <p:nvSpPr>
            <p:cNvPr id="210" name=""/>
            <p:cNvSpPr/>
            <p:nvPr/>
          </p:nvSpPr>
          <p:spPr>
            <a:xfrm>
              <a:off x="6638400" y="1636560"/>
              <a:ext cx="21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Otros no tanto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6300720" y="2313000"/>
              <a:ext cx="2808360" cy="203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96840" y="1484280"/>
            <a:ext cx="2714760" cy="2865600"/>
            <a:chOff x="96840" y="1484280"/>
            <a:chExt cx="2714760" cy="2865600"/>
          </a:xfrm>
        </p:grpSpPr>
        <p:sp>
          <p:nvSpPr>
            <p:cNvPr id="213" name=""/>
            <p:cNvSpPr/>
            <p:nvPr/>
          </p:nvSpPr>
          <p:spPr>
            <a:xfrm>
              <a:off x="303120" y="148428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Algunos modelos son buenos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96840" y="2313000"/>
              <a:ext cx="2714760" cy="20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935440" y="2324160"/>
            <a:ext cx="3240000" cy="20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DD48-C962-42F7-8072-1AA7CEFAEA7F}" type="slidenum">
              <a:t>13</a:t>
            </a:fld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Para utilizar modelos en marketing se debe ser conciente qu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función comercial, por definición debe hacerse cargo de la interacción con </a:t>
            </a: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personas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las que por su naturaleza única y cambiante dificultan mucho la estructuración de los fenómenos en que interviene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os modelos en marketing debe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r consistentes con el comportamiento esperable de los consumidor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Tener base empírica en los mercados relevant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84D9-EB06-4B54-9E8A-79E92A15CC73}" type="slidenum">
              <a:t>14</a:t>
            </a:fld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Respuesta de ventas a un instrumento individual de marketin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En general, buscamos respuestas de venta ante acciones individuales, pero la venta depende de muchos factores simultáneamente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nteracción del marketing mix en las decisiones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decisiones son multivariadas y las relaciones suelen ser altamente no lineales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Efectos de la competencia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Las ventas no solo dependen de mis decisiones sino que también de las acciones de la competencia.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mpacto desfasado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respuestas de las acciones de marketing puede distribuirse en el tiempo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618C-56E6-4ADF-B6D6-84217F185459}" type="slidenum">
              <a:t>15</a:t>
            </a:fld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territori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aplicación de actividades de marketing pueden tener un efecto muy distinto para cada región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Product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interacción de distintos productos (complementarios/sustitutos) dificulta la toma de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meta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Objetivos contrapuestos: “Maximas ventas y minimo costo” o “Maxima rotación vs minimo quiebre de stock”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Interacción funcional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Muchas veces, las decisiones de marketing no pueden ser separadas de las funciones operacionales y financiera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DE64-D6C3-47A3-A36E-759E907664C3}" type="slidenum">
              <a:t>16</a:t>
            </a:fld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Verdana"/>
              </a:rPr>
              <a:t>Clasificación de modelos de marketing</a:t>
            </a: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Metodología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Propósito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metodología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Verbales: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describen con palabra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Carecen de cuantificació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ncill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Gráf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explicitan las rel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Guían el análisi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rven de puente entre modelos verbales y matemátic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Matemát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tipo y magnitud de las relaciones se definen formalmente por medio de ec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434360" y="2133720"/>
            <a:ext cx="666720" cy="3527280"/>
            <a:chOff x="7434360" y="2133720"/>
            <a:chExt cx="666720" cy="3527280"/>
          </a:xfrm>
        </p:grpSpPr>
        <p:sp>
          <p:nvSpPr>
            <p:cNvPr id="227" name=""/>
            <p:cNvSpPr/>
            <p:nvPr/>
          </p:nvSpPr>
          <p:spPr>
            <a:xfrm flipV="1">
              <a:off x="810108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34360" y="3686040"/>
              <a:ext cx="18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7327800" y="382176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Simplic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88360" y="2133720"/>
            <a:ext cx="347760" cy="3527280"/>
            <a:chOff x="8388360" y="2133720"/>
            <a:chExt cx="347760" cy="3527280"/>
          </a:xfrm>
        </p:grpSpPr>
        <p:sp>
          <p:nvSpPr>
            <p:cNvPr id="231" name=""/>
            <p:cNvSpPr/>
            <p:nvPr/>
          </p:nvSpPr>
          <p:spPr>
            <a:xfrm>
              <a:off x="838836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7552440" y="3686760"/>
              <a:ext cx="209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Capacidad de aná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566100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ahoma"/>
              </a:rPr>
              <a:t>Los 3 tipos son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34AA-B935-4FDD-A3CF-DAA406E22064}" type="slidenum">
              <a:t>18</a:t>
            </a:fld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8080"/>
                </a:solidFill>
                <a:latin typeface="Verdana"/>
              </a:rPr>
              <a:t>Verbal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as ventas de un nuevo producto parten tan lentamente como los “innovadores” de la población adoptan el producto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os innovadores influencian a los “imitadores” llevando a acelerar el crecimiento de las ventas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Como más personas en la población compran el producto, las ventas totales continúan incrementándose pero la tasa de crecimiento de las ventas es menor.</a:t>
            </a: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C3B4-8BAD-4E46-B05D-B8E9D55358AE}" type="slidenum">
              <a:t>19</a:t>
            </a:fld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Motiv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Algunas preguntas que el marketing cuantitativo nos ayuda a resolver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precio debería fijar a los distintos productos de una línea para maximizar las ventas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 aumento mi gasto publicitario en un 20%, ¿como impactará en la participación de mercado de la marc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características debiera tener el nuevo producto que lance al mercado el próximo semestre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Cuántos vendedores debiéramos asignar a cada una de las marcas que comercializa la compañí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¿Cuánto espacio le asigno en la góndola de las galletas a cada SKU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6001-3150-427E-BE5E-125922C5F901}" type="slidenum">
              <a:t>2</a:t>
            </a:fld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1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71640" y="1969920"/>
            <a:ext cx="8001000" cy="4098600"/>
            <a:chOff x="971640" y="1969920"/>
            <a:chExt cx="8001000" cy="4098600"/>
          </a:xfrm>
        </p:grpSpPr>
        <p:sp>
          <p:nvSpPr>
            <p:cNvPr id="239" name=""/>
            <p:cNvSpPr/>
            <p:nvPr/>
          </p:nvSpPr>
          <p:spPr>
            <a:xfrm>
              <a:off x="2916360" y="1969920"/>
              <a:ext cx="373392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amaño Población F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716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94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720" y="290664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3333cc"/>
                  </a:solidFill>
                  <a:latin typeface="Verdana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716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294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6360" y="5425920"/>
              <a:ext cx="373392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Patrón del Crecimiento de Ventas de un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3" idx="2"/>
              <a:endCxn id="245" idx="1"/>
            </p:cNvCxnSpPr>
            <p:nvPr/>
          </p:nvCxnSpPr>
          <p:spPr>
            <a:xfrm flipH="1" rot="16200000">
              <a:off x="2210760" y="5067000"/>
              <a:ext cx="824400" cy="56124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44" idx="2"/>
              <a:endCxn id="245" idx="3"/>
            </p:cNvCxnSpPr>
            <p:nvPr/>
          </p:nvCxnSpPr>
          <p:spPr>
            <a:xfrm rot="5400000">
              <a:off x="6719400" y="4878360"/>
              <a:ext cx="824400" cy="93888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2"/>
              <a:endCxn id="243" idx="0"/>
            </p:cNvCxnSpPr>
            <p:nvPr/>
          </p:nvCxnSpPr>
          <p:spPr>
            <a:xfrm>
              <a:off x="2342880" y="3598920"/>
              <a:ext cx="1080" cy="645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1" idx="2"/>
              <a:endCxn id="244" idx="0"/>
            </p:cNvCxnSpPr>
            <p:nvPr/>
          </p:nvCxnSpPr>
          <p:spPr>
            <a:xfrm flipV="1" rot="10800000">
              <a:off x="7600320" y="3598560"/>
              <a:ext cx="1080" cy="64512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39" idx="2"/>
              <a:endCxn id="240" idx="0"/>
            </p:cNvCxnSpPr>
            <p:nvPr/>
          </p:nvCxnSpPr>
          <p:spPr>
            <a:xfrm flipH="1">
              <a:off x="2342880" y="2374920"/>
              <a:ext cx="244080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39" idx="2"/>
              <a:endCxn id="241" idx="0"/>
            </p:cNvCxnSpPr>
            <p:nvPr/>
          </p:nvCxnSpPr>
          <p:spPr>
            <a:xfrm>
              <a:off x="4782960" y="2374920"/>
              <a:ext cx="281844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40" idx="3"/>
              <a:endCxn id="241" idx="1"/>
            </p:cNvCxnSpPr>
            <p:nvPr/>
          </p:nvCxnSpPr>
          <p:spPr>
            <a:xfrm>
              <a:off x="3727800" y="3390480"/>
              <a:ext cx="2489400" cy="108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745F-AB3F-4648-BB10-E68A4638C58C}" type="slidenum">
              <a:t>20</a:t>
            </a:fld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2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322360" y="2790720"/>
            <a:ext cx="4645080" cy="2965680"/>
          </a:xfrm>
          <a:custGeom>
            <a:avLst/>
            <a:gdLst/>
            <a:ahLst/>
            <a:rect l="l" t="t" r="r" b="b"/>
            <a:pathLst>
              <a:path w="3560" h="2291">
                <a:moveTo>
                  <a:pt x="0" y="2291"/>
                </a:moveTo>
                <a:cubicBezTo>
                  <a:pt x="76" y="2282"/>
                  <a:pt x="256" y="2291"/>
                  <a:pt x="456" y="2235"/>
                </a:cubicBezTo>
                <a:cubicBezTo>
                  <a:pt x="656" y="2179"/>
                  <a:pt x="1004" y="2090"/>
                  <a:pt x="1200" y="1955"/>
                </a:cubicBezTo>
                <a:cubicBezTo>
                  <a:pt x="1396" y="1820"/>
                  <a:pt x="1499" y="1620"/>
                  <a:pt x="1632" y="1427"/>
                </a:cubicBezTo>
                <a:cubicBezTo>
                  <a:pt x="1765" y="1234"/>
                  <a:pt x="1808" y="1011"/>
                  <a:pt x="2000" y="795"/>
                </a:cubicBezTo>
                <a:cubicBezTo>
                  <a:pt x="2192" y="579"/>
                  <a:pt x="2524" y="262"/>
                  <a:pt x="2784" y="131"/>
                </a:cubicBezTo>
                <a:cubicBezTo>
                  <a:pt x="3044" y="0"/>
                  <a:pt x="3398" y="36"/>
                  <a:pt x="3560" y="11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276640"/>
            <a:ext cx="5616720" cy="4033800"/>
            <a:chOff x="1476360" y="2276640"/>
            <a:chExt cx="5616720" cy="4033800"/>
          </a:xfrm>
        </p:grpSpPr>
        <p:sp>
          <p:nvSpPr>
            <p:cNvPr id="257" name=""/>
            <p:cNvSpPr/>
            <p:nvPr/>
          </p:nvSpPr>
          <p:spPr>
            <a:xfrm flipV="1">
              <a:off x="2320920" y="2276640"/>
              <a:ext cx="0" cy="354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00400" y="5818320"/>
              <a:ext cx="4573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0000" y="270828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1400" y="594216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105480" y="379152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Ventas Acumuladas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6720" y="227664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amaño de la población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63A3-A3A7-40F1-BFD3-19BA6BE39D4C}" type="slidenum">
              <a:t>21</a:t>
            </a:fld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Matemático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771640" y="3068640"/>
          <a:ext cx="29512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68640"/>
                    <a:ext cx="2951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332000" y="4292640"/>
          <a:ext cx="67690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292640"/>
                    <a:ext cx="6769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641A-ABDE-49FB-935B-F03E426A86C9}" type="slidenum">
              <a:t>22</a:t>
            </a:fld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propósito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scriptivos: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cuantificar la demanda o algún elemento asociad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Las variables independientes suelen ser las actividades del marketing mix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Típicamente comprenden una etapa de definición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estructura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 y otra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calibración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 Decisión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buscan sugerencias a los valores que debe tomar las variables asociadas a las acciones de marketing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Teóricos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el efecto de postular un conjunto de supuestos sobre algún fenómeno. Ayudan a entender fenómenos y generan hipótesis que pueden apoyar modelos mas operacion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808080"/>
                </a:solidFill>
                <a:latin typeface="Verdana"/>
              </a:rPr>
              <a:t>Modelos de Pronóstico</a:t>
            </a:r>
            <a:r>
              <a:rPr b="0" lang="es-CL" sz="16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Su objetivo es pronosticar el valor que tomará una variable en el futur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AB93-87ED-464B-9EEF-F400F5E40BD0}" type="slidenum">
              <a:t>23</a:t>
            </a:fld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arketing necesita de los modelos matemático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batalla por los mercados de consumo masivo ha crecido en intensidad en las últimas década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mpetidores cada vez más dinámicos y agresiv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nsumidores cada vez más exigentes y complej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arcas con crecimientos planos o ciclos de vida extremadamente cort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hace cada vez más necesario contar con modelos y herramientas sofisticadas que apoyen las decisiones comerci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marketing debe avanzar desde lo intuitivo a lo científic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AED3-6A93-450C-81F1-42C4B7982144}" type="slidenum">
              <a:t>3</a:t>
            </a:fld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efectos de las decisiones de marketing son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Rezagados (no inmediatos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No line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ultidimension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Estocástico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Difíciles de medir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99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l modelamiento de las variables de marketing es complejo, pero sumamente necesario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3AE6-73F5-4BAA-B640-524DA5092F61}" type="slidenum">
              <a:t>4</a:t>
            </a:fld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Tendencias que favorecen el modelamiento en marketing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desarrollo de soportes tecnológicos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 preocupación de las empresas por el desarrollo de sus bases de da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ursos computacionale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os gestores comerciales más preparado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onocimientos cuantitativ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eptivos a apoyar sus decisiones con elementos científic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a teoría de marketing más evolucionad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literatura, sistematización del conocimiento, base teórica más sólida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asos de éxito en base a la aplicación de modelos más robus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beneficio de los modelos ha comenzado a ser reportado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es ingresos (ej.:descubrimiento de nuevos nichos de mercado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enores costos (ej.: pronóstico de fuga de clientes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663C-1F19-463C-930F-261270A3E4AC}" type="slidenum">
              <a:t>5</a:t>
            </a:fld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iencias que han apoyado la construcción de estos modelos…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Comportamiento del consumidor (psicología, sociología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conomía (micro-economía, teoría de juegos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Management (estrategia, administración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tadística / Econometría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7A59-B575-4858-B4D4-9A75C0850E62}" type="slidenum">
              <a:t>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odelador debe ser capaz d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Diagnosticar si corresponde la aplicación de un modelo formal y evaluar la conveniencia de su ejecució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ructurar el problema detectando: objetivos, variables endógenas/exógenas y la forma (ecuaciones) en que se relaciona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Proponer un mecanismo eficiente de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ablecer un conjunto de requerimientos, restricciones y alcances para la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Implementar (llevar a la práctica) las soluciones propuestas (a través de la teoría)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8207-8CDD-4D40-A883-FED0D819B60F}" type="slidenum">
              <a:t>7</a:t>
            </a:fld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Qué es un modelo..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modelo 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 una representación simplificada de la realidad, la cual es mas fácil de tratar y de explorar que la realidad misma, para un propósito especifico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Busca proporcionar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herramientas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 analíticas para poder plasmar la teoría en modelos capaces de resolver problemáticas complejas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F16F-4DBB-4380-8407-2D35C6F166D1}" type="slidenum">
              <a:t>8</a:t>
            </a:fld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squemáticamente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3289320" y="3324240"/>
            <a:ext cx="216072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Verdana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95760" y="354024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87720" y="4154400"/>
            <a:ext cx="117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Análi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Dec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Teor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368960" y="274752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7560" y="23511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eo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1040" y="152388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Comport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conom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rate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5592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0800" y="3511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120" y="4022640"/>
            <a:ext cx="1789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Primar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Encuest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ecund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Bases de dat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68960" y="411588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5000" y="465624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5440" y="5195880"/>
            <a:ext cx="196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adís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Optim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Minería de da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447A-FE4A-49EB-9C5C-4D2795A141F5}" type="slidenum">
              <a:t>9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4:33:53Z</dcterms:created>
  <dc:creator>Nicolas Fritis</dc:creator>
  <dc:description/>
  <dc:language>en-US</dc:language>
  <cp:lastModifiedBy>Nicolas Fritis</cp:lastModifiedBy>
  <dcterms:modified xsi:type="dcterms:W3CDTF">2008-08-01T12:42:43Z</dcterms:modified>
  <cp:revision>107</cp:revision>
  <dc:subject/>
  <dc:title>Presentación de PowerPoint</dc:title>
</cp:coreProperties>
</file>