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A72-9AD7-4020-B778-4DE0D75C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2B0-8C29-44C6-88A7-2950A19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2C6-0E28-49FD-9351-28938B3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279-9B59-459E-8819-D9A9A27D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334-1A0E-4FC9-88F8-E8661DE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EDF-D55F-4FF6-96AE-E59CF91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E11-E93E-4816-B940-79233F0F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AC8-D31F-4952-AB45-6F9859C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A58-899C-41F7-8B22-D0FBF5D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8F8-9CFC-44F8-A834-A365BCB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39B-817A-4B05-86A9-B322B56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6C3-D555-4FFD-B4F4-654C45B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1A54-8D12-4EF0-B1D7-2E98BBE3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 CT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En base a su vocación futura cuales son las competencias que usted debería desarrollar en el largo plazo?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desarrolle en media pág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 es la clave para que “las cosas pasen” en el desarrollo de carrera en la dimensión de gestión?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desarrolle en media pá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TP es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0:42:50Z</dcterms:created>
  <dc:creator>TCONSULTING</dc:creator>
  <dc:description/>
  <dc:language>en-US</dc:language>
  <cp:lastModifiedBy>TCONSULTING</cp:lastModifiedBy>
  <dcterms:modified xsi:type="dcterms:W3CDTF">2009-08-20T01:15:26Z</dcterms:modified>
  <cp:revision>3</cp:revision>
  <dc:subject/>
  <dc:title>Diapositiva 1</dc:title>
</cp:coreProperties>
</file>