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D521-380C-481C-83C3-2C2A26CA2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A232-753B-4E69-ABE4-A8D28940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720B-7FAB-4B33-9ABB-E7D137F8F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4FDF-B41C-498B-8D08-98E37DE0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43FA-3680-4BA8-8D0E-508C9B8F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5DED-0EA8-4C16-9765-7C3AF2C7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4F0C-B5E8-473F-806A-3B21717B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37C1-B19F-4F5A-AC5A-AD1F36BF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4639-0D2E-433F-AE5E-222C8FA2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2AF7-F556-43A5-A7CF-83B38FC5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3655-7100-4B0C-8351-D8E936FB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DF7F-A65C-434D-949D-E24EFD9B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853F-3CF6-4881-92BD-5A8E50492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guntas CTP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En base a su vocación futura cuales son las competencias que usted debería desarrollar en el largo plazo?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desarrolle en media págin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uál es la clave para que “las cosas pasen” en el desarrollo de carrera en la dimensión de gestión?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desarrolle en media pági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TP es pers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0T00:42:50Z</dcterms:created>
  <dc:creator>TCONSULTING</dc:creator>
  <dc:description/>
  <dc:language>en-US</dc:language>
  <cp:lastModifiedBy>TCONSULTING</cp:lastModifiedBy>
  <dcterms:modified xsi:type="dcterms:W3CDTF">2009-08-20T01:15:26Z</dcterms:modified>
  <cp:revision>3</cp:revision>
  <dc:subject/>
  <dc:title>Diapositiva 1</dc:title>
</cp:coreProperties>
</file>