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165-D3FB-44C1-9D19-A19AC231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AA4-10DF-48EE-8CF2-C2CF25C1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B03-970C-4CF4-AFF2-482C99D5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B40-249F-464F-9C15-F4001DB6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D19-C940-4543-A66B-B46085AC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675-1471-4DC7-907E-AC5F119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586-0184-43DC-B803-E9479182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153-3DCE-4BFA-9002-253DBE40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9A3-228B-41F1-B359-F84B343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3E9-C4A8-439E-86BD-31E3C26E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0FE-0885-40A3-A20C-303B3019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BAF-63E0-4F84-8B65-1E27514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BBA-5C9B-4026-BDD4-18F155FA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 CT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En base a su vocación futura cuales son las competencias que usted debería desarrollar en el largo plazo?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desarrolle en media págin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l es la clave para que “las cosas pasen” en el desarrollo de carrera en la dimensión de gestión?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desarrolle en media pág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TP es pers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0:42:50Z</dcterms:created>
  <dc:creator>TCONSULTING</dc:creator>
  <dc:description/>
  <dc:language>en-US</dc:language>
  <cp:lastModifiedBy>TCONSULTING</cp:lastModifiedBy>
  <dcterms:modified xsi:type="dcterms:W3CDTF">2009-08-20T01:15:26Z</dcterms:modified>
  <cp:revision>3</cp:revision>
  <dc:subject/>
  <dc:title>Diapositiva 1</dc:title>
</cp:coreProperties>
</file>