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D46-0600-4AC2-9029-3C861FAE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CE4-8D0D-470C-B259-BB91038E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450-4AB3-41D0-944C-9DDF8E18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7AE-7A2A-432E-AEAF-ADA3ED13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D09-E402-4363-A7C1-68171A1D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4768-4F4D-450B-B799-8975C2FA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9EF4-7379-4BCF-8F4E-BCF1F37C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972-4BEA-4528-867D-08E4936A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345-16AA-4AD3-A33F-1998D83E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362-B22C-4562-861C-D2AACB25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88C-F923-46A6-8C19-64968CE1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888F-B068-47F1-9AE9-F72AFD35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283B-6575-43B5-9297-C037EA92D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s CT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En base a su vocación futura cuales son las competencias que usted debería desarrollar en el largo plazo?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desarrolle en media págin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ál es la clave para que “las cosas pasen” en el desarrollo de carrera en la dimensión de gestión?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desarrolle en media pág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TP es pers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0:42:50Z</dcterms:created>
  <dc:creator>TCONSULTING</dc:creator>
  <dc:description/>
  <dc:language>en-US</dc:language>
  <cp:lastModifiedBy>TCONSULTING</cp:lastModifiedBy>
  <dcterms:modified xsi:type="dcterms:W3CDTF">2009-08-20T01:15:26Z</dcterms:modified>
  <cp:revision>3</cp:revision>
  <dc:subject/>
  <dc:title>Diapositiva 1</dc:title>
</cp:coreProperties>
</file>