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AB70F-AA4F-4CFB-A7E4-9A2D01C03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8BC18-0F96-4C6E-A947-F2DBE13C8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0B9A9-D354-4561-9687-C787601EA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A8D3C-6446-4B3F-8F30-B3F6DD2DD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1CB2F-974B-47EE-A408-FC7C71C0F2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782AE-78EB-4CC6-83EE-C987041B8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9393E-F0AA-4DD1-B37C-BC9DB0C3C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1F93D-4816-47F8-89C8-43B359F87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A7D5B-1457-4DFF-89A9-269C084FD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AB6EB-59D8-47C3-99D7-9888983E3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89199-F5E1-450A-9B54-FE93669AC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A020E-2C8B-48D4-8065-8B371C32A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CA42F-3553-4AF0-941B-C521ECA60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0065F-BD48-431C-80E1-95D5B0C6E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E4CE5-ABB1-41C7-B583-E383F6927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DEDCF-6FA5-4501-9F41-038828E5F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0342F4-FBBB-4BB6-8B6B-E32347799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3AAC4-3EE2-4A45-87C1-BAE173F14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AF499-3B18-4E29-931D-31A0A00C2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4FCAF-D8BC-4626-A59F-A5C4758E8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F6650-EB3F-4AEF-B728-85333DEFE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64020-F13B-4E14-90F3-D5986ED00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161AC-DFCF-45CA-AB95-D0619279C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627DA-0982-4C9F-8F81-41AE31FA5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31AB-83D0-4372-B136-115F18AAB127}"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6B21-056B-40F3-89A2-2C436990A0A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Rectangle 5"/>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Rectangle 5"/>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Line 8"/>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9"/>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0"/>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1"/>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2"/>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14"/>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Text Box 15"/>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Text Box 16"/>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Rectangle 5"/>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Rectangle 7"/>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8"/>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Text Box 9"/>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Text Box 10"/>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Text Box 11"/>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4"/>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Rectangle 5"/>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Rectangle 5"/>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Rectangle 5"/>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0066"/>
                </a:solidFill>
                <a:latin typeface="Arial"/>
              </a:rPr>
              <a:t>Control de gestión </a:t>
            </a:r>
            <a:br>
              <a:rPr sz="2600"/>
            </a:br>
            <a:r>
              <a:rPr b="1" lang="es-E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Rectangle 5"/>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0066"/>
                </a:solidFill>
                <a:latin typeface="Arial"/>
              </a:rPr>
              <a:t>Centro de Beneficios (o utilidades)</a:t>
            </a:r>
            <a:endParaRPr b="1" lang="en-US" sz="3200" spc="-1" strike="noStrike">
              <a:solidFill>
                <a:srgbClr val="330066"/>
              </a:solidFill>
              <a:latin typeface="Arial"/>
            </a:endParaRPr>
          </a:p>
        </p:txBody>
      </p:sp>
      <p:sp>
        <p:nvSpPr>
          <p:cNvPr id="215" name="PlaceHolder 2"/>
          <p:cNvSpPr>
            <a:spLocks noGrp="1"/>
          </p:cNvSpPr>
          <p:nvPr>
            <p:ph/>
          </p:nvPr>
        </p:nvSpPr>
        <p:spPr>
          <a:xfrm>
            <a:off x="684360" y="1905120"/>
            <a:ext cx="785016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unidad organizativa en la cual, tanto los ingresos como los gastos se miden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n decidir sobre como imputar los ingresos y gast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cuando se recibe un orden de compra, cuando se despacha el producto o cuando se cobr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diferentes criterios: imputar sólo gastos variables, gastos generales, impue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0066"/>
                </a:solidFill>
                <a:latin typeface="Arial"/>
              </a:rPr>
              <a:t>Centro de Beneficios (o utilidades)</a:t>
            </a:r>
            <a:endParaRPr b="1" lang="en-US" sz="3200" spc="-1" strike="noStrike">
              <a:solidFill>
                <a:srgbClr val="330066"/>
              </a:solidFill>
              <a:latin typeface="Arial"/>
            </a:endParaRPr>
          </a:p>
        </p:txBody>
      </p:sp>
      <p:sp>
        <p:nvSpPr>
          <p:cNvPr id="217"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asignación, no sólo se debe tener en cuenta consideraciones contables, sino que además, el comportamiento que esto podría traer del ejecutiv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 asignar aquellos ingresos y gastos sobre los cuales el directivo puede influir, incluso aunque no pueda controlarlos tot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Medición de la rentabilidad</a:t>
            </a:r>
            <a:endParaRPr b="1" lang="en-US" sz="3900" spc="-1" strike="noStrike">
              <a:solidFill>
                <a:srgbClr val="330066"/>
              </a:solidFill>
              <a:latin typeface="Arial"/>
            </a:endParaRPr>
          </a:p>
        </p:txBody>
      </p:sp>
      <p:sp>
        <p:nvSpPr>
          <p:cNvPr id="219" name="PlaceHolder 2"/>
          <p:cNvSpPr>
            <a:spLocks noGrp="1"/>
          </p:cNvSpPr>
          <p:nvPr>
            <p:ph/>
          </p:nvPr>
        </p:nvSpPr>
        <p:spPr>
          <a:xfrm>
            <a:off x="539640" y="1905120"/>
            <a:ext cx="799488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didas cualitativas: la gestión de la dirección, para valorar al direct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didas cuantitativas: resultados económicos, para valorar el desempeño del centro de beneficios como unidad económic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be prevalecer la gestión de la dirección en el diseñ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1"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resultado económico de un centro de beneficios se puede valorar mediante cinco diferentes medid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rgen de contribución</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directo</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controlable</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antes de impuestos</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ne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Rectangle 5"/>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3"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rgen de contribución: el margen de contribución refleja la diferencia entre los ingresos y los gastos variables. Gastos fijos fuera de control.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directo: refleja la contribución de un CB a los gastos generales y al beneficio global de la empres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controlable: los gastos de los servicios centrales se pueden dividir en controlables y no controlab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antes de impuesto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ne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5"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 1.0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 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6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Variable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8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Margen de Contribución</a:t>
            </a:r>
            <a:r>
              <a:rPr b="1" lang="es-ES_tradnl" sz="2000" spc="-1" strike="noStrike">
                <a:solidFill>
                  <a:srgbClr val="000000"/>
                </a:solidFill>
                <a:latin typeface="Arial"/>
              </a:rPr>
              <a:t>	</a:t>
            </a:r>
            <a:r>
              <a:rPr b="0" lang="es-ES_tradnl" sz="2000" spc="-1" strike="noStrike">
                <a:solidFill>
                  <a:srgbClr val="000000"/>
                </a:solidFill>
                <a:latin typeface="Arial"/>
              </a:rPr>
              <a:t>                  22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Fijos incurridos en CB</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9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Directo</a:t>
            </a:r>
            <a:r>
              <a:rPr b="1" lang="es-ES_tradnl" sz="2000" spc="-1" strike="noStrike">
                <a:solidFill>
                  <a:srgbClr val="0000ff"/>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2000" spc="-1" strike="noStrike">
                <a:solidFill>
                  <a:srgbClr val="000000"/>
                </a:solidFill>
                <a:latin typeface="Arial"/>
              </a:rPr>
              <a:t>13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Corporativos Controlable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Controlabl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2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s asignaciones corporativ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2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s antes de Impuest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est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4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Neto</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76320" y="533520"/>
            <a:ext cx="88390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INVERSIONES: </a:t>
            </a:r>
            <a:br>
              <a:rPr sz="2800"/>
            </a:br>
            <a:r>
              <a:rPr b="1" lang="es-ES_tradnl" sz="2800" spc="-1" strike="noStrike">
                <a:solidFill>
                  <a:srgbClr val="330066"/>
                </a:solidFill>
                <a:latin typeface="Arial"/>
              </a:rPr>
              <a:t>Evaluación del Desempeño</a:t>
            </a:r>
            <a:endParaRPr b="0" lang="en-US" sz="2800" spc="-1" strike="noStrike">
              <a:solidFill>
                <a:srgbClr val="000000"/>
              </a:solidFill>
              <a:latin typeface="Arial"/>
            </a:endParaRPr>
          </a:p>
        </p:txBody>
      </p:sp>
      <p:sp>
        <p:nvSpPr>
          <p:cNvPr id="227" name="Rectangle 5"/>
          <p:cNvSpPr/>
          <p:nvPr/>
        </p:nvSpPr>
        <p:spPr>
          <a:xfrm>
            <a:off x="60480" y="1830240"/>
            <a:ext cx="9082080" cy="301860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etorno de la 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rentabilidad o retorno de la inversión R.O.I. (return on investment) es el indicador tradicionalmente más utilizado en la evaluación del desempeño de un centro de 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Retorno de la Inversión   =   </a:t>
            </a:r>
            <a:r>
              <a:rPr b="0" lang="es-ES_tradnl" sz="2400" spc="-1" strike="noStrike" u="sng">
                <a:solidFill>
                  <a:srgbClr val="000000"/>
                </a:solidFill>
                <a:uFillTx/>
                <a:latin typeface="Arial"/>
              </a:rPr>
              <a:t>Resultado Operacional</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0480" y="1601640"/>
            <a:ext cx="9082080" cy="405648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indicador alternativo para evaluar el desempeño de un centro de inversiones, y que se desarrolló con el propósito de evitar el desincentivo a inversiones que tienden a disminuir el ROI divisional, pero que son rentables a nivel firma, es el Resultado Residual, Resultado Diferencial o Spread:</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0000"/>
                </a:solidFill>
                <a:latin typeface="Arial"/>
              </a:rPr>
              <a:t>Retorno Residual = Resultado Operacional – </a:t>
            </a:r>
            <a:r>
              <a:rPr b="1" i="1" lang="es-ES_tradnl" sz="2000" spc="-1" strike="noStrike">
                <a:solidFill>
                  <a:srgbClr val="000000"/>
                </a:solidFill>
                <a:latin typeface="Arial"/>
              </a:rPr>
              <a:t>r  </a:t>
            </a:r>
            <a:r>
              <a:rPr b="0" i="1" lang="es-ES_tradnl" sz="2000" spc="-1" strike="noStrike">
                <a:solidFill>
                  <a:srgbClr val="000000"/>
                </a:solidFill>
                <a:latin typeface="Arial"/>
              </a:rPr>
              <a:t>x  Activo Operacional</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r</a:t>
            </a:r>
            <a:r>
              <a:rPr b="0" lang="es-ES_tradnl" sz="2000" spc="-1" strike="noStrike">
                <a:solidFill>
                  <a:srgbClr val="000000"/>
                </a:solidFill>
                <a:latin typeface="Arial"/>
              </a:rPr>
              <a:t>: tasa de retorno exigido a la inversión.</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mejor desempeño se evidencia por un mayor valor del Resultado Residual. Asimismo, tienen mayor prioridad las inversiones que arrojen un valor más alto del Resultado Residual.</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9" name="Rectangle 5"/>
          <p:cNvSpPr/>
          <p:nvPr/>
        </p:nvSpPr>
        <p:spPr>
          <a:xfrm>
            <a:off x="1547640" y="533520"/>
            <a:ext cx="736776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INVERSIONES: </a:t>
            </a:r>
            <a:br>
              <a:rPr sz="2800"/>
            </a:br>
            <a:r>
              <a:rPr b="1" lang="es-ES_tradnl" sz="2800" spc="-1" strike="noStrike">
                <a:solidFill>
                  <a:srgbClr val="330066"/>
                </a:solidFill>
                <a:latin typeface="Arial"/>
              </a:rPr>
              <a:t>Evaluación del Desempe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Rectangle 5"/>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Rectangle 5"/>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Rectangle 5"/>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Rectangle 5"/>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Rectangle 5"/>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87480" indent="-29376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Rectangle 6"/>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alvarez</cp:lastModifiedBy>
  <dcterms:modified xsi:type="dcterms:W3CDTF">2009-10-21T11:33:54Z</dcterms:modified>
  <cp:revision>41</cp:revision>
  <dc:subject/>
  <dc:title>El control de la gestión</dc:title>
</cp:coreProperties>
</file>