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2CEBB-8386-4ECD-9DBB-CEABF951C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EDF70-8FE7-4399-8D29-D4362F6CE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C29D0-AEE2-414B-9B4B-C71D43008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2F6E9-2EDF-431D-B9FC-AE1250673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D888B-5F50-41FD-81F7-BDEDC549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05B13-9088-40DC-9BC3-96210F26B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57F9C-EA37-4182-BB8C-4D1628712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F51C4-808D-42B7-BC10-9F2825325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507A1-073E-4C72-9748-FA7D0C0A0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0AFF-955D-4EFC-A514-DE4251AD4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BAF42-F8BE-40D6-987B-4D11A848F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FCBC6-F16D-47CF-981C-BAEF731BC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6D21-AA12-4D18-9997-E2728DDDF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ingresos, cost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La cadena de valor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3: Desarrollo de una ventaja competitiva basada en los costos</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r una ventaja competitiva sostenible, apoyándose en e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ilisis de los costos, ya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ndo las causa de costo, mejor que los competidores, o b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nfigurando la cadena de val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objetivos y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Implementación de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stablecimiento y aplicación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1622520"/>
            <a:ext cx="7848360" cy="4254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ALVAREZ</cp:lastModifiedBy>
  <dcterms:modified xsi:type="dcterms:W3CDTF">2008-09-11T20:54:49Z</dcterms:modified>
  <cp:revision>17</cp:revision>
  <dc:subject/>
  <dc:title>Diapositiva 1</dc:title>
</cp:coreProperties>
</file>