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8EF1-96D9-4B59-8A96-94907C13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CD9-4EBB-47AF-B87F-FB1EF149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63A-359A-4F31-BF02-38512A89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B5D-4066-427C-867C-CB4ABC29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7D3-C8C5-40B2-AAD5-A39EBE7A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E5D-69D1-4E3F-9814-28016E1C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AFE-C748-42FD-9167-3EB57581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1F8-FBA4-4A64-9B52-DB13E620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8A3-750F-429E-A8F6-BFE09F9F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F11-64C2-450B-B640-AE6EF026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143-1633-4EEB-96C8-FC90C2B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98B-3172-4734-8755-823ABF89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4D8D-77D7-459B-9C3F-EB944A39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El análisis de las desviaciones es impor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o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ien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4869000"/>
            <a:ext cx="4144680" cy="703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fica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404640"/>
            <a:ext cx="83059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Lucida Sans Unicode"/>
              </a:rPr>
              <a:t>Empresa de TV Cable: 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úmero de suscriptores:  Estimados = 50.000 líneas 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ales  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2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3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4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Arriendo (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 (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marketing (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de oper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5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620640"/>
            <a:ext cx="3324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de Operació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80880"/>
            <a:ext cx="1904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28160" y="5153040"/>
            <a:ext cx="2696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 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0559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400" y="236052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040" y="289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51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34136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2578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 To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39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5400" y="455760"/>
            <a:ext cx="28036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de Oper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tos Adm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0" y="524196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9120" y="1217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8040" y="2589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120" y="1903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2082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840" y="26654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9840" y="243684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9120" y="34275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160" y="46465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46530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5029200"/>
            <a:ext cx="5465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- :  Variación 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D-: Variación 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34160" y="6308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0160" y="63086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,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66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pos de Presupuesto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el horizonte y los objetivos los presupuestos pueden s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upuesto Maest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fija los objetivos globale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rganiz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inanci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ados para períodos entre 5 (quinquenal) y 1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dica las inversiones que d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cer la empresa para las instalaciones, equipos y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versiones de largo plazo para el cumplimento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jetivos propuestos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canzar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ltados y la posición financier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xpresa de forma cuantitativa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lanes de todas las subunidades para el primer añ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 del plan de largo plazo, por ta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cluye las proyecciones de las operaciones de la empr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presupuesto de ventas, compras, costo de 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astos,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resultados) y pre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nanciero (presupuesto de capital, de efectivo y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acterísticas del Presupuesto Flexibl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Control Presupues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viación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 Valdes</cp:lastModifiedBy>
  <dcterms:modified xsi:type="dcterms:W3CDTF">2008-09-05T00:42:22Z</dcterms:modified>
  <cp:revision>28</cp:revision>
  <dc:subject/>
  <dc:title>Presentación de PowerPoint</dc:title>
</cp:coreProperties>
</file>