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6A9A-757E-41C1-9DAF-6341EA845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AF7E-7B0A-4935-AA84-8724A814D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FA84-14E2-4A73-9E4F-C8A09A997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B433-D71F-49BD-90DC-BDF963F11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CDE0-98EA-41F0-849D-B7736A768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F001-2246-4D6C-A00F-CC7093D96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6B90-ADBC-4A3E-9EDF-46FE36092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BD8A-360E-42CA-B076-58210F6E4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F24B-77FA-4FBE-83B8-FFB62A0E9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52BD-7EAA-4574-92C8-464DF36F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C87F-C53C-4327-86B5-99A6B786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C0B5-1B57-43AA-8EEA-660B077E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8FD6D-84E3-48C0-AA00-95AB16E5CC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Control Presupuestario y </a:t>
            </a:r>
            <a:br>
              <a:rPr sz="3200"/>
            </a:b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Análisis de Desvi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95280" y="549000"/>
            <a:ext cx="835344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El análisis de las desviaciones es impor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porq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uestra si los responsables están cumpliendo o no con los objetivos especific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mite el feed-back o proceso de retroalimentación, mediante el cual la empresa tomará las medidas correctivas para ajustarse a lo plane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stituye un proceso de aprendiza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Variación de Presupues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1628640"/>
            <a:ext cx="4176720" cy="703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iferencia entre el presupuesto flexible y los resultados re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8000" y="3141720"/>
            <a:ext cx="5715000" cy="703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Cambios en los precios unitarios de ventas, y en los costos variables y fijos to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284720" y="4724280"/>
            <a:ext cx="4495680" cy="703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Refleja l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ficienc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de la empresa en el uso de sus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Variación Volu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1628640"/>
            <a:ext cx="4114800" cy="703800"/>
          </a:xfrm>
          <a:prstGeom prst="rect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iferencia entre el presupuesto estático y el flex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6858000" cy="703800"/>
          </a:xfrm>
          <a:prstGeom prst="rect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Cambio del nivel de actividad (ventas de un menor o mayor número de unidades) y no a control de 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4869000"/>
            <a:ext cx="4144680" cy="703800"/>
          </a:xfrm>
          <a:prstGeom prst="rect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Refleja l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ficac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en el logro de objetivos.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Arial"/>
              </a:rPr>
              <a:t>Ejemplo 1</a:t>
            </a:r>
            <a:br>
              <a:rPr sz="4400"/>
            </a:br>
            <a:r>
              <a:rPr b="0" lang="es-ES_tradnl" sz="4400" spc="-1" strike="noStrike">
                <a:solidFill>
                  <a:srgbClr val="333399"/>
                </a:solidFill>
                <a:latin typeface="Arial"/>
              </a:rPr>
              <a:t>Presupuesto Flexi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7200" y="404640"/>
            <a:ext cx="830592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Lucida Sans Unicode"/>
              </a:rPr>
              <a:t>Empresa de TV Cable: nivel de actividad y costos estimados e incurr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Arial"/>
                <a:ea typeface="Lucida Sans Unicode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Número de suscriptores:  Estimados = 50.000 líneas     (Tarifa = $ 25.0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Reales        = 56.000 líneas    (Tarifa = $ 23.000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184464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Lucida Sans Unicode"/>
              </a:rPr>
              <a:t>Costos y gastos estimad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2629080" y="1676520"/>
            <a:ext cx="3886200" cy="2133360"/>
            <a:chOff x="2629080" y="1676520"/>
            <a:chExt cx="3886200" cy="2133360"/>
          </a:xfrm>
        </p:grpSpPr>
        <p:grpSp>
          <p:nvGrpSpPr>
            <p:cNvPr id="72" name=""/>
            <p:cNvGrpSpPr/>
            <p:nvPr/>
          </p:nvGrpSpPr>
          <p:grpSpPr>
            <a:xfrm>
              <a:off x="2631600" y="1680120"/>
              <a:ext cx="3880800" cy="2125080"/>
              <a:chOff x="2631600" y="1680120"/>
              <a:chExt cx="3880800" cy="2125080"/>
            </a:xfrm>
          </p:grpSpPr>
          <p:grpSp>
            <p:nvGrpSpPr>
              <p:cNvPr id="73" name=""/>
              <p:cNvGrpSpPr/>
              <p:nvPr/>
            </p:nvGrpSpPr>
            <p:grpSpPr>
              <a:xfrm>
                <a:off x="2631600" y="1680120"/>
                <a:ext cx="3880800" cy="353880"/>
                <a:chOff x="2631600" y="1680120"/>
                <a:chExt cx="3880800" cy="35388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2649960" y="1680120"/>
                  <a:ext cx="384336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Arriendo (fijo)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2631600" y="1680120"/>
                  <a:ext cx="388080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2631600" y="2034000"/>
                <a:ext cx="3880800" cy="353880"/>
                <a:chOff x="2631600" y="2034000"/>
                <a:chExt cx="3880800" cy="35388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2649960" y="2034000"/>
                  <a:ext cx="384336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Gastos Administrativos (fijos)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2631600" y="2034000"/>
                  <a:ext cx="388080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2631600" y="2388240"/>
                <a:ext cx="3880800" cy="354240"/>
                <a:chOff x="2631600" y="2388240"/>
                <a:chExt cx="3880800" cy="35424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2649960" y="2388240"/>
                  <a:ext cx="3843360" cy="35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Gastos de marketing (fijos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2631600" y="2388240"/>
                  <a:ext cx="3880800" cy="35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2631600" y="2742840"/>
                <a:ext cx="3880800" cy="353880"/>
                <a:chOff x="2631600" y="2742840"/>
                <a:chExt cx="3880800" cy="35388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2649960" y="2742840"/>
                  <a:ext cx="384336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Materiales y mano de obra directa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2631600" y="2742840"/>
                  <a:ext cx="388080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2631600" y="3097080"/>
                <a:ext cx="3880800" cy="353880"/>
                <a:chOff x="2631600" y="3097080"/>
                <a:chExt cx="3880800" cy="35388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2649960" y="3097080"/>
                  <a:ext cx="384336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Gastos de operació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2631600" y="3097080"/>
                  <a:ext cx="388080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2631600" y="3451320"/>
                <a:ext cx="3880800" cy="353880"/>
                <a:chOff x="2631600" y="3451320"/>
                <a:chExt cx="3880800" cy="35388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2649960" y="3451320"/>
                  <a:ext cx="384336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Gastos Administrativ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2631600" y="3451320"/>
                  <a:ext cx="388080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>
              <a:off x="2629080" y="1676520"/>
              <a:ext cx="3886200" cy="2133360"/>
            </a:xfrm>
            <a:prstGeom prst="rect">
              <a:avLst/>
            </a:prstGeom>
            <a:noFill/>
            <a:ln w="144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6705720" y="1676520"/>
            <a:ext cx="2057400" cy="2133360"/>
            <a:chOff x="6705720" y="1676520"/>
            <a:chExt cx="2057400" cy="2133360"/>
          </a:xfrm>
        </p:grpSpPr>
        <p:grpSp>
          <p:nvGrpSpPr>
            <p:cNvPr id="93" name=""/>
            <p:cNvGrpSpPr/>
            <p:nvPr/>
          </p:nvGrpSpPr>
          <p:grpSpPr>
            <a:xfrm>
              <a:off x="6707160" y="1680120"/>
              <a:ext cx="2054520" cy="2125080"/>
              <a:chOff x="6707160" y="1680120"/>
              <a:chExt cx="2054520" cy="2125080"/>
            </a:xfrm>
          </p:grpSpPr>
          <p:grpSp>
            <p:nvGrpSpPr>
              <p:cNvPr id="94" name=""/>
              <p:cNvGrpSpPr/>
              <p:nvPr/>
            </p:nvGrpSpPr>
            <p:grpSpPr>
              <a:xfrm>
                <a:off x="6707160" y="1680120"/>
                <a:ext cx="2054520" cy="353880"/>
                <a:chOff x="6707160" y="1680120"/>
                <a:chExt cx="2054520" cy="35388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6716880" y="1680120"/>
                  <a:ext cx="203472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  5.000.0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6707160" y="1680120"/>
                  <a:ext cx="205452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6707160" y="2034000"/>
                <a:ext cx="2054520" cy="353880"/>
                <a:chOff x="6707160" y="2034000"/>
                <a:chExt cx="2054520" cy="35388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6716880" y="2034000"/>
                  <a:ext cx="203472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10.000.0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6707160" y="2034000"/>
                  <a:ext cx="205452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6707160" y="2388240"/>
                <a:ext cx="2054520" cy="354240"/>
                <a:chOff x="6707160" y="2388240"/>
                <a:chExt cx="2054520" cy="35424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6716880" y="2388240"/>
                  <a:ext cx="2034720" cy="35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10.000.000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6707160" y="2388240"/>
                  <a:ext cx="2054520" cy="35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6707160" y="2742840"/>
                <a:ext cx="2054520" cy="353880"/>
                <a:chOff x="6707160" y="2742840"/>
                <a:chExt cx="2054520" cy="35388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6716880" y="2742840"/>
                  <a:ext cx="203472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  5.000/lin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6707160" y="2742840"/>
                  <a:ext cx="205452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6707160" y="3097080"/>
                <a:ext cx="2054520" cy="353880"/>
                <a:chOff x="6707160" y="3097080"/>
                <a:chExt cx="2054520" cy="35388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6716880" y="3097080"/>
                  <a:ext cx="203472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  8.000/lin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6707160" y="3097080"/>
                  <a:ext cx="205452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6707160" y="3451320"/>
                <a:ext cx="2054520" cy="353880"/>
                <a:chOff x="6707160" y="3451320"/>
                <a:chExt cx="2054520" cy="35388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6716880" y="3451320"/>
                  <a:ext cx="203472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  1.000/lin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6707160" y="3451320"/>
                  <a:ext cx="205452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2" name=""/>
            <p:cNvSpPr/>
            <p:nvPr/>
          </p:nvSpPr>
          <p:spPr>
            <a:xfrm>
              <a:off x="6705720" y="1676520"/>
              <a:ext cx="2057400" cy="2133360"/>
            </a:xfrm>
            <a:prstGeom prst="rect">
              <a:avLst/>
            </a:prstGeom>
            <a:noFill/>
            <a:ln w="144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2629080" y="4003560"/>
            <a:ext cx="3886200" cy="2397240"/>
            <a:chOff x="2629080" y="4003560"/>
            <a:chExt cx="3886200" cy="2397240"/>
          </a:xfrm>
        </p:grpSpPr>
        <p:grpSp>
          <p:nvGrpSpPr>
            <p:cNvPr id="114" name=""/>
            <p:cNvGrpSpPr/>
            <p:nvPr/>
          </p:nvGrpSpPr>
          <p:grpSpPr>
            <a:xfrm>
              <a:off x="2631600" y="4007880"/>
              <a:ext cx="3880800" cy="2388240"/>
              <a:chOff x="2631600" y="4007880"/>
              <a:chExt cx="3880800" cy="2388240"/>
            </a:xfrm>
          </p:grpSpPr>
          <p:grpSp>
            <p:nvGrpSpPr>
              <p:cNvPr id="115" name=""/>
              <p:cNvGrpSpPr/>
              <p:nvPr/>
            </p:nvGrpSpPr>
            <p:grpSpPr>
              <a:xfrm>
                <a:off x="2631600" y="4007880"/>
                <a:ext cx="3880800" cy="397800"/>
                <a:chOff x="2631600" y="4007880"/>
                <a:chExt cx="3880800" cy="39780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2649960" y="4007880"/>
                  <a:ext cx="3843360" cy="39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Arriendo (fijo)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2631600" y="4007880"/>
                  <a:ext cx="388080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2631600" y="4405680"/>
                <a:ext cx="3880800" cy="397800"/>
                <a:chOff x="2631600" y="4405680"/>
                <a:chExt cx="3880800" cy="3978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649960" y="4405680"/>
                  <a:ext cx="3843360" cy="39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Gastos Administrativos (fijos)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31600" y="4405680"/>
                  <a:ext cx="388080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2631600" y="4803840"/>
                <a:ext cx="3880800" cy="398160"/>
                <a:chOff x="2631600" y="4803840"/>
                <a:chExt cx="3880800" cy="39816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2649960" y="4803840"/>
                  <a:ext cx="3843360" cy="39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Gastos de marketing (fijos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2631600" y="4803840"/>
                  <a:ext cx="3880800" cy="39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2631600" y="5202360"/>
                <a:ext cx="3880800" cy="397800"/>
                <a:chOff x="2631600" y="5202360"/>
                <a:chExt cx="3880800" cy="39780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2649960" y="5202360"/>
                  <a:ext cx="3843360" cy="39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Materiales y mano de obra directa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2631600" y="5202360"/>
                  <a:ext cx="388080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2631600" y="5600160"/>
                <a:ext cx="3880800" cy="397800"/>
                <a:chOff x="2631600" y="5600160"/>
                <a:chExt cx="3880800" cy="3978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2649960" y="5600160"/>
                  <a:ext cx="3843360" cy="39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Gastos de operació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2631600" y="5600160"/>
                  <a:ext cx="388080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2631600" y="5998320"/>
                <a:ext cx="3880800" cy="397800"/>
                <a:chOff x="2631600" y="5998320"/>
                <a:chExt cx="3880800" cy="3978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2649960" y="5998320"/>
                  <a:ext cx="3843360" cy="39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Gastos Administrativ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631600" y="5998320"/>
                  <a:ext cx="388080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3" name=""/>
            <p:cNvSpPr/>
            <p:nvPr/>
          </p:nvSpPr>
          <p:spPr>
            <a:xfrm>
              <a:off x="2629080" y="4003560"/>
              <a:ext cx="3886200" cy="2397240"/>
            </a:xfrm>
            <a:prstGeom prst="rect">
              <a:avLst/>
            </a:prstGeom>
            <a:noFill/>
            <a:ln w="144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6705720" y="4038480"/>
            <a:ext cx="2057400" cy="2362320"/>
            <a:chOff x="6705720" y="4038480"/>
            <a:chExt cx="2057400" cy="2362320"/>
          </a:xfrm>
        </p:grpSpPr>
        <p:grpSp>
          <p:nvGrpSpPr>
            <p:cNvPr id="135" name=""/>
            <p:cNvGrpSpPr/>
            <p:nvPr/>
          </p:nvGrpSpPr>
          <p:grpSpPr>
            <a:xfrm>
              <a:off x="6707160" y="4042440"/>
              <a:ext cx="2054520" cy="2353320"/>
              <a:chOff x="6707160" y="4042440"/>
              <a:chExt cx="2054520" cy="2353320"/>
            </a:xfrm>
          </p:grpSpPr>
          <p:grpSp>
            <p:nvGrpSpPr>
              <p:cNvPr id="136" name=""/>
              <p:cNvGrpSpPr/>
              <p:nvPr/>
            </p:nvGrpSpPr>
            <p:grpSpPr>
              <a:xfrm>
                <a:off x="6707160" y="4042440"/>
                <a:ext cx="2054520" cy="392040"/>
                <a:chOff x="6707160" y="4042440"/>
                <a:chExt cx="2054520" cy="39204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6716880" y="4042440"/>
                  <a:ext cx="2034720" cy="39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 6.000.0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707160" y="4042440"/>
                  <a:ext cx="2054520" cy="39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6707160" y="4434480"/>
                <a:ext cx="2054520" cy="392040"/>
                <a:chOff x="6707160" y="4434480"/>
                <a:chExt cx="2054520" cy="39204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6716880" y="4434480"/>
                  <a:ext cx="2034720" cy="39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 9.500.0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6707160" y="4434480"/>
                  <a:ext cx="2054520" cy="39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6707160" y="4826880"/>
                <a:ext cx="2054520" cy="392400"/>
                <a:chOff x="6707160" y="4826880"/>
                <a:chExt cx="2054520" cy="39240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6716880" y="4826880"/>
                  <a:ext cx="2034720" cy="39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 9.000.000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6707160" y="4826880"/>
                  <a:ext cx="2054520" cy="39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6707160" y="5219280"/>
                <a:ext cx="2054520" cy="392040"/>
                <a:chOff x="6707160" y="5219280"/>
                <a:chExt cx="2054520" cy="39204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716880" y="5219280"/>
                  <a:ext cx="2034720" cy="39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 7.000/lin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707160" y="5219280"/>
                  <a:ext cx="2054520" cy="39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6707160" y="5611680"/>
                <a:ext cx="2054520" cy="392040"/>
                <a:chOff x="6707160" y="5611680"/>
                <a:chExt cx="2054520" cy="39204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6716880" y="5611680"/>
                  <a:ext cx="2034720" cy="39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 6.000/lin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6707160" y="5611680"/>
                  <a:ext cx="2054520" cy="39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6707160" y="6003720"/>
                <a:ext cx="2054520" cy="392040"/>
                <a:chOff x="6707160" y="6003720"/>
                <a:chExt cx="2054520" cy="39204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6716880" y="6003720"/>
                  <a:ext cx="2034720" cy="39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    900/lin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6707160" y="6003720"/>
                  <a:ext cx="2054520" cy="39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4" name=""/>
            <p:cNvSpPr/>
            <p:nvPr/>
          </p:nvSpPr>
          <p:spPr>
            <a:xfrm>
              <a:off x="6705720" y="4038480"/>
              <a:ext cx="2057400" cy="2362320"/>
            </a:xfrm>
            <a:prstGeom prst="rect">
              <a:avLst/>
            </a:prstGeom>
            <a:noFill/>
            <a:ln w="144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539640" y="393372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Lucida Sans Unicode"/>
              </a:rPr>
              <a:t>Costos y gastos reales: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13372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16000" y="620640"/>
            <a:ext cx="33242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dad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n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stos Variabl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teriales y Mano de O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stos de Operación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stos Adm.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 Costos Variabl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stos Fij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rend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preciaciones de equi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stos Adm. Fij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 Costos Fij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T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91120" y="380880"/>
            <a:ext cx="190476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RESUPUES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ESTÁ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25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5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0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1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2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77120" y="380880"/>
            <a:ext cx="190476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Arial"/>
              </a:rPr>
              <a:t>RESULTADOS RE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56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1.288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392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336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50.4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778.4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6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9.5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9.</a:t>
            </a: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24.5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485.1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28160" y="5153040"/>
            <a:ext cx="2696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F- :  Variación favo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D- : Variación desfavo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248520" y="396252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251040" y="205596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51400" y="2360520"/>
            <a:ext cx="4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251040" y="289404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51040" y="258912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48520" y="37339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48520" y="426708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248520" y="449568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300720" y="134136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410080" y="5257800"/>
            <a:ext cx="205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ación  Tot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favor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 39.9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81480" y="5181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7848720" y="51051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81480" y="55627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39152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995400" y="455760"/>
            <a:ext cx="28036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Unidad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Ven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stos Variabl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ateriales y mano de o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astos de Oper. 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astos Adm.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otal Costos Variabl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stos Fij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rrend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preciaciones de equi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astos Adm. Fij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otal Costos Fij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UT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124080" y="228600"/>
            <a:ext cx="19051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PRESUPUES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ESTÁ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25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5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0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1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2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181480" y="228600"/>
            <a:ext cx="19051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PRESUPUES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LEXIBLE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6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4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8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48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56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84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1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91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10280" y="228600"/>
            <a:ext cx="19051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RESULTADOS RE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56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1.288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392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336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50.4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778.4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6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9.5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9.</a:t>
            </a: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24.5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485.1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39600" y="5241960"/>
            <a:ext cx="1364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ol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vo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 66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5257800"/>
            <a:ext cx="217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upues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favo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 105.9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89120" y="121752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08040" y="258912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086600" y="365760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89120" y="190332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89840" y="2208240"/>
            <a:ext cx="4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089840" y="2665440"/>
            <a:ext cx="4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89840" y="2436840"/>
            <a:ext cx="4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089120" y="342756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13160" y="464652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86600" y="388620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86600" y="411480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105520" y="121932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076720" y="465300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26708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845820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624852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267080" y="5562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15000" y="5562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248520" y="5562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001000" y="5562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90720" y="5029200"/>
            <a:ext cx="5465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- :  Variación favo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D-: Variación desfavo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734160" y="630864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Efici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790160" y="630864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Efica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Arial"/>
              </a:rPr>
              <a:t>Ejemplo 2</a:t>
            </a:r>
            <a:br>
              <a:rPr sz="4400"/>
            </a:br>
            <a:r>
              <a:rPr b="0" lang="es-ES_tradnl" sz="4400" spc="-1" strike="noStrike">
                <a:solidFill>
                  <a:srgbClr val="333399"/>
                </a:solidFill>
                <a:latin typeface="Arial"/>
              </a:rPr>
              <a:t>Análisis de Desvi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395280" y="304920"/>
            <a:ext cx="8139240" cy="62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28600" y="318960"/>
            <a:ext cx="868680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ff"/>
                </a:solidFill>
                <a:latin typeface="Arial"/>
              </a:rPr>
              <a:t>Objetivo de la Cl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visar los conceptos de Presupuesto Flexible, Análisis de Desviaciones y Costo Estándar, y su aplic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04920" y="620640"/>
            <a:ext cx="853416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5820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38188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6104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381880" cy="18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Arial"/>
              </a:rPr>
              <a:t>Costos Están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453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990000"/>
                </a:solidFill>
                <a:latin typeface="Arial"/>
              </a:rPr>
              <a:t>Costos Están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écnica de la contabilidad de costos que compara el costo considerado normal de cada producto, servicio o elemento con su costo re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os costos estándar son costos preestablecidos, se calculan antes de comenzar las oper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 una herramienta del control presupuesta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ermite evaluar la eficiencia de la gestión y tomar inmediatamente las acciones correctivas que se estimen pertin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85440" y="685440"/>
            <a:ext cx="80773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 igual que con los costos históricos, se pueden combinar con los métodos de costeo variable y absobente, y con los sistemas de costos por procesos y por órdenes de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 medida que se conocen los costos e ingresos reales, se van registrando en la contabilidad de cos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os datos reales se comparan con los estándar, y las desviaciones entre unos y otros se ponen de manifiesto por el propio sistema con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4536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Ventajas de los Costos Están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acilitan la “dirección por excepción”, que consiste en centrar la atención de la dirección en aquellas situaciones que se apartan de la norma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acilitan la valoración de los stocks y la fijación de precios, entre ot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xigen una definición de responsabilidades por centros de cos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536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Tipos de Costos Están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 partir de datos de la empresa en ejercicios anteri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 partir de datos de la empresa en ejercicios anteriores, pero correg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 partir de estudios técnicos. En este caso el estándar puede represent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mejor actuación po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na actuación efic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4360" y="40464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resupuesto</a:t>
            </a:r>
            <a:r>
              <a:rPr b="1" lang="en-US" sz="3200" spc="-1" strike="noStrike">
                <a:solidFill>
                  <a:srgbClr val="333399"/>
                </a:solidFill>
                <a:latin typeface="Lucida Sans Unicod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1341360"/>
            <a:ext cx="822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Según Horngren, un presupuesto es la expresión formal, cuantitativa de los planes de un individuo, empresa u organización, que proporcionan un punto de referencia para medir el desempeño re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3213000"/>
            <a:ext cx="5562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7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Arial"/>
              </a:rPr>
              <a:t>Ejemplo 3</a:t>
            </a:r>
            <a:br>
              <a:rPr sz="4400"/>
            </a:br>
            <a:r>
              <a:rPr b="0" lang="es-ES_tradnl" sz="4400" spc="-1" strike="noStrike">
                <a:solidFill>
                  <a:srgbClr val="333399"/>
                </a:solidFill>
                <a:latin typeface="Arial"/>
              </a:rPr>
              <a:t>Costo Estánd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sidere el siguiente Centro de Cos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“Presupuesto para un periodo”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onsidera precios y cantidades estánd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lang="es-ES_tradnl" sz="2000" spc="-1" strike="noStrike">
                <a:solidFill>
                  <a:srgbClr val="cc0099"/>
                </a:solidFill>
                <a:latin typeface="Arial"/>
              </a:rPr>
              <a:t>“Costos históricos”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onstituyen los precios y costos reales obtenidos en la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476360" y="549360"/>
            <a:ext cx="604836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258920" y="404640"/>
            <a:ext cx="66247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453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Desviaciones en Materias Pr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iación Global = 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500 x 800 x 6 – 550 x 800 x 5 = 2.400.000 – 2.200.000 = 20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iación por causa de las cantidades (técnic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500x800 – 550x800) x 6 =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-24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iación por causa de los precios (económic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 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6 - 5) x 550 x 800 = + 44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4360" y="472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Desviaciones en Mano de O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iación Global = 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25 x 800 x 40 – 26,25 x 800 x 45 = 800.000 – 945.000 =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-145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iación por causa de las cantidades (técnic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25x800 – 26,25x800) x 40 =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-4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iación por causa de los precios (económic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 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40 - 45) x 26,25 x 800 =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- 105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ipos de Presupuestos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ún el horizonte y los objetivos los presupuestos pueden se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Estratég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de Largo Plaz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upuesto de Cap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upuesto Maestr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Plan Estratégic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fija los objetivos globales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organiz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Plan de Largo Plazo,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enera estad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financier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yectados para períodos entre 5 (quinquenal) y 10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Presupuesto de Capita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indica las inversiones que de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acer la empresa para las instalaciones, equipos y dem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versiones de largo plazo para el cumplimento de 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bjetivos propuestos,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í como para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lcanzar 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sultados y la posición financiera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blecida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esupuest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 largo plaz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Presupuesto Maestr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xpresa de forma cuantitativa 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lanes de todas las subunidades para el primer año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peraciones del plan de largo plazo, por tan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cluye las proyecciones de las operaciones de la empre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presupuesto de ventas, compras, costo de producció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astos,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 presupuesto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 resultados) y presupue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inanciero (presupuesto de capital, de efectivo y 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alance general)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4360" y="283680"/>
            <a:ext cx="77043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Presupue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42472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Presupuesto Estátic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se basa en el nivel de producción planificado al inicio del periodo del presupues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Presupuesto Flexibl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se desarrolla considerando los precios y costos variables presupuestados y el nivel de producción re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9640" y="4365720"/>
            <a:ext cx="822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La evaluación del desempeño a partir del presupuesto flexible se realiza al calcular y analizar las variaciones de volumen y de presupuesto flexible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1916280"/>
            <a:ext cx="829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l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Lucida Sans Unicode"/>
              </a:rPr>
              <a:t>Presupuesto Flexibl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se basa en los mismos supuestos y formatos del presupuesto maestro (estático)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,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pero combinándolos con los cambios que implican las variaciones del nivel de ventas o actividade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60948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aracterísticas del Presupuesto Flexible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3141720"/>
            <a:ext cx="82947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La necesidad de uso de los presupuestos flexibles obedece a que las discrepancias (variaciones) entre los resultados reales y los presupuestados se deben a causas distintas</a:t>
            </a:r>
            <a:r>
              <a:rPr b="1" lang="es-ES_tradnl" sz="2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.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4920" y="53316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758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trol Presupuestario y Análisis de Desvi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848720" cy="42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Control Presupuestari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Proceso permanente de comparación entre lo planificado (plasmado en los presupuestos) y lo acontecido en la rea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Desviación</a:t>
            </a:r>
            <a:r>
              <a:rPr b="0" lang="es-ES_tradnl" sz="24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iferencia entre el resultado real y el proyectado (puede ser favorable o desfavor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4T21:02:37Z</dcterms:created>
  <dc:creator>Marisela Morillo</dc:creator>
  <dc:description/>
  <dc:language>en-US</dc:language>
  <cp:lastModifiedBy>Ivan Alvarez Valdes</cp:lastModifiedBy>
  <dcterms:modified xsi:type="dcterms:W3CDTF">2008-09-05T00:42:22Z</dcterms:modified>
  <cp:revision>28</cp:revision>
  <dc:subject/>
  <dc:title>Presentación de PowerPoint</dc:title>
</cp:coreProperties>
</file>