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F241C9-563B-4C26-A104-D9866B5773F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Img"/>
          </p:nvPr>
        </p:nvSpPr>
        <p:spPr>
          <a:xfrm>
            <a:off x="1284120" y="802800"/>
            <a:ext cx="4291200" cy="321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6F74A4-F7DE-47CF-9C3C-980ED3E48360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0BAA9A-9DFD-4896-A06C-8ECB940B5FBB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60ECAB-3452-4294-9A78-6C3E6D13BFFE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0C1BFC-E1D6-492E-A302-4C0B9F98CDC0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83B71A-7AF9-4CD2-B647-6A1993EF8847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A37-E18A-41D9-BF68-43908069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5CD-74EE-4556-8CEE-F2FDE9EA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3D6-0E4F-4C81-A4E1-3B38D9B2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011-92F8-4CFC-8DE9-4A7AE35A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F8F8-0637-4E34-9B8D-EA04D26E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10D9-3A45-4FD3-A8B8-FC0A5159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9AA1-061A-499F-A93F-DB3C708D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318B-3CEE-40EF-B3BC-EC14B3FE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E02A-1DF8-4AF0-8DEF-DABE0742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BD81-D9C0-4281-AE1F-48E1FF31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51FC-0686-4FFC-8FE2-A7F47CC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339-F1C5-4D03-8800-731DC382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B8C1-FF6D-4B9E-9A36-8A50763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97E4-FE0F-48A3-A810-59491FEA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84C4-6D84-4B36-A21E-3A6ABB1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BD0B-65A3-485F-B202-E910FE21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E5B8-A784-42CB-912C-5354AAD8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A00-CAA9-4890-9E5A-D2A95902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21C-47AB-49E3-9C25-07016CD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9C5-34AA-44E3-8035-85F6142E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267-5B6D-4CB4-A438-0D5F5C83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477-30C1-4BF0-B9FC-D25AC9E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015-9B39-4FC6-BC14-9463048E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4E7-2DE4-45B8-83C1-8C7A012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9D4-3620-4EAE-BFD9-3142593EAE3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0AEA-17A0-4006-A03B-0FB515503E6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stados Financiero Profo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492360" y="4479840"/>
            <a:ext cx="2087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uinas y Equip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14400" y="1197000"/>
            <a:ext cx="2001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6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31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33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028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42920" y="364320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 operación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580000" y="494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para la elaboración del presupuesto se requiere de ciertas definiciones previas,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fines de confección de un presupuesto, es suficiente contar con un conjunto de lineamientos, que orienten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1.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alvarez</cp:lastModifiedBy>
  <cp:lastPrinted>1999-04-29T23:00:42Z</cp:lastPrinted>
  <dcterms:modified xsi:type="dcterms:W3CDTF">2009-08-21T12:19:58Z</dcterms:modified>
  <cp:revision>57</cp:revision>
  <dc:subject/>
  <dc:title>Sin título de diapositiva</dc:title>
</cp:coreProperties>
</file>