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9000"/>
            <a:ext cx="2971800" cy="430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-36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388584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7370B9-E45D-4D14-996C-5DD0E49A2DF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Img"/>
          </p:nvPr>
        </p:nvSpPr>
        <p:spPr>
          <a:xfrm>
            <a:off x="1284120" y="802800"/>
            <a:ext cx="4291200" cy="3218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3F8A3B8-0BE0-4693-B14E-AD862385427A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FFECE60-0C55-46B5-8300-B54647C43F51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12B35B6-3C9B-41E8-960D-C1D20953A460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F191C7-7A45-48FF-8C75-49303A80070B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5"/>
          <p:cNvSpPr/>
          <p:nvPr/>
        </p:nvSpPr>
        <p:spPr>
          <a:xfrm>
            <a:off x="3886200" y="8766000"/>
            <a:ext cx="29718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4C764C-D3A6-4859-9BDC-1B86783572CA}" type="slidenum"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84120" y="803160"/>
            <a:ext cx="4291200" cy="3218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85880"/>
            <a:ext cx="502920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536-7D8E-47E3-99F8-BE3F6BCF0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AB2-0938-4B4E-A927-8868B452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0DE-B034-49E8-BD10-E20D7F34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E20-3232-4C11-ACD2-1EFB25A8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C0AF-07BA-49A5-89B7-E6B5F3D7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29BA-A1BD-4B9B-B809-9EF1C131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3835-8AD2-48CE-93DA-4F45D4A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3997-FF64-4106-AE17-06DCF7C3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9F02-CFC5-428B-9F0D-C4673908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3C42-AA84-4403-BCE9-A4B62D3F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2745-3B24-4AEE-804E-8F3E95C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610-9B0F-46E6-BA36-748D39BC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5627-5A9F-4066-A7DD-41DDCCE5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1A86-D601-42A6-977D-18836D4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6D36-B156-4AB5-A82E-BD06E562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3075-665F-4A08-8488-835DE217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DD0D-7D15-4823-89C2-0E967539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2CF-7002-4C7C-9DC4-06C361AA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1F0-6D2B-4019-BEBB-A7085C85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E7D-83E5-4429-A29F-F40477A7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A68-AA01-4700-8FE0-82115A43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F40-A3CC-4259-9690-01969B19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FC9-12FC-4EE1-AD21-19691776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016-884B-4686-BAA2-DF2DEB11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0198-3613-482A-B34C-47605C46C4C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83C6-1897-41C0-8B97-F121027896E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erramientas Contables para la Planificación y el Control.</a:t>
            </a:r>
            <a:br>
              <a:rPr sz="3600"/>
            </a:b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Presupues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84360" y="4653000"/>
            <a:ext cx="7199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s Financie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7b46d0"/>
              </a:buClr>
              <a:buFont typeface="Wingdings" charset="2"/>
              <a:buChar char="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Arial"/>
              </a:rPr>
              <a:t>Estados Financiero Profo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2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581280" y="3733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492360" y="4479840"/>
            <a:ext cx="20876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 Tecnolog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novación Activo Fi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Instalacio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uevas Maquinas y Equip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91440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Estratég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14400" y="1197000"/>
            <a:ext cx="200196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nálisis interno y ex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rategi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16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8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9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6248520" y="30492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Financie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248520" y="1295280"/>
            <a:ext cx="1828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lujo de Caj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6"/>
          <p:cNvSpPr/>
          <p:nvPr/>
        </p:nvSpPr>
        <p:spPr>
          <a:xfrm>
            <a:off x="3581280" y="380880"/>
            <a:ext cx="18288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Presupu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cc00cc"/>
                </a:solidFill>
                <a:latin typeface="Arial"/>
              </a:rPr>
              <a:t>Oper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8"/>
          <p:cNvSpPr/>
          <p:nvPr/>
        </p:nvSpPr>
        <p:spPr>
          <a:xfrm>
            <a:off x="3581280" y="1127160"/>
            <a:ext cx="1981440" cy="17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mp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Gastos Administra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31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33"/>
          <p:cNvSpPr/>
          <p:nvPr/>
        </p:nvSpPr>
        <p:spPr>
          <a:xfrm>
            <a:off x="1835280" y="4221000"/>
            <a:ext cx="1676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Habrá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Cetrix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028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Cetrix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etrix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Cetrix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 de la cl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ostrar el empleo de dos instrumentos básicos de la contabilidad gerencial (o administrativa) como son, el Presupuesto y los Estados Financieros Pro Forma, en la planificación y control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progresiv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ú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revisad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Elabor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10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a empresa comercial se encuentra en el proceso de elaboración 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upuesto Maestro para los primeros cuatro meses d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1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para 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al dispone de la siguiente inform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romanU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nóstico d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vender las sigui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5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ntidades de mercader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42920" y="3643200"/>
            <a:ext cx="8915400" cy="89244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24000" y="4842000"/>
            <a:ext cx="851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ventas en diciembre pasado alcanzaron a las 4.000 unida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ecio de venta es de $10 por unidad y se espera que no cambie en el futuro. Las ventas se efectúan 60% al contado y el resto pagader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sto de ventas y niveles de exist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mpresa vende con un Margen de Explotación del 3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 existencias de $20.000 como base más un 80% del costo de venta de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s mercaderías se compran pagando un 50% al contado y el resto al mes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5280" y="549360"/>
            <a:ext cx="842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os de Administración y V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pagan cada 15 días, en el período sigu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 que son ganadas, ascendiendo a $2.500 por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misiones sobre vent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scienden al 15% de las ventas y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gan de la misma forma que las remuneraciones fij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 gastos variables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canzan al 5% de las ventas y se pagan 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tros gastos de administración y ventas fij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 paga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$2.000 al mes por concepto de arriendo, se consumen seguros por $200 y la depreciación se calcula en $400 al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ja y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desea mantener, por motivos de seguridad, un saldo de caja mínimo de $10.000 a fines de cada 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24000" y="533520"/>
            <a:ext cx="8362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V.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alance general al 31 de diciembre d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812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resupues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herramienta de gest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una expresión, en términos monetarios, de un plan de a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poya la implementación de la estrateg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presupuesto considera la operación, las inversiones, los flujos de efectivo y, en general, los recursos que movilizará la organización en un periodo futuro para lograr sus obje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87138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89154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598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590544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28600" y="404640"/>
            <a:ext cx="873612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1484280"/>
            <a:ext cx="849636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3964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5435640" y="3573360"/>
            <a:ext cx="1584360" cy="71928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7380360" y="3573360"/>
            <a:ext cx="1368360" cy="720720"/>
          </a:xfrm>
          <a:prstGeom prst="rect">
            <a:avLst/>
          </a:prstGeom>
          <a:solidFill>
            <a:srgbClr val="33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176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3348000" y="3933720"/>
            <a:ext cx="432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5003640" y="3933720"/>
            <a:ext cx="360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7020000" y="3933720"/>
            <a:ext cx="361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395280" y="4869000"/>
            <a:ext cx="1584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isión: el su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Misión: cual es nuestro nego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jetivos: donde se llegará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5580000" y="494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3492360" y="4869000"/>
            <a:ext cx="180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Búsqueda de una ventaja competitiv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1908000" y="4869000"/>
            <a:ext cx="180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Externo: que podría ha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nálisis Interno: que puedo ha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7236000" y="494172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Indicadores. Compa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622764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7956720" y="4292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5148360" y="1989000"/>
            <a:ext cx="0" cy="431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7164360" y="1989000"/>
            <a:ext cx="0" cy="43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1191600" y="2060640"/>
            <a:ext cx="26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Planific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5222880" y="2060640"/>
            <a:ext cx="17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mple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7507440" y="20811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ff00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3134880" y="6021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lan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5366160" y="602136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7435800" y="60404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aboración del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nque para la elaboración del presupuesto se requiere de ciertas definiciones previas, tales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fines de confección de un presupuesto, es suficiente contar con un conjunto de lineamientos, que orienten el desarrollo futur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Largo plazo: 5 a 10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ición o eliminación de líneas de produc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ño y ubicación de nuevas pla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quisiciones de nuevas instalaciones, edificios y maqu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Mediano plazo: 3 a 5 añ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estión de mar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xpansiones de lo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Corto plazo: 1 añ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1.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pos de Presu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Maestr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análisis exhaustivo del primer año del plan de largo plaz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idera y resume las actividades planeadas en todas las unidades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Presupuesto de Ca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un informe de las inversiones que se proyecta realizar, es decir, de las adiciones de activo fijo, que se proyecta en cada periodo y que es consistente con las operaciones planifica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Arial"/>
              </a:rPr>
              <a:t>Ciclo Presupuestario</a:t>
            </a:r>
            <a:r>
              <a:rPr b="0" lang="es-ES_tradnl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s el proceso por el cual una empresa elabora el presupues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un determinado períod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alvarez</cp:lastModifiedBy>
  <cp:lastPrinted>1999-04-29T23:00:42Z</cp:lastPrinted>
  <dcterms:modified xsi:type="dcterms:W3CDTF">2009-08-21T12:19:58Z</dcterms:modified>
  <cp:revision>57</cp:revision>
  <dc:subject/>
  <dc:title>Sin título de diapositiva</dc:title>
</cp:coreProperties>
</file>