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-36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388584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F73023-216C-48A1-9CB2-6207CF09C71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Img"/>
          </p:nvPr>
        </p:nvSpPr>
        <p:spPr>
          <a:xfrm>
            <a:off x="1284120" y="802800"/>
            <a:ext cx="4291200" cy="321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40F938-71CE-4ACF-86CF-6202CE20F1F6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31A4F4-6F86-4642-93F8-A48323DC17E9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25F71F-6D0A-48D6-9069-1B1563B9E034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16ABBB-3890-4703-9B65-092919F839BF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0E9EA1-62B6-458F-B238-15B60269EEFB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B29-845B-4968-88DD-547A6F98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758-EF32-4AF7-9405-55DAFCF5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27B-859D-45FD-A02C-6172CB4F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8E4-2E0C-4625-9689-E1B1C506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FC26-3290-491B-A31A-174B8D13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674E-43CD-43A2-81AD-CD7DA1FD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EE74-4DBB-4A48-A597-FFDA0C47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1023-849D-4462-B1FC-57BBBC74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C3D8-03A8-4A89-923C-40756717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00CC-C297-457B-89B6-D600BD36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4779-0186-4A68-B25D-A5015FC6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7B0-C63A-463D-880F-BFC32C8B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9C27-2880-4F0A-BF2E-BD59218A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EA7C-93C5-4DE2-BB75-B4A4D4D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1C17-7E72-44DB-80B0-404891B7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162E-BE39-4CC0-8276-61A049B6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A504-25B7-45C1-B30E-67AC1184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2E46-7E43-46AB-BDE2-22C10E3A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C6F-E706-4935-BE92-FEB4EA4B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926E-BFB4-4BDF-9993-2788ABC3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722-0D19-4E54-B69E-B51C6DCA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D84F-84E6-48F3-9F72-4083C160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489-CAA6-4458-9C68-04A0484B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AF0-4D49-4D33-ABB6-B0E19AFB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D040-AB17-4C87-B63A-921D6A6D0A6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1B47-FB48-4FB7-9909-0C9F28037C6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Estados Financiero Profo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492360" y="4479840"/>
            <a:ext cx="20876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Maquinas y Equip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914400" y="1197000"/>
            <a:ext cx="20019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20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6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31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33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028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42920" y="364320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 operación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580000" y="4941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para la elaboración del presupuesto se requiere de ciertas definiciones previas,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fines de confección de un presupuesto, es suficiente contar con un conjunto de lineamientos, que orienten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1.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alvarez</cp:lastModifiedBy>
  <cp:lastPrinted>1999-04-29T23:00:42Z</cp:lastPrinted>
  <dcterms:modified xsi:type="dcterms:W3CDTF">2009-08-21T12:19:58Z</dcterms:modified>
  <cp:revision>57</cp:revision>
  <dc:subject/>
  <dc:title>Sin título de diapositiva</dc:title>
</cp:coreProperties>
</file>