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AEDFAF-FF65-409A-91CA-E269B8E4CD4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Img"/>
          </p:nvPr>
        </p:nvSpPr>
        <p:spPr>
          <a:xfrm>
            <a:off x="1284120" y="802800"/>
            <a:ext cx="4291200" cy="321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A57CF9-9635-4EB4-B8C8-4AE95B8258F8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21F4DF-4B4F-4590-B886-349DCB4687E0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7D9570-E10C-4396-BB06-86A909C9E1EE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C33F36-4634-4A7F-8C6F-8AE3E494CB9D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A4944C-0669-4246-90A0-C6FA3722998C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904-02CD-41C8-AFDF-4AC2798F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B41-7804-43C1-9182-D0125824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8DE-0189-4A13-BC5C-878D9238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DA8-695F-4251-B43F-CD7223D6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3791-75DC-4F4C-97C6-ACD2D96B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4312-A874-4388-B156-1470F9AA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71C7-C9B5-463C-B37B-5E4D5A6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6AE0-0F49-48BA-9201-DB3882B7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5AF7-DBCE-47B1-BB96-5CB6847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75E5-A13E-4109-9B04-840A58DD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E07B-968B-4973-93CB-4DE4407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DFF-702E-4D3C-A45F-535CF100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1790-4A4C-49CC-A8F1-272ABBC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B911-6A4B-433D-B38B-D5353BCE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34A2-81F9-43E6-8B3F-FD1932F1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DC52-6AE5-4357-A15B-348D3579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6726-9C45-4988-9749-FF315130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803-EC7A-4518-852F-348B331C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2AD-278B-4F39-98FC-3928B69C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DF2-0CA0-416D-8A90-BACD4729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1C9-655F-4388-ACBB-40337193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2A4-2364-40DB-8153-A76BDB2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543-BAA3-48F7-9E17-0B1DD6BC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2FF-550F-4AB1-8ABC-CEE673E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0830-238F-4E11-BE08-4FD7ABBA402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6233-8622-45DD-90DE-51CDFA83F81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stados Financiero Profo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492360" y="4479840"/>
            <a:ext cx="2087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uinas y Equip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14400" y="1197000"/>
            <a:ext cx="2001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6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31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33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028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42920" y="364320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 operación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580000" y="494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para la elaboración del presupuesto se requiere de ciertas definiciones previas,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fines de confección de un presupuesto, es suficiente contar con un conjunto de lineamientos, que orienten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1.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alvarez</cp:lastModifiedBy>
  <cp:lastPrinted>1999-04-29T23:00:42Z</cp:lastPrinted>
  <dcterms:modified xsi:type="dcterms:W3CDTF">2009-08-21T12:19:58Z</dcterms:modified>
  <cp:revision>57</cp:revision>
  <dc:subject/>
  <dc:title>Sin título de diapositiva</dc:title>
</cp:coreProperties>
</file>