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7C696-F823-433D-A196-02A473FCD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21A4-7364-48C7-AE93-D22A82C4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AFD6-EE6C-470B-8BD4-56271A5ED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C6E18-3362-4532-8125-61C34771D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8F562-24CB-4F16-B8BB-B4D53B90A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EB47F-CAC8-43F6-98CE-C22D2CBEA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C29E3-6E1E-4BD9-96DC-C9D198739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CF951-B703-4DA7-9C3E-BA5D3A53D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C49E4-54C1-4CF8-9DDA-0A86A7918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13BDC-205D-420B-8E4D-34E54698A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847C0-2937-469F-9B07-B1639496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92EB-3C08-4E19-BC8E-46962717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83B49-E12E-4DB8-9AE8-4D4E2B529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FDF4C-CDDE-4376-BB61-B684BAD3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56980-9A67-485B-8603-E1D4CC2DA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85B99-3C92-4A89-B680-A81B40AA9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D064D-20B4-413F-8B00-2BD023997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63388-D7BE-40A8-8372-920C3F59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4BE1D-9025-467D-92AB-1DB94907D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016AA-3F0A-41A5-83E6-F3774C5A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C7CD-687A-4342-9C7B-BD82035E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1D0D-2BBA-4E23-9C65-C7E17319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F388-731B-4759-983C-44C886332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8851-AEC7-4344-B7F6-05FACCD54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D7D2-762F-42E0-A38E-1015F030ADB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43BA-7490-4ECC-9BFB-AFBCA00BCFC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3:08:33Z</dcterms:modified>
  <cp:revision>16</cp:revision>
  <dc:subject/>
  <dc:title>Diapositiva 1</dc:title>
</cp:coreProperties>
</file>