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01067-6EFB-49D1-9844-856256CC5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85F50-E4A8-48CD-8F35-644E7E766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47FDF-B3E1-4DF7-AE66-F0C8D8ECB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B1929-B13D-4552-A14B-AD17DD912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0B1BA-88BF-4B20-B3B0-B63D55E8C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014D6-CAA4-4AB4-A1AC-0202FAB16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D86FD-F272-47F8-964A-447817AB8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CE86B-8C13-44EF-ACB7-2E3AC176E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D8D4C-A885-4085-8F49-9124E07C6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D05CF-CA23-4E99-830C-E637A4517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DD5DF-D088-4E05-97F0-0F2630858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56343-1056-4974-BFA7-FC3B614CF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65EE6-E349-4D52-A5E3-C1AD2C24E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F506B-4054-4CB7-BE33-50475FB7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5A3FF-ABDE-4648-AFC8-BDB9DEF94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998BD-2DF4-4F21-8894-A3E4D4C72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5564A-A332-46CF-ACC2-D8D4AF907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2BBE-877C-486A-A501-4A0A3588E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4D718-9F15-4F69-95AA-07C7DDA5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4B7C6-E37A-47F6-A162-091E5EFD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A298-61C0-4B47-BC5F-91CDAA03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3969-2B4E-4821-B45E-EFA6E011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5690-3242-4FF7-A58C-095923D6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EA52-C3E5-4B1A-B9FB-919E0FA56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03B3-A0F9-46BA-9AA2-B2D3F673F01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5DCF-2976-4406-BD5F-A4FC5DD46C0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3:08:33Z</dcterms:modified>
  <cp:revision>16</cp:revision>
  <dc:subject/>
  <dc:title>Diapositiva 1</dc:title>
</cp:coreProperties>
</file>