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81F-CF72-4B34-96D8-1876296023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7CA5-35CA-4427-9DAF-3E6CCB7F68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8003-AFD3-4A77-9455-D0B82A28A7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0AE6-0B95-4691-B800-F881265AE5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6003-BE6F-4FF0-9EF4-E8CCB6539C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A4B2-9A37-479F-9F8D-1CEF2F21B1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D4E2-F722-45BF-82BC-8056A923A8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66F5-8E39-493D-BCBC-F27F026046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1C5-1C16-41BA-90CF-CCB6A54C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76F-4AFB-4281-8B29-98780720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3C7-4F4F-440E-A696-C9290A6A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AD3-18F2-4CFB-9B5E-633EE079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A26-644D-4C11-B224-BA43CE67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112-C0A3-406C-ADF8-71B8DA1D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2EC-D258-4C91-A529-A9B2EE08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034-68D9-452E-B892-60469F0D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DED-8D07-4EEA-8AEA-4157ED7E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D63-88BA-4F9C-B261-E3F51110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CFF-23FF-4DEC-92E9-AD17C44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528-0B87-4ABB-B9FC-F41325D8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D464-9CFC-41F1-81DA-840BE9776DD4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17375e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eece1"/>
                </a:solidFill>
                <a:latin typeface="Arial"/>
              </a:rPr>
              <a:t>Introducción a 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eece1"/>
                </a:solidFill>
                <a:latin typeface="Arial"/>
              </a:rPr>
              <a:t>Dirección Estratég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57120" y="28584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l foco de la DE está en la COMPETITI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85920" y="1341360"/>
            <a:ext cx="71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Obtención de una ventaj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71800" y="214308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orías en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86200" y="3429000"/>
            <a:ext cx="314352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asada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403280" y="3429000"/>
            <a:ext cx="288288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429080" y="45720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URSOS Y 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519200" y="4500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714920" y="5013360"/>
            <a:ext cx="40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LES DE LOS AÑOS 80 Y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ernerfelt, Barney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85560" y="501984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LES DE LOS AÑOS 70 Y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chael 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13"/>
          <p:cNvCxnSpPr>
            <a:stCxn id="74" idx="2"/>
          </p:cNvCxnSpPr>
          <p:nvPr/>
        </p:nvCxnSpPr>
        <p:spPr>
          <a:xfrm flipH="1">
            <a:off x="2255040" y="2606760"/>
            <a:ext cx="225180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4"/>
          <p:cNvCxnSpPr>
            <a:stCxn id="74" idx="2"/>
            <a:endCxn id="75" idx="0"/>
          </p:cNvCxnSpPr>
          <p:nvPr/>
        </p:nvCxnSpPr>
        <p:spPr>
          <a:xfrm>
            <a:off x="4506840" y="2606760"/>
            <a:ext cx="185184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El declive de la planificación corporativa y la aparición de la dirección estratégica se asocia 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epción del papel de los departamentos de plan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hazo a la rigidez de los planes corporativos y aceptación de la flex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rés fundamental por crear una ventaja competi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Fases de la 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ceptual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nálisis estraté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mplemen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1. Conceptua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ción de la V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terminación de la M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terminación de la Filosofía y Val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268280"/>
            <a:ext cx="84470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50000"/>
              </a:lnSpc>
              <a:spcBef>
                <a:spcPts val="55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5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V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Imagen del futuro que quiere conseguir la empresa</a:t>
            </a:r>
            <a:r>
              <a:rPr b="1" lang="es-ES_tradnl" sz="26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M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Razón de ser de la empre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¿En qué negocio estamo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¿Qué necesidad queremos satisfacer?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Debe indicar cliente, servicio y ámbito geográf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3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Valo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Sentido colectivo de identida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Comprensión compartida de lo que es la empre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eptualización: Concept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rear una Visión y Mis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fine y clarifica a dónde se quiere  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ablece una meta a largo plaz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a sentido a la estrateg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2. Análisis Estratég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 PESTA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 oportunidades y amena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Industrial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l atractivo de la industria y oportunidades y amena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Intern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 fortalezas y debilidades, factores críticos de éxito y ventajas compet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2855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Áreas potencialmente importa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ntorno polí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conómic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ambios sociales y cultu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ecn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spectos leg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nternacionaliz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Medioambi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tr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500120" y="357120"/>
            <a:ext cx="67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 del entorno (PE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357120" y="836640"/>
            <a:ext cx="8429760" cy="533556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642960" y="3571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nálisis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adena de Valor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Objetivos de la cl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dentificar los aspectos centrales de la Dirección Estraté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dentificar el rol del Control de Gestión en la Dirección Estraté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Análisis Estratég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(PES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1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2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4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3. Plan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blecer objetivos a corto, mediano y largo plazo para lograr la mis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rmular la (s) estrategias posibles para lograr los objetivos de la empre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on guías para la toma de decis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FORMULAR la estrategia es, determinar 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está hoy la empresa y </a:t>
            </a:r>
            <a:r>
              <a:rPr b="0" lang="es-ES_tradnl" sz="2800" spc="-1" strike="noStrike" u="sng">
                <a:solidFill>
                  <a:srgbClr val="ff3300"/>
                </a:solidFill>
                <a:uFillTx/>
                <a:latin typeface="Calibri"/>
              </a:rPr>
              <a:t>dónde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ebería estar en el futu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xiste una brecha (gap) entre ambas situ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MPLEMENTAR la estrategia es, decidir </a:t>
            </a:r>
            <a:r>
              <a:rPr b="0" lang="es-ES_tradnl" sz="2800" spc="-1" strike="noStrike" u="sng">
                <a:solidFill>
                  <a:srgbClr val="ff3300"/>
                </a:solidFill>
                <a:uFillTx/>
                <a:latin typeface="Calibri"/>
              </a:rPr>
              <a:t>cóm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irigir la empresa desde donde está hoy, hasta donde debería estar mañ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14200" y="18252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rategia: Formulación e imple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4. Implemen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esarrollar la estructura organizativa para implementar la estrate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r la cultura organizacional dese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segurar que las actividades necesarias para lograr las estrategias se cumple con efe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trolar la eficacia de la estrategia para conseguir los objetivos de la organ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70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n resume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826920" y="4508640"/>
            <a:ext cx="710424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Dirección Estratégica fija los límites dentro de los cuales tiene lugar el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800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28560" y="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quema del Proceso de Direc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c0504d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c0504d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2"/>
          <p:cNvSpPr/>
          <p:nvPr/>
        </p:nvSpPr>
        <p:spPr>
          <a:xfrm flipH="1">
            <a:off x="1763640" y="1341360"/>
            <a:ext cx="1849680" cy="480960"/>
          </a:xfrm>
          <a:prstGeom prst="pie">
            <a:avLst/>
          </a:pr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13"/>
          <p:cNvSpPr/>
          <p:nvPr/>
        </p:nvSpPr>
        <p:spPr>
          <a:xfrm>
            <a:off x="5219640" y="1341360"/>
            <a:ext cx="1728720" cy="608040"/>
          </a:xfrm>
          <a:prstGeom prst="pie">
            <a:avLst/>
          </a:pr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Habría invertido en esta empresa?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microsoft1978ew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teve Wood: Programador.  Fortuna estimada: 1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Wallace: Director de Producción.  Fortuna estimada: 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im Lane: Jefe de proyecto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O’Rear: Matemático. Fortuna estimada es de 10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Greenberg: Programador.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rc McDonald: Programador. Fortuna estimada: 1 millón de dóla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rdon Letwin: Programador. 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Bill Gates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-fundador. Fortuna estimada: 52.00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drea Lewis: Escritora técnica. Fortuna estimada: 2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rla Wood: Contable. Fortuna estimada: 1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ul Allen: Co-fundador. Fortuna estimada: 21.000 millones de dóla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473760" y="649080"/>
            <a:ext cx="4462200" cy="16844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JETIVOS CLAR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HERENTE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4120" y="571680"/>
            <a:ext cx="3309840" cy="15714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FUND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5334120" y="4869000"/>
            <a:ext cx="3357360" cy="1488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PLA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57200" y="4869000"/>
            <a:ext cx="3328920" cy="1488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JETIVA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3886200" y="2743200"/>
            <a:ext cx="1371600" cy="1219320"/>
          </a:xfrm>
          <a:prstGeom prst="ellipse">
            <a:avLst/>
          </a:prstGeom>
          <a:solidFill>
            <a:srgbClr val="953735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9"/>
          <p:cNvCxnSpPr>
            <a:stCxn id="58" idx="7"/>
          </p:cNvCxnSpPr>
          <p:nvPr/>
        </p:nvCxnSpPr>
        <p:spPr>
          <a:xfrm flipV="1">
            <a:off x="5056200" y="2142360"/>
            <a:ext cx="1659600" cy="778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10"/>
          <p:cNvCxnSpPr>
            <a:stCxn id="58" idx="5"/>
            <a:endCxn id="56" idx="0"/>
          </p:cNvCxnSpPr>
          <p:nvPr/>
        </p:nvCxnSpPr>
        <p:spPr>
          <a:xfrm>
            <a:off x="5055120" y="3784680"/>
            <a:ext cx="1958040" cy="108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11"/>
          <p:cNvCxnSpPr>
            <a:stCxn id="58" idx="3"/>
            <a:endCxn id="57" idx="0"/>
          </p:cNvCxnSpPr>
          <p:nvPr/>
        </p:nvCxnSpPr>
        <p:spPr>
          <a:xfrm flipH="1">
            <a:off x="2120400" y="3784680"/>
            <a:ext cx="1967760" cy="108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2"/>
          <p:cNvCxnSpPr>
            <a:stCxn id="58" idx="1"/>
            <a:endCxn id="54" idx="4"/>
          </p:cNvCxnSpPr>
          <p:nvPr/>
        </p:nvCxnSpPr>
        <p:spPr>
          <a:xfrm flipH="1" flipV="1">
            <a:off x="2704320" y="2334600"/>
            <a:ext cx="1383480" cy="586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Dirección Estraté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DE es un proceso relacionado con la toma de decisiones sobre la dirección futura de una empresa y la implementación de esta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428840" y="428760"/>
            <a:ext cx="5857920" cy="714240"/>
          </a:xfrm>
          <a:prstGeom prst="rect">
            <a:avLst/>
          </a:prstGeom>
          <a:solidFill>
            <a:srgbClr val="37609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eece1"/>
                </a:solidFill>
                <a:latin typeface="Arial"/>
                <a:ea typeface="Arial"/>
              </a:rPr>
              <a:t>El concepto de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128592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Requiere , Qué 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se pretende conseguir  (obje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14200" y="178596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Debe dar respuest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¿Cómo?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 medios o acciones que permitirán alcanzar esa 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928800" y="35719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La estrategia implica comprometer recursos, orientación o dirección a largo plazo y decisiones casi irrever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39640" y="4706640"/>
            <a:ext cx="8280360" cy="1922760"/>
          </a:xfrm>
          <a:prstGeom prst="rect">
            <a:avLst/>
          </a:prstGeom>
          <a:solidFill>
            <a:srgbClr val="37609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eece1"/>
                </a:solidFill>
                <a:latin typeface="Arial"/>
                <a:ea typeface="Arial"/>
              </a:rPr>
              <a:t>Una estrategia bien formulada ayuda a ordenar y asignar los recursos de una organización de una forma singular y viable basada en sus capacidades y carencias internas relativas, en la anticipación a los cambios del entorno y en las eventuales maniobras de los adversarios intel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 Rectángulo"/>
          <p:cNvSpPr/>
          <p:nvPr/>
        </p:nvSpPr>
        <p:spPr>
          <a:xfrm>
            <a:off x="571680" y="271476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¿Cuándo?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 momento de acción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24000" y="77760"/>
            <a:ext cx="8820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alvarez</cp:lastModifiedBy>
  <cp:lastPrinted>2001-11-23T07:32:28Z</cp:lastPrinted>
  <dcterms:modified xsi:type="dcterms:W3CDTF">2009-08-10T12:14:05Z</dcterms:modified>
  <cp:revision>71</cp:revision>
  <dc:subject/>
  <dc:title>Los cuatro grandes sistemas sociales</dc:title>
</cp:coreProperties>
</file>