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5607-BA8E-4A5F-8510-E48BE72F845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9AE5-900B-49DD-96A0-AF2AFC050B8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266E-7DD0-4E49-8EAA-AF6ABCA649C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78EF-E450-4A4F-97B0-4BD99D80490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C40A-1CA7-4C6F-8F9C-B769FEEDB6D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B34C-8354-4AFE-AEDF-B140FDB1C5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7838-CBB4-426F-8BCD-B71DE16BBD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C05D-C372-4428-9959-40F59C542D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807-F940-4321-AF7A-C746DD95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953D-1D69-4A90-A913-F94A6475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E50-425C-43C0-879E-E8CE030A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49C-E3CD-4491-8D2D-91666A67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C46-2E44-42CB-9AE2-40102B7D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1D2-7FB2-4850-85BE-7201C570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981-3573-4DFE-9ECD-8CDC5ED4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E15-06F7-4391-80D7-F33AE222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E42-E5FB-4833-B038-499597B5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20A-0065-4A31-926B-D4ADDF9E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3E5-7347-415A-A396-7AC8C0A3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779C-4EE8-49AA-B29F-A52642D6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F242-5AF2-45FC-9715-13615A0D6286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58920" y="2349360"/>
            <a:ext cx="6842160" cy="1630440"/>
          </a:xfrm>
          <a:prstGeom prst="rect">
            <a:avLst/>
          </a:prstGeom>
          <a:solidFill>
            <a:srgbClr val="17375e"/>
          </a:solidFill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eece1"/>
                </a:solidFill>
                <a:latin typeface="Arial"/>
              </a:rPr>
              <a:t>Introducción a 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eece1"/>
                </a:solidFill>
                <a:latin typeface="Arial"/>
              </a:rPr>
              <a:t>Dirección Estratég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57120" y="28584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l foco de la DE está en la COMPETITI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85920" y="1341360"/>
            <a:ext cx="71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Obtención de una ventaja compet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071800" y="214308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eorías en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86200" y="3429000"/>
            <a:ext cx="3143520" cy="94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asada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403280" y="3429000"/>
            <a:ext cx="2882880" cy="94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429080" y="45720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URSOS Y 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519200" y="4500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714920" y="5013360"/>
            <a:ext cx="40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LES DE LOS AÑOS 80 Y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Wernerfelt, Barney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85560" y="501984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LES DE LOS AÑOS 70 Y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ichael P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13"/>
          <p:cNvCxnSpPr>
            <a:stCxn id="74" idx="2"/>
          </p:cNvCxnSpPr>
          <p:nvPr/>
        </p:nvCxnSpPr>
        <p:spPr>
          <a:xfrm flipH="1">
            <a:off x="2255040" y="2606760"/>
            <a:ext cx="2251800" cy="822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14"/>
          <p:cNvCxnSpPr>
            <a:stCxn id="74" idx="2"/>
            <a:endCxn id="75" idx="0"/>
          </p:cNvCxnSpPr>
          <p:nvPr/>
        </p:nvCxnSpPr>
        <p:spPr>
          <a:xfrm>
            <a:off x="4506840" y="2606760"/>
            <a:ext cx="1851840" cy="822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El declive de la planificación corporativa y la aparición de la dirección estratégica se asocia 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cepción del papel de los departamentos de planif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chazo a la rigidez de los planes corporativos y aceptación de la flexi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erés fundamental por crear una ventaja competi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Fases de la 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ceptualiz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nálisis estraté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mplement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1. Conceptual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reación de la Vi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terminación de la Mi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terminación de la Filosofía y Val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268280"/>
            <a:ext cx="84470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50000"/>
              </a:lnSpc>
              <a:spcBef>
                <a:spcPts val="55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5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75e"/>
                </a:solidFill>
                <a:latin typeface="Calibri"/>
              </a:rPr>
              <a:t>V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Imagen del futuro que quiere conseguir la empresa</a:t>
            </a:r>
            <a:r>
              <a:rPr b="1" lang="es-ES_tradnl" sz="2600" spc="-1" strike="noStrike">
                <a:solidFill>
                  <a:srgbClr val="99ff33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75e"/>
                </a:solidFill>
                <a:latin typeface="Calibri"/>
              </a:rPr>
              <a:t>M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Razón de ser de la empres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¿En qué negocio estamo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¿Qué necesidad queremos satisfacer?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Debe indicar cliente, servicio y ámbito geográf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3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75e"/>
                </a:solidFill>
                <a:latin typeface="Calibri"/>
              </a:rPr>
              <a:t>Valo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Sentido colectivo de identida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Comprensión compartida de lo que es la empres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ceptualización: Concept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120" y="476280"/>
            <a:ext cx="81392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rear una Visión y Mis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efine y clarifica a dónde se quiere  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tablece una meta a largo plaz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a sentido a la estrateg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2. Análisis Estratég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Análisis  PESTA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, determinación de oportunidades y amenaz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Análisis Industrial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, determinación del atractivo de la industria y oportunidades y amenaz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Análisis Intern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, determinación de fortalezas y debilidades, factores críticos de éxito y ventajas competitiv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28556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Áreas potencialmente importan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ntorno polí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conómic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ambios sociales y cultur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ecnológ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spectos leg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nternacionaliz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Medioambi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Otr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500120" y="357120"/>
            <a:ext cx="67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álisis del entorno (PES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357120" y="836640"/>
            <a:ext cx="8429760" cy="5335560"/>
          </a:xfrm>
          <a:prstGeom prst="rect">
            <a:avLst/>
          </a:prstGeom>
          <a:ln w="0">
            <a:noFill/>
          </a:ln>
        </p:spPr>
      </p:pic>
      <p:sp>
        <p:nvSpPr>
          <p:cNvPr id="100" name="4 CuadroTexto"/>
          <p:cNvSpPr/>
          <p:nvPr/>
        </p:nvSpPr>
        <p:spPr>
          <a:xfrm>
            <a:off x="642960" y="3571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nálisis 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944080" y="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álisis In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Cadena de Valor"/>
          <p:cNvPicPr/>
          <p:nvPr/>
        </p:nvPicPr>
        <p:blipFill>
          <a:blip r:embed="rId1"/>
          <a:stretch/>
        </p:blipFill>
        <p:spPr>
          <a:xfrm>
            <a:off x="611280" y="1052640"/>
            <a:ext cx="784836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Objetivos de la cl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dentificar los aspectos centrales de la Dirección Estratég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dentificar el rol del Control de Gestión en la Dirección Estratég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Análisis Estratég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80880" y="838080"/>
            <a:ext cx="8382240" cy="76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50920" y="907920"/>
            <a:ext cx="2873160" cy="1321560"/>
          </a:xfrm>
          <a:prstGeom prst="rect">
            <a:avLst/>
          </a:prstGeom>
          <a:solidFill>
            <a:srgbClr val="17375e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eeece1"/>
                </a:solidFill>
                <a:uFillTx/>
                <a:latin typeface="Arial"/>
              </a:rPr>
              <a:t>ANÁLISIS DEL ENTO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(PES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POLÍTICO-ECONÓMICO-SOCIAL-TECN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50920" y="4687920"/>
            <a:ext cx="2873160" cy="2189520"/>
          </a:xfrm>
          <a:prstGeom prst="rect">
            <a:avLst/>
          </a:prstGeom>
          <a:solidFill>
            <a:srgbClr val="17375e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eeece1"/>
                </a:solidFill>
                <a:uFillTx/>
                <a:latin typeface="Arial"/>
              </a:rPr>
              <a:t>ANÁLISIS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INNOV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5029200" y="5334120"/>
            <a:ext cx="304920" cy="609480"/>
          </a:xfrm>
          <a:prstGeom prst="upArrow">
            <a:avLst>
              <a:gd name="adj1" fmla="val 28574"/>
              <a:gd name="adj2" fmla="val 84561"/>
            </a:avLst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276720" y="5867280"/>
            <a:ext cx="1904760" cy="763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038480" y="2209680"/>
            <a:ext cx="2895840" cy="3048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50920" y="2349360"/>
            <a:ext cx="2873160" cy="2305800"/>
          </a:xfrm>
          <a:prstGeom prst="rect">
            <a:avLst/>
          </a:prstGeom>
          <a:solidFill>
            <a:srgbClr val="17375e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eeece1"/>
                </a:solidFill>
                <a:uFillTx/>
                <a:latin typeface="Arial"/>
              </a:rPr>
              <a:t>ANÁLISIS DEL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NUEVOS ENTR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PROD. SUSTITU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PODER DE NEGOCIACION DE PROVEEDORES Y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RIVALIDAD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114800" y="22860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OPORTUN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952880" y="18288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5562720" y="22856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4114800" y="26668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4114800" y="41148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114800" y="3733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4038480" y="37339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FORTALE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5486400" y="3733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5562720" y="2286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MENA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0"/>
          <p:cNvSpPr/>
          <p:nvPr/>
        </p:nvSpPr>
        <p:spPr>
          <a:xfrm>
            <a:off x="3733920" y="220968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1"/>
          <p:cNvSpPr/>
          <p:nvPr/>
        </p:nvSpPr>
        <p:spPr>
          <a:xfrm>
            <a:off x="3733920" y="373392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2"/>
          <p:cNvSpPr/>
          <p:nvPr/>
        </p:nvSpPr>
        <p:spPr>
          <a:xfrm rot="3374400">
            <a:off x="2994840" y="2305800"/>
            <a:ext cx="1114200" cy="264960"/>
          </a:xfrm>
          <a:prstGeom prst="rightArrow">
            <a:avLst>
              <a:gd name="adj1" fmla="val 35889"/>
              <a:gd name="adj2" fmla="val 133962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3"/>
          <p:cNvSpPr/>
          <p:nvPr/>
        </p:nvSpPr>
        <p:spPr>
          <a:xfrm rot="17960400">
            <a:off x="3053880" y="3341880"/>
            <a:ext cx="1028520" cy="395280"/>
          </a:xfrm>
          <a:prstGeom prst="rightArrow">
            <a:avLst>
              <a:gd name="adj1" fmla="val 35889"/>
              <a:gd name="adj2" fmla="val 82891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4"/>
          <p:cNvSpPr/>
          <p:nvPr/>
        </p:nvSpPr>
        <p:spPr>
          <a:xfrm rot="21506400">
            <a:off x="7020000" y="2998440"/>
            <a:ext cx="431640" cy="272880"/>
          </a:xfrm>
          <a:prstGeom prst="rightArrow">
            <a:avLst>
              <a:gd name="adj1" fmla="val 35889"/>
              <a:gd name="adj2" fmla="val 5039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6"/>
          <p:cNvSpPr/>
          <p:nvPr/>
        </p:nvSpPr>
        <p:spPr>
          <a:xfrm>
            <a:off x="7020000" y="4653000"/>
            <a:ext cx="431640" cy="228600"/>
          </a:xfrm>
          <a:prstGeom prst="rightArrow">
            <a:avLst>
              <a:gd name="adj1" fmla="val 37843"/>
              <a:gd name="adj2" fmla="val 51269"/>
            </a:avLst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467480" y="4437000"/>
            <a:ext cx="1676520" cy="58068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Arial"/>
              </a:rPr>
              <a:t>DIAGNÓSTICO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7524720" y="2708280"/>
            <a:ext cx="1619280" cy="82404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Arial"/>
              </a:rPr>
              <a:t>FACTORES CRÍTICOS DE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3. Planifi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ablecer objetivos a corto, mediano y largo plazo para lograr la mis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ormular la (s) estrategias posibles para lograr los objetivos de la empre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alibri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claración tangible y mensurable sobre los resultados estratégicos dese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alibri"/>
              </a:rPr>
              <a:t>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on los medios por los cuales se logran los objetivos a largo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alibri"/>
              </a:rPr>
              <a:t>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ineamientos de acuerdo con los cuales se guía el funcionamiento al interior de una organ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on guías para la toma de decis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52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FORMULAR la estrategia es, determinar 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está hoy la empresa y </a:t>
            </a:r>
            <a:r>
              <a:rPr b="0" lang="es-ES_tradnl" sz="2800" spc="-1" strike="noStrike" u="sng">
                <a:solidFill>
                  <a:srgbClr val="ff3300"/>
                </a:solidFill>
                <a:uFillTx/>
                <a:latin typeface="Calibri"/>
              </a:rPr>
              <a:t>dónde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debería estar en el futu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xiste una brecha (gap) entre ambas situ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MPLEMENTAR la estrategia es, decidir </a:t>
            </a:r>
            <a:r>
              <a:rPr b="0" lang="es-ES_tradnl" sz="2800" spc="-1" strike="noStrike" u="sng">
                <a:solidFill>
                  <a:srgbClr val="ff3300"/>
                </a:solidFill>
                <a:uFillTx/>
                <a:latin typeface="Calibri"/>
              </a:rPr>
              <a:t>cóm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dirigir la empresa desde donde está hoy, hasta donde debería estar maña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14200" y="18252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trategia: Formulación e imple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4. Implement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Desarrollar la estructura organizativa para implementar la estrate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car la cultura organizacional dese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segurar que las actividades necesarias para lograr las estrategias se cumple con efe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ontrolar la eficacia de la estrategia para conseguir los objetivos de la organiz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70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n resumen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74772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826920" y="47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re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971640" y="1916280"/>
            <a:ext cx="6858000" cy="1922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que se sigue para determinar las metas de una organización y las estrategias que permitirán alcanz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4038480" y="380988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826920" y="4508640"/>
            <a:ext cx="7104240" cy="825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Dirección Estratégica fija los límites dentro de los cuales tiene lugar el control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Planificación Estratégica y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Control de Gest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4360" y="2060640"/>
            <a:ext cx="2089080" cy="91440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até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564000" y="3573360"/>
            <a:ext cx="2089080" cy="914400"/>
          </a:xfrm>
          <a:prstGeom prst="rect">
            <a:avLst/>
          </a:prstGeom>
          <a:solidFill>
            <a:srgbClr val="800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300720" y="5157720"/>
            <a:ext cx="2089080" cy="91440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1692360" y="2997360"/>
            <a:ext cx="0" cy="107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1692360" y="40766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572000" y="450864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572000" y="5589720"/>
            <a:ext cx="1655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628560" y="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quema del Proceso de Direcc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708360" y="981000"/>
            <a:ext cx="15429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300720" y="1989000"/>
            <a:ext cx="1511280" cy="3173760"/>
          </a:xfrm>
          <a:prstGeom prst="rect">
            <a:avLst/>
          </a:prstGeom>
          <a:solidFill>
            <a:srgbClr val="c0504d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ALISIS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109000" y="1773360"/>
            <a:ext cx="485280" cy="374328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ortalezas y De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1844640"/>
            <a:ext cx="533520" cy="365760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menazas y Oport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219320" y="1905120"/>
            <a:ext cx="1523880" cy="3257640"/>
          </a:xfrm>
          <a:prstGeom prst="rect">
            <a:avLst/>
          </a:prstGeom>
          <a:solidFill>
            <a:srgbClr val="c0504d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X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lí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óm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cnoló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eg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492360" y="2209680"/>
            <a:ext cx="20163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492360" y="3357720"/>
            <a:ext cx="2057400" cy="33732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419640" y="5589720"/>
            <a:ext cx="2057400" cy="33732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3059280" y="4149720"/>
            <a:ext cx="2952720" cy="838080"/>
          </a:xfrm>
          <a:prstGeom prst="ellipse">
            <a:avLst/>
          </a:prstGeom>
          <a:solidFill>
            <a:srgbClr val="3399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LANES, PROGRAM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2"/>
          <p:cNvSpPr/>
          <p:nvPr/>
        </p:nvSpPr>
        <p:spPr>
          <a:xfrm flipH="1">
            <a:off x="1763640" y="1341360"/>
            <a:ext cx="1849680" cy="480960"/>
          </a:xfrm>
          <a:prstGeom prst="pie">
            <a:avLst/>
          </a:prstGeom>
          <a:noFill/>
          <a:ln w="2844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13"/>
          <p:cNvSpPr/>
          <p:nvPr/>
        </p:nvSpPr>
        <p:spPr>
          <a:xfrm>
            <a:off x="5219640" y="1341360"/>
            <a:ext cx="1728720" cy="608040"/>
          </a:xfrm>
          <a:prstGeom prst="pie">
            <a:avLst/>
          </a:prstGeom>
          <a:noFill/>
          <a:ln w="2844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4427640" y="5013360"/>
            <a:ext cx="0" cy="5047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3352680" y="662472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2771640" y="2565360"/>
            <a:ext cx="749520" cy="22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5508720" y="2565360"/>
            <a:ext cx="769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4427640" y="2997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 flipH="1">
            <a:off x="4419720" y="1773360"/>
            <a:ext cx="7920" cy="436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4427640" y="3789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Habría invertido en esta empresa?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microsoft1978ew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teve Wood: Programador.  Fortuna estimada: 15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ob Wallace: Director de Producción.  Fortuna estimada: 5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Jim Lane: Jefe de proyecto Fortuna estimada: 2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ob O’Rear: Matemático. Fortuna estimada es de 10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ob Greenberg: Programador. Fortuna estimada: 2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rc McDonald: Programador. Fortuna estimada: 1 millón de dólar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ordon Letwin: Programador.  Fortuna estimada: 2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Bill Gates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-fundador. Fortuna estimada: 52.00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ndrea Lewis: Escritora técnica. Fortuna estimada: 2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rla Wood: Contable. Fortuna estimada: 15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ul Allen: Co-fundador. Fortuna estimada: 21.000 millones de dólar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4"/>
          <p:cNvSpPr/>
          <p:nvPr/>
        </p:nvSpPr>
        <p:spPr>
          <a:xfrm>
            <a:off x="473760" y="649080"/>
            <a:ext cx="4462200" cy="16844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BJETIVOS CLAR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HERENTE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5334120" y="571680"/>
            <a:ext cx="3309840" cy="15714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FUNDO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5334120" y="4869000"/>
            <a:ext cx="3357360" cy="14889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MPLA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457200" y="4869000"/>
            <a:ext cx="3328920" cy="14889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BJETIVA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8"/>
          <p:cNvSpPr/>
          <p:nvPr/>
        </p:nvSpPr>
        <p:spPr>
          <a:xfrm>
            <a:off x="3886200" y="2743200"/>
            <a:ext cx="1371600" cy="1219320"/>
          </a:xfrm>
          <a:prstGeom prst="ellipse">
            <a:avLst/>
          </a:prstGeom>
          <a:solidFill>
            <a:srgbClr val="953735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9"/>
          <p:cNvCxnSpPr>
            <a:stCxn id="58" idx="7"/>
          </p:cNvCxnSpPr>
          <p:nvPr/>
        </p:nvCxnSpPr>
        <p:spPr>
          <a:xfrm flipV="1">
            <a:off x="5056200" y="2142360"/>
            <a:ext cx="1659600" cy="778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10"/>
          <p:cNvCxnSpPr>
            <a:stCxn id="58" idx="5"/>
            <a:endCxn id="56" idx="0"/>
          </p:cNvCxnSpPr>
          <p:nvPr/>
        </p:nvCxnSpPr>
        <p:spPr>
          <a:xfrm>
            <a:off x="5055120" y="3784680"/>
            <a:ext cx="1958040" cy="1085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AutoShape 11"/>
          <p:cNvCxnSpPr>
            <a:stCxn id="58" idx="3"/>
            <a:endCxn id="57" idx="0"/>
          </p:cNvCxnSpPr>
          <p:nvPr/>
        </p:nvCxnSpPr>
        <p:spPr>
          <a:xfrm flipH="1">
            <a:off x="2120400" y="3784680"/>
            <a:ext cx="1967760" cy="1085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12"/>
          <p:cNvCxnSpPr>
            <a:stCxn id="58" idx="1"/>
            <a:endCxn id="54" idx="4"/>
          </p:cNvCxnSpPr>
          <p:nvPr/>
        </p:nvCxnSpPr>
        <p:spPr>
          <a:xfrm flipH="1" flipV="1">
            <a:off x="2704320" y="2334600"/>
            <a:ext cx="1383480" cy="586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Dirección Estraté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DE es un proceso relacionado con la toma de decisiones sobre la dirección futura de una empresa y la implementación de estas decis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428840" y="428760"/>
            <a:ext cx="5857920" cy="714240"/>
          </a:xfrm>
          <a:prstGeom prst="rect">
            <a:avLst/>
          </a:prstGeom>
          <a:solidFill>
            <a:srgbClr val="376092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eece1"/>
                </a:solidFill>
                <a:latin typeface="Arial"/>
                <a:ea typeface="Arial"/>
              </a:rPr>
              <a:t>El concepto de 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128592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Arial"/>
              </a:rPr>
              <a:t>Requiere , Qué </a:t>
            </a: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se pretende conseguir  (obje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14200" y="178596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Arial"/>
              </a:rPr>
              <a:t>Debe dar respuest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Arial"/>
              </a:rPr>
              <a:t>¿Cómo?</a:t>
            </a: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 medios o acciones que permitirán alcanzar esa m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928800" y="35719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La estrategia implica comprometer recursos, orientación o dirección a largo plazo y decisiones casi irrever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39640" y="4706640"/>
            <a:ext cx="8280360" cy="1922760"/>
          </a:xfrm>
          <a:prstGeom prst="rect">
            <a:avLst/>
          </a:prstGeom>
          <a:solidFill>
            <a:srgbClr val="376092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eece1"/>
                </a:solidFill>
                <a:latin typeface="Arial"/>
                <a:ea typeface="Arial"/>
              </a:rPr>
              <a:t>Una estrategia bien formulada ayuda a ordenar y asignar los recursos de una organización de una forma singular y viable basada en sus capacidades y carencias internas relativas, en la anticipación a los cambios del entorno y en las eventuales maniobras de los adversarios inteli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7 Rectángulo"/>
          <p:cNvSpPr/>
          <p:nvPr/>
        </p:nvSpPr>
        <p:spPr>
          <a:xfrm>
            <a:off x="571680" y="271476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Arial"/>
              </a:rPr>
              <a:t>¿Cuándo?</a:t>
            </a: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 momento de acción y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24000" y="77760"/>
            <a:ext cx="882000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39:15Z</dcterms:created>
  <dc:creator>CARLOS REY ESCRIBANO</dc:creator>
  <dc:description/>
  <dc:language>en-US</dc:language>
  <cp:lastModifiedBy>ialvarez</cp:lastModifiedBy>
  <cp:lastPrinted>2001-11-23T07:32:28Z</cp:lastPrinted>
  <dcterms:modified xsi:type="dcterms:W3CDTF">2009-08-10T12:14:05Z</dcterms:modified>
  <cp:revision>71</cp:revision>
  <dc:subject/>
  <dc:title>Los cuatro grandes sistemas sociales</dc:title>
</cp:coreProperties>
</file>