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CDDB-1B48-4FFE-8019-56153A76523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9E0D-8489-48A1-8D7B-0512683FDBB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513E-6378-4863-82F9-91DE9D593B7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A9BD-2AB5-4601-9BC5-8E1D6EBB1CF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CEB2-699C-4C8D-89B9-94365D55B01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A9DD-2445-45EC-ABC1-EEF919349B9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4616-EDBD-4A53-B75E-B5B5F99A83A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666F-206E-405A-B21E-6094646B5D4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04F4-484D-48C4-B200-9F85658E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B87C-1363-4758-A7B2-2E13BB55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A4E8-D3FC-438A-94C5-C48D7E2D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AB28-D345-4920-8A17-CC9AD8A3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57C6-639C-4E10-873C-0D6C42A8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C607-E763-455E-9B39-2C000462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24D1-F80D-4396-B69C-82E969CD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5B13-1F64-4705-BF0B-B62BC27B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947E-1374-412B-A61F-1B9A8C7F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B5B4-46D7-46AF-90C1-CB5A8791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A5E7-2E79-4CB2-9F3B-F5EA5187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DD51-6D80-4532-AD1E-C695DEBF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594E-591F-4468-AF6A-076DDB91993D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258920" y="2349360"/>
            <a:ext cx="6842160" cy="1630440"/>
          </a:xfrm>
          <a:prstGeom prst="rect">
            <a:avLst/>
          </a:prstGeom>
          <a:solidFill>
            <a:srgbClr val="17375e"/>
          </a:solidFill>
          <a:ln w="9360">
            <a:solidFill>
              <a:srgbClr val="99ff33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eece1"/>
                </a:solidFill>
                <a:latin typeface="Arial"/>
              </a:rPr>
              <a:t>Introducción a l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eece1"/>
                </a:solidFill>
                <a:latin typeface="Arial"/>
              </a:rPr>
              <a:t>Dirección Estratégic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57120" y="28584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l foco de la DE está en la COMPETITIT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285920" y="1341360"/>
            <a:ext cx="711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Obtención de una ventaja compet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071800" y="2143080"/>
            <a:ext cx="48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Teorías en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4786200" y="3429000"/>
            <a:ext cx="3143520" cy="947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Basada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Recur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403280" y="3429000"/>
            <a:ext cx="2882880" cy="947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rgan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ndus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4429080" y="457200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CURSOS Y CAPA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1519200" y="4500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4714920" y="5013360"/>
            <a:ext cx="405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INALES DE LOS AÑOS 80 Y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Wernerfelt, Barney,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85560" y="501984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INALES DE LOS AÑOS 70 Y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ichael Po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AutoShape 13"/>
          <p:cNvCxnSpPr>
            <a:stCxn id="74" idx="2"/>
          </p:cNvCxnSpPr>
          <p:nvPr/>
        </p:nvCxnSpPr>
        <p:spPr>
          <a:xfrm flipH="1">
            <a:off x="2255040" y="2606760"/>
            <a:ext cx="2251800" cy="8229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AutoShape 14"/>
          <p:cNvCxnSpPr>
            <a:stCxn id="74" idx="2"/>
            <a:endCxn id="75" idx="0"/>
          </p:cNvCxnSpPr>
          <p:nvPr/>
        </p:nvCxnSpPr>
        <p:spPr>
          <a:xfrm>
            <a:off x="4506840" y="2606760"/>
            <a:ext cx="1851840" cy="8229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El declive de la planificación corporativa y la aparición de la dirección estratégica se asocia a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cepción del papel de los departamentos de planific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chazo a la rigidez de los planes corporativos y aceptación de la flexibi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terés fundamental por crear una ventaja competi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Fases de la 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onceptualiz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nálisis estratég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lanific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Implement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1. Conceptualiz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reación de la Vis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Determinación de la Mis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Determinación de la Filosofía y Val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1268280"/>
            <a:ext cx="84470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50000"/>
              </a:lnSpc>
              <a:spcBef>
                <a:spcPts val="55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50000"/>
              </a:lnSpc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17375e"/>
                </a:solidFill>
                <a:latin typeface="Calibri"/>
              </a:rPr>
              <a:t>Vis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Imagen del futuro que quiere conseguir la empresa</a:t>
            </a:r>
            <a:r>
              <a:rPr b="1" lang="es-ES_tradnl" sz="2600" spc="-1" strike="noStrike">
                <a:solidFill>
                  <a:srgbClr val="99ff33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17375e"/>
                </a:solidFill>
                <a:latin typeface="Calibri"/>
              </a:rPr>
              <a:t>Mis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Razón de ser de la empres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¿En qué negocio estamo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¿Qué necesidad queremos satisfacer?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Debe indicar cliente, servicio y ámbito geográfi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30000"/>
              </a:lnSpc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17375e"/>
                </a:solidFill>
                <a:latin typeface="Calibri"/>
              </a:rPr>
              <a:t>Valo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Sentido colectivo de identida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Comprensión compartida de lo que es la empres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95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ceptualización: Concepto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120" y="476280"/>
            <a:ext cx="813924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Crear una Visión y Mis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Define y clarifica a dónde se quiere  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stablece una meta a largo plaz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Da sentido a la estrateg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2. Análisis Estratég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Análisis  PESTA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, determinación de oportunidades y amenaz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Análisis Industrial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, determinación del atractivo de la industria y oportunidades y amenaz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Análisis Interno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, determinación de fortalezas y debilidades, factores críticos de éxito y ventajas competitiv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128556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Áreas potencialmente important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ntorno polít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conómic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ambios sociales y cultur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Tecnológ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spectos leg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Internacionaliz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Medioambi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Otr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500120" y="357120"/>
            <a:ext cx="67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nálisis del entorno (PES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"/>
          <p:cNvPicPr/>
          <p:nvPr/>
        </p:nvPicPr>
        <p:blipFill>
          <a:blip r:embed="rId1"/>
          <a:stretch/>
        </p:blipFill>
        <p:spPr>
          <a:xfrm>
            <a:off x="357120" y="836640"/>
            <a:ext cx="8429760" cy="5335560"/>
          </a:xfrm>
          <a:prstGeom prst="rect">
            <a:avLst/>
          </a:prstGeom>
          <a:ln w="0">
            <a:noFill/>
          </a:ln>
        </p:spPr>
      </p:pic>
      <p:sp>
        <p:nvSpPr>
          <p:cNvPr id="100" name="4 CuadroTexto"/>
          <p:cNvSpPr/>
          <p:nvPr/>
        </p:nvSpPr>
        <p:spPr>
          <a:xfrm>
            <a:off x="642960" y="3571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nálisis indus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944080" y="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nálisis Int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Cadena de Valor"/>
          <p:cNvPicPr/>
          <p:nvPr/>
        </p:nvPicPr>
        <p:blipFill>
          <a:blip r:embed="rId1"/>
          <a:stretch/>
        </p:blipFill>
        <p:spPr>
          <a:xfrm>
            <a:off x="611280" y="1052640"/>
            <a:ext cx="7848360" cy="5284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libri"/>
              </a:rPr>
              <a:t>Objetivos de la cla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Identificar los aspectos centrales de la Dirección Estratégic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Identificar el rol del Control de Gestión en la Dirección Estratég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libri"/>
              </a:rPr>
              <a:t>Análisis Estratégic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80880" y="838080"/>
            <a:ext cx="8382240" cy="763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50920" y="907920"/>
            <a:ext cx="2873160" cy="1321560"/>
          </a:xfrm>
          <a:prstGeom prst="rect">
            <a:avLst/>
          </a:prstGeom>
          <a:solidFill>
            <a:srgbClr val="17375e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eeece1"/>
                </a:solidFill>
                <a:uFillTx/>
                <a:latin typeface="Arial"/>
              </a:rPr>
              <a:t>ANÁLISIS DEL ENTO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(PES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POLÍTICO-ECONÓMICO-SOCIAL-TECNOLO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50920" y="4687920"/>
            <a:ext cx="2873160" cy="2189520"/>
          </a:xfrm>
          <a:prstGeom prst="rect">
            <a:avLst/>
          </a:prstGeom>
          <a:solidFill>
            <a:srgbClr val="17375e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eeece1"/>
                </a:solidFill>
                <a:uFillTx/>
                <a:latin typeface="Arial"/>
              </a:rPr>
              <a:t>ANÁLISIS IN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PRODU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RECURSOS HUMA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INNOV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RENT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5029200" y="5334120"/>
            <a:ext cx="304920" cy="609480"/>
          </a:xfrm>
          <a:prstGeom prst="upArrow">
            <a:avLst>
              <a:gd name="adj1" fmla="val 28574"/>
              <a:gd name="adj2" fmla="val 84561"/>
            </a:avLst>
          </a:prstGeom>
          <a:solidFill>
            <a:srgbClr val="c0504d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3276720" y="5867280"/>
            <a:ext cx="1904760" cy="7632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4038480" y="2209680"/>
            <a:ext cx="2895840" cy="3048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50920" y="2349360"/>
            <a:ext cx="2873160" cy="2305800"/>
          </a:xfrm>
          <a:prstGeom prst="rect">
            <a:avLst/>
          </a:prstGeom>
          <a:solidFill>
            <a:srgbClr val="17375e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eeece1"/>
                </a:solidFill>
                <a:uFillTx/>
                <a:latin typeface="Arial"/>
              </a:rPr>
              <a:t>ANÁLISIS DEL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NUEVOS ENTR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PROD. SUSTITU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PODER DE NEGOCIACION DE PROVEEDORES Y 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RIVALIDAD ACTU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4114800" y="22860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OPORTUN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4952880" y="18288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 flipV="1">
            <a:off x="5562720" y="22856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>
            <a:off x="4114800" y="26668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4114800" y="41148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4114800" y="37339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4038480" y="37339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FORTALE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5486400" y="37339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DEBIL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5562720" y="22860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MENA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0"/>
          <p:cNvSpPr/>
          <p:nvPr/>
        </p:nvSpPr>
        <p:spPr>
          <a:xfrm>
            <a:off x="3733920" y="2209680"/>
            <a:ext cx="350496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1"/>
          <p:cNvSpPr/>
          <p:nvPr/>
        </p:nvSpPr>
        <p:spPr>
          <a:xfrm>
            <a:off x="3733920" y="3733920"/>
            <a:ext cx="350496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2"/>
          <p:cNvSpPr/>
          <p:nvPr/>
        </p:nvSpPr>
        <p:spPr>
          <a:xfrm rot="3374400">
            <a:off x="2994840" y="2305800"/>
            <a:ext cx="1114200" cy="264960"/>
          </a:xfrm>
          <a:prstGeom prst="rightArrow">
            <a:avLst>
              <a:gd name="adj1" fmla="val 35889"/>
              <a:gd name="adj2" fmla="val 133962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3"/>
          <p:cNvSpPr/>
          <p:nvPr/>
        </p:nvSpPr>
        <p:spPr>
          <a:xfrm rot="17960400">
            <a:off x="3053880" y="3341880"/>
            <a:ext cx="1028520" cy="395280"/>
          </a:xfrm>
          <a:prstGeom prst="rightArrow">
            <a:avLst>
              <a:gd name="adj1" fmla="val 35889"/>
              <a:gd name="adj2" fmla="val 82891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4"/>
          <p:cNvSpPr/>
          <p:nvPr/>
        </p:nvSpPr>
        <p:spPr>
          <a:xfrm rot="21506400">
            <a:off x="7020000" y="2998440"/>
            <a:ext cx="431640" cy="272880"/>
          </a:xfrm>
          <a:prstGeom prst="rightArrow">
            <a:avLst>
              <a:gd name="adj1" fmla="val 35889"/>
              <a:gd name="adj2" fmla="val 5039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6"/>
          <p:cNvSpPr/>
          <p:nvPr/>
        </p:nvSpPr>
        <p:spPr>
          <a:xfrm>
            <a:off x="7020000" y="4653000"/>
            <a:ext cx="431640" cy="228600"/>
          </a:xfrm>
          <a:prstGeom prst="rightArrow">
            <a:avLst>
              <a:gd name="adj1" fmla="val 37843"/>
              <a:gd name="adj2" fmla="val 51269"/>
            </a:avLst>
          </a:prstGeom>
          <a:solidFill>
            <a:srgbClr val="c0504d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467480" y="4437000"/>
            <a:ext cx="1676520" cy="58068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Arial"/>
              </a:rPr>
              <a:t>DIAGNÓSTICO 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7524720" y="2708280"/>
            <a:ext cx="1619280" cy="82404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Arial"/>
              </a:rPr>
              <a:t>FACTORES CRÍTICOS DE ÉX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3. Planific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stablecer objetivos a corto, mediano y largo plazo para lograr la mis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Formular la (s) estrategias posibles para lograr los objetivos de la empres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Calibri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eclaración tangible y mensurable sobre los resultados estratégicos dese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Calibri"/>
              </a:rPr>
              <a:t>Estrateg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on los medios por los cuales se logran los objetivos a largo plaz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Calibri"/>
              </a:rPr>
              <a:t>Polít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Lineamientos de acuerdo con los cuales se guía el funcionamiento al interior de una organiz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on guías para la toma de decisi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95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ncepto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52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FORMULAR la estrategia es, determinar </a:t>
            </a:r>
            <a:r>
              <a:rPr b="0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donde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está hoy la empresa y </a:t>
            </a:r>
            <a:r>
              <a:rPr b="0" lang="es-ES_tradnl" sz="2800" spc="-1" strike="noStrike" u="sng">
                <a:solidFill>
                  <a:srgbClr val="ff3300"/>
                </a:solidFill>
                <a:uFillTx/>
                <a:latin typeface="Calibri"/>
              </a:rPr>
              <a:t>dónde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debería estar en el futu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xiste una brecha (gap) entre ambas situa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IMPLEMENTAR la estrategia es, decidir </a:t>
            </a:r>
            <a:r>
              <a:rPr b="0" lang="es-ES_tradnl" sz="2800" spc="-1" strike="noStrike" u="sng">
                <a:solidFill>
                  <a:srgbClr val="ff3300"/>
                </a:solidFill>
                <a:uFillTx/>
                <a:latin typeface="Calibri"/>
              </a:rPr>
              <a:t>cómo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dirigir la empresa desde donde está hoy, hasta donde debería estar maña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14200" y="18252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strategia: Formulación e implem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4. Implement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Desarrollar la estructura organizativa para implementar la estrate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Identificar la cultura organizacional dese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Asegurar que las actividades necesarias para lograr las estrategias se cumple con efe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Controlar la eficacia de la estrategia para conseguir los objetivos de la organiz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705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n resumen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747720" y="14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826920" y="476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rección Estraté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971640" y="1916280"/>
            <a:ext cx="6858000" cy="19227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que se sigue para determinar las metas de una organización y las estrategias que permitirán alcanzar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4038480" y="3809880"/>
            <a:ext cx="83844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826920" y="4508640"/>
            <a:ext cx="7104240" cy="825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Dirección Estratégica fija los límites dentro de los cuales tiene lugar el control de gest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Planificación Estratégica y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Control de Gest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84360" y="2060640"/>
            <a:ext cx="2089080" cy="91440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if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raté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564000" y="3573360"/>
            <a:ext cx="2089080" cy="914400"/>
          </a:xfrm>
          <a:prstGeom prst="rect">
            <a:avLst/>
          </a:prstGeom>
          <a:solidFill>
            <a:srgbClr val="80008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ontrol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Gest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300720" y="5157720"/>
            <a:ext cx="2089080" cy="91440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rol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1692360" y="2997360"/>
            <a:ext cx="0" cy="107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>
            <a:off x="1692360" y="40766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4572000" y="450864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4572000" y="5589720"/>
            <a:ext cx="1655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628560" y="0"/>
            <a:ext cx="782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quema del Proceso de Dirección Estraté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708360" y="981000"/>
            <a:ext cx="1542960" cy="70776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300720" y="1989000"/>
            <a:ext cx="1511280" cy="3173760"/>
          </a:xfrm>
          <a:prstGeom prst="rect">
            <a:avLst/>
          </a:prstGeom>
          <a:solidFill>
            <a:srgbClr val="c0504d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ALISIS IN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8109000" y="1773360"/>
            <a:ext cx="485280" cy="374328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ortalezas y De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95280" y="1844640"/>
            <a:ext cx="533520" cy="365760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menazas y Oportun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219320" y="1905120"/>
            <a:ext cx="1523880" cy="3257640"/>
          </a:xfrm>
          <a:prstGeom prst="rect">
            <a:avLst/>
          </a:prstGeom>
          <a:solidFill>
            <a:srgbClr val="c0504d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AL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X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olí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conóm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ecnológ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eg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492360" y="2209680"/>
            <a:ext cx="2016360" cy="70776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TRATEG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492360" y="3357720"/>
            <a:ext cx="2057400" cy="33732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E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3419640" y="5589720"/>
            <a:ext cx="2057400" cy="33732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1"/>
          <p:cNvSpPr/>
          <p:nvPr/>
        </p:nvSpPr>
        <p:spPr>
          <a:xfrm>
            <a:off x="3059280" y="4149720"/>
            <a:ext cx="2952720" cy="838080"/>
          </a:xfrm>
          <a:prstGeom prst="ellipse">
            <a:avLst/>
          </a:prstGeom>
          <a:solidFill>
            <a:srgbClr val="3399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LANES, PROGRAM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rc 12"/>
          <p:cNvSpPr/>
          <p:nvPr/>
        </p:nvSpPr>
        <p:spPr>
          <a:xfrm flipH="1">
            <a:off x="1763640" y="1341360"/>
            <a:ext cx="1849680" cy="480960"/>
          </a:xfrm>
          <a:prstGeom prst="pie">
            <a:avLst/>
          </a:prstGeom>
          <a:noFill/>
          <a:ln w="28440">
            <a:solidFill>
              <a:srgbClr val="0000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rc 13"/>
          <p:cNvSpPr/>
          <p:nvPr/>
        </p:nvSpPr>
        <p:spPr>
          <a:xfrm>
            <a:off x="5219640" y="1341360"/>
            <a:ext cx="1728720" cy="608040"/>
          </a:xfrm>
          <a:prstGeom prst="pie">
            <a:avLst/>
          </a:prstGeom>
          <a:noFill/>
          <a:ln w="28440">
            <a:solidFill>
              <a:srgbClr val="0000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4427640" y="5013360"/>
            <a:ext cx="0" cy="50472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3352680" y="662472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6"/>
          <p:cNvSpPr/>
          <p:nvPr/>
        </p:nvSpPr>
        <p:spPr>
          <a:xfrm flipV="1">
            <a:off x="2771640" y="2565360"/>
            <a:ext cx="749520" cy="22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5508720" y="2565360"/>
            <a:ext cx="769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8"/>
          <p:cNvSpPr/>
          <p:nvPr/>
        </p:nvSpPr>
        <p:spPr>
          <a:xfrm>
            <a:off x="4427640" y="2997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9"/>
          <p:cNvSpPr/>
          <p:nvPr/>
        </p:nvSpPr>
        <p:spPr>
          <a:xfrm flipH="1">
            <a:off x="4419720" y="1773360"/>
            <a:ext cx="7920" cy="436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0"/>
          <p:cNvSpPr/>
          <p:nvPr/>
        </p:nvSpPr>
        <p:spPr>
          <a:xfrm>
            <a:off x="4427640" y="3789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¿Habría invertido en esta empresa?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microsoft1978ew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teve Wood: Programador.  Fortuna estimada: 15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ob Wallace: Director de Producción.  Fortuna estimada: 5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Jim Lane: Jefe de proyecto Fortuna estimada: 20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ob O’Rear: Matemático. Fortuna estimada es de 100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ob Greenberg: Programador. Fortuna estimada: 20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arc McDonald: Programador. Fortuna estimada: 1 millón de dólar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ordon Letwin: Programador.  Fortuna estimada: 20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2060"/>
                </a:solidFill>
                <a:latin typeface="Calibri"/>
              </a:rPr>
              <a:t>Bill Gates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Co-fundador. Fortuna estimada: 52.000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ndrea Lewis: Escritora técnica. Fortuna estimada: 2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arla Wood: Contable. Fortuna estimada: 15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ul Allen: Co-fundador. Fortuna estimada: 21.000 millones de dólar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4"/>
          <p:cNvSpPr/>
          <p:nvPr/>
        </p:nvSpPr>
        <p:spPr>
          <a:xfrm>
            <a:off x="473760" y="649080"/>
            <a:ext cx="4462200" cy="16844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BJETIVOS CLAR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HERENTES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 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>
            <a:off x="5334120" y="571680"/>
            <a:ext cx="3309840" cy="1571400"/>
          </a:xfrm>
          <a:prstGeom prst="ellipse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FUNDO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6"/>
          <p:cNvSpPr/>
          <p:nvPr/>
        </p:nvSpPr>
        <p:spPr>
          <a:xfrm>
            <a:off x="5334120" y="4869000"/>
            <a:ext cx="3357360" cy="1488960"/>
          </a:xfrm>
          <a:prstGeom prst="ellipse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MPLA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IC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457200" y="4869000"/>
            <a:ext cx="3328920" cy="1488960"/>
          </a:xfrm>
          <a:prstGeom prst="ellipse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BJETIVA DE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8"/>
          <p:cNvSpPr/>
          <p:nvPr/>
        </p:nvSpPr>
        <p:spPr>
          <a:xfrm>
            <a:off x="3886200" y="2743200"/>
            <a:ext cx="1371600" cy="1219320"/>
          </a:xfrm>
          <a:prstGeom prst="ellipse">
            <a:avLst/>
          </a:prstGeom>
          <a:solidFill>
            <a:srgbClr val="953735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9"/>
          <p:cNvCxnSpPr>
            <a:stCxn id="58" idx="7"/>
          </p:cNvCxnSpPr>
          <p:nvPr/>
        </p:nvCxnSpPr>
        <p:spPr>
          <a:xfrm flipV="1">
            <a:off x="5056200" y="2142360"/>
            <a:ext cx="1659600" cy="778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10"/>
          <p:cNvCxnSpPr>
            <a:stCxn id="58" idx="5"/>
            <a:endCxn id="56" idx="0"/>
          </p:cNvCxnSpPr>
          <p:nvPr/>
        </p:nvCxnSpPr>
        <p:spPr>
          <a:xfrm>
            <a:off x="5055120" y="3784680"/>
            <a:ext cx="1958040" cy="10850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AutoShape 11"/>
          <p:cNvCxnSpPr>
            <a:stCxn id="58" idx="3"/>
            <a:endCxn id="57" idx="0"/>
          </p:cNvCxnSpPr>
          <p:nvPr/>
        </p:nvCxnSpPr>
        <p:spPr>
          <a:xfrm flipH="1">
            <a:off x="2120400" y="3784680"/>
            <a:ext cx="1967760" cy="10850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AutoShape 12"/>
          <p:cNvCxnSpPr>
            <a:stCxn id="58" idx="1"/>
            <a:endCxn id="54" idx="4"/>
          </p:cNvCxnSpPr>
          <p:nvPr/>
        </p:nvCxnSpPr>
        <p:spPr>
          <a:xfrm flipH="1" flipV="1">
            <a:off x="2704320" y="2334600"/>
            <a:ext cx="1383480" cy="586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Dirección Estratég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La DE es un proceso relacionado con la toma de decisiones sobre la dirección futura de una empresa y la implementación de estas decis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1428840" y="428760"/>
            <a:ext cx="5857920" cy="714240"/>
          </a:xfrm>
          <a:prstGeom prst="rect">
            <a:avLst/>
          </a:prstGeom>
          <a:solidFill>
            <a:srgbClr val="376092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eece1"/>
                </a:solidFill>
                <a:latin typeface="Arial"/>
                <a:ea typeface="Arial"/>
              </a:rPr>
              <a:t>El concepto de estrate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128592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Arial"/>
              </a:rPr>
              <a:t>Requiere , Qué </a:t>
            </a:r>
            <a:r>
              <a:rPr b="0" lang="es-ES" sz="2400" spc="-1" strike="noStrike">
                <a:solidFill>
                  <a:srgbClr val="c0504d"/>
                </a:solidFill>
                <a:latin typeface="Arial"/>
              </a:rPr>
              <a:t>se pretende conseguir  (objet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14200" y="1785960"/>
            <a:ext cx="87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Arial"/>
              </a:rPr>
              <a:t>Debe dar respuesta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Arial"/>
              </a:rPr>
              <a:t>¿Cómo?</a:t>
            </a:r>
            <a:r>
              <a:rPr b="0" lang="es-ES" sz="2400" spc="-1" strike="noStrike">
                <a:solidFill>
                  <a:srgbClr val="c0504d"/>
                </a:solidFill>
                <a:latin typeface="Arial"/>
              </a:rPr>
              <a:t> medios o acciones que permitirán alcanzar esa m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928800" y="357192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504d"/>
                </a:solidFill>
                <a:latin typeface="Arial"/>
              </a:rPr>
              <a:t>La estrategia implica comprometer recursos, orientación o dirección a largo plazo y decisiones casi irrevers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539640" y="4706640"/>
            <a:ext cx="8280360" cy="1922760"/>
          </a:xfrm>
          <a:prstGeom prst="rect">
            <a:avLst/>
          </a:prstGeom>
          <a:solidFill>
            <a:srgbClr val="376092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eece1"/>
                </a:solidFill>
                <a:latin typeface="Arial"/>
                <a:ea typeface="Arial"/>
              </a:rPr>
              <a:t>Una estrategia bien formulada ayuda a ordenar y asignar los recursos de una organización de una forma singular y viable basada en sus capacidades y carencias internas relativas, en la anticipación a los cambios del entorno y en las eventuales maniobras de los adversarios inteli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7 Rectángulo"/>
          <p:cNvSpPr/>
          <p:nvPr/>
        </p:nvSpPr>
        <p:spPr>
          <a:xfrm>
            <a:off x="571680" y="271476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Arial"/>
              </a:rPr>
              <a:t>¿Cuándo?</a:t>
            </a:r>
            <a:r>
              <a:rPr b="0" lang="es-ES" sz="2400" spc="-1" strike="noStrike">
                <a:solidFill>
                  <a:srgbClr val="c0504d"/>
                </a:solidFill>
                <a:latin typeface="Arial"/>
              </a:rPr>
              <a:t> momento de acción y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324000" y="77760"/>
            <a:ext cx="882000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8T19:39:15Z</dcterms:created>
  <dc:creator>CARLOS REY ESCRIBANO</dc:creator>
  <dc:description/>
  <dc:language>en-US</dc:language>
  <cp:lastModifiedBy>ialvarez</cp:lastModifiedBy>
  <cp:lastPrinted>2001-11-23T07:32:28Z</cp:lastPrinted>
  <dcterms:modified xsi:type="dcterms:W3CDTF">2009-08-10T12:14:05Z</dcterms:modified>
  <cp:revision>71</cp:revision>
  <dc:subject/>
  <dc:title>Los cuatro grandes sistemas sociales</dc:title>
</cp:coreProperties>
</file>