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ADD3-4183-4B44-9C35-EDA2AD39FC9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B3FE-5471-486A-B67F-3F6EE5277B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970C-ABAB-428D-B91F-0AAC508815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99B9-8A42-4CD4-BB0C-39083BBD14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5A58-03E3-4F67-A687-ED4718B567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4B11-5B03-4CB2-B77B-749C30B9C6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B9BE-BC59-4A71-82A4-6CF1359F76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9752-2722-40FF-B47B-EE3DFF98E2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C8E-95B1-4284-88C5-EBF6C299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B4F-9330-4259-9DEF-2E478E44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0A9A-7163-4A52-8E3D-2BD17F5D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E0E-6FE3-4948-891B-DE1B516F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45B-4F59-4D45-B25E-96770C4B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1F1-4DA8-4E83-B32E-C0F469C4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4AE-9E49-487D-9622-049D70C4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B9F-6042-4CBE-9CAB-381A626B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B75-D80C-4BB4-9274-21D16DD5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5AF-426F-4C6E-8B7B-1099CA5F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C05-FDBF-449F-934C-2D5051F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3A1-D85F-4AEC-BF14-0AA1223C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6320-2F9E-46C6-A91A-EC9BA1946A14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58920" y="2349360"/>
            <a:ext cx="6842160" cy="1630440"/>
          </a:xfrm>
          <a:prstGeom prst="rect">
            <a:avLst/>
          </a:prstGeom>
          <a:solidFill>
            <a:srgbClr val="17375e"/>
          </a:solidFill>
          <a:ln w="9360">
            <a:solidFill>
              <a:srgbClr val="99ff33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Introducción a 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eece1"/>
                </a:solidFill>
                <a:latin typeface="Arial"/>
              </a:rPr>
              <a:t>Dirección Estratég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57120" y="28584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l foco de la DE está en la COMPETITI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85920" y="1341360"/>
            <a:ext cx="71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Obtención de una ventaj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071800" y="214308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Teorías en 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86200" y="3429000"/>
            <a:ext cx="314352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asada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03280" y="3429000"/>
            <a:ext cx="2882880" cy="94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429080" y="45720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URSOS Y 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519200" y="450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714920" y="5013360"/>
            <a:ext cx="40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80 Y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Wernerfelt, Barney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5560" y="501984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INALES DE LOS AÑOS 70 Y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chael 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13"/>
          <p:cNvCxnSpPr>
            <a:stCxn id="74" idx="2"/>
          </p:cNvCxnSpPr>
          <p:nvPr/>
        </p:nvCxnSpPr>
        <p:spPr>
          <a:xfrm flipH="1">
            <a:off x="2255040" y="2606760"/>
            <a:ext cx="225180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4"/>
          <p:cNvCxnSpPr>
            <a:stCxn id="74" idx="2"/>
            <a:endCxn id="75" idx="0"/>
          </p:cNvCxnSpPr>
          <p:nvPr/>
        </p:nvCxnSpPr>
        <p:spPr>
          <a:xfrm>
            <a:off x="4506840" y="2606760"/>
            <a:ext cx="1851840" cy="822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El declive de la planificación corporativa y la aparición de la dirección estratégica se asocia 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epción del papel de los departamentos de 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Rechazo a la rigidez de los planes corporativos y aceptación de la flexibi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Interés fundamental por crear una ventaja competi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Fases de la 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onceptual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Implement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1. Conceptualiz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reación de la V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Mi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Determinación de la Filosofía y Val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268280"/>
            <a:ext cx="84470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50000"/>
              </a:lnSpc>
              <a:spcBef>
                <a:spcPts val="55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5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Imagen del futuro que quiere conseguir la empresa</a:t>
            </a:r>
            <a:r>
              <a:rPr b="1" lang="es-ES_tradnl" sz="2600" spc="-1" strike="noStrike">
                <a:solidFill>
                  <a:srgbClr val="99ff33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Mi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Razón de ser de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En qué negocio estamo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¿Qué necesidad queremos satisfacer?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Debe indicar cliente, servicio y ámbito geográf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30000"/>
              </a:lnSpc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75e"/>
                </a:solidFill>
                <a:latin typeface="Calibri"/>
              </a:rPr>
              <a:t>Valo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Sentido colectivo de identida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Comprensión compartida de lo que es la empre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ceptualización: 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476280"/>
            <a:ext cx="813924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Crear una Visión y Mis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efine y clarifica a dónde se quiere  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stablece una meta a largo plaz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Da sentido a la estrateg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2. Análisis Estratég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 PESTA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dustrial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l atractivo de la industria y oportunidades y amena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70c0"/>
                </a:solidFill>
                <a:latin typeface="Calibri"/>
              </a:rPr>
              <a:t>Análisis Intern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, determinación de fortalezas y debilidades, factores críticos de éxito y ventajas competiti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2855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Áreas potencialmente importan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ntorno polí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conómic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Cambios sociales y cultu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Tecnológ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spectos leg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nternacionaliz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Medioambi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Otr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500120" y="357120"/>
            <a:ext cx="67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del entorno (PES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357120" y="836640"/>
            <a:ext cx="8429760" cy="5335560"/>
          </a:xfrm>
          <a:prstGeom prst="rect">
            <a:avLst/>
          </a:prstGeom>
          <a:ln w="0">
            <a:noFill/>
          </a:ln>
        </p:spPr>
      </p:pic>
      <p:sp>
        <p:nvSpPr>
          <p:cNvPr id="100" name="4 CuadroTexto"/>
          <p:cNvSpPr/>
          <p:nvPr/>
        </p:nvSpPr>
        <p:spPr>
          <a:xfrm>
            <a:off x="642960" y="3571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nálisis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80880" y="6094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944080" y="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nálisis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adena de Valor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alibri"/>
              </a:rPr>
              <a:t>Objetivos de la cl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los aspectos centrales de la Dirección Estraté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dentificar el rol del Control de Gestión en la Dirección Estraté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alibri"/>
              </a:rPr>
              <a:t>Análisis Estratég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838080"/>
            <a:ext cx="8382240" cy="76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0920" y="907920"/>
            <a:ext cx="2873160" cy="132156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EN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(PES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LÍTICO-ECONÓMICO-SOCIAL-TECNOLO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50920" y="4687920"/>
            <a:ext cx="2873160" cy="218952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INNOV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5029200" y="5334120"/>
            <a:ext cx="304920" cy="609480"/>
          </a:xfrm>
          <a:prstGeom prst="upArrow">
            <a:avLst>
              <a:gd name="adj1" fmla="val 28574"/>
              <a:gd name="adj2" fmla="val 84561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276720" y="5867280"/>
            <a:ext cx="1904760" cy="76320"/>
          </a:xfrm>
          <a:prstGeom prst="rect">
            <a:avLst/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038480" y="2209680"/>
            <a:ext cx="2895840" cy="30481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50920" y="2349360"/>
            <a:ext cx="2873160" cy="2305800"/>
          </a:xfrm>
          <a:prstGeom prst="rect">
            <a:avLst/>
          </a:prstGeom>
          <a:solidFill>
            <a:srgbClr val="17375e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eeece1"/>
                </a:solidFill>
                <a:uFillTx/>
                <a:latin typeface="Arial"/>
              </a:rPr>
              <a:t>ANÁLISIS DEL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NUEVOS ENTR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ROD. SUSTIT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PODER DE NEGOCIACION DE PROVEEDORES Y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eece1"/>
                </a:solidFill>
                <a:latin typeface="Arial"/>
              </a:rPr>
              <a:t>RIVALIDAD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1148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PORTUN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952880" y="18288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5562720" y="22856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>
            <a:off x="4114800" y="2666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4114800" y="41148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114800" y="3733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4038480" y="37339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ORTALE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486400" y="3733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E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5562720" y="22860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MENA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0"/>
          <p:cNvSpPr/>
          <p:nvPr/>
        </p:nvSpPr>
        <p:spPr>
          <a:xfrm>
            <a:off x="3733920" y="220968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1"/>
          <p:cNvSpPr/>
          <p:nvPr/>
        </p:nvSpPr>
        <p:spPr>
          <a:xfrm>
            <a:off x="3733920" y="3733920"/>
            <a:ext cx="3504960" cy="13716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 rot="3374400">
            <a:off x="2994840" y="2305800"/>
            <a:ext cx="1114200" cy="264960"/>
          </a:xfrm>
          <a:prstGeom prst="rightArrow">
            <a:avLst>
              <a:gd name="adj1" fmla="val 35889"/>
              <a:gd name="adj2" fmla="val 133962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 rot="17960400">
            <a:off x="3053880" y="3341880"/>
            <a:ext cx="1028520" cy="395280"/>
          </a:xfrm>
          <a:prstGeom prst="rightArrow">
            <a:avLst>
              <a:gd name="adj1" fmla="val 35889"/>
              <a:gd name="adj2" fmla="val 82891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4"/>
          <p:cNvSpPr/>
          <p:nvPr/>
        </p:nvSpPr>
        <p:spPr>
          <a:xfrm rot="21506400">
            <a:off x="7020000" y="2998440"/>
            <a:ext cx="431640" cy="272880"/>
          </a:xfrm>
          <a:prstGeom prst="rightArrow">
            <a:avLst>
              <a:gd name="adj1" fmla="val 35889"/>
              <a:gd name="adj2" fmla="val 5039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6"/>
          <p:cNvSpPr/>
          <p:nvPr/>
        </p:nvSpPr>
        <p:spPr>
          <a:xfrm>
            <a:off x="7020000" y="4653000"/>
            <a:ext cx="431640" cy="228600"/>
          </a:xfrm>
          <a:prstGeom prst="rightArrow">
            <a:avLst>
              <a:gd name="adj1" fmla="val 37843"/>
              <a:gd name="adj2" fmla="val 51269"/>
            </a:avLst>
          </a:prstGeom>
          <a:solidFill>
            <a:srgbClr val="c0504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467480" y="4437000"/>
            <a:ext cx="1676520" cy="58068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DIAGNÓSTICO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7524720" y="2708280"/>
            <a:ext cx="1619280" cy="82404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Arial"/>
              </a:rPr>
              <a:t>FACTORES CRÍTICOS DE ÉX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3. Planific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Establecer objetivos a corto, mediano y largo plazo para lograr la mis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Formular la (s) estrategias posibles para lograr los objetivos de la empre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eclaración tangible y mensurable sobre los resultados estratégicos dese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los medios por los cuales se logran los objetivos a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70c0"/>
                </a:solidFill>
                <a:latin typeface="Calibri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ineamientos de acuerdo con los cuales se guía el funcionamiento al interior de una organ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on guías para la toma de decis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ncept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ORMULAR la estrategia es, determinar 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Calibri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está hoy la empresa y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dónde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ebería estar en el futu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Existe una brecha (gap) entre ambas situ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IMPLEMENTAR la estrategia es, decidir </a:t>
            </a:r>
            <a:r>
              <a:rPr b="0" lang="es-ES_tradnl" sz="2800" spc="-1" strike="noStrike" u="sng">
                <a:solidFill>
                  <a:srgbClr val="ff3300"/>
                </a:solidFill>
                <a:uFillTx/>
                <a:latin typeface="Calibri"/>
              </a:rPr>
              <a:t>cómo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 dirigir la empresa desde donde está hoy, hasta donde debería estar maña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14200" y="1825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rategia: Formulación e imple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4. Implement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Desarrollar la estructura organizativa para implementar la estrate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la cultura organizacional dese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Asegurar que las actividades necesarias para lograr las estrategias se cumple con efectiv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Controlar la eficacia de la estrategia para conseguir los objetivos de la organiz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70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n resumen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4772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26920" y="476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71640" y="1916280"/>
            <a:ext cx="6858000" cy="1922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que se sigue para determinar las metas de una organización y las estrategias que permitirán alcanz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038480" y="3809880"/>
            <a:ext cx="83844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826920" y="4508640"/>
            <a:ext cx="710424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Dirección Estratégica fija los límites dentro de los cuales tiene lugar el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Planificación Estratégica y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Calibri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4360" y="206064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até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564000" y="3573360"/>
            <a:ext cx="2089080" cy="914400"/>
          </a:xfrm>
          <a:prstGeom prst="rect">
            <a:avLst/>
          </a:prstGeom>
          <a:solidFill>
            <a:srgbClr val="800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300720" y="5157720"/>
            <a:ext cx="2089080" cy="91440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1692360" y="2997360"/>
            <a:ext cx="0" cy="10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1692360" y="407664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572000" y="45086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4572000" y="5589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628560" y="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quema del Proceso de Direc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708360" y="981000"/>
            <a:ext cx="15429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300720" y="1989000"/>
            <a:ext cx="1511280" cy="3173760"/>
          </a:xfrm>
          <a:prstGeom prst="rect">
            <a:avLst/>
          </a:prstGeom>
          <a:solidFill>
            <a:srgbClr val="c0504d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109000" y="1773360"/>
            <a:ext cx="485280" cy="374328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zas y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844640"/>
            <a:ext cx="533520" cy="36576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menazas y Oport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219320" y="1905120"/>
            <a:ext cx="1523880" cy="3257640"/>
          </a:xfrm>
          <a:prstGeom prst="rect">
            <a:avLst/>
          </a:prstGeom>
          <a:solidFill>
            <a:srgbClr val="c0504d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lí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cn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g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492360" y="2209680"/>
            <a:ext cx="2016360" cy="70776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92360" y="3357720"/>
            <a:ext cx="2057400" cy="337320"/>
          </a:xfrm>
          <a:prstGeom prst="rect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419640" y="5589720"/>
            <a:ext cx="2057400" cy="33732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059280" y="4149720"/>
            <a:ext cx="2952720" cy="838080"/>
          </a:xfrm>
          <a:prstGeom prst="ellipse">
            <a:avLst/>
          </a:prstGeom>
          <a:solidFill>
            <a:srgbClr val="3399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LANES, PROGRAMA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ESUPUES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rc 12"/>
          <p:cNvSpPr/>
          <p:nvPr/>
        </p:nvSpPr>
        <p:spPr>
          <a:xfrm flipH="1">
            <a:off x="1763640" y="1341360"/>
            <a:ext cx="1849680" cy="48096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13"/>
          <p:cNvSpPr/>
          <p:nvPr/>
        </p:nvSpPr>
        <p:spPr>
          <a:xfrm>
            <a:off x="5219640" y="1341360"/>
            <a:ext cx="1728720" cy="608040"/>
          </a:xfrm>
          <a:prstGeom prst="pie">
            <a:avLst/>
          </a:pr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4427640" y="5013360"/>
            <a:ext cx="0" cy="50472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3352680" y="662472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2771640" y="2565360"/>
            <a:ext cx="749520" cy="2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5508720" y="2565360"/>
            <a:ext cx="769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4427640" y="2997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"/>
          <p:cNvSpPr/>
          <p:nvPr/>
        </p:nvSpPr>
        <p:spPr>
          <a:xfrm flipH="1">
            <a:off x="4419720" y="1773360"/>
            <a:ext cx="7920" cy="436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427640" y="3789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¿Habría invertido en esta empresa?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microsoft1978ew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teve Wood: Programador. 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Wallace: Director de Producción.  Fortuna estimada: 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im Lane: Jefe de proyecto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O’Rear: Matemático. Fortuna estimada es de 1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Bob Greenberg: Programador.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c McDonald: Programador. Fortuna estimada: 1 millón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Gordon Letwin: Programador.  Fortuna estimada: 2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2060"/>
                </a:solidFill>
                <a:latin typeface="Calibri"/>
              </a:rPr>
              <a:t>Bill Gates: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Co-fundador. Fortuna estimada: 52.000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ndrea Lewis: Escritora técnica. Fortuna estimada: 2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arla Wood: Contable. Fortuna estimada: 15 millones de dólar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aul Allen: Co-fundador. Fortuna estimada: 21.000 millones de dóla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473760" y="649080"/>
            <a:ext cx="4462200" cy="16844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OS CLAR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HERENTE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4120" y="571680"/>
            <a:ext cx="3309840" cy="15714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FUND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>
            <a:off x="5334120" y="4869000"/>
            <a:ext cx="335736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LA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IC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457200" y="4869000"/>
            <a:ext cx="3328920" cy="14889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BJETIVA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8"/>
          <p:cNvSpPr/>
          <p:nvPr/>
        </p:nvSpPr>
        <p:spPr>
          <a:xfrm>
            <a:off x="3886200" y="2743200"/>
            <a:ext cx="1371600" cy="1219320"/>
          </a:xfrm>
          <a:prstGeom prst="ellipse">
            <a:avLst/>
          </a:prstGeom>
          <a:solidFill>
            <a:srgbClr val="953735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9"/>
          <p:cNvCxnSpPr>
            <a:stCxn id="58" idx="7"/>
          </p:cNvCxnSpPr>
          <p:nvPr/>
        </p:nvCxnSpPr>
        <p:spPr>
          <a:xfrm flipV="1">
            <a:off x="5056200" y="2142360"/>
            <a:ext cx="1659600" cy="778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10"/>
          <p:cNvCxnSpPr>
            <a:stCxn id="58" idx="5"/>
            <a:endCxn id="56" idx="0"/>
          </p:cNvCxnSpPr>
          <p:nvPr/>
        </p:nvCxnSpPr>
        <p:spPr>
          <a:xfrm>
            <a:off x="5055120" y="3784680"/>
            <a:ext cx="195804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11"/>
          <p:cNvCxnSpPr>
            <a:stCxn id="58" idx="3"/>
            <a:endCxn id="57" idx="0"/>
          </p:cNvCxnSpPr>
          <p:nvPr/>
        </p:nvCxnSpPr>
        <p:spPr>
          <a:xfrm flipH="1">
            <a:off x="2120400" y="3784680"/>
            <a:ext cx="1967760" cy="1085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12"/>
          <p:cNvCxnSpPr>
            <a:stCxn id="58" idx="1"/>
            <a:endCxn id="54" idx="4"/>
          </p:cNvCxnSpPr>
          <p:nvPr/>
        </p:nvCxnSpPr>
        <p:spPr>
          <a:xfrm flipH="1" flipV="1">
            <a:off x="2704320" y="2334600"/>
            <a:ext cx="1383480" cy="586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Dirección Estraté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DE es un proceso relacionado con la toma de decisiones sobre la dirección futura de una empresa y la implementación de estas decis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1428840" y="428760"/>
            <a:ext cx="5857920" cy="71424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El concepto de estrate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1285920"/>
            <a:ext cx="76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Requiere , Qué 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se pretende conseguir  (obje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14200" y="178596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Debe dar respuest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óm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edios o acciones que permitirán alcanzar esa 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928800" y="3571920"/>
            <a:ext cx="778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La estrategia implica comprometer recursos, orientación o dirección a largo plazo y decisiones casi irrever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39640" y="4706640"/>
            <a:ext cx="8280360" cy="1922760"/>
          </a:xfrm>
          <a:prstGeom prst="rect">
            <a:avLst/>
          </a:prstGeom>
          <a:solidFill>
            <a:srgbClr val="376092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eece1"/>
                </a:solidFill>
                <a:latin typeface="Arial"/>
                <a:ea typeface="Arial"/>
              </a:rPr>
              <a:t>Una estrategia bien formulada ayuda a ordenar y asignar los recursos de una organización de una forma singular y viable basada en sus capacidades y carencias internas relativas, en la anticipación a los cambios del entorno y en las eventuales maniobras de los adversarios inteli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7 Rectángulo"/>
          <p:cNvSpPr/>
          <p:nvPr/>
        </p:nvSpPr>
        <p:spPr>
          <a:xfrm>
            <a:off x="571680" y="271476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0504d"/>
                </a:solidFill>
                <a:latin typeface="Arial"/>
              </a:rPr>
              <a:t>¿Cuándo?</a:t>
            </a:r>
            <a:r>
              <a:rPr b="0" lang="es-ES" sz="2400" spc="-1" strike="noStrike">
                <a:solidFill>
                  <a:srgbClr val="c0504d"/>
                </a:solidFill>
                <a:latin typeface="Arial"/>
              </a:rPr>
              <a:t> momento de acción y d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24000" y="77760"/>
            <a:ext cx="8820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39:15Z</dcterms:created>
  <dc:creator>CARLOS REY ESCRIBANO</dc:creator>
  <dc:description/>
  <dc:language>en-US</dc:language>
  <cp:lastModifiedBy>ialvarez</cp:lastModifiedBy>
  <cp:lastPrinted>2001-11-23T07:32:28Z</cp:lastPrinted>
  <dcterms:modified xsi:type="dcterms:W3CDTF">2009-08-10T12:14:05Z</dcterms:modified>
  <cp:revision>71</cp:revision>
  <dc:subject/>
  <dc:title>Los cuatro grandes sistemas sociales</dc:title>
</cp:coreProperties>
</file>