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24A3-A239-4646-8028-445718EF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46EF-D857-42ED-A39B-B74BF0DF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6B0-4FD7-4A23-81F3-DC31522E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64E7-EFA7-4B4D-9B88-09DCA8DE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8999-42DC-48E7-95BF-1271BF9C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40A3-6D68-4577-86F4-A2A825A4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5A45-0FA8-4424-9385-B3B75640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C5A-17E2-4181-9BD2-FFC82309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4656-E405-47EF-9386-D28A174E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111D-6FAC-449F-9B32-27AD308A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466E-1739-49D5-8B83-9F7AC4E3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B711-EA4C-4CFA-A646-5493384B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5AC2-CDB9-4046-88C3-FC8DA345058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trol de Gestión Estratég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án Álvarez 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avera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un barco sin timón, cualquier viento es favor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arco"/>
          <p:cNvPicPr/>
          <p:nvPr/>
        </p:nvPicPr>
        <p:blipFill>
          <a:blip r:embed="rId1"/>
          <a:stretch/>
        </p:blipFill>
        <p:spPr>
          <a:xfrm>
            <a:off x="2666880" y="2743200"/>
            <a:ext cx="3276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empresas están insertas en un mundo que cada vez más global, de cambios veloces y enfrentando una competencia cada vez más agres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ste contexto, la empresa debe trazar el rumbo que marcará su futuro. (“Diseña su futuro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ocumento que recoge este plan se denomina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lan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lan Estratégico es el conjunto de análisis, decisiones y acciones que una organización lleva a cabo para crear y mantener ventajas competitivas sustentables a lo largo d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4572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Fases de la gestión empresarial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Visión Trad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rganización y asignación de recursos (dot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2971800" y="3809880"/>
            <a:ext cx="5257800" cy="762120"/>
          </a:xfrm>
          <a:prstGeom prst="wedgeRectCallout">
            <a:avLst>
              <a:gd name="adj1" fmla="val -49004"/>
              <a:gd name="adj2" fmla="val -118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514600" y="38098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mparar los resultados obtenidos </a:t>
            </a:r>
            <a:br>
              <a:rPr sz="2000"/>
            </a:b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n los objetivos plante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ses de la gestión empresarial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sión de la Dirección Estraté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pt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sión, Misión y Filosofía y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croentorno, Industria, Interno (FO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er objetivos y definir estrateg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, cultura, actividades, Control de Gest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l Control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n instrumento de realimentación para el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ogro de los objetivo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tra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s de control: un 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348000" y="2924280"/>
            <a:ext cx="2087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rmos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419640" y="4724280"/>
            <a:ext cx="2016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n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5435640" y="3357720"/>
            <a:ext cx="187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6372360" y="3357720"/>
            <a:ext cx="0" cy="180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 flipH="1">
            <a:off x="5435640" y="51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1763640" y="3068640"/>
            <a:ext cx="609840" cy="60948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 flipH="1">
            <a:off x="2050920" y="5157720"/>
            <a:ext cx="13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 flipV="1">
            <a:off x="2050920" y="3716280"/>
            <a:ext cx="0" cy="144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2411280" y="33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826920" y="33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950880" y="35002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253440" y="35002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e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360360" y="22050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aración de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l con dese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112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 de Control: Esquema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"/>
          <p:cNvGrpSpPr/>
          <p:nvPr/>
        </p:nvGrpSpPr>
        <p:grpSpPr>
          <a:xfrm>
            <a:off x="539640" y="1484280"/>
            <a:ext cx="7777440" cy="4464000"/>
            <a:chOff x="539640" y="1484280"/>
            <a:chExt cx="7777440" cy="4464000"/>
          </a:xfrm>
        </p:grpSpPr>
        <p:sp>
          <p:nvSpPr>
            <p:cNvPr id="89" name="AutoShape 4"/>
            <p:cNvSpPr/>
            <p:nvPr/>
          </p:nvSpPr>
          <p:spPr>
            <a:xfrm>
              <a:off x="539640" y="1484280"/>
              <a:ext cx="7777440" cy="446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>
              <a:off x="6373080" y="2424240"/>
              <a:ext cx="1456560" cy="140832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Entidad Control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2483640" y="2424240"/>
              <a:ext cx="1458720" cy="1408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Instrumento de 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701640" y="2424240"/>
              <a:ext cx="1457640" cy="1408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Evaluador: comparación con un estánd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427640" y="2424240"/>
              <a:ext cx="1592280" cy="1408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Ejecutor: alineación del 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4427640" y="4302720"/>
              <a:ext cx="1458720" cy="1410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Detector: información sobre lo que ocur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2159280" y="3129480"/>
              <a:ext cx="324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3942360" y="3129480"/>
              <a:ext cx="48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 flipV="1">
              <a:off x="6019920" y="3037680"/>
              <a:ext cx="381600" cy="45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3"/>
            <p:cNvSpPr/>
            <p:nvPr/>
          </p:nvSpPr>
          <p:spPr>
            <a:xfrm>
              <a:off x="7020000" y="3832560"/>
              <a:ext cx="1080" cy="117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4"/>
            <p:cNvSpPr/>
            <p:nvPr/>
          </p:nvSpPr>
          <p:spPr>
            <a:xfrm flipH="1">
              <a:off x="5886720" y="5007960"/>
              <a:ext cx="113328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5"/>
            <p:cNvSpPr/>
            <p:nvPr/>
          </p:nvSpPr>
          <p:spPr>
            <a:xfrm flipH="1">
              <a:off x="3132000" y="5007960"/>
              <a:ext cx="1295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6"/>
            <p:cNvSpPr/>
            <p:nvPr/>
          </p:nvSpPr>
          <p:spPr>
            <a:xfrm flipV="1">
              <a:off x="3132000" y="3832560"/>
              <a:ext cx="0" cy="117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control de gestión es el </a:t>
            </a:r>
            <a:r>
              <a:rPr b="0" lang="es-MX" sz="2000" spc="-1" strike="noStrike">
                <a:solidFill>
                  <a:srgbClr val="262673"/>
                </a:solidFill>
                <a:latin typeface="Arial"/>
              </a:rPr>
              <a:t>proceso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r el cuál los directivos de todos los niveles aseguran de que las personas a las que supervisan implantan sus estrategias formul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control utilizado por los directivos contiene los mismos elementos que los sistemas de control más si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detectore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an de lo que ocurre en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valuadore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paran esta información con el estado des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jecutores</a:t>
            </a:r>
            <a:r>
              <a:rPr b="0" lang="es-MX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man acciones correctoras una vez que perciben diferencias significativas entre el estado actual y el des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stemas de comunica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informan a los directivos sobre lo que está ocurriendo y de su comparación con el estado des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85800" y="304920"/>
            <a:ext cx="7696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n embargo existen diferencias entre el proces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trol de gestión y el proceso más simple descr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estándar no esta predeterminado, es planifi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control de gestión no es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control de gestión requiere coordinación entre individ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relación entre la percepción de la necesidad de actuar y la decisión sobre las medidas a tomar para obtener el resultado deseado puede no ser c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na gran parte del control de gestión es auto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éxito empresarial, exige desarrollar </a:t>
            </a:r>
            <a:r>
              <a:rPr b="0" lang="es-ES_tradnl" sz="2400" spc="-1" strike="noStrike">
                <a:solidFill>
                  <a:srgbClr val="0070c0"/>
                </a:solidFill>
                <a:latin typeface="Arial"/>
              </a:rPr>
              <a:t>ventajas compet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una </a:t>
            </a:r>
            <a:r>
              <a:rPr b="0" lang="es-ES_tradnl" sz="2400" spc="-1" strike="noStrike">
                <a:solidFill>
                  <a:srgbClr val="0070c0"/>
                </a:solidFill>
                <a:latin typeface="Arial"/>
              </a:rPr>
              <a:t>estrategia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debe implementar, ejecutar y monitorear adecuadamente a fin de conseguir los resultados propue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implementación de un </a:t>
            </a:r>
            <a:r>
              <a:rPr b="0" lang="es-ES_tradnl" sz="2400" spc="-1" strike="noStrike">
                <a:solidFill>
                  <a:srgbClr val="0070c0"/>
                </a:solidFill>
                <a:latin typeface="Arial"/>
              </a:rPr>
              <a:t>Sistema de Control de Gestió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porciona el apoyo necesario para tomar decisiones correctivas a nivel estratégico y operacional, con el fin de alcanzar los objetivos propue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Arial"/>
              </a:rPr>
              <a:t>Sistema de Control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una herramienta gerencial y estratégica de información que, apoyada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u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vestig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índ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d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idos en forma sistemática, periódica y objetiva, que permite que la organización sea eficaz, eficiente, efectiva y produc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Un SCG es un instrumento de realimentación, para verificar que estamos cumpliendo lo que nos propus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ara qué contr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Todos hacemos gestión, aunque sea intuitiva, y controlamos el rumbo, aunque no usemos indic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l control de gestión busca sistematizar estos datos par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Ordenar el aparente ca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efinir cursos de acción que potencien las fortalezas y neutralicen las de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in control, de nada vale planificar, programar y operar bien, porque nunca sabremos si fuimos efec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20"/>
          <p:cNvPicPr/>
          <p:nvPr/>
        </p:nvPicPr>
        <p:blipFill>
          <a:blip r:embed="rId1"/>
          <a:stretch/>
        </p:blipFill>
        <p:spPr>
          <a:xfrm>
            <a:off x="3924360" y="3933720"/>
            <a:ext cx="3168720" cy="22813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0" y="189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ecesitamos nuevas herrami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24000" y="1413000"/>
            <a:ext cx="8362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la única herramienta que se tiene es un martill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los problemas empiezan a parecerse un clav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-Mas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34"/>
          <p:cNvPicPr/>
          <p:nvPr/>
        </p:nvPicPr>
        <p:blipFill>
          <a:blip r:embed="rId2"/>
          <a:stretch/>
        </p:blipFill>
        <p:spPr>
          <a:xfrm>
            <a:off x="1116000" y="4076640"/>
            <a:ext cx="21607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finalizar el curso el particip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ocerá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eptos fundamentales sobre Sistemas de Control de Gest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rá capaz de analizar, diseñar, implementar y mejorar Sistemas de Control de Gestión orientados a la implementación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licará los enfoques e instrumentos específicos del Control de Gestión tales como, análisis de desviaciones, presupuestos flexibles, Balanced Scorec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ará con un marco conceptual actualizado para la toma de dec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ceptos y definiciones fund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erramientas contables de Planificación y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basada en procesos y gestión estratégica de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Corporativa y de Unidades Estratégicas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aluación del desempeño corporativo y de las unidades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stema de control de Gestión integral, el Balanced Score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28600" y="1523880"/>
            <a:ext cx="86425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Un hombre caminaba por la calle de un pequeño puebl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uando de pronto se da cuenta que encima de el h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un globo aerostático flotand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De ese globo cuelga una canasta, y en la canasta hay un hombre, que le hace señas desesperado. Con curiosidad, se aproxima lo mas que puede y escucha con atención al piloto del globo, quien le gri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Disculpe ¿podría ayudarme?. Le prometí a un amigo que me encontraría con el a las 2 p.m., pero ya son las 2:30 p.m., y no se donde esto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transeúnte, con mucha cortesía le responde: claro que puedo ayudarle, usted se encuentra flotando a unos 20 metros encima de la Calle Principal. Esta a 40 grados de latitud Norte y 58 grados de longitud Oe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4000" y="495360"/>
            <a:ext cx="82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roducción: el ingeniero y el ge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images"/>
          <p:cNvPicPr/>
          <p:nvPr/>
        </p:nvPicPr>
        <p:blipFill>
          <a:blip r:embed="rId1"/>
          <a:stretch/>
        </p:blipFill>
        <p:spPr>
          <a:xfrm>
            <a:off x="7093080" y="260280"/>
            <a:ext cx="149220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80880" y="685800"/>
            <a:ext cx="8229600" cy="55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aeronauta escucha con atención, y después le pregunta con una sonri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¿Amigo, es usted ingenie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 señor, pero ¿como lo sup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Porque todo lo que usted me ha dicho es técnicamente correcto, pero esa información no me sirve de nada, y sigo perd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Ingeniero se queda callado a su vez, y al final le pregunta al del glob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¿Y usted, es por casualidad, ger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, soy gerente de una empresa. ¿Como lo ha adivin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¡Ah! muy fácil: Mire, usted no sabe ni donde esta, ni para donde 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Hizo una promesa que no sabe como cumplir, y espera que otro 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resuelva el problema. Esta tan perdido como antes de preguntarme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además, por algún extraño motivo, resulta que ahora la culpa es m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planificación empresa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Necesitan un plan las empres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videncia empírica muestra que existe una alta correlación entre el grado de formalización de la planificación, y los buenos resultados obte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ción formal vs. Planificación eme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no se fijan objetivos, no se corre el riesgo de no cumplirlos, pero tampoco se alcanza el éx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orno Empresa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Que ha pasado en las empres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90, reingeniería, reestructuracion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ueva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lapso de punto 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o de siglo XXI, Crisis de confianza en instituciones, Enron, World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ntorno Empresa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empresas de manufactura con producto tangible 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presas de servicio – reputación de l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estrategia basada en maximizar valor de accionista a estrategia basada en grupos de interés (stakehold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8T17:43:51Z</dcterms:created>
  <dc:creator>John M. Marshall</dc:creator>
  <dc:description/>
  <dc:language>en-US</dc:language>
  <cp:lastModifiedBy>ialvarez</cp:lastModifiedBy>
  <dcterms:modified xsi:type="dcterms:W3CDTF">2009-08-07T14:13:40Z</dcterms:modified>
  <cp:revision>35</cp:revision>
  <dc:subject/>
  <dc:title>No Slide Title</dc:title>
</cp:coreProperties>
</file>