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7B1-BCE6-4A6A-B740-EEF02963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CFB-1D75-4789-A5F3-6209D43D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B76-E6FA-4A8B-BD73-0F53071E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E35-A1ED-40B7-94AF-40D504CB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7E9-EABD-418E-A11A-A5AE6E0D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59D-2A90-494F-9C14-3D62ED1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954-29C1-468E-9FE3-51D82010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EE2-3B3E-46C8-B53D-1E780653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FD7-9355-476D-9D79-CECB3313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740-5617-49F4-92EF-8A6CE5F3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D6B-09C5-45CB-9624-FD0CB5E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51B-2BD2-472F-864D-FBD2FA7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EDA-F54D-45F4-B188-437877D4D9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arco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539640" y="1484280"/>
            <a:ext cx="7777440" cy="4464000"/>
            <a:chOff x="539640" y="1484280"/>
            <a:chExt cx="7777440" cy="4464000"/>
          </a:xfrm>
        </p:grpSpPr>
        <p:sp>
          <p:nvSpPr>
            <p:cNvPr id="89" name="AutoShape 4"/>
            <p:cNvSpPr/>
            <p:nvPr/>
          </p:nvSpPr>
          <p:spPr>
            <a:xfrm>
              <a:off x="539640" y="1484280"/>
              <a:ext cx="7777440" cy="446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427640" y="2424240"/>
              <a:ext cx="159228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6019920" y="3037680"/>
              <a:ext cx="381600" cy="45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</a:t>
            </a:r>
            <a:r>
              <a:rPr b="0" lang="es-MX" sz="2000" spc="-1" strike="noStrike">
                <a:solidFill>
                  <a:srgbClr val="262673"/>
                </a:solidFill>
                <a:latin typeface="Arial"/>
              </a:rPr>
              <a:t>proceso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n embargo existen diferencias entre el proces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rol de gestión y el proceso más simple de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estrategia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Sistema de Control de Gest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20"/>
          <p:cNvPicPr/>
          <p:nvPr/>
        </p:nvPicPr>
        <p:blipFill>
          <a:blip r:embed="rId1"/>
          <a:stretch/>
        </p:blipFill>
        <p:spPr>
          <a:xfrm>
            <a:off x="3924360" y="3933720"/>
            <a:ext cx="3168720" cy="2281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cesitamos nuevas herrami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413000"/>
            <a:ext cx="8362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 única herramienta que se tiene es un martil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problemas empiezan a parecerse un clav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Ma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34"/>
          <p:cNvPicPr/>
          <p:nvPr/>
        </p:nvPicPr>
        <p:blipFill>
          <a:blip r:embed="rId2"/>
          <a:stretch/>
        </p:blipFill>
        <p:spPr>
          <a:xfrm>
            <a:off x="1116000" y="4076640"/>
            <a:ext cx="21607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ages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ero ¿como lo sup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divin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e ha pasado e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90, reingeniería, reestructuracion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v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apso de punto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de siglo XXI, Crisis de confianza en instituciones, Enron, World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mpresas de manufactura con producto tangible 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s de servicio – reputación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strategia basada en maximizar valor de accionista a estrategia basada en grupos de interés (stakehol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9-08-07T14:13:40Z</dcterms:modified>
  <cp:revision>35</cp:revision>
  <dc:subject/>
  <dc:title>No Slide Title</dc:title>
</cp:coreProperties>
</file>