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81.wmf" ContentType="image/x-wmf"/>
  <Override PartName="/ppt/media/image58.png" ContentType="image/png"/>
  <Override PartName="/ppt/media/image80.wmf" ContentType="image/x-wmf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png" ContentType="image/png"/>
  <Override PartName="/ppt/media/image71.wmf" ContentType="image/x-wmf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8.jpeg" ContentType="image/jpeg"/>
  <Override PartName="/ppt/media/image36.jpeg" ContentType="image/jpeg"/>
  <Override PartName="/ppt/media/image10.png" ContentType="image/png"/>
  <Override PartName="/ppt/media/image78.wmf" ContentType="image/x-wmf"/>
  <Override PartName="/ppt/media/image33.jpeg" ContentType="image/jpeg"/>
  <Override PartName="/ppt/media/image31.jpeg" ContentType="image/jpeg"/>
  <Override PartName="/ppt/media/image93.wmf" ContentType="image/x-wmf"/>
  <Override PartName="/ppt/media/image30.jpeg" ContentType="image/jpeg"/>
  <Override PartName="/ppt/media/image6.wmf" ContentType="image/x-wmf"/>
  <Override PartName="/ppt/media/image83.wmf" ContentType="image/x-wmf"/>
  <Override PartName="/ppt/media/image12.jpeg" ContentType="image/jpeg"/>
  <Override PartName="/ppt/media/image11.jpeg" ContentType="image/jpeg"/>
  <Override PartName="/ppt/media/image28.jpeg" ContentType="image/jpe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42.png" ContentType="image/png"/>
  <Override PartName="/ppt/media/image26.jpeg" ContentType="image/jpeg"/>
  <Override PartName="/ppt/media/image72.wmf" ContentType="image/x-wmf"/>
  <Override PartName="/ppt/media/image69.png" ContentType="image/png"/>
  <Override PartName="/ppt/media/image2.png" ContentType="image/png"/>
  <Override PartName="/ppt/media/image21.wmf" ContentType="image/x-wmf"/>
  <Override PartName="/ppt/media/image18.png" ContentType="image/png"/>
  <Override PartName="/ppt/media/image60.wmf" ContentType="image/x-wmf"/>
  <Override PartName="/ppt/media/image15.jpeg" ContentType="image/jpeg"/>
  <Override PartName="/ppt/media/image63.wmf" ContentType="image/x-wmf"/>
  <Override PartName="/ppt/media/image65.wmf" ContentType="image/x-wmf"/>
  <Override PartName="/ppt/media/image19.jpeg" ContentType="image/jpeg"/>
  <Override PartName="/ppt/media/image92.png" ContentType="image/png"/>
  <Override PartName="/ppt/media/image89.wmf" ContentType="image/x-wmf"/>
  <Override PartName="/ppt/media/image62.wmf" ContentType="image/x-wmf"/>
  <Override PartName="/ppt/media/image77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86.wmf" ContentType="image/x-wmf"/>
  <Override PartName="/ppt/media/image74.wmf" ContentType="image/x-wmf"/>
  <Override PartName="/ppt/media/image85.wmf" ContentType="image/x-wmf"/>
  <Override PartName="/ppt/media/image90.png" ContentType="image/png"/>
  <Override PartName="/ppt/media/image88.wmf" ContentType="image/x-wmf"/>
  <Override PartName="/ppt/media/image73.wmf" ContentType="image/x-wmf"/>
  <Override PartName="/ppt/media/image84.wmf" ContentType="image/x-wmf"/>
  <Override PartName="/ppt/media/image7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25.wmf" ContentType="image/x-wmf"/>
  <Override PartName="/ppt/media/image68.png" ContentType="image/png"/>
  <Override PartName="/ppt/media/image70.png" ContentType="image/png"/>
  <Override PartName="/ppt/media/image20.wmf" ContentType="image/x-wmf"/>
  <Override PartName="/ppt/media/image32.jpeg" ContentType="image/jpeg"/>
  <Override PartName="/ppt/media/image66.png" ContentType="image/png"/>
  <Override PartName="/ppt/media/image23.wmf" ContentType="image/x-wmf"/>
  <Override PartName="/ppt/media/image51.jpeg" ContentType="image/jpeg"/>
  <Override PartName="/ppt/media/image35.jpeg" ContentType="image/jpeg"/>
  <Override PartName="/ppt/media/image47.png" ContentType="image/png"/>
  <Override PartName="/ppt/media/image50.wmf" ContentType="image/x-wmf"/>
  <Override PartName="/ppt/media/image87.wmf" ContentType="image/x-wmf"/>
  <Override PartName="/ppt/media/image17.jpeg" ContentType="image/jpeg"/>
  <Override PartName="/ppt/media/image16.jpeg" ContentType="image/jpeg"/>
  <Override PartName="/ppt/media/image57.wmf" ContentType="image/x-wmf"/>
  <Override PartName="/ppt/media/image14.jpeg" ContentType="image/jpeg"/>
  <Override PartName="/ppt/media/image27.jpeg" ContentType="image/jpeg"/>
  <Override PartName="/ppt/media/image22.jpeg" ContentType="image/jpeg"/>
  <Override PartName="/ppt/media/image75.png" ContentType="image/png"/>
  <Override PartName="/ppt/media/image39.png" ContentType="image/png"/>
  <Override PartName="/ppt/media/image64.jpeg" ContentType="image/jpeg"/>
  <Override PartName="/ppt/media/image61.wmf" ContentType="image/x-wmf"/>
  <Override PartName="/ppt/media/image7.png" ContentType="image/png"/>
  <Override PartName="/ppt/media/image34.jpeg" ContentType="image/jpeg"/>
  <Override PartName="/ppt/media/image37.png" ContentType="image/png"/>
  <Override PartName="/ppt/media/image82.png" ContentType="image/png"/>
  <Override PartName="/ppt/media/image5.png" ContentType="image/png"/>
  <Override PartName="/ppt/media/image91.png" ContentType="image/pn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35080" y="686880"/>
            <a:ext cx="458928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7C4-62CE-46B4-B176-BC4BD22513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70A6-F0D2-47D1-B710-C8D1F957FA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BDF-01D1-4912-A601-F23EC05641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103-C041-43F8-A0A9-9DE49A37C9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9DA-F2A5-4484-A27D-8DC599356E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703-D6CA-42A2-99CE-26E4205F2B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CD7E-A988-4043-9CCC-1574E80DB9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4BC9-DF43-4E59-BC31-BA9E84A709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660-E3EE-4886-BD3C-6AFED82A63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1226-7047-4E34-8543-EDF3E480B2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9BA-2DC8-40A7-B4E0-32E8EDEC0A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E13-F9B8-4F45-986C-9C9A9AC2E0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12D-6F1F-4F5B-8DA1-180662822B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919-11BC-4EE8-AF0A-66FC14346C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426-77C1-4108-AA1B-097CB228AE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094-ADDD-49C2-BA1B-EB03ED05FB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F62-D869-4B19-89B3-EF202089A2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543-A577-44E8-85BE-80BBF62C67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E258-390D-4406-AE7C-396C6A1727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B82-1ABF-4EF6-94E8-8B89B3A8B7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A00-DC5C-4969-91E3-2D5CB675C9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F4E-C1F9-47EC-A54C-61AE489CBF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BB5-AA5B-41AA-8FB0-734F3675E2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2A3-5424-4CFC-B79D-5B939B9BDA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D82-ECB9-4117-A930-C7A8848DB1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A361-72DA-4705-AAC5-A1D2087D87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BD5C-6A58-4798-B973-69801E4A71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788F-4F5F-425B-904F-7C31BADAEF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9CA1-5FC1-4031-AF05-3926EA4BDC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C98-B30C-49FF-ABB8-BB2F8FDC99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FED-4E98-40D1-AB51-CF597E722D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111-7234-4E62-8867-A88C9B2AD5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220-19BD-4042-9307-D2EAB1E3E4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B24-139B-45F3-A054-10CAC1D2D5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47B-0347-4DC5-AEAC-83E263CCD5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4E3-4BBD-4045-8A21-8B6668F2FB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8DEE-41B9-4C69-AF76-C759C75563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9F7-125B-4F69-A1D4-1FB9057876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5FE5-4D7D-4840-A293-E8F20A4B77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724-6AFF-47B4-87B1-455629247B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2102-7AE0-4982-BB7E-C750CBC2F3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E412-A466-4ED7-B443-76B869B16E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F8E-7C93-4621-A42D-728F4C26A1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599-46D1-49A2-A2DF-6F0EBFCC89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86A-4F8C-4EEF-B3DF-D22A4DB00A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F71B-ABE6-46C5-ABF5-7572C97E6D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79A-5320-43E3-91D5-A8AD21F6EC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7B8-DBC0-4998-AE17-9AEBB5BB08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5E3-C4E0-40D0-AB4D-9AD9F3B0BB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DF0-89F5-42AD-B023-AD53349C21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EA6-13B1-4873-B869-96BC6ED103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4E1-C69C-4159-A730-55F1A3D8ED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0E5-06B7-424E-BA14-D6F7975912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32F-0872-43B8-9FE9-1B7C586E02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B33-FA55-4FEC-AF33-DB987718BE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9AF-C557-4221-B21D-011F752064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EFD-4D9A-4397-B0AB-3489643A75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05D-E1CA-4AB0-9DDB-688571C7A9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4BD-65AB-4D1A-976B-BF227FE0A9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111-FCC2-484D-ADAA-3C8E94980C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AE85-F4D2-4B7F-B3B5-503D2718C4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228-966C-48B2-BE2D-1DF1B1FB62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5811-443B-4E2C-9F15-0312D9A664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DA56-FB2B-4264-8E76-F8649DDB40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D24-C31F-4C4E-AFED-EAA28BC24F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1C6-BB24-4134-BB49-DD7A2DC7AD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ACC5-B631-470E-86E3-9257D36F88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3CDF-C560-4B9B-8B02-37C84BC663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7D7-9AB9-4824-A424-8F4FE5ED97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311-02E8-4B3F-B3E1-E79B2D9971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36B-44E1-487C-8BDE-36866A7176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5332-D08B-4F6A-B062-A87ADDA0CF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8C49-1432-4E20-846E-CCDE6B5B75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FFC6-62A9-4FF2-A548-DD23627918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A4F-4067-4C72-890A-7136B8FB82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85A-A926-46FB-8EC8-A1CAF93C4B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F2C-46C2-4D74-842A-662B8615B2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BEDB-7A5D-44C5-A0D1-9E2A736C7E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320-9BF8-4062-96B3-4540A8E426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443-2F03-46D4-BC50-8C824A2218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1B5-2913-4CDA-8606-9A635E531B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51E-276E-4F60-8B82-C309ADCFDB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D4D-C4E3-4D34-BDDC-BFAB9CA94F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EC0-36F4-4686-A95F-7CEAAB411E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5F0-4638-4C79-B2CD-D5418BFC82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86C-B924-47D7-BFBE-2D3EBDE888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437D-987D-450F-81A1-C1168644FE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E7C-03F5-4683-8EE8-009B431DE2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24CC-5BEB-40EF-8B60-FFEE451968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D57-FB43-4CC4-B8C5-4C30F4D4EC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B88-E6E1-4C81-B41F-A7AF518190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EE0-DCFC-4043-9060-DDFB97A067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1E48-F6E0-4E9D-A1A2-6053FCFCA0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0B8-8453-4B51-98B8-E1039F069A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4DD-EB7B-4862-8162-E71C6666AF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A43-8C75-42FC-B108-E8F3FDEED5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836-6E5A-434C-BD8A-80D4797BFA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7364-06EE-40CF-B9B4-0490DE0220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C40-CC0C-4AD4-B60E-DB9FCE4AEB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3D09-F35D-4DD5-8CC1-A4C5603309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BCE-178F-4870-8622-1DCDECE360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AB7-252D-4E48-859C-1E340CCC33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E38F-84E8-4E7F-8D54-50925DE60D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F23E-2EB4-4149-8EB5-90DAD6C014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B6B6-CFDC-4E3F-BD33-23691E30F2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6FC-8818-4DD0-B5F5-A97308B6D2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C31-2990-40C8-8030-12C009DF94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ABC-B12B-4310-9AEB-0131D49801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C0F-8F4E-4E7C-A72B-39FF7E2E7F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D223-465D-48F1-AD7B-E5C822DF69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637-5345-4FA9-BA2F-573D599007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E44-51B4-4CDE-803F-CDC347CB87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079-1591-452B-9E09-6FD9775BE8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28F-A042-44A5-98B9-46E825EFBF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0C3-0909-4EBB-B3F9-480870AF45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164-0232-4966-9D77-DBBF6D7AD6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4FE-400E-4A01-9651-6D5D39484D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29D4-B2DE-4A15-AE82-15862A8FC9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DF5-AC87-458B-9DAA-9190AACF44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714-8792-491F-A5F5-7B2AAFF5CF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EC4B-AF40-4440-BF57-19D95EA427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FED3-3927-4F87-BE1B-125E4307DD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355-6908-4F52-88B3-51BBF603AC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66BB-8C3D-4A5F-9C97-374EC9F982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D7F-7230-4177-9AA0-41AF766054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5FB-1607-4103-94D4-D4F2B84D77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6DC3-F51F-4CED-A872-6FA1C1CB5E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6BE-55CE-4623-8CF8-BBCCAA7D69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713-AE6D-4554-B6CD-967D796338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726-3765-4520-B26D-368BD6101C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CDF-C228-4636-9422-CB37F16177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A11-6553-453B-99F0-9E67C1D5EE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D029-06CD-4787-A3EA-C6565ADD69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406A-D0A4-4008-BCE3-4658D7EFE6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E82C-FBE7-42D9-901F-F2B648200F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4CA-2C49-4AC4-B9A0-E4E2754631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B02-8A44-4D9D-B952-EF7D1522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6FE-4015-4421-BDA2-660580C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975-09B5-4601-9174-A5474E9D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2D0-1482-416A-A5EF-99A5DE18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9AF8-FCEE-446F-ADDE-69B868CC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894E-800F-453B-B00E-D874971C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B19-1AC6-4F26-B33F-E939997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01A8-4E43-418A-930F-7300E74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25CB-0316-48A9-9B31-1DE09174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FAF-3931-422C-9F5D-6D42AA1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CF58-06B2-4C2B-B2EF-742A9E8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A66-782D-49DE-8E60-3A02FD3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63B-8FC6-4E36-BD78-63681BE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B1C6-9A75-4E69-A97C-D43129C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4F3-606B-45F4-A4C2-A9ED3E73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8F7-661F-4B6F-8673-BC592E0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7C3-15AE-4FB4-B590-BFB711F2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1C5-99F8-498C-9880-09E2D68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356-D165-4F0F-A05C-9095A14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8DB-B606-4510-8E2B-13BE5F5B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2D5-4A5A-4DE1-A52A-74A9A529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B2A-C8BF-4372-80CB-E121A12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3FC-48E5-47BA-A14A-8ECE85B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DD6-B1A0-4DB1-8D59-03D7D24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759A-7BB0-4D22-85AC-B2A700B2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05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2051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2052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2053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2054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2055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056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057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058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059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2060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061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062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2063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064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65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66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67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68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69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070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071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072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F39C-362F-4088-9285-BE35423F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subst/home/redirect.html/ref=nh_gateway/002-0985394-7667258" TargetMode="External"/><Relationship Id="rId2" Type="http://schemas.openxmlformats.org/officeDocument/2006/relationships/hyperlink" Target="http://www.amazon.com/exec/obidos/subst/home/redirect.html/ref=nh_gateway/002-0985394-7667258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fandana.co.uk/jordylass/media/pizzahut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l/imgres?imgurl=http://savory.cl/scripts/ContentImage.ashx%3FCID%3D285&amp;imgrefurl=http://savory.cl/public/SubSeccion01.aspx%3FContentID%3D285%26SID%3D279&amp;usg=__jlk4STFrY6BL72P6Hm0dMSBIt6M=&amp;h=268&amp;w=150&amp;sz=32&amp;hl=es&amp;start=6&amp;tbnid=hP0Bhu_nFjR9qM:&amp;tbnh=113&amp;tbnw=63&amp;prev=/images%3Fq%3Dhelados%2Bsavory%26gbv%3D2%26hl%3Des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mg.vitonica.com/2009/03/ipod-shuffle.jpg&amp;imgrefurl=http://www.joltivan.net/2009/03/11/page/2/&amp;usg=__S6VK4nEnj7wcjNwFAez45NuJByM=&amp;h=393&amp;w=373&amp;sz=10&amp;hl=es&amp;start=55&amp;tbnid=nFw7ZINFQKhl1M:&amp;tbnh=124&amp;tbnw=118&amp;prev=/images%3Fq%3Dipod%2Bshuffle%26gbv%3D2%26ndsp%3D18%26hl%3Des%26sa%3DN%26start%3D54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l/imgres?imgurl=http://www.ipodtotal.com/imagenes/noticias2/ipod-touch.jpg&amp;imgrefurl=http://www.ipodtotal.com/noticias/nuevo-ipod-touch&amp;usg=__ZXzVzMAskg5c1N59Ops-oB9S20Y=&amp;h=520&amp;w=520&amp;sz=22&amp;hl=es&amp;start=1&amp;tbnid=MAPP_wDrz_sx7M:&amp;tbnh=131&amp;tbnw=131&amp;prev=/images%3Fq%3Dipod%2Btouch%26gbv%3D2%26hl%3De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l/imgres?imgurl=http://crunchgear.com/wp-content/uploads/01_large20070905.jpg&amp;imgrefurl=http://www.crunchgear.com/author/mike-kobrin/&amp;usg=__eIU-1tO0j_GiUekdcV6_L2xpc-M=&amp;h=337&amp;w=410&amp;sz=47&amp;hl=es&amp;start=8&amp;tbnid=gUyBmHv9Q3E5WM:&amp;tbnh=103&amp;tbnw=125&amp;prev=/images%3Fq%3Dipod%2Bnano%2B3g%26gbv%3D2%26hl%3De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l/imgres?imgurl=http://www.cesarnunhez.com/myblog/wp-content/uploads//2008/10/ipod-nano-4g-14.jpg&amp;imgrefurl=http://www.cesarnunhez.com/myblog/2008/10/ipod-nano-4ta-generacion/&amp;usg=__xvJoYOXXAN1puCkL66O-WTcEnuA=&amp;h=308&amp;w=400&amp;sz=36&amp;hl=es&amp;start=2&amp;tbnid=uQuuNuKsMOTEdM:&amp;tbnh=95&amp;tbnw=124&amp;prev=/images%3Fq%3Dipod%2Bnano%2B4g%26gbv%3D2%26hl%3Des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l/imgres?imgurl=http://www.ipodtotal.com/imagenes/modelos/ipod-mini-2g-verde.jpg&amp;imgrefurl=http://www.ipodtotal.com/modelos/ipodmini-2g&amp;usg=__Qhdnv7hYhddE4oVju8MyoGIvEsQ=&amp;h=500&amp;w=520&amp;sz=18&amp;hl=es&amp;start=3&amp;tbnid=eL97QCrWsDWYHM:&amp;tbnh=126&amp;tbnw=131&amp;prev=/images%3Fq%3Dipod%2Bmini%26gbv%3D2%26hl%3Des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l/imgres?imgurl=http://saeros.files.wordpress.com/2007/09/ipod-shuffle.jpg&amp;imgrefurl=http://saeros.wordpress.com/2007/09/26/ipod-para-todos-los-gustos/&amp;usg=__reD9_S2yuwcSsMaDlg4DDWRWXpU=&amp;h=546&amp;w=715&amp;sz=30&amp;hl=es&amp;start=3&amp;tbnid=xDkYQA_u-rooLM:&amp;tbnh=107&amp;tbnw=140&amp;prev=/images%3Fq%3Dipod%2Bshuffle%26gbv%3D2%26hl%3Des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l/imgres?imgurl=http://stygyan.files.wordpress.com/2009/06/ipod-classic.jpg&amp;imgrefurl=http://stygyan.wordpress.com/2009/06/28/&amp;usg=__NQqwf6SNsbyqNkQCg6-rTTSO9s4=&amp;h=600&amp;w=520&amp;sz=33&amp;hl=es&amp;start=2&amp;tbnid=6Z_rWwFa48ThWM:&amp;tbnh=135&amp;tbnw=117&amp;prev=/images%3Fq%3Dipod%2Bclassic%26gbv%3D2%26hl%3Des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ristomo.com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hyperlink" Target="http://images.google.cl/imgres?imgurl=http://prinzzezz.nireblog.com/blogs/prinzzezz/files/ipod-nano.jpg&amp;imgrefurl=http://prinzzezz.nireblog.com/post/2007/05/26/ipod&amp;h=314&amp;w=400&amp;sz=32&amp;hl=es&amp;start=0&amp;tbnid=l7u_nig0w_3A7M:&amp;tbnh=97&amp;tbnw=124&amp;prev=/images%3Fq%3Dipod%26gbv%3D2%26svnum%3D10%26hl%3Des%26sa%3DG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ontent.answers.com/main/content/img/CDE/VHS.GIF&amp;imgrefurl=http://www.answers.com/topic/vhs&amp;h=325&amp;w=412&amp;sz=7&amp;hl=es&amp;start=0&amp;tbnid=-TFBdXpQiIxJmM:&amp;tbnh=99&amp;tbnw=125&amp;prev=/images%3Fq%3Dvhs%26gbv%3D2%26svnum%3D10%26hl%3Des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cl/imgres?imgurl=http://www.filmiyana.com/americandesi/images/DVD-Logo-Color1.jpg&amp;imgrefurl=http://cgi.ebay.es/OFERTA-VIDEOCAMARA-DIGITAL-DVD-SAMSUNG-TOTAL-NUEVA_W0QQitemZ320140872051QQihZ011QQcategoryZ96997QQcmdZViewItem&amp;h=289&amp;w=516&amp;sz=14&amp;hl=es&amp;start=0&amp;tbnid=WDBvLcIkjj14BM:&amp;tbnh=73&amp;tbnw=131&amp;prev=/images%3Fq%3Ddvd%26gbv%3D2%26svnum%3D10%26hl%3Des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2.jpeg"/><Relationship Id="rId6" Type="http://schemas.openxmlformats.org/officeDocument/2006/relationships/hyperlink" Target="http://www.youtube.com/" TargetMode="External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l/imgres?imgurl=http://tdtysatelite.com/chico/images/TELEFONO%2520CLASICO%2520VICTORIA.jpg&amp;imgrefurl=http://tdtysatelite.com/chico/product_info.php%3Ftdtchico_products_id%3D28%26osCsid%3Dbdf69eb83a58a8fae5bf9cf1236f9580&amp;h=306&amp;w=300&amp;sz=25&amp;hl=es&amp;start=0&amp;tbnid=oxDOkW-Y3ZfcjM:&amp;tbnh=117&amp;tbnw=115&amp;prev=/images%3Fq%3Dtelefono%26gbv%3D2%26svnum%3D10%26hl%3Des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l/imgres?imgurl=http://etc.territoriocreativo.es/photos/uncategorized/telefono4.jpg&amp;imgrefurl=http://etc.territoriocreativo.es/etc/2006/10/encuentro_de_te.html&amp;h=240&amp;w=400&amp;sz=21&amp;hl=es&amp;start=0&amp;tbnid=svaVjDy8oyC75M:&amp;tbnh=74&amp;tbnw=124&amp;prev=/images%3Fq%3Dtelefono%26gbv%3D2%26svnum%3D10%26hl%3Des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l/imgres?imgurl=http://spanish.peopledaily.com.cn/mediafile/200706/28/F200706281358462122148392.jpg&amp;imgrefurl=http://spanish.peopledaily.com.cn/31615/6200883.html&amp;h=400&amp;w=301&amp;sz=20&amp;hl=es&amp;start=0&amp;tbnid=fcWeAlA00o9gbM:&amp;tbnh=124&amp;tbnw=93&amp;prev=/images%3Fq%3Dcelular%26gbv%3D2%26svnum%3D10%26hl%3Des%26sa%3DG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images.google.cl/imgres?imgurl=http://www.sharbrough.net/shop/images/palm-m505-p01.jpg&amp;imgrefurl=http://articulo.mercadolibre.com.co/MCO-4262899-_JM&amp;h=769&amp;w=570&amp;sz=84&amp;hl=es&amp;start=0&amp;tbnid=v7T8tM5SR_zJrM:&amp;tbnh=142&amp;tbnw=105&amp;prev=/images%3Fq%3Dpalm%26gbv%3D2%26svnum%3D10%26hl%3Des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images.google.cl/imgres?imgurl=http://www.microalcarria.com/global/php/imagen.php%3Fcamino%3D/uknaaxyhr/%26nombre%3Ddrtfbtzx/RMG239.gvb&amp;imgrefurl=http://www.microalcarria.com/productos/mostrar_imagen.php%3Fimagen_a_mostrar%3DNUT251&amp;h=339&amp;w=330&amp;sz=15&amp;hl=es&amp;start=0&amp;tbnid=pF3-3Eix-p3rrM:&amp;tbnh=119&amp;tbnw=116&amp;prev=/images%3Fq%3Dtelefono%26gbv%3D2%26svnum%3D10%26hl%3Des" TargetMode="External"/><Relationship Id="rId11" Type="http://schemas.openxmlformats.org/officeDocument/2006/relationships/image" Target="../media/image34.jpeg"/><Relationship Id="rId12" Type="http://schemas.openxmlformats.org/officeDocument/2006/relationships/hyperlink" Target="http://images.google.cl/imgres?imgurl=http://www.colegioveracruz.com/servicios/porteria/telefono.jpg&amp;imgrefurl=http://www.colegioveracruz.com/servicios/servicios.html&amp;h=332&amp;w=330&amp;sz=21&amp;hl=es&amp;start=0&amp;tbnid=ev774dQNYGw2fM:&amp;tbnh=119&amp;tbnw=118&amp;prev=/images%3Fq%3Dtelefono%26gbv%3D2%26svnum%3D10%26hl%3Des" TargetMode="External"/><Relationship Id="rId13" Type="http://schemas.openxmlformats.org/officeDocument/2006/relationships/image" Target="../media/image35.jpeg"/><Relationship Id="rId14" Type="http://schemas.openxmlformats.org/officeDocument/2006/relationships/hyperlink" Target="http://images.google.cl/imgres?imgurl=http://www.sernac.cl/sernacninos/buenconsumidor/img/celular.jpg&amp;imgrefurl=http://www.sernac.cl/sernacninos/buenconsumidor/consejos/celular.asp&amp;h=300&amp;w=240&amp;sz=42&amp;hl=es&amp;start=20&amp;tbnid=ok2YMwxLHE8peM:&amp;tbnh=116&amp;tbnw=93&amp;prev=/images%3Fq%3Dcelular%26start%3D20%26gbv%3D2%26ndsp%3D20%26svnum%3D10%26hl%3Des%26sa%3DN" TargetMode="External"/><Relationship Id="rId15" Type="http://schemas.openxmlformats.org/officeDocument/2006/relationships/image" Target="../media/image36.jpeg"/><Relationship Id="rId16" Type="http://schemas.openxmlformats.org/officeDocument/2006/relationships/image" Target="../media/image3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sapiens.ya.com/apuntesweb2004/periodico.jpg&amp;imgrefurl=http://sapiens.ya.com/apuntesweb2004/lenguajeperiodistico.htm&amp;h=559&amp;w=515&amp;sz=25&amp;hl=es&amp;start=0&amp;tbnid=tQtOsBM6myNwoM:&amp;tbnh=133&amp;tbnw=123&amp;prev=/images%3Fq%3Dperiodico%26gbv%3D2%26svnum%3D10%26hl%3Des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hyperlink" Target="http://www.laborum.com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hyperlink" Target="http://images.google.cl/imgres?imgurl=http://mujeronconstantsorrow.blogia.com/upload/20070130213150-underwood-204-20wagner.jpg&amp;imgrefurl=http://mujeronconstantsorrow.blogia.com/2007/enero.php&amp;usg=__5sno9FVW1l3ihsGguchVSQxN4sQ=&amp;h=310&amp;w=310&amp;sz=35&amp;hl=es&amp;start=4&amp;tbnid=RlDGj2nlgAhoMM:&amp;tbnh=117&amp;tbnw=117&amp;prev=/images%3Fq%3Dundergwood%26gbv%3D2%26hl%3Des" TargetMode="External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2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38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o Fuente de Ventaj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petitiva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</a:t>
            </a: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or qué las empresas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eben pensar en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 una pieza clave en las empresas de ho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pespan (distribuidor de frutas sudafric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ermite saber dónde está cada producto en cada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exión a clientes (tra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ción de tie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vitan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yen co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ó operar con 200 nuevos tra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Ordenes directas desde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rán optimizar plan de producción y predecir las necesidades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uso es un reflejo del desarrollo del paí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1068120" y="2666880"/>
            <a:ext cx="8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2135520" y="5257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025440" y="53341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3796560" y="52578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4647240" y="54100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5351400" y="5257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6140160" y="54100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7006320" y="52578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2439000" y="1905120"/>
            <a:ext cx="409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por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Network Wizards Hos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2"/>
          <p:cNvGraphicFramePr/>
          <p:nvPr/>
        </p:nvGraphicFramePr>
        <p:xfrm>
          <a:off x="1981080" y="2666880"/>
          <a:ext cx="610740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66880"/>
                    <a:ext cx="61074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Text Box 16"/>
          <p:cNvSpPr/>
          <p:nvPr/>
        </p:nvSpPr>
        <p:spPr>
          <a:xfrm>
            <a:off x="2286720" y="4724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2972880" y="38098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.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4874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0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9"/>
          <p:cNvSpPr/>
          <p:nvPr/>
        </p:nvSpPr>
        <p:spPr>
          <a:xfrm>
            <a:off x="64018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7163280" y="266688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8.8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3887280" y="3962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.7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2"/>
          <p:cNvSpPr/>
          <p:nvPr/>
        </p:nvSpPr>
        <p:spPr>
          <a:xfrm>
            <a:off x="4725360" y="45720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de información permean a toda la empresa y son un factor clave en su flexibi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y gestión corp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ón del recurs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tá presente a lo largo de toda la cadena de val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17524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175248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5105520" y="297180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1"/>
          <p:cNvSpPr/>
          <p:nvPr/>
        </p:nvSpPr>
        <p:spPr>
          <a:xfrm flipH="1">
            <a:off x="5105520" y="41911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2"/>
          <p:cNvSpPr/>
          <p:nvPr/>
        </p:nvSpPr>
        <p:spPr>
          <a:xfrm flipH="1">
            <a:off x="1752120" y="41148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17524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17524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1752480" y="38098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25146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327672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038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20"/>
          <p:cNvSpPr/>
          <p:nvPr/>
        </p:nvSpPr>
        <p:spPr>
          <a:xfrm>
            <a:off x="48006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De esta forma surge la Cadena de Valor Vir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5"/>
          <p:cNvSpPr/>
          <p:nvPr/>
        </p:nvSpPr>
        <p:spPr>
          <a:xfrm>
            <a:off x="1752480" y="2362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>
            <a:off x="1752480" y="3581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8"/>
          <p:cNvSpPr/>
          <p:nvPr/>
        </p:nvSpPr>
        <p:spPr>
          <a:xfrm>
            <a:off x="17524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0"/>
          <p:cNvSpPr/>
          <p:nvPr/>
        </p:nvSpPr>
        <p:spPr>
          <a:xfrm flipV="1">
            <a:off x="5105520" y="2971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502920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23"/>
          <p:cNvSpPr/>
          <p:nvPr/>
        </p:nvSpPr>
        <p:spPr>
          <a:xfrm>
            <a:off x="1752480" y="2666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24"/>
          <p:cNvSpPr/>
          <p:nvPr/>
        </p:nvSpPr>
        <p:spPr>
          <a:xfrm>
            <a:off x="1752480" y="2514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27"/>
          <p:cNvSpPr/>
          <p:nvPr/>
        </p:nvSpPr>
        <p:spPr>
          <a:xfrm>
            <a:off x="1752480" y="2819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29"/>
          <p:cNvSpPr/>
          <p:nvPr/>
        </p:nvSpPr>
        <p:spPr>
          <a:xfrm>
            <a:off x="175248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32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33"/>
          <p:cNvSpPr/>
          <p:nvPr/>
        </p:nvSpPr>
        <p:spPr>
          <a:xfrm>
            <a:off x="33526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34"/>
          <p:cNvSpPr/>
          <p:nvPr/>
        </p:nvSpPr>
        <p:spPr>
          <a:xfrm>
            <a:off x="4038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35"/>
          <p:cNvSpPr/>
          <p:nvPr/>
        </p:nvSpPr>
        <p:spPr>
          <a:xfrm>
            <a:off x="4800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1674720" y="30481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52"/>
          <p:cNvSpPr/>
          <p:nvPr/>
        </p:nvSpPr>
        <p:spPr>
          <a:xfrm>
            <a:off x="1752480" y="4114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3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54"/>
          <p:cNvSpPr/>
          <p:nvPr/>
        </p:nvSpPr>
        <p:spPr>
          <a:xfrm>
            <a:off x="1752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55"/>
          <p:cNvSpPr/>
          <p:nvPr/>
        </p:nvSpPr>
        <p:spPr>
          <a:xfrm flipV="1">
            <a:off x="5105520" y="4724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6"/>
          <p:cNvSpPr/>
          <p:nvPr/>
        </p:nvSpPr>
        <p:spPr>
          <a:xfrm>
            <a:off x="5029200" y="41148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7"/>
          <p:cNvSpPr/>
          <p:nvPr/>
        </p:nvSpPr>
        <p:spPr>
          <a:xfrm>
            <a:off x="1752480" y="4419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8"/>
          <p:cNvSpPr/>
          <p:nvPr/>
        </p:nvSpPr>
        <p:spPr>
          <a:xfrm>
            <a:off x="175248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59"/>
          <p:cNvSpPr/>
          <p:nvPr/>
        </p:nvSpPr>
        <p:spPr>
          <a:xfrm>
            <a:off x="1752480" y="4572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0"/>
          <p:cNvSpPr/>
          <p:nvPr/>
        </p:nvSpPr>
        <p:spPr>
          <a:xfrm>
            <a:off x="175248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61"/>
          <p:cNvSpPr/>
          <p:nvPr/>
        </p:nvSpPr>
        <p:spPr>
          <a:xfrm>
            <a:off x="25909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2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63"/>
          <p:cNvSpPr/>
          <p:nvPr/>
        </p:nvSpPr>
        <p:spPr>
          <a:xfrm>
            <a:off x="4038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4"/>
          <p:cNvSpPr/>
          <p:nvPr/>
        </p:nvSpPr>
        <p:spPr>
          <a:xfrm>
            <a:off x="4800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1751040" y="48006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66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67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68"/>
          <p:cNvSpPr/>
          <p:nvPr/>
        </p:nvSpPr>
        <p:spPr>
          <a:xfrm>
            <a:off x="41911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rol de la informática ha cambiado. Hoy se utiliza para crear ventajas competi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fusión de las tecnologías de computación y telecomunicaciones hacen cada vez más fácil la existencia de organizaciones 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a tendencia afecta a todas las indust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iginalmente la informática estaba orientada a automatizar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Algunos procesos eran automatizados, pero rara vez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 mediados de los ‘80 la informática comenzó a usarse para potenciar el trabajo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urge el micro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e acerca a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Juegos, autos, etc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y se utiliza para crear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llega a las empresas de distintas for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D-ROM v/s Li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nfer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tercambio electrónico de doc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oporte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es el fiel reflejo de 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1130760" y="1981080"/>
            <a:ext cx="725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empresas en Argentina que posee un servidor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1815480" y="50148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a lo po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3586320" y="5029200"/>
            <a:ext cx="19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9"/>
          <p:cNvSpPr/>
          <p:nvPr/>
        </p:nvSpPr>
        <p:spPr>
          <a:xfrm>
            <a:off x="2577960" y="53960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está construy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4574880" y="54100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dos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1296000" y="2743200"/>
            <a:ext cx="436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Object 2"/>
          <p:cNvGraphicFramePr/>
          <p:nvPr/>
        </p:nvGraphicFramePr>
        <p:xfrm>
          <a:off x="1752480" y="2743200"/>
          <a:ext cx="611676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61167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aplicación se extiende rápida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2137320" y="548640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585240" y="54864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5108400" y="54864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421280" y="2071800"/>
            <a:ext cx="58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personas que no saben qué e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1220400" y="3124080"/>
            <a:ext cx="384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676520" y="2895480"/>
          <a:ext cx="588780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8878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enes sui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Originalmente entregaban información sobre itinerario e información de vi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se puede hacer una reserva e incluso pagar en form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usa SET para entregar seguridad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ercedes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rocesadores controlan varia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imatiz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drán conectarse a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ire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s de trán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 de cambios en el clima o atochamiento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mperativos estratégico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ara las empresas de ho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formación centralizada para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cceso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laboración entre profesores y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Boston College ya existe una red que inte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evisión por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ceso a Internet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cnológico de Monte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niversidad 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 cualquiera en la que podamos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Nuevo Marketing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reando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ono:2006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x:.2006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dibiase@vnet.ib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9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actuales tendencias de los mercados permiten  y obligan a desarrollar nuevas ventajas competitiv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02760" y="464832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dos estos cambios han creado una creciente competencia entr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mpresas en lo que se ha llamado “Mercados Hipercompetitiv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4867920" y="1981080"/>
            <a:ext cx="321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Glob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standarización de productos y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nsumidores más exi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stos de búsqueda más al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6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7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4038480" y="228600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cen cada vez más globales obligando a las empresas a competir a nivel inter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Object 2"/>
          <p:cNvGraphicFramePr/>
          <p:nvPr/>
        </p:nvGraphicFramePr>
        <p:xfrm>
          <a:off x="3048120" y="2819520"/>
          <a:ext cx="320040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32004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Text Box 13"/>
          <p:cNvSpPr/>
          <p:nvPr/>
        </p:nvSpPr>
        <p:spPr>
          <a:xfrm>
            <a:off x="2142360" y="1981080"/>
            <a:ext cx="62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s exportaciones mundiales crecen desde un 12% a un 30% del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5"/>
          <p:cNvSpPr/>
          <p:nvPr/>
        </p:nvSpPr>
        <p:spPr>
          <a:xfrm>
            <a:off x="1207800" y="250020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eación de bloques econó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6"/>
          <p:cNvSpPr/>
          <p:nvPr/>
        </p:nvSpPr>
        <p:spPr>
          <a:xfrm>
            <a:off x="5479560" y="250020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mbios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j. Caen regímenes socialis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7"/>
          <p:cNvSpPr/>
          <p:nvPr/>
        </p:nvSpPr>
        <p:spPr>
          <a:xfrm>
            <a:off x="5479920" y="364320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ejores y más económic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8"/>
          <p:cNvSpPr/>
          <p:nvPr/>
        </p:nvSpPr>
        <p:spPr>
          <a:xfrm>
            <a:off x="1210680" y="410040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liferación de franqui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1215000" y="4862520"/>
            <a:ext cx="35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 apertura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ajan aranc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o suben barreras para-arancel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2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4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25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6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productos y servicios se hacen más estándares. Esto obliga a diferenciarse vía otros medios (calidad, flexibilidad o eficienc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creciente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yor velocidad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reciente capacidad de im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as competencias que se desarrollan vía innovación son transit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servicios anexos se vuelven imprescind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Object 2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1978200" cy="54756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3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1066680" cy="87804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4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968400" cy="128736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5" descr=""/>
          <p:cNvPicPr/>
          <p:nvPr/>
        </p:nvPicPr>
        <p:blipFill>
          <a:blip r:embed="rId4"/>
          <a:stretch/>
        </p:blipFill>
        <p:spPr>
          <a:xfrm>
            <a:off x="2133720" y="4876920"/>
            <a:ext cx="990360" cy="87300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8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0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22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3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24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consumidores son cada vez más exigentes y sus requerimientos más personaliz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consumidores son más exigentes con la calidad de lo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 creciente preocupación por el 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y no se puede pensar en segmentos de mercado sin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personalizar los 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4" name="Object 2"/>
          <p:cNvGraphicFramePr/>
          <p:nvPr/>
        </p:nvGraphicFramePr>
        <p:xfrm>
          <a:off x="1371600" y="2057400"/>
          <a:ext cx="63828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382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3"/>
          <p:cNvGraphicFramePr/>
          <p:nvPr/>
        </p:nvGraphicFramePr>
        <p:xfrm>
          <a:off x="1447920" y="2895480"/>
          <a:ext cx="6570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657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4"/>
          <p:cNvGraphicFramePr/>
          <p:nvPr/>
        </p:nvGraphicFramePr>
        <p:xfrm>
          <a:off x="1219320" y="3809880"/>
          <a:ext cx="93348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933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17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21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2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23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stos de búsqueda han aumen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Los productos son más 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umenta el tiempo de desplazamiento (congest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os centros comerciales son una solución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2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3657600" cy="19000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2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18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19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 entregan herramientas que permiten a las empresas diferenciarse en mercados hipercompeti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Object 2"/>
          <p:cNvGraphicFramePr/>
          <p:nvPr/>
        </p:nvGraphicFramePr>
        <p:xfrm>
          <a:off x="3886200" y="39625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9625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4798080" y="3581280"/>
            <a:ext cx="175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1168560" y="480060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s  tecnologías están convergiendo y resulta difícil diferenci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competitividad de las empresas se ha explicado por distintos fenómenos a través del tiemp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ller artesanal (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odos los produc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olución Industrial (Inglater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oducción en masa, automa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Americano de Manufactur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bajadores calificados,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ministración Científic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odelo de Taylor, reducción de cos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ganizacione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presa flexible (Jap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 pesar de que los cambios en el área de telecomunicaciones se dan en forma imperceptible, conllevan desafíos ineludibles para l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chos de banda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irec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uías electr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 respuesta predefi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ntas al ho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 inter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rvicios banc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inter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on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mu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telefo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5562720" y="3733920"/>
            <a:ext cx="281916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unicación inalámb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6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7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comienzo la informática apuntó a la eficiencia. Hoy apunta a la flexibi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9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0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1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3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5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6"/>
          <p:cNvSpPr/>
          <p:nvPr/>
        </p:nvSpPr>
        <p:spPr>
          <a:xfrm>
            <a:off x="5466240" y="2043000"/>
            <a:ext cx="2450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ultime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esentació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atálogos electró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7"/>
          <p:cNvSpPr/>
          <p:nvPr/>
        </p:nvSpPr>
        <p:spPr>
          <a:xfrm>
            <a:off x="1209240" y="3048120"/>
            <a:ext cx="3658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ios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ntos de v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ntreg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Junto a los productos o lugares concur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2057400" y="4495680"/>
            <a:ext cx="4807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percomputación y capacidade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ss custom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3581280" y="2590920"/>
            <a:ext cx="19051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oz              Ani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onido                Ima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rge nuevo equipamiento que complementa las capacidades infor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361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ntallas p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ublicidad est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dad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permercados virt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cursal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parato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Usos: televisión,radio, teléfono, compras desde el hogar, video conferencia,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educación,juegos, servicios interactivos, automatización del h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omponentes: CD, impresora, teléfono, televisor, fax, audio de cal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ctor de tarjetas inteligentes, reconocimiento de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6321240" y="601992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6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17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19"/>
          <p:cNvSpPr/>
          <p:nvPr/>
        </p:nvSpPr>
        <p:spPr>
          <a:xfrm>
            <a:off x="1600200" y="5105520"/>
            <a:ext cx="36576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Object 2" descr=""/>
          <p:cNvPicPr/>
          <p:nvPr/>
        </p:nvPicPr>
        <p:blipFill>
          <a:blip r:embed="rId1"/>
          <a:stretch/>
        </p:blipFill>
        <p:spPr>
          <a:xfrm>
            <a:off x="2209680" y="5334120"/>
            <a:ext cx="762120" cy="717480"/>
          </a:xfrm>
          <a:prstGeom prst="rect">
            <a:avLst/>
          </a:prstGeom>
          <a:ln w="0">
            <a:noFill/>
          </a:ln>
        </p:spPr>
      </p:pic>
      <p:pic>
        <p:nvPicPr>
          <p:cNvPr id="1012" name="Object 3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013" name="Object 4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7621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Internet, una combinación de las tecnologías antes descritas, abre nuevas oportunidades de negocios a las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2849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gunos dato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Los WWW le dan el impulso definitivo al entregar una interfaz amig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cuenta con más de 30 millones de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existen más de 3,2 millones de computadores conectados y se espera         alcanzar 100 millones a fin de sig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crecimiento de Internet ha sido 8% men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15% del uso de Internet está orientado a la venta de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2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2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3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31" name="Line 37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8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40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42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se está usando en muchas aplic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4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4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5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51" name="Line 31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2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33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34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017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nsferencia de arch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lección d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anca en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oporte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permercado o multit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2"/>
          <p:cNvSpPr/>
          <p:nvPr/>
        </p:nvSpPr>
        <p:spPr>
          <a:xfrm>
            <a:off x="4800600" y="190512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vío de flores (Grant’s Flowers and Green Hou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moción de restaurantes (Pizza H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sa: ventas por US$200 millones y se espera crecer 3.000 ve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staurante electrónico (Chic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lo Alto: una ciudad en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l Marketing Interactivo, basado en tecnologías emergentes, surge como una forma de alcanzar ventajas competitivas, en mercados crecientemente competi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Object 2"/>
          <p:cNvGraphicFramePr/>
          <p:nvPr/>
        </p:nvGraphicFramePr>
        <p:xfrm>
          <a:off x="5867280" y="30481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0481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6550200" y="2590920"/>
            <a:ext cx="231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ercados más transpa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Hábitos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rketing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lientes más cerc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2393640" y="480060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o también es válido en las demás 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rán más transpar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Object 2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1219320" cy="16765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23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5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7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8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9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30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53341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cantidad de informació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costos de búsq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hábitos de compra de los consumidores cambiará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1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2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23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24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25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 desde los domi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querirán servicios an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ofertas serán más person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Object 2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2260440" cy="1442880"/>
          </a:xfrm>
          <a:prstGeom prst="rect">
            <a:avLst/>
          </a:prstGeom>
          <a:ln w="0">
            <a:noFill/>
          </a:ln>
        </p:spPr>
      </p:pic>
      <p:pic>
        <p:nvPicPr>
          <p:cNvPr id="1095" name="Object 3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71600" cy="141768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4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838080" cy="1195200"/>
          </a:xfrm>
          <a:prstGeom prst="rect">
            <a:avLst/>
          </a:prstGeom>
          <a:ln w="0">
            <a:noFill/>
          </a:ln>
        </p:spPr>
      </p:pic>
      <p:sp>
        <p:nvSpPr>
          <p:cNvPr id="1097" name="Line 36"/>
          <p:cNvSpPr/>
          <p:nvPr/>
        </p:nvSpPr>
        <p:spPr>
          <a:xfrm flipH="1">
            <a:off x="3581280" y="3962520"/>
            <a:ext cx="10670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3657600" y="39625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empresas serán más autosuficientes en cuanto a la distribución de su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ctarán a sus clientes en form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garán mayor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rá necesario contactar directamente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istribución física se realizará directamente desde la fábric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rgirá la  distribución virtual para productos que se deben agrupar (supermercados y multitiendas virtuale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Object 2" descr=""/>
          <p:cNvPicPr/>
          <p:nvPr/>
        </p:nvPicPr>
        <p:blipFill>
          <a:blip r:embed="rId1"/>
          <a:stretch/>
        </p:blipFill>
        <p:spPr>
          <a:xfrm>
            <a:off x="2971800" y="4876920"/>
            <a:ext cx="1757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promoción se hará a la medida de cada cli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ioscos inte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tregará gran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bicarán en los puntos de venta y en lugares de acces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ará a cada cliente la información que re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harán ofertas personalizadas en base a patrones de compra hist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viarán ofertas personalizadas a través de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Object 2"/>
          <p:cNvGraphicFramePr/>
          <p:nvPr/>
        </p:nvGraphicFramePr>
        <p:xfrm>
          <a:off x="1447920" y="4495680"/>
          <a:ext cx="35049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Text Box 20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1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3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24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25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26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Porter sostiene que para ser exitoso es necesario tener liderazgo  en costos o diferenciarse (calidad) - Hoy sostiene que es posible hacer las dos cosas a la v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en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hará publicidad orientada a indicar el lugar donde se puede encontrar más información sobre lo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mostrarán los lugares donde se puede encontrar más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consumidor seleccionará la cantidad y tipo de información que de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demostraciones vir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vez más se usarán testimon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pantallas planas en publicidad “estátic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Object 2"/>
          <p:cNvGraphicFramePr/>
          <p:nvPr/>
        </p:nvGraphicFramePr>
        <p:xfrm>
          <a:off x="1676520" y="4648320"/>
          <a:ext cx="44193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4193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ventas electrónicas crecerán de una forma insospecha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aumentará la seguridad de las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interfaces se harán más amig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algunas empresas será el únic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algunos casos la distribución se realizará a través de l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os, música, videos o software (incluyendo jue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n estos casos se permitirá conocer el producto o parte de él por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Object 13"/>
          <p:cNvGraphicFramePr/>
          <p:nvPr/>
        </p:nvGraphicFramePr>
        <p:xfrm>
          <a:off x="3429000" y="4648320"/>
          <a:ext cx="12952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648320"/>
                    <a:ext cx="1295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contará con una nueva posibilidad de realizar marketing industri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empresas se conectarán con sus clientes y proveedores (empresa extend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nsaccione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ejores 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stos de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 a cara     US$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bertura US$2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vent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rect mai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25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6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8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9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30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31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s herramientas acercarán a los 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través de las herramientas antes descritas se tendrá una comunicación de primera fuente con los 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permitirá conocer mejor sus necesidades y cómo estas evolucio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 realidad virtual para testear productos y servicios (más rápido y a menor c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 esto se acortarán los ciclo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Object 2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27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1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32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3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Beneficios del marketing intera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los costos para provee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el uso del tiempo de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comunicarse y vender a los clientes donde ellos se encuent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tencial para convertir a la “red” en un canal para vender, distribuir y soportar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proveer información y soportar los procesos de venta en forma continua (las 24 horas del día, los 365 días del a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el reconocimiento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la satisfacción de los clientes a través de una mejor y más direct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6471720" y="586728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7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8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0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1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mpresa de hoy, además de preocuparse de la eficiencia y la calidad, debe ser flex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Alt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permercados, multit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el vol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Distintos tamañ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ista compu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Velocidad para introducir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lletas, dulces,  he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sta, Dos en Uno, Ambros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Tiempo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emercados, piz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219320" y="129528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0" y="3146400"/>
            <a:ext cx="9144000" cy="565200"/>
            <a:chOff x="0" y="3146400"/>
            <a:chExt cx="9144000" cy="565200"/>
          </a:xfrm>
        </p:grpSpPr>
        <p:sp>
          <p:nvSpPr>
            <p:cNvPr id="239" name="Rectangle 5"/>
            <p:cNvSpPr/>
            <p:nvPr/>
          </p:nvSpPr>
          <p:spPr>
            <a:xfrm>
              <a:off x="0" y="3146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3146400"/>
              <a:ext cx="91440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_tradnl" sz="3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7" descr="logo-no-border(1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514600"/>
            <a:ext cx="1692360" cy="49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Ver imagen en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5410080"/>
            <a:ext cx="79992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http://tbn1.google.com/images?q=tbn:hP0Bhu_nFjR9qM:http://savory.cl/scripts/ContentImage.ashx%3FCID%3D2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4114800"/>
            <a:ext cx="60012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ero en realidad hoy hay que ser, además, ecosustent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7391520" y="4952880"/>
            <a:ext cx="1523880" cy="18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066680" y="2209680"/>
          <a:ext cx="74678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467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31"/>
          <p:cNvSpPr/>
          <p:nvPr/>
        </p:nvSpPr>
        <p:spPr>
          <a:xfrm>
            <a:off x="3565080" y="30592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490440" y="5105520"/>
            <a:ext cx="2600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mercado “hipercompetitivo” las herramientas tradicionales de análisis estratégico ya no sirven por sí sol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ercados se hacen cada vez más globales, obligando a las empresas a competir a nive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onsumidores son más exigentes y sus requerimientos son más person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ductos y servicios se hacen más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ecnologías emergentes entregan herramientas que permiten y obligan a las empresas 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19051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7" descr="http://tbn3.google.com/images?q=tbn:nFw7ZINFQKhl1M:http://img.vitonica.com/2009/03/ipod-shuff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5676840"/>
            <a:ext cx="1123920" cy="1181160"/>
          </a:xfrm>
          <a:prstGeom prst="rect">
            <a:avLst/>
          </a:prstGeom>
          <a:ln w="0">
            <a:noFill/>
          </a:ln>
        </p:spPr>
      </p:pic>
      <p:sp>
        <p:nvSpPr>
          <p:cNvPr id="2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o obliga a eliminar las actuales ventajas competitivas e introducir nue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mercado hipercompetitivo las ventajas competitivas ya no son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son erosionadas por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mpresa debe destruir sus propias ventajas y crear otras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r de sostener ventajas puede permitir el paso a los riv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te caso la innovación y en particular la innovación tecnológica son el mejor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219320" y="1676520"/>
            <a:ext cx="74674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http://tbn3.google.com/images?q=tbn:MAPP_wDrz_sx7M:http://www.ipodtotal.com/imagenes/noticias2/ipod-tou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571500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http://tbn1.google.com/images?q=tbn:gUyBmHv9Q3E5WM:http://crunchgear.com/wp-content/uploads/01_large200709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5791320"/>
            <a:ext cx="885600" cy="730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http://tbn2.google.com/images?q=tbn:uQuuNuKsMOTEdM:http://www.cesarnunhez.com/myblog/wp-content/uploads//2008/10/ipod-nano-4g-1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5715000"/>
            <a:ext cx="1181160" cy="905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tbn3.google.com/images?q=tbn:eL97QCrWsDWYHM:http://www.ipodtotal.com/imagenes/modelos/ipod-mini-2g-verd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5867280"/>
            <a:ext cx="714240" cy="687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http://tbn0.google.com/images?q=tbn:xDkYQA_u-rooLM:http://saeros.files.wordpress.com/2007/09/ipod-shuffl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0000" y="5791320"/>
            <a:ext cx="1035000" cy="79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http://tbn3.google.com/images?q=tbn:6Z_rWwFa48ThWM:http://stygyan.files.wordpress.com/2009/06/ipod-classi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62520" y="5562720"/>
            <a:ext cx="877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6688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etencias Esenciales / product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aha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libros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fraestructura diná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ejo de imá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tores de impresión / 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¿Transantiago = innovac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eñ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dos y ap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os comple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s y exper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ma_tbip"/>
          <p:cNvPicPr/>
          <p:nvPr/>
        </p:nvPicPr>
        <p:blipFill>
          <a:blip r:embed="rId1"/>
          <a:stretch/>
        </p:blipFill>
        <p:spPr>
          <a:xfrm>
            <a:off x="7162920" y="1523880"/>
            <a:ext cx="1342800" cy="119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buses"/>
          <p:cNvPicPr/>
          <p:nvPr/>
        </p:nvPicPr>
        <p:blipFill>
          <a:blip r:embed="rId2"/>
          <a:stretch/>
        </p:blipFill>
        <p:spPr>
          <a:xfrm>
            <a:off x="6934320" y="2971800"/>
            <a:ext cx="1666800" cy="8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us"/>
          <p:cNvPicPr/>
          <p:nvPr/>
        </p:nvPicPr>
        <p:blipFill>
          <a:blip r:embed="rId3"/>
          <a:stretch/>
        </p:blipFill>
        <p:spPr>
          <a:xfrm>
            <a:off x="6553080" y="4114800"/>
            <a:ext cx="2314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continuidades Tecnológic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81080" y="304920"/>
            <a:ext cx="454356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1981080" y="0"/>
            <a:ext cx="7162560" cy="3281040"/>
            <a:chOff x="1981080" y="0"/>
            <a:chExt cx="7162560" cy="3281040"/>
          </a:xfrm>
        </p:grpSpPr>
        <p:sp>
          <p:nvSpPr>
            <p:cNvPr id="277" name="Rectangle 4"/>
            <p:cNvSpPr/>
            <p:nvPr/>
          </p:nvSpPr>
          <p:spPr>
            <a:xfrm>
              <a:off x="1981080" y="0"/>
              <a:ext cx="6122160" cy="21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Group 10"/>
            <p:cNvGrpSpPr/>
            <p:nvPr/>
          </p:nvGrpSpPr>
          <p:grpSpPr>
            <a:xfrm>
              <a:off x="1981080" y="0"/>
              <a:ext cx="7162560" cy="3281040"/>
              <a:chOff x="1981080" y="0"/>
              <a:chExt cx="7162560" cy="3281040"/>
            </a:xfrm>
          </p:grpSpPr>
          <p:sp>
            <p:nvSpPr>
              <p:cNvPr id="279" name="Rectangle 5"/>
              <p:cNvSpPr/>
              <p:nvPr/>
            </p:nvSpPr>
            <p:spPr>
              <a:xfrm>
                <a:off x="1981080" y="0"/>
                <a:ext cx="612216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15798a"/>
                    </a:solidFill>
                    <a:latin typeface="Verdana"/>
                  </a:rPr>
                  <a:t>Lanzan teléfonos con forma de reloj pulser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"/>
              <p:cNvSpPr/>
              <p:nvPr/>
            </p:nvSpPr>
            <p:spPr>
              <a:xfrm>
                <a:off x="8103240" y="0"/>
                <a:ext cx="104040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8"/>
              <p:cNvSpPr/>
              <p:nvPr/>
            </p:nvSpPr>
            <p:spPr>
              <a:xfrm>
                <a:off x="1981080" y="659520"/>
                <a:ext cx="6122160" cy="262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(AméricaEconomía.com) La japonesa NTT Docomo anunció que muy pronto pondrá a la venta el primer modelo de teléfono celular con forma de reloj de pulser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El nuevo equipo, que fue bautizado como Wristomo, ha desperado un particular interés en los consumidores nipones, los que ya venían esperando su lanzamiento desde hace mese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equipos lucirán como cualquier reloj de pulsera tradicional, pero cuando reciban una llamada se desplegará un teclado y una pantall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Además de las conversaciones telefónicas normales, los equipos de la línea Wristomo también podrán enviar y recibir mensajes de texto, correo electrónico, y estarán habilitados para navegar por internet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aparatos utilizarán la tecnología PHS, que permite consumir menos energía y, por lo tanto, estar abastecidos por baterías más pequeñas y de mayor duración. Sin embargo, la PHS ha tenidos sus detractores debido a que no permite una comunicación fluida cuando se está en moviend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Docomo anunció que durante esta semana será posible realizar órdenes de reserva de los teléfonos pulsera en el website </a:t>
                </a:r>
                <a:r>
                  <a:rPr b="0" lang="es-ES_tradnl" sz="1400" spc="-1" strike="noStrike" u="sng">
                    <a:solidFill>
                      <a:srgbClr val="99ccff"/>
                    </a:solidFill>
                    <a:uFillTx/>
                    <a:latin typeface="Verdana"/>
                    <a:hlinkClick r:id="rId1"/>
                  </a:rPr>
                  <a:t>www.wristomo.com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, y que el precio se situará en torno a los US$420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Picture 9" descr="wristomo_int"/>
          <p:cNvPicPr/>
          <p:nvPr/>
        </p:nvPicPr>
        <p:blipFill>
          <a:blip r:embed="rId2"/>
          <a:stretch/>
        </p:blipFill>
        <p:spPr>
          <a:xfrm>
            <a:off x="990720" y="5208480"/>
            <a:ext cx="2133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Libros electrónicos multi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5" name="Picture 3" descr="MCj04040590000[1]"/>
          <p:cNvPicPr/>
          <p:nvPr/>
        </p:nvPicPr>
        <p:blipFill>
          <a:blip r:embed="rId1"/>
          <a:stretch/>
        </p:blipFill>
        <p:spPr>
          <a:xfrm>
            <a:off x="1219320" y="35812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MCj02901240000[1]"/>
          <p:cNvPicPr/>
          <p:nvPr/>
        </p:nvPicPr>
        <p:blipFill>
          <a:blip r:embed="rId2"/>
          <a:stretch/>
        </p:blipFill>
        <p:spPr>
          <a:xfrm>
            <a:off x="3962520" y="3505320"/>
            <a:ext cx="1006200" cy="892080"/>
          </a:xfrm>
          <a:prstGeom prst="rect">
            <a:avLst/>
          </a:prstGeom>
          <a:ln w="0">
            <a:noFill/>
          </a:ln>
        </p:spPr>
      </p:pic>
      <p:sp>
        <p:nvSpPr>
          <p:cNvPr id="287" name="Line 12"/>
          <p:cNvSpPr/>
          <p:nvPr/>
        </p:nvSpPr>
        <p:spPr>
          <a:xfrm>
            <a:off x="2362320" y="40384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3" descr="MPj04049860000[1]"/>
          <p:cNvPicPr/>
          <p:nvPr/>
        </p:nvPicPr>
        <p:blipFill>
          <a:blip r:embed="rId3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89" name="Line 14"/>
          <p:cNvSpPr/>
          <p:nvPr/>
        </p:nvSpPr>
        <p:spPr>
          <a:xfrm>
            <a:off x="5562720" y="396252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ús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Picture 5" descr="MCj04079840000[1]"/>
          <p:cNvPicPr/>
          <p:nvPr/>
        </p:nvPicPr>
        <p:blipFill>
          <a:blip r:embed="rId1"/>
          <a:stretch/>
        </p:blipFill>
        <p:spPr>
          <a:xfrm>
            <a:off x="1219320" y="3048120"/>
            <a:ext cx="853920" cy="906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Cj02901220000[1]"/>
          <p:cNvPicPr/>
          <p:nvPr/>
        </p:nvPicPr>
        <p:blipFill>
          <a:blip r:embed="rId2"/>
          <a:stretch/>
        </p:blipFill>
        <p:spPr>
          <a:xfrm>
            <a:off x="3048120" y="2971800"/>
            <a:ext cx="539640" cy="990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MCj03969380000[1]"/>
          <p:cNvPicPr/>
          <p:nvPr/>
        </p:nvPicPr>
        <p:blipFill>
          <a:blip r:embed="rId3"/>
          <a:stretch/>
        </p:blipFill>
        <p:spPr>
          <a:xfrm>
            <a:off x="4343400" y="3124080"/>
            <a:ext cx="814320" cy="644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pod-nan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3048120"/>
            <a:ext cx="1181160" cy="923760"/>
          </a:xfrm>
          <a:prstGeom prst="rect">
            <a:avLst/>
          </a:prstGeom>
          <a:ln w="0">
            <a:noFill/>
          </a:ln>
        </p:spPr>
      </p:pic>
      <p:sp>
        <p:nvSpPr>
          <p:cNvPr id="296" name="Line 12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3" descr="MPj04049860000[1]"/>
          <p:cNvPicPr/>
          <p:nvPr/>
        </p:nvPicPr>
        <p:blipFill>
          <a:blip r:embed="rId6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ideo on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icture 9" descr="VH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190880" cy="942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DVD-Logo-Colo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124080"/>
            <a:ext cx="1247760" cy="6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MPj04049860000[1]"/>
          <p:cNvPicPr/>
          <p:nvPr/>
        </p:nvPicPr>
        <p:blipFill>
          <a:blip r:embed="rId5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Hom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124080"/>
            <a:ext cx="1171440" cy="60012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oz sobre 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11" descr="MPj04049860000[1]"/>
          <p:cNvPicPr/>
          <p:nvPr/>
        </p:nvPicPr>
        <p:blipFill>
          <a:blip r:embed="rId1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308" name="Line 12"/>
          <p:cNvSpPr/>
          <p:nvPr/>
        </p:nvSpPr>
        <p:spPr>
          <a:xfrm>
            <a:off x="5791320" y="35812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4" descr="TELEFONO%2520CLASICO%2520VICTOR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200400"/>
            <a:ext cx="1095480" cy="111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telefono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429000"/>
            <a:ext cx="1181160" cy="704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F20070628135846212214839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6" descr="palm-m505-p0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28800" y="480060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8" descr="RMG23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31240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0" descr="telefon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3200400"/>
            <a:ext cx="1123920" cy="1133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2" descr="celular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1676520"/>
            <a:ext cx="885600" cy="1104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4" descr="Skype"/>
          <p:cNvPicPr/>
          <p:nvPr/>
        </p:nvPicPr>
        <p:blipFill>
          <a:blip r:embed="rId16"/>
          <a:stretch/>
        </p:blipFill>
        <p:spPr>
          <a:xfrm>
            <a:off x="4648320" y="4724280"/>
            <a:ext cx="21430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, tal como los conocemos hoy, son la suma de cuatro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icias y comentarios de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de utilidad (clima, carteleras, itinerarios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 y noticias pagadas o ins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cados de producto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mpleos, propiedades, automóvil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diario generales y otros dirigidos a un seg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entan con secciones dirigidas a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037" descr="periodi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5591160"/>
            <a:ext cx="1171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 electrónicos están comenzando a desplazar a los diarios tradi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accederá a la información en form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ector elegirá las secciones que de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ublicidad podrá incluir facilidades de multimedios e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demás estará mucho más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avisos económicos contendrán mucha más información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uctura que tengan es difícil de prede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l vez se trate de distint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46"/>
          <p:cNvGrpSpPr/>
          <p:nvPr/>
        </p:nvGrpSpPr>
        <p:grpSpPr>
          <a:xfrm>
            <a:off x="1122480" y="33480"/>
            <a:ext cx="7107120" cy="1690560"/>
            <a:chOff x="1122480" y="33480"/>
            <a:chExt cx="7107120" cy="1690560"/>
          </a:xfrm>
        </p:grpSpPr>
        <p:grpSp>
          <p:nvGrpSpPr>
            <p:cNvPr id="328" name="Group 1041"/>
            <p:cNvGrpSpPr/>
            <p:nvPr/>
          </p:nvGrpSpPr>
          <p:grpSpPr>
            <a:xfrm>
              <a:off x="1122480" y="33480"/>
              <a:ext cx="1677960" cy="868320"/>
              <a:chOff x="1122480" y="33480"/>
              <a:chExt cx="1677960" cy="868320"/>
            </a:xfrm>
          </p:grpSpPr>
          <p:sp>
            <p:nvSpPr>
              <p:cNvPr id="329" name="Rectangle 1040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026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043"/>
            <p:cNvGrpSpPr/>
            <p:nvPr/>
          </p:nvGrpSpPr>
          <p:grpSpPr>
            <a:xfrm>
              <a:off x="2800440" y="33480"/>
              <a:ext cx="3040200" cy="868320"/>
              <a:chOff x="2800440" y="33480"/>
              <a:chExt cx="3040200" cy="868320"/>
            </a:xfrm>
          </p:grpSpPr>
          <p:sp>
            <p:nvSpPr>
              <p:cNvPr id="332" name="Rectangle 1042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028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1045"/>
            <p:cNvGrpSpPr/>
            <p:nvPr/>
          </p:nvGrpSpPr>
          <p:grpSpPr>
            <a:xfrm>
              <a:off x="5840640" y="33480"/>
              <a:ext cx="2388960" cy="868320"/>
              <a:chOff x="5840640" y="33480"/>
              <a:chExt cx="2388960" cy="868320"/>
            </a:xfrm>
          </p:grpSpPr>
          <p:sp>
            <p:nvSpPr>
              <p:cNvPr id="335" name="Rectangle 1044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30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032"/>
            <p:cNvSpPr/>
            <p:nvPr/>
          </p:nvSpPr>
          <p:spPr>
            <a:xfrm>
              <a:off x="1122480" y="901800"/>
              <a:ext cx="1677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035"/>
            <p:cNvSpPr/>
            <p:nvPr/>
          </p:nvSpPr>
          <p:spPr>
            <a:xfrm>
              <a:off x="2800440" y="901800"/>
              <a:ext cx="30402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37"/>
            <p:cNvSpPr/>
            <p:nvPr/>
          </p:nvSpPr>
          <p:spPr>
            <a:xfrm>
              <a:off x="5840640" y="901800"/>
              <a:ext cx="23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059"/>
          <p:cNvGrpSpPr/>
          <p:nvPr/>
        </p:nvGrpSpPr>
        <p:grpSpPr>
          <a:xfrm>
            <a:off x="571680" y="1724040"/>
            <a:ext cx="7581240" cy="2849400"/>
            <a:chOff x="571680" y="1724040"/>
            <a:chExt cx="7581240" cy="2849400"/>
          </a:xfrm>
        </p:grpSpPr>
        <p:sp>
          <p:nvSpPr>
            <p:cNvPr id="341" name="Rectangle 1047"/>
            <p:cNvSpPr/>
            <p:nvPr/>
          </p:nvSpPr>
          <p:spPr>
            <a:xfrm>
              <a:off x="571680" y="1724040"/>
              <a:ext cx="230472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1056"/>
            <p:cNvGrpSpPr/>
            <p:nvPr/>
          </p:nvGrpSpPr>
          <p:grpSpPr>
            <a:xfrm>
              <a:off x="2876400" y="1724040"/>
              <a:ext cx="3108240" cy="396720"/>
              <a:chOff x="2876400" y="1724040"/>
              <a:chExt cx="3108240" cy="396720"/>
            </a:xfrm>
          </p:grpSpPr>
          <p:sp>
            <p:nvSpPr>
              <p:cNvPr id="343" name="Rectangle 1049"/>
              <p:cNvSpPr/>
              <p:nvPr/>
            </p:nvSpPr>
            <p:spPr>
              <a:xfrm>
                <a:off x="2876400" y="1724040"/>
                <a:ext cx="3107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SzPct val="85000"/>
                  <a:buFont typeface="Arial Narrow Special G2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1054"/>
              <p:cNvGrpSpPr/>
              <p:nvPr/>
            </p:nvGrpSpPr>
            <p:grpSpPr>
              <a:xfrm>
                <a:off x="2876400" y="1769760"/>
                <a:ext cx="3108240" cy="244080"/>
                <a:chOff x="2876400" y="1769760"/>
                <a:chExt cx="3108240" cy="244080"/>
              </a:xfrm>
            </p:grpSpPr>
            <p:sp>
              <p:nvSpPr>
                <p:cNvPr id="345" name="Rectangle 1050"/>
                <p:cNvSpPr/>
                <p:nvPr/>
              </p:nvSpPr>
              <p:spPr>
                <a:xfrm>
                  <a:off x="2876400" y="1769760"/>
                  <a:ext cx="310788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  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052"/>
                <p:cNvSpPr/>
                <p:nvPr/>
              </p:nvSpPr>
              <p:spPr>
                <a:xfrm>
                  <a:off x="5984280" y="1769760"/>
                  <a:ext cx="36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" name="Rectangle 1057"/>
            <p:cNvSpPr/>
            <p:nvPr/>
          </p:nvSpPr>
          <p:spPr>
            <a:xfrm>
              <a:off x="5984640" y="1724040"/>
              <a:ext cx="216828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1027" descr="sombrero1"/>
          <p:cNvPicPr/>
          <p:nvPr/>
        </p:nvPicPr>
        <p:blipFill>
          <a:blip r:embed="rId1"/>
          <a:stretch/>
        </p:blipFill>
        <p:spPr>
          <a:xfrm>
            <a:off x="1219320" y="79200"/>
            <a:ext cx="1417680" cy="435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29" descr="slogan"/>
          <p:cNvPicPr/>
          <p:nvPr/>
        </p:nvPicPr>
        <p:blipFill>
          <a:blip r:embed="rId2"/>
          <a:stretch/>
        </p:blipFill>
        <p:spPr>
          <a:xfrm>
            <a:off x="2417760" y="101520"/>
            <a:ext cx="3051000" cy="171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31" descr="logo1"/>
          <p:cNvPicPr/>
          <p:nvPr/>
        </p:nvPicPr>
        <p:blipFill>
          <a:blip r:embed="rId3"/>
          <a:stretch/>
        </p:blipFill>
        <p:spPr>
          <a:xfrm>
            <a:off x="5457960" y="414360"/>
            <a:ext cx="1885680" cy="46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33" descr="sombrero2"/>
          <p:cNvPicPr/>
          <p:nvPr/>
        </p:nvPicPr>
        <p:blipFill>
          <a:blip r:embed="rId4"/>
          <a:stretch/>
        </p:blipFill>
        <p:spPr>
          <a:xfrm>
            <a:off x="739800" y="947880"/>
            <a:ext cx="1542960" cy="56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34" descr="sombra"/>
          <p:cNvPicPr/>
          <p:nvPr/>
        </p:nvPicPr>
        <p:blipFill>
          <a:blip r:embed="rId5"/>
          <a:stretch/>
        </p:blipFill>
        <p:spPr>
          <a:xfrm>
            <a:off x="892080" y="1312920"/>
            <a:ext cx="492120" cy="57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36" descr="sombra"/>
          <p:cNvPicPr/>
          <p:nvPr/>
        </p:nvPicPr>
        <p:blipFill>
          <a:blip r:embed="rId6"/>
          <a:stretch/>
        </p:blipFill>
        <p:spPr>
          <a:xfrm>
            <a:off x="2417760" y="947880"/>
            <a:ext cx="3978360" cy="5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38" descr="logo2"/>
          <p:cNvPicPr/>
          <p:nvPr/>
        </p:nvPicPr>
        <p:blipFill>
          <a:blip r:embed="rId7"/>
          <a:stretch/>
        </p:blipFill>
        <p:spPr>
          <a:xfrm>
            <a:off x="5457960" y="947880"/>
            <a:ext cx="1885680" cy="56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39" descr="sombra"/>
          <p:cNvPicPr/>
          <p:nvPr/>
        </p:nvPicPr>
        <p:blipFill>
          <a:blip r:embed="rId8"/>
          <a:stretch/>
        </p:blipFill>
        <p:spPr>
          <a:xfrm>
            <a:off x="7372440" y="947880"/>
            <a:ext cx="1200240" cy="56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48" descr="cara"/>
          <p:cNvPicPr/>
          <p:nvPr/>
        </p:nvPicPr>
        <p:blipFill>
          <a:blip r:embed="rId9"/>
          <a:stretch/>
        </p:blipFill>
        <p:spPr>
          <a:xfrm>
            <a:off x="1219320" y="457200"/>
            <a:ext cx="2035080" cy="249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51" descr="flechita_amarilla"/>
          <p:cNvPicPr/>
          <p:nvPr/>
        </p:nvPicPr>
        <p:blipFill>
          <a:blip r:embed="rId10"/>
          <a:stretch/>
        </p:blipFill>
        <p:spPr>
          <a:xfrm>
            <a:off x="3003480" y="18162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58" descr="logo3"/>
          <p:cNvPicPr/>
          <p:nvPr/>
        </p:nvPicPr>
        <p:blipFill>
          <a:blip r:embed="rId11"/>
          <a:stretch/>
        </p:blipFill>
        <p:spPr>
          <a:xfrm>
            <a:off x="5486400" y="990720"/>
            <a:ext cx="1886040" cy="331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61" descr="cuerpo"/>
          <p:cNvPicPr/>
          <p:nvPr/>
        </p:nvPicPr>
        <p:blipFill>
          <a:blip r:embed="rId12"/>
          <a:stretch/>
        </p:blipFill>
        <p:spPr>
          <a:xfrm>
            <a:off x="1222200" y="2895480"/>
            <a:ext cx="3578400" cy="2206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062"/>
          <p:cNvSpPr/>
          <p:nvPr/>
        </p:nvSpPr>
        <p:spPr>
          <a:xfrm>
            <a:off x="4766400" y="2452680"/>
            <a:ext cx="223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99ccff"/>
                </a:solidFill>
                <a:uFillTx/>
                <a:latin typeface="Times New Roman"/>
                <a:hlinkClick r:id="rId13"/>
              </a:rPr>
              <a:t>www.laborum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mos en presencia de una discontinuidad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1056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10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Freeform 18"/>
          <p:cNvSpPr/>
          <p:nvPr/>
        </p:nvSpPr>
        <p:spPr>
          <a:xfrm>
            <a:off x="3200400" y="3886200"/>
            <a:ext cx="2057400" cy="1752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ambios tecnológicos pueden cambiar radicalmente la forma de compet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ockbuster: Crónica de una resurrección anu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mayor cadena de arriendo de videos en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ualizó que su industria cambi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OD: video on deman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está preparando para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 no haberlo hecho habría desapa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219320" y="1752480"/>
            <a:ext cx="72388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home_logo"/>
          <p:cNvPicPr/>
          <p:nvPr/>
        </p:nvPicPr>
        <p:blipFill>
          <a:blip r:embed="rId1"/>
          <a:stretch/>
        </p:blipFill>
        <p:spPr>
          <a:xfrm>
            <a:off x="6934320" y="4419720"/>
            <a:ext cx="17715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ueva tecnología está inmadura y no ofrece una competencia real a la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 nueva tecnología tiene una aplic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s veces el rendimiento se mide en otr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ta etapa puede prolongarse por un largo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adores de texto v/s máquina de 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elo natural v/s hielo fabr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ubos al vacío v/s transi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 el potencial de progreso de la nueva tecnología es mayor, por lo que termina superando a la existente en una o todas las dimensiones de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canza un período de rápido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actuales jugadores se defienden mejorand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y/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 usual ver importantes mejoras e innovaciones en la tecnologí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s en el proceso del hielo natural (tracción, instru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ón de las compañías de gas ante la entrada de la lámpara de Edison, creando la “camisa de Welsbash” aumentando la eficiencia en cinco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uchas veces las empresas antiguas no visualizan la dimensión de la amena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051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Freeform 21"/>
          <p:cNvSpPr/>
          <p:nvPr/>
        </p:nvSpPr>
        <p:spPr>
          <a:xfrm>
            <a:off x="3124080" y="3886200"/>
            <a:ext cx="21337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22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mpetidores presentan miopía por distinta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omienzo no es claro que la nueva tecnología tenga éx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compañías existentes no tienen los conocimientos necesarios para abordar las nuevas 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encontramos tecnologías y formas de comercializar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 grandes inversiones en gente, equipos, plantas, insumos y conocimientos, muy ligados a la tecnología anti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actitud de “dormirse en los laur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es fácil traspasar las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sólo la marca parece traspa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 necesario desviar esfuerzos de los actuales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lgo similar a lo que ocurre con los diarios está ocurriendo con la mús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án entrando múltiple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dio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itre AM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rd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ciu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vie 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 Ne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 claro cuál será el diseño de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scripciones de nuevos lanz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rciones para escu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distintas industrias se pueden apreciar diseños domina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1063"/>
          <p:cNvGraphicFramePr/>
          <p:nvPr/>
        </p:nvGraphicFramePr>
        <p:xfrm>
          <a:off x="1523880" y="2057400"/>
          <a:ext cx="647712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1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4771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7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7" descr="http://tbn2.google.com/images?q=tbn:RlDGj2nlgAhoMM:http://mujeronconstantsorrow.blogia.com/upload/20070130213150-underwood-204-20wagn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77160" y="3049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http://tbn3.google.com/images?q=tbn:koM7tYfpzAHj3M:http://www.pdm.com.co/images/Noticias/Images%2520Noticias%2520Jun01-Ago31%25202006/IBM%2520PC%25205150.jpg"/>
          <p:cNvPicPr/>
          <p:nvPr/>
        </p:nvPicPr>
        <p:blipFill>
          <a:blip r:embed="rId5"/>
          <a:stretch/>
        </p:blipFill>
        <p:spPr>
          <a:xfrm>
            <a:off x="8067600" y="457200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rayectorias de diseño están determinadas por factores técnicos y de merc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31"/>
          <p:cNvSpPr/>
          <p:nvPr/>
        </p:nvSpPr>
        <p:spPr>
          <a:xfrm>
            <a:off x="2117880" y="2933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32"/>
          <p:cNvSpPr/>
          <p:nvPr/>
        </p:nvSpPr>
        <p:spPr>
          <a:xfrm>
            <a:off x="586692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3"/>
          <p:cNvSpPr/>
          <p:nvPr/>
        </p:nvSpPr>
        <p:spPr>
          <a:xfrm>
            <a:off x="5638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34"/>
          <p:cNvSpPr/>
          <p:nvPr/>
        </p:nvSpPr>
        <p:spPr>
          <a:xfrm>
            <a:off x="5315400" y="55767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eñ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35"/>
          <p:cNvSpPr/>
          <p:nvPr/>
        </p:nvSpPr>
        <p:spPr>
          <a:xfrm flipH="1">
            <a:off x="2971440" y="2895480"/>
            <a:ext cx="15238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36"/>
          <p:cNvSpPr/>
          <p:nvPr/>
        </p:nvSpPr>
        <p:spPr>
          <a:xfrm>
            <a:off x="3657600" y="3733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37"/>
          <p:cNvSpPr/>
          <p:nvPr/>
        </p:nvSpPr>
        <p:spPr>
          <a:xfrm>
            <a:off x="4495680" y="28954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38"/>
          <p:cNvSpPr/>
          <p:nvPr/>
        </p:nvSpPr>
        <p:spPr>
          <a:xfrm flipH="1">
            <a:off x="5105160" y="36576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39"/>
          <p:cNvSpPr/>
          <p:nvPr/>
        </p:nvSpPr>
        <p:spPr>
          <a:xfrm>
            <a:off x="36576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41"/>
          <p:cNvSpPr/>
          <p:nvPr/>
        </p:nvSpPr>
        <p:spPr>
          <a:xfrm>
            <a:off x="43434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42"/>
          <p:cNvSpPr/>
          <p:nvPr/>
        </p:nvSpPr>
        <p:spPr>
          <a:xfrm>
            <a:off x="662940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43"/>
          <p:cNvSpPr/>
          <p:nvPr/>
        </p:nvSpPr>
        <p:spPr>
          <a:xfrm>
            <a:off x="5638680" y="36576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44"/>
          <p:cNvSpPr/>
          <p:nvPr/>
        </p:nvSpPr>
        <p:spPr>
          <a:xfrm flipH="1">
            <a:off x="26665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45"/>
          <p:cNvSpPr/>
          <p:nvPr/>
        </p:nvSpPr>
        <p:spPr>
          <a:xfrm>
            <a:off x="29718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46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47"/>
          <p:cNvSpPr/>
          <p:nvPr/>
        </p:nvSpPr>
        <p:spPr>
          <a:xfrm>
            <a:off x="3657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48"/>
          <p:cNvSpPr/>
          <p:nvPr/>
        </p:nvSpPr>
        <p:spPr>
          <a:xfrm flipH="1">
            <a:off x="480024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49"/>
          <p:cNvSpPr/>
          <p:nvPr/>
        </p:nvSpPr>
        <p:spPr>
          <a:xfrm>
            <a:off x="510552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50"/>
          <p:cNvSpPr/>
          <p:nvPr/>
        </p:nvSpPr>
        <p:spPr>
          <a:xfrm flipH="1">
            <a:off x="5638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51"/>
          <p:cNvSpPr/>
          <p:nvPr/>
        </p:nvSpPr>
        <p:spPr>
          <a:xfrm>
            <a:off x="5943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¿Qué se impondrá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as movidas 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kia se asocia con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le permite venta de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B tiene su propio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P no se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2" descr="http://tbn0.google.com/images?q=tbn:vaW08SgYE2wzIM:http://culturacion.com/wp-content/uploads/2009/07/advent_netbook.jpg"/>
          <p:cNvPicPr/>
          <p:nvPr/>
        </p:nvPicPr>
        <p:blipFill>
          <a:blip r:embed="rId1"/>
          <a:stretch/>
        </p:blipFill>
        <p:spPr>
          <a:xfrm>
            <a:off x="1219320" y="4648320"/>
            <a:ext cx="1199880" cy="107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tbn3.google.com/images?q=tbn:MAPP_wDrz_sx7M:http://www.ipodtotal.com/imagenes/noticias2/ipod-touch.jpg"/>
          <p:cNvPicPr/>
          <p:nvPr/>
        </p:nvPicPr>
        <p:blipFill>
          <a:blip r:embed="rId2"/>
          <a:stretch/>
        </p:blipFill>
        <p:spPr>
          <a:xfrm>
            <a:off x="2743200" y="4495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http://tbn1.google.com/images?q=tbn:SvhNleYtsJNQ0M:http://tendenciamovil.com/uploads/Nokia_N_gage.jpg"/>
          <p:cNvPicPr/>
          <p:nvPr/>
        </p:nvPicPr>
        <p:blipFill>
          <a:blip r:embed="rId3"/>
          <a:stretch/>
        </p:blipFill>
        <p:spPr>
          <a:xfrm>
            <a:off x="4114800" y="480060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tbn3.google.com/images?q=tbn:vubrXs_o-t1hjM:http://img.blogdeblogs.com/gizig/uploads/2008/09/rim_blackberry_thunder_9500_series.jpg"/>
          <p:cNvPicPr/>
          <p:nvPr/>
        </p:nvPicPr>
        <p:blipFill>
          <a:blip r:embed="rId4"/>
          <a:stretch/>
        </p:blipFill>
        <p:spPr>
          <a:xfrm>
            <a:off x="6172200" y="4572000"/>
            <a:ext cx="857160" cy="119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http://tbn3.google.com/images?q=tbn:r9xzm5OgDw5B6M:http://pocketnow.com/html/portal/news/0000004418/NewsImage/ipaq.jpg"/>
          <p:cNvPicPr/>
          <p:nvPr/>
        </p:nvPicPr>
        <p:blipFill>
          <a:blip r:embed="rId5"/>
          <a:stretch/>
        </p:blipFill>
        <p:spPr>
          <a:xfrm>
            <a:off x="7620120" y="457200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Reconocimiento de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 primera empresa en traer soluciones a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i no se 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 Stadio Italiano incorpora reconocimiento de palmas al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el Registro Civil cre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Fonasa incorpora huella digital en la venta de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dbank anuncia que incorporará reconocimiento de huella digital en caj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gistro Civil anuncia que en 2004 pondrá a la vent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IBM anuncia notebook con lector de hu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28"/>
          <p:cNvSpPr/>
          <p:nvPr/>
        </p:nvSpPr>
        <p:spPr>
          <a:xfrm>
            <a:off x="1219320" y="14479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Federal Express ganó varios años de ventaja combinando tecnologías exist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rvicio de taxis de alcance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lasificación de un sistema postal sin marge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logística de una aerolínea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istemas de información para entregar datos al i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219320" y="1676520"/>
            <a:ext cx="73152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globalhome_fedex_corp_logo"/>
          <p:cNvPicPr/>
          <p:nvPr/>
        </p:nvPicPr>
        <p:blipFill>
          <a:blip r:embed="rId1"/>
          <a:stretch/>
        </p:blipFill>
        <p:spPr>
          <a:xfrm>
            <a:off x="4800600" y="5105520"/>
            <a:ext cx="1736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Como se manejará la seguridad no es clar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facial 3D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voz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etina/iri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fir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palma y dedos (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huella digital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movimiento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itmo de te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múltiple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) Numero de empresas existentes e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No todas las tecnologías tienen igual costo ni funcion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279440" y="1995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2115000" y="5029200"/>
            <a:ext cx="6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2113920" y="4114800"/>
            <a:ext cx="8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330720" y="4114800"/>
            <a:ext cx="15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no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5082120" y="4114800"/>
            <a:ext cx="8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414880" y="3352680"/>
            <a:ext cx="20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uella (99,9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4476240" y="3048120"/>
            <a:ext cx="5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5620320" y="28195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73760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1752480" y="24382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1752480" y="5562720"/>
            <a:ext cx="6477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3733920" y="1981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 hay que considerar que tan intrusivas son y si son difíciles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ada vez es más claro cual se impondr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118116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diseño dominante no siempre es el producto más sofisti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 producto que cumple con la mayoría de los requisitos que los consumidores están buscando y que aparece en el mercado cuando las necesidades de los consumidores están bien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menudo se trata de una síntesis de innovaciones anteriores más un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eo visible en máquinas de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:Suárez y Utter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eños dominantes y la supervivencia de las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8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diseño puede transformarse en dominante por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ara superioridad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Ampol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cia de una externalidad de red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producto es atractivo en la medida que muchos lo te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tarjetas de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obras estratégicas por parte de las empresas involuc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Videos Sony v/s JVC (estableció alianz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sesión de archivos colaterales por parte de alg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anales de comercialización, marca o costos de cambio para 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C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gulación de la industria o regulación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utos cata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de RCA en televi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14300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asterCard y Visa se unen estableciendo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sterCard y Visa acordaron una norma única para las transacciones por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e es Secure Electronic Transactions (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debió a la presión de los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ntes cada una tenía su propio proto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o atrajo a múltiples proveedore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rantizar la reserva en la información. Baja el riesgo de fraude por intercep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segurar la integridad de los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rificar que el titular sea usuario legítimo de la cu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ilitar y alentar la interoperabilidad entre proveedores de redes 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28"/>
          <p:cNvSpPr/>
          <p:nvPr/>
        </p:nvSpPr>
        <p:spPr>
          <a:xfrm>
            <a:off x="1219320" y="160020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rgimiento de un diseño dominante marcará el comienzo de un período de drástica reducción de firmas en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quellas empresas que no puedan cruzar la barrera hacia mayor enfoque en la innovación de procesos serán incapaces de competir efe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ncapacidad de una empresa para alterar su estructura organizacional y prácticas, de acuerdo a la evolución de la tecnología, será lo que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tiva redundará en su fracas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13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sten distintas etapas en la evolución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cada etapa las reglas para competir son disti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or ejemplo, las economías de escala no son válidas en la etapa pre-paradigmá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más probable que sobreviva una empresa que se formó antes del establecimiento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número de empresas aumentará hasta que se imponga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29"/>
          <p:cNvSpPr/>
          <p:nvPr/>
        </p:nvSpPr>
        <p:spPr>
          <a:xfrm>
            <a:off x="1524960" y="19051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úmero de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30"/>
          <p:cNvSpPr/>
          <p:nvPr/>
        </p:nvSpPr>
        <p:spPr>
          <a:xfrm>
            <a:off x="4634640" y="5600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32"/>
          <p:cNvSpPr/>
          <p:nvPr/>
        </p:nvSpPr>
        <p:spPr>
          <a:xfrm>
            <a:off x="487836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Object 2063"/>
          <p:cNvGraphicFramePr/>
          <p:nvPr/>
        </p:nvGraphicFramePr>
        <p:xfrm>
          <a:off x="1447920" y="2209680"/>
          <a:ext cx="664056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66405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Freeform 1040"/>
          <p:cNvSpPr/>
          <p:nvPr/>
        </p:nvSpPr>
        <p:spPr>
          <a:xfrm>
            <a:off x="2209680" y="2971800"/>
            <a:ext cx="4724640" cy="163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1041"/>
          <p:cNvSpPr/>
          <p:nvPr/>
        </p:nvSpPr>
        <p:spPr>
          <a:xfrm>
            <a:off x="2057400" y="2590920"/>
            <a:ext cx="4724280" cy="207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n el caso de los proveedores de Internet, se puede apreciar el efecto del establecimiento de un diseño dominante sobre el número de competi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29"/>
          <p:cNvSpPr/>
          <p:nvPr/>
        </p:nvSpPr>
        <p:spPr>
          <a:xfrm>
            <a:off x="2208960" y="1905120"/>
            <a:ext cx="48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olidación del mercado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30"/>
          <p:cNvSpPr/>
          <p:nvPr/>
        </p:nvSpPr>
        <p:spPr>
          <a:xfrm>
            <a:off x="1355760" y="24004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rov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31"/>
          <p:cNvSpPr/>
          <p:nvPr/>
        </p:nvSpPr>
        <p:spPr>
          <a:xfrm>
            <a:off x="1512000" y="5624640"/>
            <a:ext cx="29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Yankee Group, abril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33"/>
          <p:cNvSpPr/>
          <p:nvPr/>
        </p:nvSpPr>
        <p:spPr>
          <a:xfrm>
            <a:off x="23637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34"/>
          <p:cNvSpPr/>
          <p:nvPr/>
        </p:nvSpPr>
        <p:spPr>
          <a:xfrm>
            <a:off x="44211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35"/>
          <p:cNvSpPr/>
          <p:nvPr/>
        </p:nvSpPr>
        <p:spPr>
          <a:xfrm>
            <a:off x="33544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36"/>
          <p:cNvSpPr/>
          <p:nvPr/>
        </p:nvSpPr>
        <p:spPr>
          <a:xfrm>
            <a:off x="640260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37"/>
          <p:cNvSpPr/>
          <p:nvPr/>
        </p:nvSpPr>
        <p:spPr>
          <a:xfrm>
            <a:off x="739296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38"/>
          <p:cNvSpPr/>
          <p:nvPr/>
        </p:nvSpPr>
        <p:spPr>
          <a:xfrm>
            <a:off x="54118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39"/>
          <p:cNvSpPr/>
          <p:nvPr/>
        </p:nvSpPr>
        <p:spPr>
          <a:xfrm>
            <a:off x="1371600" y="2743200"/>
            <a:ext cx="698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41"/>
          <p:cNvSpPr/>
          <p:nvPr/>
        </p:nvSpPr>
        <p:spPr>
          <a:xfrm>
            <a:off x="3429360" y="27432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45"/>
          <p:cNvSpPr/>
          <p:nvPr/>
        </p:nvSpPr>
        <p:spPr>
          <a:xfrm>
            <a:off x="754488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2068"/>
          <p:cNvGraphicFramePr/>
          <p:nvPr/>
        </p:nvGraphicFramePr>
        <p:xfrm>
          <a:off x="2209680" y="3048120"/>
          <a:ext cx="624852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0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624852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1047"/>
          <p:cNvSpPr/>
          <p:nvPr/>
        </p:nvSpPr>
        <p:spPr>
          <a:xfrm>
            <a:off x="7544880" y="4724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48"/>
          <p:cNvSpPr/>
          <p:nvPr/>
        </p:nvSpPr>
        <p:spPr>
          <a:xfrm>
            <a:off x="2439360" y="4419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49"/>
          <p:cNvSpPr/>
          <p:nvPr/>
        </p:nvSpPr>
        <p:spPr>
          <a:xfrm>
            <a:off x="4496760" y="3809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050"/>
          <p:cNvSpPr/>
          <p:nvPr/>
        </p:nvSpPr>
        <p:spPr>
          <a:xfrm>
            <a:off x="5563440" y="4343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51"/>
          <p:cNvSpPr/>
          <p:nvPr/>
        </p:nvSpPr>
        <p:spPr>
          <a:xfrm>
            <a:off x="6554160" y="4572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volución del e-busi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066680" y="1143000"/>
            <a:ext cx="8001000" cy="5181120"/>
            <a:chOff x="1066680" y="1143000"/>
            <a:chExt cx="8001000" cy="5181120"/>
          </a:xfrm>
        </p:grpSpPr>
        <p:sp>
          <p:nvSpPr>
            <p:cNvPr id="155" name="Rectangle 4"/>
            <p:cNvSpPr/>
            <p:nvPr/>
          </p:nvSpPr>
          <p:spPr>
            <a:xfrm>
              <a:off x="1066680" y="6019560"/>
              <a:ext cx="8001000" cy="304560"/>
            </a:xfrm>
            <a:prstGeom prst="rect">
              <a:avLst/>
            </a:prstGeom>
            <a:gradFill rotWithShape="0">
              <a:gsLst>
                <a:gs pos="0">
                  <a:srgbClr val="670cec"/>
                </a:gs>
                <a:gs pos="100000">
                  <a:srgbClr val="faf7fe"/>
                </a:gs>
              </a:gsLst>
              <a:lin ang="0"/>
            </a:gradFill>
            <a:ln w="9360">
              <a:solidFill>
                <a:srgbClr val="670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066680" y="1180800"/>
              <a:ext cx="7620120" cy="380880"/>
            </a:xfrm>
            <a:prstGeom prst="rect">
              <a:avLst/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1219320" y="1218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ffffff"/>
                  </a:solidFill>
                  <a:latin typeface="Tahoma"/>
                </a:rPr>
                <a:t>Tempr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 rot="5400000">
              <a:off x="44956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8"/>
            <p:cNvSpPr/>
            <p:nvPr/>
          </p:nvSpPr>
          <p:spPr>
            <a:xfrm rot="5400000">
              <a:off x="44193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 rot="5400000">
              <a:off x="43434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4952880" y="121896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Integr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 rot="5400000">
              <a:off x="70102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 rot="5400000">
              <a:off x="69339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3"/>
            <p:cNvSpPr/>
            <p:nvPr/>
          </p:nvSpPr>
          <p:spPr>
            <a:xfrm rot="5400000">
              <a:off x="68580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7315200" y="12189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Avan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>
            <a:off x="22860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35812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487692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61722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74674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3581280" y="1676520"/>
            <a:ext cx="1981440" cy="4619880"/>
            <a:chOff x="3581280" y="1676520"/>
            <a:chExt cx="1981440" cy="4619880"/>
          </a:xfrm>
        </p:grpSpPr>
        <p:sp>
          <p:nvSpPr>
            <p:cNvPr id="172" name="Rectangle 21"/>
            <p:cNvSpPr/>
            <p:nvPr/>
          </p:nvSpPr>
          <p:spPr>
            <a:xfrm>
              <a:off x="3657600" y="1676520"/>
              <a:ext cx="1143000" cy="685800"/>
            </a:xfrm>
            <a:prstGeom prst="rect">
              <a:avLst/>
            </a:prstGeom>
            <a:solidFill>
              <a:srgbClr val="b18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77208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Tramit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3657600" y="2667240"/>
              <a:ext cx="121932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permitir que sus clientes hagan transacciones de una o dos vías hacia el núcleo de sus sistemas inter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35812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434340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2286000" y="1676520"/>
            <a:ext cx="1981080" cy="4619880"/>
            <a:chOff x="2286000" y="1676520"/>
            <a:chExt cx="1981080" cy="4619880"/>
          </a:xfrm>
        </p:grpSpPr>
        <p:sp>
          <p:nvSpPr>
            <p:cNvPr id="178" name="Rectangle 27"/>
            <p:cNvSpPr/>
            <p:nvPr/>
          </p:nvSpPr>
          <p:spPr>
            <a:xfrm>
              <a:off x="2362320" y="1676520"/>
              <a:ext cx="1143000" cy="685800"/>
            </a:xfrm>
            <a:prstGeom prst="rect">
              <a:avLst/>
            </a:prstGeom>
            <a:solidFill>
              <a:srgbClr val="a20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247644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ublic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9"/>
            <p:cNvSpPr/>
            <p:nvPr/>
          </p:nvSpPr>
          <p:spPr>
            <a:xfrm>
              <a:off x="2362320" y="2652840"/>
              <a:ext cx="12189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antiene Sitio de Web con varias pág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e-mail, comunicación de una vía y / o publica información de la empresa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0"/>
            <p:cNvSpPr/>
            <p:nvPr/>
          </p:nvSpPr>
          <p:spPr>
            <a:xfrm>
              <a:off x="22860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1"/>
            <p:cNvSpPr/>
            <p:nvPr/>
          </p:nvSpPr>
          <p:spPr>
            <a:xfrm>
              <a:off x="30481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d3b7fb"/>
                  </a:solidFill>
                  <a:latin typeface="Tahoma"/>
                </a:rPr>
                <a:t>7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2"/>
          <p:cNvGrpSpPr/>
          <p:nvPr/>
        </p:nvGrpSpPr>
        <p:grpSpPr>
          <a:xfrm>
            <a:off x="4952880" y="1676520"/>
            <a:ext cx="1905120" cy="4619880"/>
            <a:chOff x="4952880" y="1676520"/>
            <a:chExt cx="1905120" cy="4619880"/>
          </a:xfrm>
        </p:grpSpPr>
        <p:sp>
          <p:nvSpPr>
            <p:cNvPr id="184" name="Rectangle 33"/>
            <p:cNvSpPr/>
            <p:nvPr/>
          </p:nvSpPr>
          <p:spPr>
            <a:xfrm>
              <a:off x="4952880" y="1676520"/>
              <a:ext cx="1143000" cy="685800"/>
            </a:xfrm>
            <a:prstGeom prst="rect">
              <a:avLst/>
            </a:prstGeom>
            <a:solidFill>
              <a:srgbClr val="d3b7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495288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In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4952880" y="2667240"/>
              <a:ext cx="12193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de negocios por medio de la integración de sus aplicaciones y sistemas intern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6"/>
            <p:cNvSpPr/>
            <p:nvPr/>
          </p:nvSpPr>
          <p:spPr>
            <a:xfrm>
              <a:off x="49528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7"/>
            <p:cNvSpPr/>
            <p:nvPr/>
          </p:nvSpPr>
          <p:spPr>
            <a:xfrm>
              <a:off x="563868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6248520" y="1676520"/>
            <a:ext cx="1904760" cy="4619880"/>
            <a:chOff x="6248520" y="1676520"/>
            <a:chExt cx="1904760" cy="4619880"/>
          </a:xfrm>
        </p:grpSpPr>
        <p:sp>
          <p:nvSpPr>
            <p:cNvPr id="190" name="Rectangle 39"/>
            <p:cNvSpPr/>
            <p:nvPr/>
          </p:nvSpPr>
          <p:spPr>
            <a:xfrm>
              <a:off x="6248520" y="1676520"/>
              <a:ext cx="1143000" cy="685800"/>
            </a:xfrm>
            <a:prstGeom prst="rect">
              <a:avLst/>
            </a:prstGeom>
            <a:solidFill>
              <a:srgbClr val="f3e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0"/>
            <p:cNvSpPr/>
            <p:nvPr/>
          </p:nvSpPr>
          <p:spPr>
            <a:xfrm>
              <a:off x="624852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Ex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6248520" y="2667240"/>
              <a:ext cx="121896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por medio de la integración a través de procesos que incluyen otras empres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62485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69343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7543800" y="1676520"/>
            <a:ext cx="1676520" cy="4619880"/>
            <a:chOff x="7543800" y="1676520"/>
            <a:chExt cx="1676520" cy="4619880"/>
          </a:xfrm>
        </p:grpSpPr>
        <p:sp>
          <p:nvSpPr>
            <p:cNvPr id="196" name="Rectangle 45"/>
            <p:cNvSpPr/>
            <p:nvPr/>
          </p:nvSpPr>
          <p:spPr>
            <a:xfrm>
              <a:off x="7543800" y="1676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6"/>
            <p:cNvSpPr/>
            <p:nvPr/>
          </p:nvSpPr>
          <p:spPr>
            <a:xfrm>
              <a:off x="754380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daptación Dinámic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7"/>
            <p:cNvSpPr/>
            <p:nvPr/>
          </p:nvSpPr>
          <p:spPr>
            <a:xfrm>
              <a:off x="7543800" y="2667240"/>
              <a:ext cx="1295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como el cimiento para participar en comunidades digit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8"/>
            <p:cNvSpPr/>
            <p:nvPr/>
          </p:nvSpPr>
          <p:spPr>
            <a:xfrm>
              <a:off x="75438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9"/>
            <p:cNvSpPr/>
            <p:nvPr/>
          </p:nvSpPr>
          <p:spPr>
            <a:xfrm>
              <a:off x="8381880" y="601992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50"/>
          <p:cNvGrpSpPr/>
          <p:nvPr/>
        </p:nvGrpSpPr>
        <p:grpSpPr>
          <a:xfrm>
            <a:off x="990720" y="1676520"/>
            <a:ext cx="1295280" cy="4314960"/>
            <a:chOff x="990720" y="1676520"/>
            <a:chExt cx="1295280" cy="4314960"/>
          </a:xfrm>
        </p:grpSpPr>
        <p:sp>
          <p:nvSpPr>
            <p:cNvPr id="202" name="Text Box 51"/>
            <p:cNvSpPr/>
            <p:nvPr/>
          </p:nvSpPr>
          <p:spPr>
            <a:xfrm>
              <a:off x="9907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990720" y="2667240"/>
              <a:ext cx="12952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stablecimiento Computarizad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uede que use el Web para e-mail y / o un sitio Web con una página de inici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3"/>
            <p:cNvSpPr/>
            <p:nvPr/>
          </p:nvSpPr>
          <p:spPr>
            <a:xfrm>
              <a:off x="1066680" y="1676520"/>
              <a:ext cx="1143000" cy="685800"/>
            </a:xfrm>
            <a:prstGeom prst="rect">
              <a:avLst/>
            </a:prstGeom>
            <a:solidFill>
              <a:srgbClr val="820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1181160" y="1828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" name="Object 55"/>
          <p:cNvGraphicFramePr/>
          <p:nvPr/>
        </p:nvGraphicFramePr>
        <p:xfrm>
          <a:off x="1066680" y="1477800"/>
          <a:ext cx="73756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77800"/>
                    <a:ext cx="7375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nvergía de med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0" name="Picture 3" descr="MCj04040590000[1]"/>
          <p:cNvPicPr/>
          <p:nvPr/>
        </p:nvPicPr>
        <p:blipFill>
          <a:blip r:embed="rId1"/>
          <a:stretch/>
        </p:blipFill>
        <p:spPr>
          <a:xfrm>
            <a:off x="1066680" y="15238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MCj02901240000[1]"/>
          <p:cNvPicPr/>
          <p:nvPr/>
        </p:nvPicPr>
        <p:blipFill>
          <a:blip r:embed="rId2"/>
          <a:stretch/>
        </p:blipFill>
        <p:spPr>
          <a:xfrm>
            <a:off x="5486400" y="1828800"/>
            <a:ext cx="1006560" cy="892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MCj03969380000[1]"/>
          <p:cNvPicPr/>
          <p:nvPr/>
        </p:nvPicPr>
        <p:blipFill>
          <a:blip r:embed="rId3"/>
          <a:stretch/>
        </p:blipFill>
        <p:spPr>
          <a:xfrm>
            <a:off x="4038480" y="3352680"/>
            <a:ext cx="814680" cy="644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ipod-nano"/>
          <p:cNvPicPr/>
          <p:nvPr/>
        </p:nvPicPr>
        <p:blipFill>
          <a:blip r:embed="rId4"/>
          <a:stretch/>
        </p:blipFill>
        <p:spPr>
          <a:xfrm>
            <a:off x="6629400" y="2666880"/>
            <a:ext cx="1181160" cy="924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VHS"/>
          <p:cNvPicPr/>
          <p:nvPr/>
        </p:nvPicPr>
        <p:blipFill>
          <a:blip r:embed="rId5"/>
          <a:stretch/>
        </p:blipFill>
        <p:spPr>
          <a:xfrm>
            <a:off x="1828800" y="3581280"/>
            <a:ext cx="1190520" cy="943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DVD-Logo-Color1"/>
          <p:cNvPicPr/>
          <p:nvPr/>
        </p:nvPicPr>
        <p:blipFill>
          <a:blip r:embed="rId6"/>
          <a:stretch/>
        </p:blipFill>
        <p:spPr>
          <a:xfrm>
            <a:off x="5410080" y="4343400"/>
            <a:ext cx="1247760" cy="695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periodico"/>
          <p:cNvPicPr/>
          <p:nvPr/>
        </p:nvPicPr>
        <p:blipFill>
          <a:blip r:embed="rId7"/>
          <a:stretch/>
        </p:blipFill>
        <p:spPr>
          <a:xfrm>
            <a:off x="3657600" y="4724280"/>
            <a:ext cx="1171440" cy="1266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F200706281358462122148392"/>
          <p:cNvPicPr/>
          <p:nvPr/>
        </p:nvPicPr>
        <p:blipFill>
          <a:blip r:embed="rId8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6" descr="palm-m505-p01"/>
          <p:cNvPicPr/>
          <p:nvPr/>
        </p:nvPicPr>
        <p:blipFill>
          <a:blip r:embed="rId9"/>
          <a:stretch/>
        </p:blipFill>
        <p:spPr>
          <a:xfrm>
            <a:off x="1752480" y="487692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RMG239"/>
          <p:cNvPicPr/>
          <p:nvPr/>
        </p:nvPicPr>
        <p:blipFill>
          <a:blip r:embed="rId10"/>
          <a:stretch/>
        </p:blipFill>
        <p:spPr>
          <a:xfrm>
            <a:off x="7315200" y="1219320"/>
            <a:ext cx="1104840" cy="113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celular"/>
          <p:cNvPicPr/>
          <p:nvPr/>
        </p:nvPicPr>
        <p:blipFill>
          <a:blip r:embed="rId11"/>
          <a:stretch/>
        </p:blipFill>
        <p:spPr>
          <a:xfrm>
            <a:off x="2743200" y="1447920"/>
            <a:ext cx="885960" cy="11048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0" descr="Skype"/>
          <p:cNvPicPr/>
          <p:nvPr/>
        </p:nvPicPr>
        <p:blipFill>
          <a:blip r:embed="rId12"/>
          <a:stretch/>
        </p:blipFill>
        <p:spPr>
          <a:xfrm>
            <a:off x="6477120" y="5029200"/>
            <a:ext cx="214308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¿Quién gana y quién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pierde con la innovación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se ganó innovan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073"/>
          <p:cNvGraphicFramePr/>
          <p:nvPr/>
        </p:nvGraphicFramePr>
        <p:xfrm>
          <a:off x="1295280" y="2209680"/>
          <a:ext cx="74678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Object 20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467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eece plantea que hay tres elementos básicos que explican quién se beneficia con la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égimen de apropiabilidad impe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ctiv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radigma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strategia de la empresa (Suáre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apropiabilidad indica la posibilidad de conservar una innovación sin ser imi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strumentos 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a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rechos de a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ret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turaleza de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ducto o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ácita o cod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activos complementarios son los que deben ser utilizados en conjunto con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necesitan ser adecuados a la medida de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un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-especi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b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posibilidad de éxito depende del momento del desarrollo del producto o proce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endiendo de si surgió o no el diseño dominante nos encontramos con las etapas pre y post paradig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innovación se produce antes del establecimiento del diseño dominante y es fácil de imitar o mejorar, los imitadores pueden lograr establecer el diseño dominante en perjuicio del cr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2053"/>
          <p:cNvGraphicFramePr/>
          <p:nvPr/>
        </p:nvGraphicFramePr>
        <p:xfrm>
          <a:off x="1295280" y="2438280"/>
          <a:ext cx="74678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8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467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Object 2"/>
          <p:cNvGraphicFramePr/>
          <p:nvPr/>
        </p:nvGraphicFramePr>
        <p:xfrm>
          <a:off x="2209680" y="2438280"/>
          <a:ext cx="655344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65534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7"/>
          <p:cNvSpPr/>
          <p:nvPr/>
        </p:nvSpPr>
        <p:spPr>
          <a:xfrm rot="16200000">
            <a:off x="-49320" y="35521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requerido para posicion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Con relación a los competi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apropiabilidad y la posesión de activos complementarios definen el éxito de los innov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7"/>
          <p:cNvGraphicFramePr/>
          <p:nvPr/>
        </p:nvGraphicFramePr>
        <p:xfrm>
          <a:off x="1219320" y="1905120"/>
          <a:ext cx="75438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543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Innov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respir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alimentarse y abrigarse en el espacio el hombre tuvo que desarrollar múltiples inno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á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paraíso ciudad de cerros obligo a instalar asc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el hombre quiso volar como las 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as sobre el agua permiten convivir con las m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ndia sin pepas / Bio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13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simple la forma de acceder a los recurs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447920" y="2362320"/>
            <a:ext cx="20574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novación h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 el acces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el éxito co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371600" y="4038480"/>
            <a:ext cx="23623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ercialice de inmedi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1905120" y="5715000"/>
            <a:ext cx="106668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gr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3962520" y="20574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eci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5"/>
          <p:cNvSpPr/>
          <p:nvPr/>
        </p:nvSpPr>
        <p:spPr>
          <a:xfrm>
            <a:off x="7010280" y="220968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7010280" y="30481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7010280" y="39625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7010280" y="48769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2"/>
          <p:cNvSpPr/>
          <p:nvPr/>
        </p:nvSpPr>
        <p:spPr>
          <a:xfrm>
            <a:off x="7010280" y="571500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3"/>
          <p:cNvSpPr/>
          <p:nvPr/>
        </p:nvSpPr>
        <p:spPr>
          <a:xfrm>
            <a:off x="64008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>
            <a:off x="64008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5"/>
          <p:cNvSpPr/>
          <p:nvPr/>
        </p:nvSpPr>
        <p:spPr>
          <a:xfrm>
            <a:off x="64008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36"/>
          <p:cNvSpPr/>
          <p:nvPr/>
        </p:nvSpPr>
        <p:spPr>
          <a:xfrm>
            <a:off x="64008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>
            <a:off x="6400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6478200" y="2133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9"/>
          <p:cNvSpPr/>
          <p:nvPr/>
        </p:nvSpPr>
        <p:spPr>
          <a:xfrm>
            <a:off x="6478200" y="2971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0"/>
          <p:cNvSpPr/>
          <p:nvPr/>
        </p:nvSpPr>
        <p:spPr>
          <a:xfrm>
            <a:off x="6478200" y="3886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6478200" y="4800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2"/>
          <p:cNvSpPr/>
          <p:nvPr/>
        </p:nvSpPr>
        <p:spPr>
          <a:xfrm>
            <a:off x="3125520" y="548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3962520" y="5638680"/>
            <a:ext cx="22860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itadores y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án en mejor 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46"/>
          <p:cNvSpPr/>
          <p:nvPr/>
        </p:nvSpPr>
        <p:spPr>
          <a:xfrm flipH="1">
            <a:off x="297144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6478920" y="5486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2592000" y="3581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251460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2"/>
          <p:cNvSpPr/>
          <p:nvPr/>
        </p:nvSpPr>
        <p:spPr>
          <a:xfrm>
            <a:off x="3962520" y="29718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égimen de aprop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3962520" y="3962520"/>
            <a:ext cx="228600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 especial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í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3962520" y="4800600"/>
            <a:ext cx="22860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sición de caja adecu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56"/>
          <p:cNvSpPr/>
          <p:nvPr/>
        </p:nvSpPr>
        <p:spPr>
          <a:xfrm>
            <a:off x="35053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7"/>
          <p:cNvSpPr/>
          <p:nvPr/>
        </p:nvSpPr>
        <p:spPr>
          <a:xfrm>
            <a:off x="3545280" y="2133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50292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59"/>
          <p:cNvSpPr/>
          <p:nvPr/>
        </p:nvSpPr>
        <p:spPr>
          <a:xfrm>
            <a:off x="50292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5029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61"/>
          <p:cNvSpPr/>
          <p:nvPr/>
        </p:nvSpPr>
        <p:spPr>
          <a:xfrm>
            <a:off x="50292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2"/>
          <p:cNvSpPr/>
          <p:nvPr/>
        </p:nvSpPr>
        <p:spPr>
          <a:xfrm>
            <a:off x="5107320" y="2590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3"/>
          <p:cNvSpPr/>
          <p:nvPr/>
        </p:nvSpPr>
        <p:spPr>
          <a:xfrm>
            <a:off x="5107320" y="3581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4"/>
          <p:cNvSpPr/>
          <p:nvPr/>
        </p:nvSpPr>
        <p:spPr>
          <a:xfrm>
            <a:off x="5107320" y="44956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5"/>
          <p:cNvSpPr/>
          <p:nvPr/>
        </p:nvSpPr>
        <p:spPr>
          <a:xfrm>
            <a:off x="5107320" y="5257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Bonos de Carbono - Agrosup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2" name="Picture 4" descr="0825B00303"/>
          <p:cNvPicPr/>
          <p:nvPr/>
        </p:nvPicPr>
        <p:blipFill>
          <a:blip r:embed="rId1"/>
          <a:stretch/>
        </p:blipFill>
        <p:spPr>
          <a:xfrm>
            <a:off x="3686040" y="2921040"/>
            <a:ext cx="1771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s Tecnológ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o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der o “primero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ir al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im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también “Me To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“Interstit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úsqueda de aplicaciones, ada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ta, subsidiaria, departamento o proveedor tard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absorb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Faces del proceso de Innovación Tecnológ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bás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apl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experiment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avanz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/ Prototipo 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de calidad y diseño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entes y lic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 de post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ucación y consult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es de larg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 v/s 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914400" y="990720"/>
          <a:ext cx="82296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82296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Box 4"/>
          <p:cNvSpPr/>
          <p:nvPr/>
        </p:nvSpPr>
        <p:spPr>
          <a:xfrm>
            <a:off x="2889000" y="6308640"/>
            <a:ext cx="450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 = Alto, M = Medio, L = Bajo, N = 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72880" y="134100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5200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52480" y="129492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 y sus Act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novación se torna imprescind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hipercompetitividad obliga a desarrollar nuevos productos y servicios par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iclo de vida de los productos y servicios es cada vez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tienen necesidades distintas por lo que hay que entregar productos y servicios distintos para cada uno de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un proceso de creación rápido y eficiente genera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proceso puede involucrar a distintos act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os pueden ser quienes generan la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Usuarios lí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ienen una necesidad que se gene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 beneficia si obtiene una solución a su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gunas veces no están dispuestos a compartir sus innov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beneficiado puede ser cualquiera de los 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estimular a los usuarios líderes a entregar nuevas id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a el producto deseado del modo más precis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ifique una recompens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ite sólo a los probable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¿ 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Crea ventajas competitivas la innovación tecnológica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innovación puede cambiar la posición competitiv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reloj de cuarzo destrozó la industria suiza de relo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hielo artificial hizo quebrar al Rey del Hi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innovación constante permite manten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crosoft e Intel concentran el 50% de las utilidades del negocio de los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el primero es quien se lleva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MI creó el scanner y no pudo sacar provecho de su in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la mejor tecnología se imp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ormato Beta era mejor técnicamente, pero VHS se imp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19320" y="1523880"/>
            <a:ext cx="73152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personas juegan distintos roles en el proceso innovad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dor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ampion o impul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de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tekeeping o vigil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spicio o apoyo ejec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structura funcional elegida dependerá, principalmente, de la envergadura del 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liv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equipo aut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fun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gente está agrupada por disciplina y cada uno responde a su gerente superior de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responsabilidad y la acción pasa de una sección a otra en forma secuencial en 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pone que el proyecto puede ser descompuesto en etapas secu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ndo inequív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fundidad en 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Baja coordinación e integ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oca visión de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endencia a diseñar lo mejor sólo desde el aspec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livia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43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a sección designa una persona como representante en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 central a cargo de un gerente de proyecto de “peso liviano” que proviene de alguna de las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peso liviano pues es un joven de ubicación intermedia en la jerarquí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No posee autoridad sobre el uso de los recursos y debe solicitarlos a las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en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yor coordinación respecto a la organiza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pes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ordinador es un gerente de “peso pesado” de alto rang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quipo central a menudo se ubica físicamente con el gerente, separado de las funciones de donde prov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erente de peso pesado tiene autoridad para evaluar a los miembros de su equipo, no obstante la afiliación a una función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equipo autónom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embros del equipo son sacados de las áreas funcionales y formalmente reasignados a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rente del proyecto es un “peso pesado” con plena autoridad sobre los recursos que se le ot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ípicamente, estos equipos inventan sus propias reglas, incentivos, recompensas, patrones de comportamiento, etc. Sólo ellos son responsables de lo que o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F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Mo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ven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ca coordinación con el resto de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80720" y="1447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ultura y Resistencia al Camb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muchas formas de definir l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ltura de una organización es la forma particular de hacer las cosas en dich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o que está relacionado con la gente y la calidad o características de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s de comportamiento (reglas no escritas del juego. Están justo por debajo de la experi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quemas de conductas visibles y aud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o contradiga al jefe, haga lo mínimo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r adelante, no rompa la c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supuestos ocultos (creencias fundamentales que están por detrás de todas las decisiones y ac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con el entorn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sólo por consens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ingún competidor entrará al mercado, los empleados seguirán aceptando l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Objetivos del semin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a importancia de la innovación tecnológica para la gestión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os mecanismos que genera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tan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er en qué condiciones un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e beneficios económicos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cómo las innovaciones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ocurriendo afectan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9320" y="1676520"/>
            <a:ext cx="67053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aturaleza humana (dadas por sentadas, preconscientes, invis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con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, el tiempo y el 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l géner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s relacione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1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impacta de diferentes formas el comportamiento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Rumbo que la cultura hace seg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etra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Grado en que es compartida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erza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ivel de presión que ejerce la cultura sobre los miembros de la organ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impacto será positivo cuando apunte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correcta, sea ampliamente compartida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personas y ejerce una fuerte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Kilmann, Saxton y Se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fácil cambiar la cultura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06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ás profunda  sea la cultura más difícil será cambi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ayor sea el número de culturas distintas, mayor será el esfuerzo necesario para cambi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más fácil el cambio a nivel de superficie que aquellos que afectan a supuestos ocultos o a la naturalez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roducción del correo electrónico en reemplazo de los “memos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mente nadie lo u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debió elegir cuidadosamente la forma de introduci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Grupos pil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o intensivo de la alta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y con el correo inter empresas son los usuarios los que presionan a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distintos elementos que determinan un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Determina cómo alcanzar el éx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reencias y supues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ér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dividuos que personifican los valore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Rutinas sistemáticas que muestran a los trabajadores el tipo de comportamiento que se espera d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ransportadores de la mitología heroica en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edio de comunicación básica (infor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odo cambio implica un choque entre cul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os culturas se explici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vang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ultura dominante predo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br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conjugan ambas cul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personas no se resisten al cambio en sí mismo, sino a los efectos que éstos puedan tener en una cierta cultura, considerando las características propias de cada perso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Se resisten las personas 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que les suban el suel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más días de vaca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post gr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viaje de negoc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un ascen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143000" y="1752480"/>
            <a:ext cx="74674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resistencia al cambio se debe a una sensación de pérdi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l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como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 sensación de pérdida se puede deber a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ensa de los propios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estru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lta de comprensión del cambio y 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roducción de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tes métodos de valor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siempre los distintos grupos disponen de la mism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as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s personas pueden no sentirse capaces de enfrent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requerido para 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fuerzo necesario para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diciones menos dese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ubutilización de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valuación diferente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14300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Por qué las empresas deben pensar en innovación tecnológ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mperativos estratégicos de las empresas de h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scontinuidades Tecnológicas y Diseños Domi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¿Quién gana y quién pierde con la innov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proceso innovador y su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ultura y resistencia a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proceso inno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 de información como creador de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jas competitivas, a través de la Cadena de Valor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Nuevo Marketing, Creando Ventajas Competi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143000" y="12193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iedo a lo des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Baj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al gestor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hacia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ecesidad de preservar el est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121932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alores colectivos en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isión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servación de amis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no explí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tapas de un proceso de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tiv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ear actitudes favo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mplementar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nalización de los cambios e incorporación a l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121932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planificar la forma de vencer la resistencia a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ormación y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formar prev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ción y 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volucrar a los posibles opos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poyo y fac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Formación y apoyo a l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egociación y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frecer incentivos a los o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pulación y coo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tento abierto de influir en los de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erción explícita e implí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bligar mediante amenaz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Kotter y Schlesi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estrategia y la velocidad del cambio dependen de factores situa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lidad y tipo de resistencia que se pr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osición de los proponentes del cambio frente a los o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ugar donde se encuentren los datos claves y la energía necesaria para su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fact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urgenci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velocidad deseada determina la estrateg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cas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vence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l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inicial con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minimiza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proceso de cambio intervienen de distinta forma las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553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trocinador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r las consecuencias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dentificar requerimientos adapt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cidir sobre cambios por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t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dministrar el proceso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ormación del grupo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nejar las distintas variables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sonal afecto a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xperimentar y vivenciar cambios en conocimientos, actitudes y condu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ara implementar un cambio se requie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oluc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Tecnología de información como creador de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2942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Ventajas Competitivas a través de l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Cadena de Valor Virt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2:28:28Z</dcterms:created>
  <dc:creator>Pino</dc:creator>
  <dc:description/>
  <dc:language>en-US</dc:language>
  <cp:lastModifiedBy>Nicolas Di Biase</cp:lastModifiedBy>
  <dcterms:modified xsi:type="dcterms:W3CDTF">2009-08-18T20:37:03Z</dcterms:modified>
  <cp:revision>91</cp:revision>
  <dc:subject/>
  <dc:title> Innovación Tecnológica como fuente de Ventajas Competitivas   Nicolás Di Biase F.  </dc:title>
</cp:coreProperties>
</file>