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81.wmf" ContentType="image/x-wmf"/>
  <Override PartName="/ppt/media/image58.png" ContentType="image/png"/>
  <Override PartName="/ppt/media/image80.wmf" ContentType="image/x-wmf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52.jpeg" ContentType="image/jpeg"/>
  <Override PartName="/ppt/media/image1.png" ContentType="image/png"/>
  <Override PartName="/ppt/media/image49.png" ContentType="image/png"/>
  <Override PartName="/ppt/media/image71.wmf" ContentType="image/x-wmf"/>
  <Override PartName="/ppt/media/image46.png" ContentType="image/png"/>
  <Override PartName="/ppt/media/image45.png" ContentType="image/png"/>
  <Override PartName="/ppt/media/image41.png" ContentType="image/png"/>
  <Override PartName="/ppt/media/image3.jpeg" ContentType="image/jpeg"/>
  <Override PartName="/ppt/media/image38.jpeg" ContentType="image/jpeg"/>
  <Override PartName="/ppt/media/image36.jpeg" ContentType="image/jpeg"/>
  <Override PartName="/ppt/media/image10.png" ContentType="image/png"/>
  <Override PartName="/ppt/media/image78.wmf" ContentType="image/x-wmf"/>
  <Override PartName="/ppt/media/image33.jpeg" ContentType="image/jpeg"/>
  <Override PartName="/ppt/media/image31.jpeg" ContentType="image/jpeg"/>
  <Override PartName="/ppt/media/image93.wmf" ContentType="image/x-wmf"/>
  <Override PartName="/ppt/media/image30.jpeg" ContentType="image/jpeg"/>
  <Override PartName="/ppt/media/image6.wmf" ContentType="image/x-wmf"/>
  <Override PartName="/ppt/media/image83.wmf" ContentType="image/x-wmf"/>
  <Override PartName="/ppt/media/image12.jpeg" ContentType="image/jpeg"/>
  <Override PartName="/ppt/media/image11.jpeg" ContentType="image/jpeg"/>
  <Override PartName="/ppt/media/image28.jpeg" ContentType="image/jpeg"/>
  <Override PartName="/ppt/media/image48.png" ContentType="image/png"/>
  <Override PartName="/ppt/media/image9.jpeg" ContentType="image/jpeg"/>
  <Override PartName="/ppt/media/image44.png" ContentType="image/png"/>
  <Override PartName="/ppt/media/image13.jpeg" ContentType="image/jpeg"/>
  <Override PartName="/ppt/media/image42.png" ContentType="image/png"/>
  <Override PartName="/ppt/media/image26.jpeg" ContentType="image/jpeg"/>
  <Override PartName="/ppt/media/image72.wmf" ContentType="image/x-wmf"/>
  <Override PartName="/ppt/media/image69.png" ContentType="image/png"/>
  <Override PartName="/ppt/media/image2.png" ContentType="image/png"/>
  <Override PartName="/ppt/media/image21.wmf" ContentType="image/x-wmf"/>
  <Override PartName="/ppt/media/image18.png" ContentType="image/png"/>
  <Override PartName="/ppt/media/image60.wmf" ContentType="image/x-wmf"/>
  <Override PartName="/ppt/media/image15.jpeg" ContentType="image/jpeg"/>
  <Override PartName="/ppt/media/image63.wmf" ContentType="image/x-wmf"/>
  <Override PartName="/ppt/media/image65.wmf" ContentType="image/x-wmf"/>
  <Override PartName="/ppt/media/image19.jpeg" ContentType="image/jpeg"/>
  <Override PartName="/ppt/media/image92.png" ContentType="image/png"/>
  <Override PartName="/ppt/media/image89.wmf" ContentType="image/x-wmf"/>
  <Override PartName="/ppt/media/image62.wmf" ContentType="image/x-wmf"/>
  <Override PartName="/ppt/media/image77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86.wmf" ContentType="image/x-wmf"/>
  <Override PartName="/ppt/media/image74.wmf" ContentType="image/x-wmf"/>
  <Override PartName="/ppt/media/image85.wmf" ContentType="image/x-wmf"/>
  <Override PartName="/ppt/media/image90.png" ContentType="image/png"/>
  <Override PartName="/ppt/media/image88.wmf" ContentType="image/x-wmf"/>
  <Override PartName="/ppt/media/image73.wmf" ContentType="image/x-wmf"/>
  <Override PartName="/ppt/media/image84.wmf" ContentType="image/x-wmf"/>
  <Override PartName="/ppt/media/image79.wmf" ContentType="image/x-wmf"/>
  <Override PartName="/ppt/media/image67.png" ContentType="image/png"/>
  <Override PartName="/ppt/media/image24.wmf" ContentType="image/x-wmf"/>
  <Override PartName="/ppt/media/image76.png" ContentType="image/png"/>
  <Override PartName="/ppt/media/image25.wmf" ContentType="image/x-wmf"/>
  <Override PartName="/ppt/media/image68.png" ContentType="image/png"/>
  <Override PartName="/ppt/media/image70.png" ContentType="image/png"/>
  <Override PartName="/ppt/media/image20.wmf" ContentType="image/x-wmf"/>
  <Override PartName="/ppt/media/image32.jpeg" ContentType="image/jpeg"/>
  <Override PartName="/ppt/media/image66.png" ContentType="image/png"/>
  <Override PartName="/ppt/media/image23.wmf" ContentType="image/x-wmf"/>
  <Override PartName="/ppt/media/image51.jpeg" ContentType="image/jpeg"/>
  <Override PartName="/ppt/media/image35.jpeg" ContentType="image/jpeg"/>
  <Override PartName="/ppt/media/image47.png" ContentType="image/png"/>
  <Override PartName="/ppt/media/image50.wmf" ContentType="image/x-wmf"/>
  <Override PartName="/ppt/media/image87.wmf" ContentType="image/x-wmf"/>
  <Override PartName="/ppt/media/image17.jpeg" ContentType="image/jpeg"/>
  <Override PartName="/ppt/media/image16.jpeg" ContentType="image/jpeg"/>
  <Override PartName="/ppt/media/image57.wmf" ContentType="image/x-wmf"/>
  <Override PartName="/ppt/media/image14.jpeg" ContentType="image/jpeg"/>
  <Override PartName="/ppt/media/image27.jpeg" ContentType="image/jpeg"/>
  <Override PartName="/ppt/media/image22.jpeg" ContentType="image/jpeg"/>
  <Override PartName="/ppt/media/image75.png" ContentType="image/png"/>
  <Override PartName="/ppt/media/image39.png" ContentType="image/png"/>
  <Override PartName="/ppt/media/image64.jpeg" ContentType="image/jpeg"/>
  <Override PartName="/ppt/media/image61.wmf" ContentType="image/x-wmf"/>
  <Override PartName="/ppt/media/image7.png" ContentType="image/png"/>
  <Override PartName="/ppt/media/image34.jpeg" ContentType="image/jpeg"/>
  <Override PartName="/ppt/media/image37.png" ContentType="image/png"/>
  <Override PartName="/ppt/media/image82.png" ContentType="image/png"/>
  <Override PartName="/ppt/media/image5.png" ContentType="image/png"/>
  <Override PartName="/ppt/media/image91.png" ContentType="image/png"/>
  <Override PartName="/ppt/media/image8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35080" y="686880"/>
            <a:ext cx="4589280" cy="344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71488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71488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BDBC-A81E-40E6-A38B-C5BD5A979F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91A0-4291-467B-B18F-1DFF668682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AEF4-36B2-4112-A434-E2208F8BAE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62F9-3A83-4093-A93B-8D42CF92D8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E256-E4A6-4B57-924B-85027719CB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88DC-47C0-420F-B0E1-CCED82FFA6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32F9-3DCA-4617-84C8-6EEAEC1BFD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8459-F60B-43F3-8698-66F4FE1276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2CF3-29DF-4CDE-89F7-152386ADC8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FB4E-FC05-4F3B-9C61-CD5B576EDD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1DD0-BE14-4262-9FBA-09FE8E67F7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986-3114-457B-BC96-C535228624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D752-7935-47DB-840C-48F5ECCF28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8E78-DEC7-4073-B0A3-F66A35A90C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5FD2-39C2-40E1-80EB-B8297E662E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CB6-75C3-4497-B24E-14350AC58D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CD50-3AB4-4B48-89B6-A8BAB680E2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9162-EAA5-4B3B-908C-83292F02E7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C838-BEB1-45D6-A07E-5966080EA9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243D-CC27-45B2-AAD2-23ECE88BA9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56C9-7983-46A3-8265-5BB75AD59C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BD81-C9B6-4E91-A554-3AA69576F5C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B577-46E5-41A5-88DF-9E091B98A4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5190-652C-4EDC-8AF0-6180D12253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C2E-E7A6-4B0C-B418-2712639977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012-B6EF-47C0-A20D-0B49803A47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AD41-4540-4CC7-A3D7-B66A4CFD62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3EF3-0782-432C-9DB7-5165AD2013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143F-1C5F-4162-9671-DAAC7EFCCDB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35F1-B7C1-41D6-A10E-D2C24676BD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4BB9-2372-479B-985D-10251FCA2B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7B41-8A07-403F-940B-399DF8EA17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B6CB-C730-4E2D-AAE7-9A8966C349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04D1-996E-4491-B337-926187B2B8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8916-EDFC-42CC-983E-04061F9F13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65AA-569E-44C8-AA4C-04623B68DC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B237-7D39-43E4-9B23-D79C53C3D3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7F77-7137-4A68-A7BA-BEF986B608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1B0B-667F-46A1-8B13-19B22E34CC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3DC4-84E4-4166-9137-538CF1738C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9A91-4D77-4D09-99BF-505B1225D5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E36C-D108-4935-819D-14AA7A1A90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B524-A2F7-43E6-8ACF-5D9D1B591D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D47C-AE14-4130-B249-B3476978A4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FDAD-25FF-43A6-A6D0-886A312AEE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8BE-D96A-46D8-9B85-16FDCEF83F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3 Marcador de número de diapositiva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C143-82ED-4356-9496-F7FA65F049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3 Marcador de número de diapositiva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56FB-4934-4BE8-B7AC-C1C0D0165B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5484-A7AD-4C05-ABEA-4CD9DEC5BB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A8E2-EB51-472A-BFBD-AB5084271B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A7A-D85B-4D98-ACC0-F62474BBBE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333C-F341-4D9C-B9D3-317E10B6D8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4F15-905B-4EF9-B111-4EABE93AA5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2035-2387-4158-B08C-5652278C03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5849-4961-495E-9D5A-0BA32659CE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3C44-145A-4955-A42A-4D1EC0B3BA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C0DC-D945-40C3-B367-1A43784E88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B988-87A7-48E0-9F76-6CD424CCE5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34CE-0CC9-4802-AF99-E64367D546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553B-B316-48BA-953C-4A4936D470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E32F-06D8-4A9D-9B6A-FE942F5998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DAF5-EDA0-484D-BF0E-5CC73EC95E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0B47-9E8F-440E-979C-04B6B981F7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0501-2F7E-4664-B22B-C7C1BF85C4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3DDB-CFAD-42B9-9133-4D00B79733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0B78-D051-44E7-95E1-9279AD2919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4A90-9A47-4DA0-AD3E-C9BA0B77EE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FD30-2D0C-434C-83FE-0CCFF6BC94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3 Marcador de número de diapositiva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99A8-421A-4C74-A2BB-476F32FAF5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B80F-6174-4011-96E0-4D6E1A4EA8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F2D5-79EA-4F2F-89D0-1B04D2ADD4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7F90-FC1E-4B15-8B7D-29D8EC5626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CE14-7A4C-4374-A832-8D2D6B8ABA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90A4-CA5D-4D21-9145-44863B03E9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4568-887F-43B8-AFC7-7C6DADBE7C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BF43-077A-4C27-8A69-7CBAA4C93D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A002-DBA1-4ED3-A619-ECE6363F8E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388C-B5B8-4F36-AA4D-4CBAC6BFC5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BB04-D8E2-439F-AE10-311DD713D0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85F6-875E-496C-AD51-8E81973B16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71F4-60CF-4611-A2C8-8363FE1723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133A-AC47-4687-9460-19D46FD4F6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CDE6-3A28-4587-94A0-DD57292813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ED22-23EA-4FF0-862A-25CC4CDECD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77C7-2DBE-40A5-A394-B6C7EA7FB1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6D42-2A70-41AB-B67D-69FFFCAE46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ED4F-D1E5-4427-A3A7-567CF25E5F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3F8A-600A-4B4F-B47B-A20D6DE3E5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3838-F67A-4D12-8328-A4DCB9EB07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B114-A048-469E-9EC8-AAE18EF341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4198-D761-4015-852A-87D4A179FE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60F0-41D7-41D8-8C0C-5812F169FA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7767-D629-42F0-B7E7-7BF4F8D79D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D66F-BF9D-4A2A-A3E8-10415F13C5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29ED-3736-477F-AB83-52C7726E5C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5AEA-3844-40BE-BBF3-AC68F2438D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BDB4-C846-4797-8A20-54B985E88F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5C7-9D6F-4D8D-8E77-170110A55B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FA4C-11FF-4DBA-878F-215255A15E8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B6D4-649B-4B6C-872A-C5BE396748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9B0-F8C5-4254-A304-04C4BC2181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6B12-C59B-4463-B3C4-0551039526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9ED-3F64-4EF1-89D5-215651FCF9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0E4D-42B3-4432-B004-8AFA4F6971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2BCC-C356-4A6D-B558-FFB0192F6B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1714-4624-43AF-85BE-4C4C66B91F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9233-4F13-4EEE-9379-234B296276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D300-573F-4247-8F66-A5BC91EE20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32DF-58B8-4190-A761-81F9ABDC54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1B2-3D32-4A21-94D9-6069447D06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7C05-AF6E-49EA-A1D5-52C404B8D9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D9EB-0E49-4EC4-A306-DD42BC2570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2BD0-307C-4178-A44D-2826564D7D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C0D4-C5DB-4DE5-B867-DB13F72740A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5A30-0213-4399-A8EB-CF07717DD00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2E1-23C9-49A8-9E22-EF085B701C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840-D403-4C93-8B1D-1784E30B7D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6A14-9E81-4B71-9C10-FCE6C9B402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D1F0-36F4-4D5A-84D8-3F57FE196E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37E7-D3B0-473C-8780-BEDC8D043E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5C10-998F-4DA5-8E83-5CE4EFCB99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89F0-9EE7-4B6F-B94E-AC1820079B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A62E-A517-4C48-B1FE-21AE1CE7C1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7EC1-18AF-41DA-B40E-750AACF6C3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1619-BDF4-42BE-B2DB-AC3AFD0F26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E044-8541-4487-BB73-EF914E783D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B35C-9EAD-45DD-A804-97A9A5333B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E400-F5FA-4E82-BCD1-AFE0FAB276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8386-A438-4D73-8FE4-92E011A5B4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B0FB-2782-4EB1-89DB-BA8E37B1EE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79BA-34A5-4BDD-944C-432A895874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3074-41FE-4316-85DD-82B0336761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4348-CED5-41E3-9FC2-BADE1487F8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3AAB-6FB4-4AB8-A9B5-DD214D0D57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22F4-838C-4E8F-A900-7383548541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6200" y="8715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89CF-BF59-4CF0-AA9E-B22DBF1F13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24F-0463-4530-A2B0-0BE2497A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4B1-4DB9-4617-B110-E6A0C30C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BD4-A6AA-42F5-9B6D-2D1FFA87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909-B80A-4521-9CB5-C2BB81A6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EF94-91CD-4881-BA26-5448CA83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8A9B-05BA-4AC7-A364-CEDB60A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137D-63EC-4158-842B-E132A3B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5973-439C-4550-8036-E71A9DD1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4759-9B22-4159-ACA0-BEA1ECD4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A5FA-A099-4C6C-84D7-D99DB549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88E7-3778-4E0E-BF8D-2662968F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5B3-3767-4F62-87AF-F8A6E584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BE8C-B3C3-4FA2-B1FB-9659CCB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21C1-A2B8-4733-B7E5-83C40037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6575-02C5-43EA-8A01-3BCD86D2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8969-5ACB-4CE8-A8C8-528ED618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0E00-9D88-441C-9AFF-9828D187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E0F-1700-49D5-9C03-88D1A395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C1D-E10D-40D7-B9A8-D3B8F897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E64-1148-4664-9895-ED224704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174-ACB1-4EFD-94B0-FB2889A5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76B-8918-4111-80BE-E94C605E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DDA-31D2-4238-A42C-8F72EA90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15F-B612-40CF-9F16-106BEE7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8320" y="-4680"/>
                <a:ext cx="98280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5080" y="1695240"/>
                <a:ext cx="98280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8320" y="1283760"/>
                <a:ext cx="98280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8320" y="147600"/>
                <a:ext cx="98280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5080" y="987840"/>
                <a:ext cx="98280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6880" y="679680"/>
                <a:ext cx="98280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7960" y="372960"/>
                <a:ext cx="99540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3560" y="3935160"/>
                <a:ext cx="98244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7160" y="3535200"/>
                <a:ext cx="98280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7160" y="2396160"/>
                <a:ext cx="98280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7160" y="3230640"/>
                <a:ext cx="982800" cy="3474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7160" y="2930040"/>
                <a:ext cx="98280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6800" y="2617920"/>
                <a:ext cx="99540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7640"/>
                <a:ext cx="982440" cy="5004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1480" y="4556160"/>
                <a:ext cx="98244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3560" y="5663520"/>
                <a:ext cx="982440" cy="303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7680"/>
                <a:ext cx="345960" cy="9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7760"/>
                <a:ext cx="98244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8520"/>
                <a:ext cx="99540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B306-1D82-463B-BA13-70D619FB9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05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2051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2052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2053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2054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2055"/>
              <p:cNvSpPr/>
              <p:nvPr/>
            </p:nvSpPr>
            <p:spPr>
              <a:xfrm flipH="1" rot="5400000">
                <a:off x="8241120" y="27838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2056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2057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2058"/>
              <p:cNvSpPr/>
              <p:nvPr/>
            </p:nvSpPr>
            <p:spPr>
              <a:xfrm flipH="1" rot="5400000">
                <a:off x="789228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2059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2060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2061"/>
              <p:cNvSpPr/>
              <p:nvPr/>
            </p:nvSpPr>
            <p:spPr>
              <a:xfrm flipH="1" rot="5400000">
                <a:off x="5248080" y="2775240"/>
                <a:ext cx="99036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2062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2063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2064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65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066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067"/>
              <p:cNvSpPr/>
              <p:nvPr/>
            </p:nvSpPr>
            <p:spPr>
              <a:xfrm flipH="1" rot="5400000">
                <a:off x="876600" y="2775600"/>
                <a:ext cx="99036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68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69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070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071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072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ED79-CF84-4EB1-8164-52D78DED4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80.wmf"/><Relationship Id="rId4" Type="http://schemas.openxmlformats.org/officeDocument/2006/relationships/image" Target="../media/image7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80.wmf"/><Relationship Id="rId4" Type="http://schemas.openxmlformats.org/officeDocument/2006/relationships/image" Target="../media/image7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subst/home/redirect.html/ref=nh_gateway/002-0985394-7667258" TargetMode="External"/><Relationship Id="rId2" Type="http://schemas.openxmlformats.org/officeDocument/2006/relationships/hyperlink" Target="http://www.amazon.com/exec/obidos/subst/home/redirect.html/ref=nh_gateway/002-0985394-7667258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www.fandana.co.uk/jordylass/media/pizzahut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google.cl/imgres?imgurl=http://savory.cl/scripts/ContentImage.ashx%3FCID%3D285&amp;imgrefurl=http://savory.cl/public/SubSeccion01.aspx%3FContentID%3D285%26SID%3D279&amp;usg=__jlk4STFrY6BL72P6Hm0dMSBIt6M=&amp;h=268&amp;w=150&amp;sz=32&amp;hl=es&amp;start=6&amp;tbnid=hP0Bhu_nFjR9qM:&amp;tbnh=113&amp;tbnw=63&amp;prev=/images%3Fq%3Dhelados%2Bsavory%26gbv%3D2%26hl%3Des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mg.vitonica.com/2009/03/ipod-shuffle.jpg&amp;imgrefurl=http://www.joltivan.net/2009/03/11/page/2/&amp;usg=__S6VK4nEnj7wcjNwFAez45NuJByM=&amp;h=393&amp;w=373&amp;sz=10&amp;hl=es&amp;start=55&amp;tbnid=nFw7ZINFQKhl1M:&amp;tbnh=124&amp;tbnw=118&amp;prev=/images%3Fq%3Dipod%2Bshuffle%26gbv%3D2%26ndsp%3D18%26hl%3Des%26sa%3DN%26start%3D54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l/imgres?imgurl=http://www.ipodtotal.com/imagenes/noticias2/ipod-touch.jpg&amp;imgrefurl=http://www.ipodtotal.com/noticias/nuevo-ipod-touch&amp;usg=__ZXzVzMAskg5c1N59Ops-oB9S20Y=&amp;h=520&amp;w=520&amp;sz=22&amp;hl=es&amp;start=1&amp;tbnid=MAPP_wDrz_sx7M:&amp;tbnh=131&amp;tbnw=131&amp;prev=/images%3Fq%3Dipod%2Btouch%26gbv%3D2%26hl%3Des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l/imgres?imgurl=http://crunchgear.com/wp-content/uploads/01_large20070905.jpg&amp;imgrefurl=http://www.crunchgear.com/author/mike-kobrin/&amp;usg=__eIU-1tO0j_GiUekdcV6_L2xpc-M=&amp;h=337&amp;w=410&amp;sz=47&amp;hl=es&amp;start=8&amp;tbnid=gUyBmHv9Q3E5WM:&amp;tbnh=103&amp;tbnw=125&amp;prev=/images%3Fq%3Dipod%2Bnano%2B3g%26gbv%3D2%26hl%3Des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l/imgres?imgurl=http://www.cesarnunhez.com/myblog/wp-content/uploads//2008/10/ipod-nano-4g-14.jpg&amp;imgrefurl=http://www.cesarnunhez.com/myblog/2008/10/ipod-nano-4ta-generacion/&amp;usg=__xvJoYOXXAN1puCkL66O-WTcEnuA=&amp;h=308&amp;w=400&amp;sz=36&amp;hl=es&amp;start=2&amp;tbnid=uQuuNuKsMOTEdM:&amp;tbnh=95&amp;tbnw=124&amp;prev=/images%3Fq%3Dipod%2Bnano%2B4g%26gbv%3D2%26hl%3Des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l/imgres?imgurl=http://www.ipodtotal.com/imagenes/modelos/ipod-mini-2g-verde.jpg&amp;imgrefurl=http://www.ipodtotal.com/modelos/ipodmini-2g&amp;usg=__Qhdnv7hYhddE4oVju8MyoGIvEsQ=&amp;h=500&amp;w=520&amp;sz=18&amp;hl=es&amp;start=3&amp;tbnid=eL97QCrWsDWYHM:&amp;tbnh=126&amp;tbnw=131&amp;prev=/images%3Fq%3Dipod%2Bmini%26gbv%3D2%26hl%3Des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l/imgres?imgurl=http://saeros.files.wordpress.com/2007/09/ipod-shuffle.jpg&amp;imgrefurl=http://saeros.wordpress.com/2007/09/26/ipod-para-todos-los-gustos/&amp;usg=__reD9_S2yuwcSsMaDlg4DDWRWXpU=&amp;h=546&amp;w=715&amp;sz=30&amp;hl=es&amp;start=3&amp;tbnid=xDkYQA_u-rooLM:&amp;tbnh=107&amp;tbnw=140&amp;prev=/images%3Fq%3Dipod%2Bshuffle%26gbv%3D2%26hl%3Des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images.google.cl/imgres?imgurl=http://stygyan.files.wordpress.com/2009/06/ipod-classic.jpg&amp;imgrefurl=http://stygyan.wordpress.com/2009/06/28/&amp;usg=__NQqwf6SNsbyqNkQCg6-rTTSO9s4=&amp;h=600&amp;w=520&amp;sz=33&amp;hl=es&amp;start=2&amp;tbnid=6Z_rWwFa48ThWM:&amp;tbnh=135&amp;tbnw=117&amp;prev=/images%3Fq%3Dipod%2Bclassic%26gbv%3D2%26hl%3Des" TargetMode="External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ristomo.com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hyperlink" Target="http://images.google.cl/imgres?imgurl=http://prinzzezz.nireblog.com/blogs/prinzzezz/files/ipod-nano.jpg&amp;imgrefurl=http://prinzzezz.nireblog.com/post/2007/05/26/ipod&amp;h=314&amp;w=400&amp;sz=32&amp;hl=es&amp;start=0&amp;tbnid=l7u_nig0w_3A7M:&amp;tbnh=97&amp;tbnw=124&amp;prev=/images%3Fq%3Dipod%26gbv%3D2%26svnum%3D10%26hl%3Des%26sa%3DG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ontent.answers.com/main/content/img/CDE/VHS.GIF&amp;imgrefurl=http://www.answers.com/topic/vhs&amp;h=325&amp;w=412&amp;sz=7&amp;hl=es&amp;start=0&amp;tbnid=-TFBdXpQiIxJmM:&amp;tbnh=99&amp;tbnw=125&amp;prev=/images%3Fq%3Dvhs%26gbv%3D2%26svnum%3D10%26hl%3Des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google.cl/imgres?imgurl=http://www.filmiyana.com/americandesi/images/DVD-Logo-Color1.jpg&amp;imgrefurl=http://cgi.ebay.es/OFERTA-VIDEOCAMARA-DIGITAL-DVD-SAMSUNG-TOTAL-NUEVA_W0QQitemZ320140872051QQihZ011QQcategoryZ96997QQcmdZViewItem&amp;h=289&amp;w=516&amp;sz=14&amp;hl=es&amp;start=0&amp;tbnid=WDBvLcIkjj14BM:&amp;tbnh=73&amp;tbnw=131&amp;prev=/images%3Fq%3Ddvd%26gbv%3D2%26svnum%3D10%26hl%3Des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2.jpeg"/><Relationship Id="rId6" Type="http://schemas.openxmlformats.org/officeDocument/2006/relationships/hyperlink" Target="http://www.youtube.com/" TargetMode="External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cl/imgres?imgurl=http://tdtysatelite.com/chico/images/TELEFONO%2520CLASICO%2520VICTORIA.jpg&amp;imgrefurl=http://tdtysatelite.com/chico/product_info.php%3Ftdtchico_products_id%3D28%26osCsid%3Dbdf69eb83a58a8fae5bf9cf1236f9580&amp;h=306&amp;w=300&amp;sz=25&amp;hl=es&amp;start=0&amp;tbnid=oxDOkW-Y3ZfcjM:&amp;tbnh=117&amp;tbnw=115&amp;prev=/images%3Fq%3Dtelefono%26gbv%3D2%26svnum%3D10%26hl%3Des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ages.google.cl/imgres?imgurl=http://etc.territoriocreativo.es/photos/uncategorized/telefono4.jpg&amp;imgrefurl=http://etc.territoriocreativo.es/etc/2006/10/encuentro_de_te.html&amp;h=240&amp;w=400&amp;sz=21&amp;hl=es&amp;start=0&amp;tbnid=svaVjDy8oyC75M:&amp;tbnh=74&amp;tbnw=124&amp;prev=/images%3Fq%3Dtelefono%26gbv%3D2%26svnum%3D10%26hl%3Des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ages.google.cl/imgres?imgurl=http://spanish.peopledaily.com.cn/mediafile/200706/28/F200706281358462122148392.jpg&amp;imgrefurl=http://spanish.peopledaily.com.cn/31615/6200883.html&amp;h=400&amp;w=301&amp;sz=20&amp;hl=es&amp;start=0&amp;tbnid=fcWeAlA00o9gbM:&amp;tbnh=124&amp;tbnw=93&amp;prev=/images%3Fq%3Dcelular%26gbv%3D2%26svnum%3D10%26hl%3Des%26sa%3DG" TargetMode="External"/><Relationship Id="rId7" Type="http://schemas.openxmlformats.org/officeDocument/2006/relationships/image" Target="../media/image32.jpeg"/><Relationship Id="rId8" Type="http://schemas.openxmlformats.org/officeDocument/2006/relationships/hyperlink" Target="http://images.google.cl/imgres?imgurl=http://www.sharbrough.net/shop/images/palm-m505-p01.jpg&amp;imgrefurl=http://articulo.mercadolibre.com.co/MCO-4262899-_JM&amp;h=769&amp;w=570&amp;sz=84&amp;hl=es&amp;start=0&amp;tbnid=v7T8tM5SR_zJrM:&amp;tbnh=142&amp;tbnw=105&amp;prev=/images%3Fq%3Dpalm%26gbv%3D2%26svnum%3D10%26hl%3Des" TargetMode="External"/><Relationship Id="rId9" Type="http://schemas.openxmlformats.org/officeDocument/2006/relationships/image" Target="../media/image33.jpeg"/><Relationship Id="rId10" Type="http://schemas.openxmlformats.org/officeDocument/2006/relationships/hyperlink" Target="http://images.google.cl/imgres?imgurl=http://www.microalcarria.com/global/php/imagen.php%3Fcamino%3D/uknaaxyhr/%26nombre%3Ddrtfbtzx/RMG239.gvb&amp;imgrefurl=http://www.microalcarria.com/productos/mostrar_imagen.php%3Fimagen_a_mostrar%3DNUT251&amp;h=339&amp;w=330&amp;sz=15&amp;hl=es&amp;start=0&amp;tbnid=pF3-3Eix-p3rrM:&amp;tbnh=119&amp;tbnw=116&amp;prev=/images%3Fq%3Dtelefono%26gbv%3D2%26svnum%3D10%26hl%3Des" TargetMode="External"/><Relationship Id="rId11" Type="http://schemas.openxmlformats.org/officeDocument/2006/relationships/image" Target="../media/image34.jpeg"/><Relationship Id="rId12" Type="http://schemas.openxmlformats.org/officeDocument/2006/relationships/hyperlink" Target="http://images.google.cl/imgres?imgurl=http://www.colegioveracruz.com/servicios/porteria/telefono.jpg&amp;imgrefurl=http://www.colegioveracruz.com/servicios/servicios.html&amp;h=332&amp;w=330&amp;sz=21&amp;hl=es&amp;start=0&amp;tbnid=ev774dQNYGw2fM:&amp;tbnh=119&amp;tbnw=118&amp;prev=/images%3Fq%3Dtelefono%26gbv%3D2%26svnum%3D10%26hl%3Des" TargetMode="External"/><Relationship Id="rId13" Type="http://schemas.openxmlformats.org/officeDocument/2006/relationships/image" Target="../media/image35.jpeg"/><Relationship Id="rId14" Type="http://schemas.openxmlformats.org/officeDocument/2006/relationships/hyperlink" Target="http://images.google.cl/imgres?imgurl=http://www.sernac.cl/sernacninos/buenconsumidor/img/celular.jpg&amp;imgrefurl=http://www.sernac.cl/sernacninos/buenconsumidor/consejos/celular.asp&amp;h=300&amp;w=240&amp;sz=42&amp;hl=es&amp;start=20&amp;tbnid=ok2YMwxLHE8peM:&amp;tbnh=116&amp;tbnw=93&amp;prev=/images%3Fq%3Dcelular%26start%3D20%26gbv%3D2%26ndsp%3D20%26svnum%3D10%26hl%3Des%26sa%3DN" TargetMode="External"/><Relationship Id="rId15" Type="http://schemas.openxmlformats.org/officeDocument/2006/relationships/image" Target="../media/image36.jpeg"/><Relationship Id="rId16" Type="http://schemas.openxmlformats.org/officeDocument/2006/relationships/image" Target="../media/image3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sapiens.ya.com/apuntesweb2004/periodico.jpg&amp;imgrefurl=http://sapiens.ya.com/apuntesweb2004/lenguajeperiodistico.htm&amp;h=559&amp;w=515&amp;sz=25&amp;hl=es&amp;start=0&amp;tbnid=tQtOsBM6myNwoM:&amp;tbnh=133&amp;tbnw=123&amp;prev=/images%3Fq%3Dperiodico%26gbv%3D2%26svnum%3D10%26hl%3Des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hyperlink" Target="http://www.laborum.com/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hyperlink" Target="http://images.google.cl/imgres?imgurl=http://mujeronconstantsorrow.blogia.com/upload/20070130213150-underwood-204-20wagner.jpg&amp;imgrefurl=http://mujeronconstantsorrow.blogia.com/2007/enero.php&amp;usg=__5sno9FVW1l3ihsGguchVSQxN4sQ=&amp;h=310&amp;w=310&amp;sz=35&amp;hl=es&amp;start=4&amp;tbnid=RlDGj2nlgAhoMM:&amp;tbnh=117&amp;tbnw=117&amp;prev=/images%3Fq%3Dundergwood%26gbv%3D2%26hl%3Des" TargetMode="External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12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5.wm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38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6.jpe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Innovación Tecnológic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omo Fuente de Ventajas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ompetitiva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</a:t>
            </a: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Por qué las empresas 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deben pensar en 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Innovación Tecnológica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tecnología de información es una pieza clave en las empresas de ho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51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pespan (distribuidor de frutas sudafric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ermite saber dónde está cada producto en cada mo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exión a clientes (trai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minución de tiem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vitan err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minuyen co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mitió operar con 200 nuevos tra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Ordenes directas desde detal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mitirán optimizar plan de producción y predecir las necesidades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u uso es un reflejo del desarrollo del paí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1068120" y="2666880"/>
            <a:ext cx="81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2135520" y="52578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pa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3025440" y="53341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3796560" y="52578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4647240" y="54100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11"/>
          <p:cNvSpPr/>
          <p:nvPr/>
        </p:nvSpPr>
        <p:spPr>
          <a:xfrm>
            <a:off x="5351400" y="52578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6140160" y="54100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13"/>
          <p:cNvSpPr/>
          <p:nvPr/>
        </p:nvSpPr>
        <p:spPr>
          <a:xfrm>
            <a:off x="7006320" y="52578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gu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2439000" y="1905120"/>
            <a:ext cx="409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úmero de Personas por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Fuente: Network Wizards Host C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Object 2"/>
          <p:cNvGraphicFramePr/>
          <p:nvPr/>
        </p:nvGraphicFramePr>
        <p:xfrm>
          <a:off x="1981080" y="2666880"/>
          <a:ext cx="610740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666880"/>
                    <a:ext cx="610740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Text Box 16"/>
          <p:cNvSpPr/>
          <p:nvPr/>
        </p:nvSpPr>
        <p:spPr>
          <a:xfrm>
            <a:off x="2286720" y="47242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7"/>
          <p:cNvSpPr/>
          <p:nvPr/>
        </p:nvSpPr>
        <p:spPr>
          <a:xfrm>
            <a:off x="2972880" y="38098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.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5487480" y="4114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.0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9"/>
          <p:cNvSpPr/>
          <p:nvPr/>
        </p:nvSpPr>
        <p:spPr>
          <a:xfrm>
            <a:off x="6401880" y="41148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.3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0"/>
          <p:cNvSpPr/>
          <p:nvPr/>
        </p:nvSpPr>
        <p:spPr>
          <a:xfrm>
            <a:off x="7163280" y="2666880"/>
            <a:ext cx="7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8.8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21"/>
          <p:cNvSpPr/>
          <p:nvPr/>
        </p:nvSpPr>
        <p:spPr>
          <a:xfrm>
            <a:off x="3887280" y="39625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.7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22"/>
          <p:cNvSpPr/>
          <p:nvPr/>
        </p:nvSpPr>
        <p:spPr>
          <a:xfrm>
            <a:off x="4725360" y="45720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de información permean a toda la empresa y son un factor clave en su flexibil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derazgo y gestión corpo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 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stión del recurs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tecnología de información está presente a lo largo de toda la cadena de val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5"/>
          <p:cNvSpPr/>
          <p:nvPr/>
        </p:nvSpPr>
        <p:spPr>
          <a:xfrm>
            <a:off x="17524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6"/>
          <p:cNvSpPr/>
          <p:nvPr/>
        </p:nvSpPr>
        <p:spPr>
          <a:xfrm>
            <a:off x="1752480" y="5334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7"/>
          <p:cNvSpPr/>
          <p:nvPr/>
        </p:nvSpPr>
        <p:spPr>
          <a:xfrm>
            <a:off x="175248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5105520" y="297180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1"/>
          <p:cNvSpPr/>
          <p:nvPr/>
        </p:nvSpPr>
        <p:spPr>
          <a:xfrm flipH="1">
            <a:off x="5105520" y="419112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2"/>
          <p:cNvSpPr/>
          <p:nvPr/>
        </p:nvSpPr>
        <p:spPr>
          <a:xfrm flipH="1">
            <a:off x="1752120" y="41148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4"/>
          <p:cNvSpPr/>
          <p:nvPr/>
        </p:nvSpPr>
        <p:spPr>
          <a:xfrm>
            <a:off x="1752480" y="3276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17524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1752480" y="38098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7"/>
          <p:cNvSpPr/>
          <p:nvPr/>
        </p:nvSpPr>
        <p:spPr>
          <a:xfrm flipV="1">
            <a:off x="251460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327672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9"/>
          <p:cNvSpPr/>
          <p:nvPr/>
        </p:nvSpPr>
        <p:spPr>
          <a:xfrm>
            <a:off x="40384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20"/>
          <p:cNvSpPr/>
          <p:nvPr/>
        </p:nvSpPr>
        <p:spPr>
          <a:xfrm>
            <a:off x="480060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De esta forma surge la Cadena de Valor Virtu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5"/>
          <p:cNvSpPr/>
          <p:nvPr/>
        </p:nvSpPr>
        <p:spPr>
          <a:xfrm>
            <a:off x="1752480" y="23623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6"/>
          <p:cNvSpPr/>
          <p:nvPr/>
        </p:nvSpPr>
        <p:spPr>
          <a:xfrm>
            <a:off x="1752480" y="3581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8"/>
          <p:cNvSpPr/>
          <p:nvPr/>
        </p:nvSpPr>
        <p:spPr>
          <a:xfrm>
            <a:off x="175248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20"/>
          <p:cNvSpPr/>
          <p:nvPr/>
        </p:nvSpPr>
        <p:spPr>
          <a:xfrm flipV="1">
            <a:off x="5105520" y="29714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21"/>
          <p:cNvSpPr/>
          <p:nvPr/>
        </p:nvSpPr>
        <p:spPr>
          <a:xfrm>
            <a:off x="5029200" y="2362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23"/>
          <p:cNvSpPr/>
          <p:nvPr/>
        </p:nvSpPr>
        <p:spPr>
          <a:xfrm>
            <a:off x="1752480" y="26668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24"/>
          <p:cNvSpPr/>
          <p:nvPr/>
        </p:nvSpPr>
        <p:spPr>
          <a:xfrm>
            <a:off x="1752480" y="25146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27"/>
          <p:cNvSpPr/>
          <p:nvPr/>
        </p:nvSpPr>
        <p:spPr>
          <a:xfrm>
            <a:off x="1752480" y="2819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29"/>
          <p:cNvSpPr/>
          <p:nvPr/>
        </p:nvSpPr>
        <p:spPr>
          <a:xfrm>
            <a:off x="1752480" y="29718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32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33"/>
          <p:cNvSpPr/>
          <p:nvPr/>
        </p:nvSpPr>
        <p:spPr>
          <a:xfrm>
            <a:off x="33526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34"/>
          <p:cNvSpPr/>
          <p:nvPr/>
        </p:nvSpPr>
        <p:spPr>
          <a:xfrm>
            <a:off x="40384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35"/>
          <p:cNvSpPr/>
          <p:nvPr/>
        </p:nvSpPr>
        <p:spPr>
          <a:xfrm>
            <a:off x="4800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1674720" y="304812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de Valor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52"/>
          <p:cNvSpPr/>
          <p:nvPr/>
        </p:nvSpPr>
        <p:spPr>
          <a:xfrm>
            <a:off x="1752480" y="4114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53"/>
          <p:cNvSpPr/>
          <p:nvPr/>
        </p:nvSpPr>
        <p:spPr>
          <a:xfrm>
            <a:off x="1752480" y="5334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54"/>
          <p:cNvSpPr/>
          <p:nvPr/>
        </p:nvSpPr>
        <p:spPr>
          <a:xfrm>
            <a:off x="17524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55"/>
          <p:cNvSpPr/>
          <p:nvPr/>
        </p:nvSpPr>
        <p:spPr>
          <a:xfrm flipV="1">
            <a:off x="5105520" y="47242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56"/>
          <p:cNvSpPr/>
          <p:nvPr/>
        </p:nvSpPr>
        <p:spPr>
          <a:xfrm>
            <a:off x="5029200" y="41148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57"/>
          <p:cNvSpPr/>
          <p:nvPr/>
        </p:nvSpPr>
        <p:spPr>
          <a:xfrm>
            <a:off x="1752480" y="44197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58"/>
          <p:cNvSpPr/>
          <p:nvPr/>
        </p:nvSpPr>
        <p:spPr>
          <a:xfrm>
            <a:off x="1752480" y="42670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59"/>
          <p:cNvSpPr/>
          <p:nvPr/>
        </p:nvSpPr>
        <p:spPr>
          <a:xfrm>
            <a:off x="1752480" y="4572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60"/>
          <p:cNvSpPr/>
          <p:nvPr/>
        </p:nvSpPr>
        <p:spPr>
          <a:xfrm>
            <a:off x="1752480" y="4724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61"/>
          <p:cNvSpPr/>
          <p:nvPr/>
        </p:nvSpPr>
        <p:spPr>
          <a:xfrm>
            <a:off x="25909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62"/>
          <p:cNvSpPr/>
          <p:nvPr/>
        </p:nvSpPr>
        <p:spPr>
          <a:xfrm>
            <a:off x="33526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63"/>
          <p:cNvSpPr/>
          <p:nvPr/>
        </p:nvSpPr>
        <p:spPr>
          <a:xfrm>
            <a:off x="4038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64"/>
          <p:cNvSpPr/>
          <p:nvPr/>
        </p:nvSpPr>
        <p:spPr>
          <a:xfrm>
            <a:off x="48006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5"/>
          <p:cNvSpPr/>
          <p:nvPr/>
        </p:nvSpPr>
        <p:spPr>
          <a:xfrm>
            <a:off x="1751040" y="480060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de Valor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66"/>
          <p:cNvSpPr/>
          <p:nvPr/>
        </p:nvSpPr>
        <p:spPr>
          <a:xfrm>
            <a:off x="274320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67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68"/>
          <p:cNvSpPr/>
          <p:nvPr/>
        </p:nvSpPr>
        <p:spPr>
          <a:xfrm>
            <a:off x="419112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rol de la informática ha cambiado. Hoy se utiliza para crear ventajas competiti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fusión de las tecnologías de computación y telecomunicaciones hacen cada vez más fácil la existencia de organizaciones 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a tendencia afecta a todas las indust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iginalmente la informática estaba orientada a automatizar la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Algunos procesos eran automatizados, pero rara vez mod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 mediados de los ‘80 la informática comenzó a usarse para potenciar el trabajo de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Surge el micro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Se acerca a l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Juegos, autos, etc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oy se utiliza para crear ventajas com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llega a las empresas de distintas form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D-ROM v/s Lib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rre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eleconfer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ntercambio electrónico de docu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entas electr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oporte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Internet es el fiel reflejo de es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6"/>
          <p:cNvSpPr/>
          <p:nvPr/>
        </p:nvSpPr>
        <p:spPr>
          <a:xfrm>
            <a:off x="1130760" y="1981080"/>
            <a:ext cx="7252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rcentaje de empresas en Argentina que posee un servidor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Fuente: Prince &amp; Cook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7"/>
          <p:cNvSpPr/>
          <p:nvPr/>
        </p:nvSpPr>
        <p:spPr>
          <a:xfrm>
            <a:off x="1815480" y="50148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a lo po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3586320" y="5029200"/>
            <a:ext cx="190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tendrá en 6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9"/>
          <p:cNvSpPr/>
          <p:nvPr/>
        </p:nvSpPr>
        <p:spPr>
          <a:xfrm>
            <a:off x="2577960" y="539604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está construy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4574880" y="541008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tendrá en dos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11"/>
          <p:cNvSpPr/>
          <p:nvPr/>
        </p:nvSpPr>
        <p:spPr>
          <a:xfrm>
            <a:off x="1296000" y="2743200"/>
            <a:ext cx="436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9" name="Object 2"/>
          <p:cNvGraphicFramePr/>
          <p:nvPr/>
        </p:nvGraphicFramePr>
        <p:xfrm>
          <a:off x="1752480" y="2743200"/>
          <a:ext cx="6116760" cy="23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611676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u aplicación se extiende rápidam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2137320" y="548640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ase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585240" y="548640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ase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5108400" y="548640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lase 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1421280" y="2071800"/>
            <a:ext cx="58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rcentaje de personas que no saben qué es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Fuente: Prince &amp; Co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1"/>
          <p:cNvSpPr/>
          <p:nvPr/>
        </p:nvSpPr>
        <p:spPr>
          <a:xfrm>
            <a:off x="1220400" y="3124080"/>
            <a:ext cx="384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9" name="Object 2"/>
          <p:cNvGraphicFramePr/>
          <p:nvPr/>
        </p:nvGraphicFramePr>
        <p:xfrm>
          <a:off x="1676520" y="2895480"/>
          <a:ext cx="588780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95480"/>
                    <a:ext cx="58878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también impacta otras áre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enes sui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Originalmente entregaban información sobre itinerario e información de vi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Hoy se puede hacer una reserva e incluso pagar en forma electró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usa SET para entregar seguridad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ercedes B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rocesadores controlan varias 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u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imatizació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odrán conectarse a la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formación 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irec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ortes de tráns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orte de cambios en el clima o atochamientos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Imperativos estratégicos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para las empresas de ho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también impacta otras áre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ducación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nformación centralizada para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Acceso 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laboración entre profesores y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n el Boston College ya existe una red que inte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de v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levisión por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cceso a Internet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cnológico de Monter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niversidad 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formática también impacta otras áre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 cualquiera en la que podamos pen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810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El Nuevo Marketing 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reando Ventajas Competitiva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ono:20068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x:.2006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dibiase@vnet.ibm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emergentes, unidas a las actuales tendencias de los mercados, permiten y obligan a desarrollar nuevas ventajas competitiv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5"/>
          <p:cNvSpPr/>
          <p:nvPr/>
        </p:nvSpPr>
        <p:spPr>
          <a:xfrm>
            <a:off x="1676520" y="2362320"/>
            <a:ext cx="350496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lientan las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4724280" y="3657600"/>
            <a:ext cx="40388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8"/>
          <p:cNvSpPr/>
          <p:nvPr/>
        </p:nvSpPr>
        <p:spPr>
          <a:xfrm>
            <a:off x="1752480" y="4648320"/>
            <a:ext cx="350532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mite desarrollar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9"/>
          <p:cNvSpPr/>
          <p:nvPr/>
        </p:nvSpPr>
        <p:spPr>
          <a:xfrm>
            <a:off x="3276720" y="3886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10"/>
          <p:cNvSpPr/>
          <p:nvPr/>
        </p:nvSpPr>
        <p:spPr>
          <a:xfrm>
            <a:off x="2362320" y="29718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2"/>
          <p:cNvSpPr/>
          <p:nvPr/>
        </p:nvSpPr>
        <p:spPr>
          <a:xfrm flipV="1">
            <a:off x="213372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Las actuales tendencias de los mercados permiten  y obligan a desarrollar nuevas ventajas competitiv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1295280" y="220968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Alientan las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6"/>
          <p:cNvSpPr/>
          <p:nvPr/>
        </p:nvSpPr>
        <p:spPr>
          <a:xfrm>
            <a:off x="3048120" y="2971800"/>
            <a:ext cx="2743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7"/>
          <p:cNvSpPr/>
          <p:nvPr/>
        </p:nvSpPr>
        <p:spPr>
          <a:xfrm>
            <a:off x="1295280" y="388620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Permite desarrollar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8"/>
          <p:cNvSpPr/>
          <p:nvPr/>
        </p:nvSpPr>
        <p:spPr>
          <a:xfrm>
            <a:off x="2133720" y="3276720"/>
            <a:ext cx="904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1202760" y="4648320"/>
            <a:ext cx="72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dos estos cambios han creado una creciente competencia entre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mpresas en lo que se ha llamado “Mercados Hipercompetitivo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4867920" y="1981080"/>
            <a:ext cx="321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Glob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Estandarización de productos y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nsumidores más exi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stos de búsqueda más al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6"/>
          <p:cNvSpPr/>
          <p:nvPr/>
        </p:nvSpPr>
        <p:spPr>
          <a:xfrm flipV="1">
            <a:off x="1523880" y="3276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7"/>
          <p:cNvSpPr/>
          <p:nvPr/>
        </p:nvSpPr>
        <p:spPr>
          <a:xfrm flipH="1" flipV="1">
            <a:off x="1523880" y="2666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5" name="Object 2"/>
          <p:cNvGraphicFramePr/>
          <p:nvPr/>
        </p:nvGraphicFramePr>
        <p:xfrm>
          <a:off x="4038480" y="2286000"/>
          <a:ext cx="70488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86000"/>
                    <a:ext cx="704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mercados se hacen cada vez más globales obligando a las empresas a competir a nivel inter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Object 2"/>
          <p:cNvGraphicFramePr/>
          <p:nvPr/>
        </p:nvGraphicFramePr>
        <p:xfrm>
          <a:off x="3048120" y="2819520"/>
          <a:ext cx="3200400" cy="18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19520"/>
                    <a:ext cx="320040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Text Box 13"/>
          <p:cNvSpPr/>
          <p:nvPr/>
        </p:nvSpPr>
        <p:spPr>
          <a:xfrm>
            <a:off x="2142360" y="1981080"/>
            <a:ext cx="62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s exportaciones mundiales crecen desde un 12% a un 30% del 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15"/>
          <p:cNvSpPr/>
          <p:nvPr/>
        </p:nvSpPr>
        <p:spPr>
          <a:xfrm>
            <a:off x="1207800" y="250020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reación de bloques económ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16"/>
          <p:cNvSpPr/>
          <p:nvPr/>
        </p:nvSpPr>
        <p:spPr>
          <a:xfrm>
            <a:off x="5479560" y="2500200"/>
            <a:ext cx="278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mbios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Ej. Caen regímenes socialist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17"/>
          <p:cNvSpPr/>
          <p:nvPr/>
        </p:nvSpPr>
        <p:spPr>
          <a:xfrm>
            <a:off x="5479920" y="3643200"/>
            <a:ext cx="374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ejores y más económic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8"/>
          <p:cNvSpPr/>
          <p:nvPr/>
        </p:nvSpPr>
        <p:spPr>
          <a:xfrm>
            <a:off x="1210680" y="4100400"/>
            <a:ext cx="24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liferación de franqui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9"/>
          <p:cNvSpPr/>
          <p:nvPr/>
        </p:nvSpPr>
        <p:spPr>
          <a:xfrm>
            <a:off x="1215000" y="4862520"/>
            <a:ext cx="35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yor apertura de l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ajan aranc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o suben barreras para-arancel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0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21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2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3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24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25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26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os productos y servicios se hacen más estándares. Esto obliga a diferenciarse vía otros medios (calidad, flexibilidad o eficienci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creciente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ayor velocidad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reciente capacidad de im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Las competencias que se desarrollan vía innovación son transit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Los servicios anexos se vuelven imprescind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Object 2" descr=""/>
          <p:cNvPicPr/>
          <p:nvPr/>
        </p:nvPicPr>
        <p:blipFill>
          <a:blip r:embed="rId1"/>
          <a:stretch/>
        </p:blipFill>
        <p:spPr>
          <a:xfrm>
            <a:off x="2666880" y="4419720"/>
            <a:ext cx="1978200" cy="547560"/>
          </a:xfrm>
          <a:prstGeom prst="rect">
            <a:avLst/>
          </a:prstGeom>
          <a:ln w="0">
            <a:noFill/>
          </a:ln>
        </p:spPr>
      </p:pic>
      <p:pic>
        <p:nvPicPr>
          <p:cNvPr id="920" name="Object 3" descr=""/>
          <p:cNvPicPr/>
          <p:nvPr/>
        </p:nvPicPr>
        <p:blipFill>
          <a:blip r:embed="rId2"/>
          <a:stretch/>
        </p:blipFill>
        <p:spPr>
          <a:xfrm>
            <a:off x="3200400" y="5029200"/>
            <a:ext cx="1066680" cy="878040"/>
          </a:xfrm>
          <a:prstGeom prst="rect">
            <a:avLst/>
          </a:prstGeom>
          <a:ln w="0">
            <a:noFill/>
          </a:ln>
        </p:spPr>
      </p:pic>
      <p:pic>
        <p:nvPicPr>
          <p:cNvPr id="921" name="Object 4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968400" cy="1287360"/>
          </a:xfrm>
          <a:prstGeom prst="rect">
            <a:avLst/>
          </a:prstGeom>
          <a:ln w="0">
            <a:noFill/>
          </a:ln>
        </p:spPr>
      </p:pic>
      <p:pic>
        <p:nvPicPr>
          <p:cNvPr id="922" name="Object 5" descr=""/>
          <p:cNvPicPr/>
          <p:nvPr/>
        </p:nvPicPr>
        <p:blipFill>
          <a:blip r:embed="rId4"/>
          <a:stretch/>
        </p:blipFill>
        <p:spPr>
          <a:xfrm>
            <a:off x="2133720" y="4876920"/>
            <a:ext cx="990360" cy="873000"/>
          </a:xfrm>
          <a:prstGeom prst="rect">
            <a:avLst/>
          </a:prstGeom>
          <a:ln w="0">
            <a:noFill/>
          </a:ln>
        </p:spPr>
      </p:pic>
      <p:sp>
        <p:nvSpPr>
          <p:cNvPr id="923" name="Text Box 18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19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20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1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22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23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24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os consumidores son cada vez más exigentes y sus requerimientos más personaliz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consumidores son más exigentes con la calidad de lo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 creciente preocupación por el 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y no se puede pensar en segmentos de mercado sin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personalizar los productos y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4" name="Object 2"/>
          <p:cNvGraphicFramePr/>
          <p:nvPr/>
        </p:nvGraphicFramePr>
        <p:xfrm>
          <a:off x="1371600" y="2057400"/>
          <a:ext cx="63828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382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3"/>
          <p:cNvGraphicFramePr/>
          <p:nvPr/>
        </p:nvGraphicFramePr>
        <p:xfrm>
          <a:off x="1447920" y="2895480"/>
          <a:ext cx="65700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657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4"/>
          <p:cNvGraphicFramePr/>
          <p:nvPr/>
        </p:nvGraphicFramePr>
        <p:xfrm>
          <a:off x="1219320" y="3809880"/>
          <a:ext cx="933480" cy="8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809880"/>
                    <a:ext cx="933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17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8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9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0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21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2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23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costos de búsqueda han aument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Los productos son más 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umenta el tiempo de desplazamiento (congest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Los centros comerciales son una solución pa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Object 2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3657600" cy="190008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12"/>
          <p:cNvSpPr/>
          <p:nvPr/>
        </p:nvSpPr>
        <p:spPr>
          <a:xfrm>
            <a:off x="6015600" y="586728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624852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693432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15"/>
          <p:cNvSpPr/>
          <p:nvPr/>
        </p:nvSpPr>
        <p:spPr>
          <a:xfrm>
            <a:off x="624852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67057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18"/>
          <p:cNvSpPr/>
          <p:nvPr/>
        </p:nvSpPr>
        <p:spPr>
          <a:xfrm flipH="1" flipV="1">
            <a:off x="6553080" y="5410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19"/>
          <p:cNvSpPr/>
          <p:nvPr/>
        </p:nvSpPr>
        <p:spPr>
          <a:xfrm flipH="1">
            <a:off x="6553080" y="5562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emergentes entregan herramientas que permiten a las empresas diferenciarse en mercados hipercompeti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295280" y="220968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Alientan las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3048120" y="2971800"/>
            <a:ext cx="2743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7"/>
          <p:cNvSpPr/>
          <p:nvPr/>
        </p:nvSpPr>
        <p:spPr>
          <a:xfrm>
            <a:off x="1295280" y="388620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Permite desarrollar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2133720" y="3276720"/>
            <a:ext cx="904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 flipV="1">
            <a:off x="1523880" y="3276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10"/>
          <p:cNvSpPr/>
          <p:nvPr/>
        </p:nvSpPr>
        <p:spPr>
          <a:xfrm flipH="1" flipV="1">
            <a:off x="1523880" y="2666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Object 2"/>
          <p:cNvGraphicFramePr/>
          <p:nvPr/>
        </p:nvGraphicFramePr>
        <p:xfrm>
          <a:off x="3886200" y="3962520"/>
          <a:ext cx="70488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962520"/>
                    <a:ext cx="704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Text Box 12"/>
          <p:cNvSpPr/>
          <p:nvPr/>
        </p:nvSpPr>
        <p:spPr>
          <a:xfrm>
            <a:off x="4784760" y="3567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3"/>
          <p:cNvSpPr/>
          <p:nvPr/>
        </p:nvSpPr>
        <p:spPr>
          <a:xfrm>
            <a:off x="4798080" y="3581280"/>
            <a:ext cx="175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Telecomunic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Inform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1168560" y="480060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s  tecnologías están convergiendo y resulta difícil diferenci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tre e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competitividad de las empresas se ha explicado por distintos fenómenos a través del tiemp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aller artesanal (Euro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odos los producto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olución Industrial (Inglater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roducción en masa, automat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stema Americano de Manufactura (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rabajadores calificados, flex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dministración Científica (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odelo de Taylor, reducción de cos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ganizaciones rí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mpresa flexible (Jap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Flex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219320" y="17524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A pesar de que los cambios en el área de telecomunicaciones se dan en forma imperceptible, conllevan desafíos ineludibles para las empres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chos de banda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irec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uías electró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Bidireccional con respuesta predefi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cue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entas al ho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 intera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rvicios banc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Bidireccional inter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uegos inter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ideo on 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Bidireccional conmu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7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ideo telefo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5"/>
          <p:cNvSpPr/>
          <p:nvPr/>
        </p:nvSpPr>
        <p:spPr>
          <a:xfrm>
            <a:off x="6400800" y="53341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6"/>
          <p:cNvSpPr/>
          <p:nvPr/>
        </p:nvSpPr>
        <p:spPr>
          <a:xfrm>
            <a:off x="7086600" y="55627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7"/>
          <p:cNvSpPr/>
          <p:nvPr/>
        </p:nvSpPr>
        <p:spPr>
          <a:xfrm>
            <a:off x="6400800" y="57913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1"/>
          <p:cNvSpPr/>
          <p:nvPr/>
        </p:nvSpPr>
        <p:spPr>
          <a:xfrm>
            <a:off x="6321240" y="594360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12"/>
          <p:cNvSpPr/>
          <p:nvPr/>
        </p:nvSpPr>
        <p:spPr>
          <a:xfrm>
            <a:off x="5562720" y="3733920"/>
            <a:ext cx="281916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municación inalámb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4"/>
          <p:cNvSpPr/>
          <p:nvPr/>
        </p:nvSpPr>
        <p:spPr>
          <a:xfrm>
            <a:off x="68580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6"/>
          <p:cNvSpPr/>
          <p:nvPr/>
        </p:nvSpPr>
        <p:spPr>
          <a:xfrm flipH="1" flipV="1">
            <a:off x="6705360" y="548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7"/>
          <p:cNvSpPr/>
          <p:nvPr/>
        </p:nvSpPr>
        <p:spPr>
          <a:xfrm flipH="1">
            <a:off x="6705360" y="5638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un comienzo la informática apuntó a la eficiencia. Hoy apunta a la flexibil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19"/>
          <p:cNvSpPr/>
          <p:nvPr/>
        </p:nvSpPr>
        <p:spPr>
          <a:xfrm>
            <a:off x="6400800" y="53341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20"/>
          <p:cNvSpPr/>
          <p:nvPr/>
        </p:nvSpPr>
        <p:spPr>
          <a:xfrm>
            <a:off x="7086600" y="55627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21"/>
          <p:cNvSpPr/>
          <p:nvPr/>
        </p:nvSpPr>
        <p:spPr>
          <a:xfrm>
            <a:off x="6400800" y="57913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2"/>
          <p:cNvSpPr/>
          <p:nvPr/>
        </p:nvSpPr>
        <p:spPr>
          <a:xfrm>
            <a:off x="6321240" y="594360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23"/>
          <p:cNvSpPr/>
          <p:nvPr/>
        </p:nvSpPr>
        <p:spPr>
          <a:xfrm>
            <a:off x="68580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24"/>
          <p:cNvSpPr/>
          <p:nvPr/>
        </p:nvSpPr>
        <p:spPr>
          <a:xfrm flipH="1" flipV="1">
            <a:off x="6705360" y="548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25"/>
          <p:cNvSpPr/>
          <p:nvPr/>
        </p:nvSpPr>
        <p:spPr>
          <a:xfrm flipH="1">
            <a:off x="6705360" y="5638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6"/>
          <p:cNvSpPr/>
          <p:nvPr/>
        </p:nvSpPr>
        <p:spPr>
          <a:xfrm>
            <a:off x="5466240" y="2043000"/>
            <a:ext cx="2450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ultimed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resentació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atálogos electrón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7"/>
          <p:cNvSpPr/>
          <p:nvPr/>
        </p:nvSpPr>
        <p:spPr>
          <a:xfrm>
            <a:off x="1209240" y="3048120"/>
            <a:ext cx="36586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ios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romo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untos de v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Entrega de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Junto a los productos o lugares concur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30"/>
          <p:cNvSpPr/>
          <p:nvPr/>
        </p:nvSpPr>
        <p:spPr>
          <a:xfrm>
            <a:off x="2057400" y="4495680"/>
            <a:ext cx="4807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upercomputación y capacidade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Mass custom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1"/>
          <p:cNvSpPr/>
          <p:nvPr/>
        </p:nvSpPr>
        <p:spPr>
          <a:xfrm>
            <a:off x="3581280" y="2590920"/>
            <a:ext cx="19051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oz              Ani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onido                Ima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urge nuevo equipamiento que complementa las capacidades informát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361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antallas pl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ublicidad est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dad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Supermercados virt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Sucursal vir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parato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Usos: televisión,radio, teléfono, compras desde el hogar, video conferencia,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educación,juegos, servicios interactivos, automatización del hog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Componentes: CD, impresora, teléfono, televisor, fax, audio de calid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ector de tarjetas inteligentes, reconocimiento de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12"/>
          <p:cNvSpPr/>
          <p:nvPr/>
        </p:nvSpPr>
        <p:spPr>
          <a:xfrm>
            <a:off x="6400800" y="53341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13"/>
          <p:cNvSpPr/>
          <p:nvPr/>
        </p:nvSpPr>
        <p:spPr>
          <a:xfrm>
            <a:off x="7086600" y="55627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14"/>
          <p:cNvSpPr/>
          <p:nvPr/>
        </p:nvSpPr>
        <p:spPr>
          <a:xfrm>
            <a:off x="6400800" y="57913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6321240" y="601992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16"/>
          <p:cNvSpPr/>
          <p:nvPr/>
        </p:nvSpPr>
        <p:spPr>
          <a:xfrm>
            <a:off x="68580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17"/>
          <p:cNvSpPr/>
          <p:nvPr/>
        </p:nvSpPr>
        <p:spPr>
          <a:xfrm flipH="1" flipV="1">
            <a:off x="6705360" y="5486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18"/>
          <p:cNvSpPr/>
          <p:nvPr/>
        </p:nvSpPr>
        <p:spPr>
          <a:xfrm flipH="1">
            <a:off x="6705360" y="5638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19"/>
          <p:cNvSpPr/>
          <p:nvPr/>
        </p:nvSpPr>
        <p:spPr>
          <a:xfrm>
            <a:off x="1600200" y="5105520"/>
            <a:ext cx="3657600" cy="1143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Object 2" descr=""/>
          <p:cNvPicPr/>
          <p:nvPr/>
        </p:nvPicPr>
        <p:blipFill>
          <a:blip r:embed="rId1"/>
          <a:stretch/>
        </p:blipFill>
        <p:spPr>
          <a:xfrm>
            <a:off x="2209680" y="5334120"/>
            <a:ext cx="762120" cy="717480"/>
          </a:xfrm>
          <a:prstGeom prst="rect">
            <a:avLst/>
          </a:prstGeom>
          <a:ln w="0">
            <a:noFill/>
          </a:ln>
        </p:spPr>
      </p:pic>
      <p:pic>
        <p:nvPicPr>
          <p:cNvPr id="1012" name="Object 3" descr=""/>
          <p:cNvPicPr/>
          <p:nvPr/>
        </p:nvPicPr>
        <p:blipFill>
          <a:blip r:embed="rId2"/>
          <a:stretch/>
        </p:blipFill>
        <p:spPr>
          <a:xfrm>
            <a:off x="2971800" y="53341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013" name="Object 4" descr=""/>
          <p:cNvPicPr/>
          <p:nvPr/>
        </p:nvPicPr>
        <p:blipFill>
          <a:blip r:embed="rId3"/>
          <a:stretch/>
        </p:blipFill>
        <p:spPr>
          <a:xfrm>
            <a:off x="4038480" y="5257800"/>
            <a:ext cx="76212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Internet, una combinación de las tecnologías antes descritas, abre nuevas oportunidades de negocios a las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2849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lgunos datos prelimin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Los WWW le dan el impulso definitivo al entregar una interfaz amig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Hoy cuenta con más de 30 millones de usu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Hoy existen más de 3,2 millones de computadores conectados y se espera         alcanzar 100 millones a fin de sig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l crecimiento de Internet ha sido 8% mens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l 15% del uso de Internet está orientado a la venta de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19"/>
          <p:cNvSpPr/>
          <p:nvPr/>
        </p:nvSpPr>
        <p:spPr>
          <a:xfrm>
            <a:off x="640080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20"/>
          <p:cNvSpPr/>
          <p:nvPr/>
        </p:nvSpPr>
        <p:spPr>
          <a:xfrm>
            <a:off x="708660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21"/>
          <p:cNvSpPr/>
          <p:nvPr/>
        </p:nvSpPr>
        <p:spPr>
          <a:xfrm>
            <a:off x="640080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2"/>
          <p:cNvSpPr/>
          <p:nvPr/>
        </p:nvSpPr>
        <p:spPr>
          <a:xfrm>
            <a:off x="6321240" y="58672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23"/>
          <p:cNvSpPr/>
          <p:nvPr/>
        </p:nvSpPr>
        <p:spPr>
          <a:xfrm>
            <a:off x="6858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24"/>
          <p:cNvSpPr/>
          <p:nvPr/>
        </p:nvSpPr>
        <p:spPr>
          <a:xfrm flipH="1" flipV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25"/>
          <p:cNvSpPr/>
          <p:nvPr/>
        </p:nvSpPr>
        <p:spPr>
          <a:xfrm flipH="1">
            <a:off x="670536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5" name="Object 2"/>
          <p:cNvGraphicFramePr/>
          <p:nvPr/>
        </p:nvGraphicFramePr>
        <p:xfrm>
          <a:off x="3200400" y="4267080"/>
          <a:ext cx="17431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267080"/>
                    <a:ext cx="17431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7" name="Object 3" descr=""/>
          <p:cNvPicPr/>
          <p:nvPr/>
        </p:nvPicPr>
        <p:blipFill>
          <a:blip r:embed="rId3"/>
          <a:stretch/>
        </p:blipFill>
        <p:spPr>
          <a:xfrm>
            <a:off x="1981080" y="4343400"/>
            <a:ext cx="762120" cy="682560"/>
          </a:xfrm>
          <a:prstGeom prst="rect">
            <a:avLst/>
          </a:prstGeom>
          <a:ln w="0">
            <a:noFill/>
          </a:ln>
        </p:spPr>
      </p:pic>
      <p:pic>
        <p:nvPicPr>
          <p:cNvPr id="1028" name="Object 4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1029" name="Object 5" descr=""/>
          <p:cNvPicPr/>
          <p:nvPr/>
        </p:nvPicPr>
        <p:blipFill>
          <a:blip r:embed="rId5"/>
          <a:stretch/>
        </p:blipFill>
        <p:spPr>
          <a:xfrm>
            <a:off x="41148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030" name="Object 6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912960"/>
          </a:xfrm>
          <a:prstGeom prst="rect">
            <a:avLst/>
          </a:prstGeom>
          <a:ln w="0">
            <a:noFill/>
          </a:ln>
        </p:spPr>
      </p:pic>
      <p:sp>
        <p:nvSpPr>
          <p:cNvPr id="1031" name="Line 37"/>
          <p:cNvSpPr/>
          <p:nvPr/>
        </p:nvSpPr>
        <p:spPr>
          <a:xfrm>
            <a:off x="2514600" y="44197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38"/>
          <p:cNvSpPr/>
          <p:nvPr/>
        </p:nvSpPr>
        <p:spPr>
          <a:xfrm flipV="1">
            <a:off x="3200400" y="51051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40"/>
          <p:cNvSpPr/>
          <p:nvPr/>
        </p:nvSpPr>
        <p:spPr>
          <a:xfrm flipH="1" flipV="1">
            <a:off x="4190760" y="5105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42"/>
          <p:cNvSpPr/>
          <p:nvPr/>
        </p:nvSpPr>
        <p:spPr>
          <a:xfrm flipH="1">
            <a:off x="4800600" y="4572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Internet se está usando en muchas aplic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9"/>
          <p:cNvSpPr/>
          <p:nvPr/>
        </p:nvSpPr>
        <p:spPr>
          <a:xfrm>
            <a:off x="6400800" y="525780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0"/>
          <p:cNvSpPr/>
          <p:nvPr/>
        </p:nvSpPr>
        <p:spPr>
          <a:xfrm>
            <a:off x="7086600" y="548640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1"/>
          <p:cNvSpPr/>
          <p:nvPr/>
        </p:nvSpPr>
        <p:spPr>
          <a:xfrm>
            <a:off x="6400800" y="571500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2"/>
          <p:cNvSpPr/>
          <p:nvPr/>
        </p:nvSpPr>
        <p:spPr>
          <a:xfrm>
            <a:off x="6321240" y="58672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s emer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23"/>
          <p:cNvSpPr/>
          <p:nvPr/>
        </p:nvSpPr>
        <p:spPr>
          <a:xfrm>
            <a:off x="68580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24"/>
          <p:cNvSpPr/>
          <p:nvPr/>
        </p:nvSpPr>
        <p:spPr>
          <a:xfrm flipH="1" flipV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Line 25"/>
          <p:cNvSpPr/>
          <p:nvPr/>
        </p:nvSpPr>
        <p:spPr>
          <a:xfrm flipH="1">
            <a:off x="670536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5" name="Object 2"/>
          <p:cNvGraphicFramePr/>
          <p:nvPr/>
        </p:nvGraphicFramePr>
        <p:xfrm>
          <a:off x="3200400" y="4267080"/>
          <a:ext cx="17431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267080"/>
                    <a:ext cx="17431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7" name="Object 3" descr=""/>
          <p:cNvPicPr/>
          <p:nvPr/>
        </p:nvPicPr>
        <p:blipFill>
          <a:blip r:embed="rId3"/>
          <a:stretch/>
        </p:blipFill>
        <p:spPr>
          <a:xfrm>
            <a:off x="1981080" y="4343400"/>
            <a:ext cx="762120" cy="682560"/>
          </a:xfrm>
          <a:prstGeom prst="rect">
            <a:avLst/>
          </a:prstGeom>
          <a:ln w="0">
            <a:noFill/>
          </a:ln>
        </p:spPr>
      </p:pic>
      <p:pic>
        <p:nvPicPr>
          <p:cNvPr id="1048" name="Object 4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1049" name="Object 5" descr=""/>
          <p:cNvPicPr/>
          <p:nvPr/>
        </p:nvPicPr>
        <p:blipFill>
          <a:blip r:embed="rId5"/>
          <a:stretch/>
        </p:blipFill>
        <p:spPr>
          <a:xfrm>
            <a:off x="41148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050" name="Object 6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912960"/>
          </a:xfrm>
          <a:prstGeom prst="rect">
            <a:avLst/>
          </a:prstGeom>
          <a:ln w="0">
            <a:noFill/>
          </a:ln>
        </p:spPr>
      </p:pic>
      <p:sp>
        <p:nvSpPr>
          <p:cNvPr id="1051" name="Line 31"/>
          <p:cNvSpPr/>
          <p:nvPr/>
        </p:nvSpPr>
        <p:spPr>
          <a:xfrm>
            <a:off x="2514600" y="44197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32"/>
          <p:cNvSpPr/>
          <p:nvPr/>
        </p:nvSpPr>
        <p:spPr>
          <a:xfrm flipV="1">
            <a:off x="3200400" y="51051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33"/>
          <p:cNvSpPr/>
          <p:nvPr/>
        </p:nvSpPr>
        <p:spPr>
          <a:xfrm flipH="1" flipV="1">
            <a:off x="4190760" y="51051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34"/>
          <p:cNvSpPr/>
          <p:nvPr/>
        </p:nvSpPr>
        <p:spPr>
          <a:xfrm flipH="1">
            <a:off x="4800600" y="4572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3017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nsferencia de arch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ducación a dist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uegos inter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lección de 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anca en c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oporte electró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permercado o multit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42"/>
          <p:cNvSpPr/>
          <p:nvPr/>
        </p:nvSpPr>
        <p:spPr>
          <a:xfrm>
            <a:off x="4800600" y="190512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vío de flores (Grant’s Flowers and Green Hou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moción de restaurantes (Pizza H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isa: ventas por US$200 millones y se espera crecer 3.000 ve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staurante electrónico (Chica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lo Alto: una ciudad en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8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l Marketing Interactivo, basado en tecnologías emergentes, surge como una forma de alcanzar ventajas competitivas, en mercados crecientemente competi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1295280" y="220968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Alientan las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3048120" y="2971800"/>
            <a:ext cx="2743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1295280" y="3886200"/>
            <a:ext cx="2381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Permite desarrollar nuevas formas de competi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2133720" y="3276720"/>
            <a:ext cx="904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9"/>
          <p:cNvSpPr/>
          <p:nvPr/>
        </p:nvSpPr>
        <p:spPr>
          <a:xfrm flipV="1">
            <a:off x="1523880" y="3276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10"/>
          <p:cNvSpPr/>
          <p:nvPr/>
        </p:nvSpPr>
        <p:spPr>
          <a:xfrm flipH="1" flipV="1">
            <a:off x="1523880" y="2666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6" name="Object 2"/>
          <p:cNvGraphicFramePr/>
          <p:nvPr/>
        </p:nvGraphicFramePr>
        <p:xfrm>
          <a:off x="5867280" y="3048120"/>
          <a:ext cx="70488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048120"/>
                    <a:ext cx="704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Text Box 12"/>
          <p:cNvSpPr/>
          <p:nvPr/>
        </p:nvSpPr>
        <p:spPr>
          <a:xfrm>
            <a:off x="4784760" y="3567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3"/>
          <p:cNvSpPr/>
          <p:nvPr/>
        </p:nvSpPr>
        <p:spPr>
          <a:xfrm>
            <a:off x="6550200" y="2590920"/>
            <a:ext cx="2312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Mercados más transpa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Hábitos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Distrib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romo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Publi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Ventas electrón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Marketing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lientes más cerc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4"/>
          <p:cNvSpPr/>
          <p:nvPr/>
        </p:nvSpPr>
        <p:spPr>
          <a:xfrm>
            <a:off x="2393640" y="4800600"/>
            <a:ext cx="45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o también es válido en las demás 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mercados se harán más transpar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Object 2" descr=""/>
          <p:cNvPicPr/>
          <p:nvPr/>
        </p:nvPicPr>
        <p:blipFill>
          <a:blip r:embed="rId1"/>
          <a:stretch/>
        </p:blipFill>
        <p:spPr>
          <a:xfrm>
            <a:off x="2666880" y="4114800"/>
            <a:ext cx="1219320" cy="1676520"/>
          </a:xfrm>
          <a:prstGeom prst="rect">
            <a:avLst/>
          </a:prstGeom>
          <a:ln w="0">
            <a:noFill/>
          </a:ln>
        </p:spPr>
      </p:pic>
      <p:sp>
        <p:nvSpPr>
          <p:cNvPr id="1075" name="Text Box 23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25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26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27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28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29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30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53341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 cantidad de información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costos de búsq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hábitos de compra de los consumidores cambiará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0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1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2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23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24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25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 desde los domici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querirán servicios an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ofertas serán más personali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Object 2" descr=""/>
          <p:cNvPicPr/>
          <p:nvPr/>
        </p:nvPicPr>
        <p:blipFill>
          <a:blip r:embed="rId1"/>
          <a:stretch/>
        </p:blipFill>
        <p:spPr>
          <a:xfrm>
            <a:off x="1143000" y="4648320"/>
            <a:ext cx="2260440" cy="1442880"/>
          </a:xfrm>
          <a:prstGeom prst="rect">
            <a:avLst/>
          </a:prstGeom>
          <a:ln w="0">
            <a:noFill/>
          </a:ln>
        </p:spPr>
      </p:pic>
      <p:pic>
        <p:nvPicPr>
          <p:cNvPr id="1095" name="Object 3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71600" cy="1417680"/>
          </a:xfrm>
          <a:prstGeom prst="rect">
            <a:avLst/>
          </a:prstGeom>
          <a:ln w="0">
            <a:noFill/>
          </a:ln>
        </p:spPr>
      </p:pic>
      <p:pic>
        <p:nvPicPr>
          <p:cNvPr id="1096" name="Object 4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838080" cy="1195200"/>
          </a:xfrm>
          <a:prstGeom prst="rect">
            <a:avLst/>
          </a:prstGeom>
          <a:ln w="0">
            <a:noFill/>
          </a:ln>
        </p:spPr>
      </p:pic>
      <p:sp>
        <p:nvSpPr>
          <p:cNvPr id="1097" name="Line 36"/>
          <p:cNvSpPr/>
          <p:nvPr/>
        </p:nvSpPr>
        <p:spPr>
          <a:xfrm flipH="1">
            <a:off x="3581280" y="3962520"/>
            <a:ext cx="10670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37"/>
          <p:cNvSpPr/>
          <p:nvPr/>
        </p:nvSpPr>
        <p:spPr>
          <a:xfrm>
            <a:off x="3657600" y="39625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s empresas serán más autosuficientes en cuanto a la distribución de sus produ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actarán a sus clientes en forma electr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regarán mayor cantidad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rá necesario contactar directamente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distribución física se realizará directamente desde la fábrica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rgirá la  distribución virtual para productos que se deben agrupar (supermercados y multitiendas virtuales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2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26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27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28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Object 2" descr=""/>
          <p:cNvPicPr/>
          <p:nvPr/>
        </p:nvPicPr>
        <p:blipFill>
          <a:blip r:embed="rId1"/>
          <a:stretch/>
        </p:blipFill>
        <p:spPr>
          <a:xfrm>
            <a:off x="2971800" y="4876920"/>
            <a:ext cx="17575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promoción se hará a la medida de cada cli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ioscos inter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entregará gran cantidad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bicarán en los puntos de venta y en lugares de acceso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ará a cada cliente la información que requ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harán ofertas personalizadas en base a patrones de compra hist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enviarán ofertas personalizadas a través de corre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5" name="Object 2"/>
          <p:cNvGraphicFramePr/>
          <p:nvPr/>
        </p:nvGraphicFramePr>
        <p:xfrm>
          <a:off x="1447920" y="4495680"/>
          <a:ext cx="350496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956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7" name="Text Box 20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21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3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24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25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26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Porter sostiene que para ser exitoso es necesario tener liderazgo  en costos o diferenciarse (calidad) - Hoy sostiene que es posible hacer las dos cosas a la ve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derazgo en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fo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19320" y="17524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hará publicidad orientada a indicar el lugar donde se puede encontrar más información sobre los produ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mostrarán los lugares donde se puede encontrar más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da consumidor seleccionará la cantidad y tipo de información que de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tilizarán demostraciones virt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da vez más se usarán testimon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tilizarán pantallas planas en publicidad “estátic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8" name="Object 2"/>
          <p:cNvGraphicFramePr/>
          <p:nvPr/>
        </p:nvGraphicFramePr>
        <p:xfrm>
          <a:off x="1676520" y="4648320"/>
          <a:ext cx="44193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4193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Text Box 22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3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24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5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26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27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28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s ventas electrónicas crecerán de una forma insospechad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 aumentará la seguridad de las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interfaces se harán más amig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a algunas empresas será el único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algunos casos la distribución se realizará a través de la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bros, música, videos o software (incluyendo jue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En estos casos se permitirá conocer el producto o parte de él por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1" name="Object 13"/>
          <p:cNvGraphicFramePr/>
          <p:nvPr/>
        </p:nvGraphicFramePr>
        <p:xfrm>
          <a:off x="3429000" y="4648320"/>
          <a:ext cx="12952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648320"/>
                    <a:ext cx="12952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Text Box 22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23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4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25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26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27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28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contará con una nueva posibilidad de realizar marketing industri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empresas se conectarán con sus clientes y proveedores (empresa extend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ransacciones electró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ejores ne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stos de trans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 a cara     US$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elecobertura US$2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Televent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US$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irect mai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US$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25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26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27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28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29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30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31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as herramientas acercarán a los cli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través de las herramientas antes descritas se tendrá una comunicación de primera fuente con los 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permitirá conocer mejor sus necesidades y cómo estas evolucio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utilizará realidad virtual para testear productos y servicios (más rápido y a menor co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 esto se acortarán los ciclos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Object 2" descr=""/>
          <p:cNvPicPr/>
          <p:nvPr/>
        </p:nvPicPr>
        <p:blipFill>
          <a:blip r:embed="rId1"/>
          <a:stretch/>
        </p:blipFill>
        <p:spPr>
          <a:xfrm>
            <a:off x="2133720" y="4495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1166" name="Text Box 27"/>
          <p:cNvSpPr/>
          <p:nvPr/>
        </p:nvSpPr>
        <p:spPr>
          <a:xfrm>
            <a:off x="6319440" y="57150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8"/>
          <p:cNvSpPr/>
          <p:nvPr/>
        </p:nvSpPr>
        <p:spPr>
          <a:xfrm>
            <a:off x="6400800" y="5105520"/>
            <a:ext cx="93492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Alientan las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29"/>
          <p:cNvSpPr/>
          <p:nvPr/>
        </p:nvSpPr>
        <p:spPr>
          <a:xfrm>
            <a:off x="7086600" y="5334120"/>
            <a:ext cx="114300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Como una forma de desarrollar ventajas competitivas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30"/>
          <p:cNvSpPr/>
          <p:nvPr/>
        </p:nvSpPr>
        <p:spPr>
          <a:xfrm>
            <a:off x="6400800" y="5562720"/>
            <a:ext cx="987480" cy="152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Times New Roman"/>
              </a:rPr>
              <a:t>-Permite desarrollar nuevas formas de competir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1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32"/>
          <p:cNvSpPr/>
          <p:nvPr/>
        </p:nvSpPr>
        <p:spPr>
          <a:xfrm flipH="1" flipV="1">
            <a:off x="670536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3"/>
          <p:cNvSpPr/>
          <p:nvPr/>
        </p:nvSpPr>
        <p:spPr>
          <a:xfrm flipH="1">
            <a:off x="67053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Beneficios del marketing interactiv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iciencia en los costos para proveer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iciencia en el uso del tiempo de lo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para comunicarse y vender a los clientes donde ellos se encuent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tencial para convertir a la “red” en un canal para vender, distribuir y soportar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para proveer información y soportar los procesos de venta en forma continua (las 24 horas del día, los 365 días del a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jorar el reconocimiento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jorar la satisfacción de los clientes a través de una mejor y más direct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11"/>
          <p:cNvSpPr/>
          <p:nvPr/>
        </p:nvSpPr>
        <p:spPr>
          <a:xfrm>
            <a:off x="6471720" y="586728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ecnologías emergentes, unidas a las actuales tendencias de los mercados, permiten y obligan a desarrollar nuevas ventajas competitiv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0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6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7"/>
          <p:cNvSpPr/>
          <p:nvPr/>
        </p:nvSpPr>
        <p:spPr>
          <a:xfrm>
            <a:off x="1676520" y="2362320"/>
            <a:ext cx="350496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crotendencias de los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lientan las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8"/>
          <p:cNvSpPr/>
          <p:nvPr/>
        </p:nvSpPr>
        <p:spPr>
          <a:xfrm>
            <a:off x="4724280" y="3657600"/>
            <a:ext cx="40388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novación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- Como una forma de desarrollar ventajas compet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9"/>
          <p:cNvSpPr/>
          <p:nvPr/>
        </p:nvSpPr>
        <p:spPr>
          <a:xfrm>
            <a:off x="1752480" y="4648320"/>
            <a:ext cx="350532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ecnología Emer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mite desarrollar nuevas formas de compe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10"/>
          <p:cNvSpPr/>
          <p:nvPr/>
        </p:nvSpPr>
        <p:spPr>
          <a:xfrm>
            <a:off x="3276720" y="3886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11"/>
          <p:cNvSpPr/>
          <p:nvPr/>
        </p:nvSpPr>
        <p:spPr>
          <a:xfrm>
            <a:off x="2362320" y="29718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12"/>
          <p:cNvSpPr/>
          <p:nvPr/>
        </p:nvSpPr>
        <p:spPr>
          <a:xfrm flipV="1">
            <a:off x="2133720" y="38858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empresa de hoy, además de preocuparse de la eficiencia y la calidad, debe ser flexi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la var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Alta var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permercados, multitie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el vol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Distintos tamaños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tribuid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yorista compu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Velocidad para introducir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lletas, dulces,  he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sta, Dos en Uno, Ambros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lexibilidad en la entr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Tiempo, ub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lemercados, piz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219320" y="1295280"/>
            <a:ext cx="75438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0" y="3146400"/>
            <a:ext cx="9144000" cy="565200"/>
            <a:chOff x="0" y="3146400"/>
            <a:chExt cx="9144000" cy="565200"/>
          </a:xfrm>
        </p:grpSpPr>
        <p:sp>
          <p:nvSpPr>
            <p:cNvPr id="239" name="Rectangle 5"/>
            <p:cNvSpPr/>
            <p:nvPr/>
          </p:nvSpPr>
          <p:spPr>
            <a:xfrm>
              <a:off x="0" y="3146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0" y="3146400"/>
              <a:ext cx="91440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99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s-ES_tradnl" sz="3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Picture 7" descr="logo-no-border(1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514600"/>
            <a:ext cx="1692360" cy="492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Ver imagen en tamaño complet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34320" y="5410080"/>
            <a:ext cx="799920" cy="762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http://tbn1.google.com/images?q=tbn:hP0Bhu_nFjR9qM:http://savory.cl/scripts/ContentImage.ashx%3FCID%3D2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4114800"/>
            <a:ext cx="60012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Pero en realidad hoy hay que ser, además, ecosustenta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219320" y="1676520"/>
            <a:ext cx="739116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7391520" y="4952880"/>
            <a:ext cx="1523880" cy="18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Object 6"/>
          <p:cNvGraphicFramePr/>
          <p:nvPr/>
        </p:nvGraphicFramePr>
        <p:xfrm>
          <a:off x="1066680" y="2209680"/>
          <a:ext cx="74678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467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31"/>
          <p:cNvSpPr/>
          <p:nvPr/>
        </p:nvSpPr>
        <p:spPr>
          <a:xfrm>
            <a:off x="3565080" y="305928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6490440" y="5105520"/>
            <a:ext cx="2600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ponsabilidad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un mercado “hipercompetitivo” las herramientas tradicionales de análisis estratégico ya no sirven por sí sol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69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ercados se hacen cada vez más globales, obligando a las empresas a competir a nivel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onsumidores son más exigentes y sus requerimientos son más person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productos y servicios se hacen más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ecnologías emergentes entregan herramientas que permiten y obligan a las empresas a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219320" y="1905120"/>
            <a:ext cx="701028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7" descr="http://tbn3.google.com/images?q=tbn:nFw7ZINFQKhl1M:http://img.vitonica.com/2009/03/ipod-shuff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5676840"/>
            <a:ext cx="1123920" cy="1181160"/>
          </a:xfrm>
          <a:prstGeom prst="rect">
            <a:avLst/>
          </a:prstGeom>
          <a:ln w="0">
            <a:noFill/>
          </a:ln>
        </p:spPr>
      </p:pic>
      <p:sp>
        <p:nvSpPr>
          <p:cNvPr id="25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o obliga a eliminar las actuales ventajas competitivas e introducir nue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0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un mercado hipercompetitivo las ventajas competitivas ya no son soste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s son erosionadas por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mpresa debe destruir sus propias ventajas y crear otras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ar de sostener ventajas puede permitir el paso a los riv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ste caso la innovación y en particular la innovación tecnológica son el mejor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219320" y="1676520"/>
            <a:ext cx="746748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http://tbn3.google.com/images?q=tbn:MAPP_wDrz_sx7M:http://www.ipodtotal.com/imagenes/noticias2/ipod-tou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571500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http://tbn1.google.com/images?q=tbn:gUyBmHv9Q3E5WM:http://crunchgear.com/wp-content/uploads/01_large2007090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5791320"/>
            <a:ext cx="885600" cy="730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http://tbn2.google.com/images?q=tbn:uQuuNuKsMOTEdM:http://www.cesarnunhez.com/myblog/wp-content/uploads//2008/10/ipod-nano-4g-1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0800" y="5715000"/>
            <a:ext cx="1181160" cy="905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http://tbn3.google.com/images?q=tbn:eL97QCrWsDWYHM:http://www.ipodtotal.com/imagenes/modelos/ipod-mini-2g-verd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76720" y="5867280"/>
            <a:ext cx="714240" cy="687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http://tbn0.google.com/images?q=tbn:xDkYQA_u-rooLM:http://saeros.files.wordpress.com/2007/09/ipod-shuffl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80000" y="5791320"/>
            <a:ext cx="1035000" cy="790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9" descr="http://tbn3.google.com/images?q=tbn:6Z_rWwFa48ThWM:http://stygyan.files.wordpress.com/2009/06/ipod-classic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962520" y="5562720"/>
            <a:ext cx="8776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petencias Esenci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76688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petencias Esenci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etencias Esenciales / product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aha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a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 de libros po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ción de infraestructura diná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ejo de imá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tores de impresión / 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¿Transantiago = innovació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o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n de contin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eñ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iados y ap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os comple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de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uebas y experi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ima_tbip"/>
          <p:cNvPicPr/>
          <p:nvPr/>
        </p:nvPicPr>
        <p:blipFill>
          <a:blip r:embed="rId1"/>
          <a:stretch/>
        </p:blipFill>
        <p:spPr>
          <a:xfrm>
            <a:off x="7162920" y="1523880"/>
            <a:ext cx="1342800" cy="1190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3buses"/>
          <p:cNvPicPr/>
          <p:nvPr/>
        </p:nvPicPr>
        <p:blipFill>
          <a:blip r:embed="rId2"/>
          <a:stretch/>
        </p:blipFill>
        <p:spPr>
          <a:xfrm>
            <a:off x="6934320" y="2971800"/>
            <a:ext cx="1666800" cy="800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bus"/>
          <p:cNvPicPr/>
          <p:nvPr/>
        </p:nvPicPr>
        <p:blipFill>
          <a:blip r:embed="rId3"/>
          <a:stretch/>
        </p:blipFill>
        <p:spPr>
          <a:xfrm>
            <a:off x="6553080" y="4114800"/>
            <a:ext cx="2314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Discontinuidades Tecnológicas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Diseños Dominante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981080" y="304920"/>
            <a:ext cx="454356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1981080" y="0"/>
            <a:ext cx="7162560" cy="3281040"/>
            <a:chOff x="1981080" y="0"/>
            <a:chExt cx="7162560" cy="3281040"/>
          </a:xfrm>
        </p:grpSpPr>
        <p:sp>
          <p:nvSpPr>
            <p:cNvPr id="277" name="Rectangle 4"/>
            <p:cNvSpPr/>
            <p:nvPr/>
          </p:nvSpPr>
          <p:spPr>
            <a:xfrm>
              <a:off x="1981080" y="0"/>
              <a:ext cx="6122160" cy="21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Group 10"/>
            <p:cNvGrpSpPr/>
            <p:nvPr/>
          </p:nvGrpSpPr>
          <p:grpSpPr>
            <a:xfrm>
              <a:off x="1981080" y="0"/>
              <a:ext cx="7162560" cy="3281040"/>
              <a:chOff x="1981080" y="0"/>
              <a:chExt cx="7162560" cy="3281040"/>
            </a:xfrm>
          </p:grpSpPr>
          <p:sp>
            <p:nvSpPr>
              <p:cNvPr id="279" name="Rectangle 5"/>
              <p:cNvSpPr/>
              <p:nvPr/>
            </p:nvSpPr>
            <p:spPr>
              <a:xfrm>
                <a:off x="1981080" y="0"/>
                <a:ext cx="6122160" cy="65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15798a"/>
                    </a:solidFill>
                    <a:latin typeface="Verdana"/>
                  </a:rPr>
                  <a:t>Lanzan teléfonos con forma de reloj pulser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6"/>
              <p:cNvSpPr/>
              <p:nvPr/>
            </p:nvSpPr>
            <p:spPr>
              <a:xfrm>
                <a:off x="8103240" y="0"/>
                <a:ext cx="1040400" cy="65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8"/>
              <p:cNvSpPr/>
              <p:nvPr/>
            </p:nvSpPr>
            <p:spPr>
              <a:xfrm>
                <a:off x="1981080" y="659520"/>
                <a:ext cx="6122160" cy="262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(AméricaEconomía.com) La japonesa NTT Docomo anunció que muy pronto pondrá a la venta el primer modelo de teléfono celular con forma de reloj de pulsera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El nuevo equipo, que fue bautizado como Wristomo, ha desperado un particular interés en los consumidores nipones, los que ya venían esperando su lanzamiento desde hace meses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Los equipos lucirán como cualquier reloj de pulsera tradicional, pero cuando reciban una llamada se desplegará un teclado y una pantalla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Además de las conversaciones telefónicas normales, los equipos de la línea Wristomo también podrán enviar y recibir mensajes de texto, correo electrónico, y estarán habilitados para navegar por internet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Los aparatos utilizarán la tecnología PHS, que permite consumir menos energía y, por lo tanto, estar abastecidos por baterías más pequeñas y de mayor duración. Sin embargo, la PHS ha tenidos sus detractores debido a que no permite una comunicación fluida cuando se está en moviend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Docomo anunció que durante esta semana será posible realizar órdenes de reserva de los teléfonos pulsera en el website </a:t>
                </a:r>
                <a:r>
                  <a:rPr b="0" lang="es-ES_tradnl" sz="1400" spc="-1" strike="noStrike" u="sng">
                    <a:solidFill>
                      <a:srgbClr val="99ccff"/>
                    </a:solidFill>
                    <a:uFillTx/>
                    <a:latin typeface="Verdana"/>
                    <a:hlinkClick r:id="rId1"/>
                  </a:rPr>
                  <a:t>www.wristomo.com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Verdana"/>
                  </a:rPr>
                  <a:t>, y que el precio se situará en torno a los US$420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2" name="Picture 9" descr="wristomo_int"/>
          <p:cNvPicPr/>
          <p:nvPr/>
        </p:nvPicPr>
        <p:blipFill>
          <a:blip r:embed="rId2"/>
          <a:stretch/>
        </p:blipFill>
        <p:spPr>
          <a:xfrm>
            <a:off x="990720" y="5208480"/>
            <a:ext cx="213336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Libros electrónicos multimed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5" name="Picture 3" descr="MCj04040590000[1]"/>
          <p:cNvPicPr/>
          <p:nvPr/>
        </p:nvPicPr>
        <p:blipFill>
          <a:blip r:embed="rId1"/>
          <a:stretch/>
        </p:blipFill>
        <p:spPr>
          <a:xfrm>
            <a:off x="1219320" y="3581280"/>
            <a:ext cx="914400" cy="911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MCj02901240000[1]"/>
          <p:cNvPicPr/>
          <p:nvPr/>
        </p:nvPicPr>
        <p:blipFill>
          <a:blip r:embed="rId2"/>
          <a:stretch/>
        </p:blipFill>
        <p:spPr>
          <a:xfrm>
            <a:off x="3962520" y="3505320"/>
            <a:ext cx="1006200" cy="892080"/>
          </a:xfrm>
          <a:prstGeom prst="rect">
            <a:avLst/>
          </a:prstGeom>
          <a:ln w="0">
            <a:noFill/>
          </a:ln>
        </p:spPr>
      </p:pic>
      <p:sp>
        <p:nvSpPr>
          <p:cNvPr id="287" name="Line 12"/>
          <p:cNvSpPr/>
          <p:nvPr/>
        </p:nvSpPr>
        <p:spPr>
          <a:xfrm>
            <a:off x="2362320" y="40384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3" descr="MPj04049860000[1]"/>
          <p:cNvPicPr/>
          <p:nvPr/>
        </p:nvPicPr>
        <p:blipFill>
          <a:blip r:embed="rId3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89" name="Line 14"/>
          <p:cNvSpPr/>
          <p:nvPr/>
        </p:nvSpPr>
        <p:spPr>
          <a:xfrm>
            <a:off x="5562720" y="396252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ús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Picture 5" descr="MCj04079840000[1]"/>
          <p:cNvPicPr/>
          <p:nvPr/>
        </p:nvPicPr>
        <p:blipFill>
          <a:blip r:embed="rId1"/>
          <a:stretch/>
        </p:blipFill>
        <p:spPr>
          <a:xfrm>
            <a:off x="1219320" y="3048120"/>
            <a:ext cx="853920" cy="906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MCj02901220000[1]"/>
          <p:cNvPicPr/>
          <p:nvPr/>
        </p:nvPicPr>
        <p:blipFill>
          <a:blip r:embed="rId2"/>
          <a:stretch/>
        </p:blipFill>
        <p:spPr>
          <a:xfrm>
            <a:off x="3048120" y="2971800"/>
            <a:ext cx="539640" cy="990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MCj03969380000[1]"/>
          <p:cNvPicPr/>
          <p:nvPr/>
        </p:nvPicPr>
        <p:blipFill>
          <a:blip r:embed="rId3"/>
          <a:stretch/>
        </p:blipFill>
        <p:spPr>
          <a:xfrm>
            <a:off x="4343400" y="3124080"/>
            <a:ext cx="814320" cy="644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ipod-nan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3048120"/>
            <a:ext cx="1181160" cy="923760"/>
          </a:xfrm>
          <a:prstGeom prst="rect">
            <a:avLst/>
          </a:prstGeom>
          <a:ln w="0">
            <a:noFill/>
          </a:ln>
        </p:spPr>
      </p:pic>
      <p:sp>
        <p:nvSpPr>
          <p:cNvPr id="296" name="Line 12"/>
          <p:cNvSpPr/>
          <p:nvPr/>
        </p:nvSpPr>
        <p:spPr>
          <a:xfrm>
            <a:off x="2362320" y="2743200"/>
            <a:ext cx="441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3" descr="MPj04049860000[1]"/>
          <p:cNvPicPr/>
          <p:nvPr/>
        </p:nvPicPr>
        <p:blipFill>
          <a:blip r:embed="rId6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Video on Dem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Picture 9" descr="VH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8120"/>
            <a:ext cx="1190880" cy="942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DVD-Logo-Colo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3124080"/>
            <a:ext cx="1247760" cy="6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MPj04049860000[1]"/>
          <p:cNvPicPr/>
          <p:nvPr/>
        </p:nvPicPr>
        <p:blipFill>
          <a:blip r:embed="rId5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Hom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86400" y="3124080"/>
            <a:ext cx="1171440" cy="600120"/>
          </a:xfrm>
          <a:prstGeom prst="rect">
            <a:avLst/>
          </a:prstGeom>
          <a:ln w="0">
            <a:noFill/>
          </a:ln>
        </p:spPr>
      </p:pic>
      <p:sp>
        <p:nvSpPr>
          <p:cNvPr id="304" name="Line 15"/>
          <p:cNvSpPr/>
          <p:nvPr/>
        </p:nvSpPr>
        <p:spPr>
          <a:xfrm>
            <a:off x="2362320" y="2743200"/>
            <a:ext cx="441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Voz sobre 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Picture 11" descr="MPj04049860000[1]"/>
          <p:cNvPicPr/>
          <p:nvPr/>
        </p:nvPicPr>
        <p:blipFill>
          <a:blip r:embed="rId1"/>
          <a:stretch/>
        </p:blipFill>
        <p:spPr>
          <a:xfrm>
            <a:off x="6959520" y="228600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308" name="Line 12"/>
          <p:cNvSpPr/>
          <p:nvPr/>
        </p:nvSpPr>
        <p:spPr>
          <a:xfrm>
            <a:off x="5791320" y="35812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14" descr="TELEFONO%2520CLASICO%2520VICTOR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3200400"/>
            <a:ext cx="1095480" cy="1114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6" descr="telefono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62320" y="3429000"/>
            <a:ext cx="1181160" cy="704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4" descr="F20070628135846212214839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43400" y="1600200"/>
            <a:ext cx="885960" cy="1181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6" descr="palm-m505-p0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828800" y="4800600"/>
            <a:ext cx="1000080" cy="135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8" descr="RMG23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29200" y="3124080"/>
            <a:ext cx="1104840" cy="1133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0" descr="telefono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3200400"/>
            <a:ext cx="1123920" cy="1133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2" descr="celular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33720" y="1676520"/>
            <a:ext cx="885600" cy="11048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4" descr="Skype"/>
          <p:cNvPicPr/>
          <p:nvPr/>
        </p:nvPicPr>
        <p:blipFill>
          <a:blip r:embed="rId16"/>
          <a:stretch/>
        </p:blipFill>
        <p:spPr>
          <a:xfrm>
            <a:off x="4648320" y="4724280"/>
            <a:ext cx="214308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diarios, tal como los conocemos hoy, son la suma de cuatro produ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icias y comentarios de act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ormación de utilidad (clima, carteleras, itinerarios,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 y noticias pagadas o ins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cados de productos o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mpleos, propiedades, automóvil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diario generales y otros dirigidos a un seg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entan con secciones dirigidas a t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037" descr="periodic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5591160"/>
            <a:ext cx="1171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diarios electrónicos están comenzando a desplazar a los diarios tradicion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accederá a la información en forma electr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lector elegirá las secciones que de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ublicidad podrá incluir facilidades de multimedios e hiper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demás estará mucho más foc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avisos económicos contendrán mucha más información que 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estructura que tengan es difícil de predec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l vez se trate de distint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1219320" y="1676520"/>
            <a:ext cx="739116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2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46"/>
          <p:cNvGrpSpPr/>
          <p:nvPr/>
        </p:nvGrpSpPr>
        <p:grpSpPr>
          <a:xfrm>
            <a:off x="1122480" y="33480"/>
            <a:ext cx="7107120" cy="1690560"/>
            <a:chOff x="1122480" y="33480"/>
            <a:chExt cx="7107120" cy="1690560"/>
          </a:xfrm>
        </p:grpSpPr>
        <p:grpSp>
          <p:nvGrpSpPr>
            <p:cNvPr id="328" name="Group 1041"/>
            <p:cNvGrpSpPr/>
            <p:nvPr/>
          </p:nvGrpSpPr>
          <p:grpSpPr>
            <a:xfrm>
              <a:off x="1122480" y="33480"/>
              <a:ext cx="1677960" cy="868320"/>
              <a:chOff x="1122480" y="33480"/>
              <a:chExt cx="1677960" cy="868320"/>
            </a:xfrm>
          </p:grpSpPr>
          <p:sp>
            <p:nvSpPr>
              <p:cNvPr id="329" name="Rectangle 1040"/>
              <p:cNvSpPr/>
              <p:nvPr/>
            </p:nvSpPr>
            <p:spPr>
              <a:xfrm>
                <a:off x="1122480" y="33480"/>
                <a:ext cx="1677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026"/>
              <p:cNvSpPr/>
              <p:nvPr/>
            </p:nvSpPr>
            <p:spPr>
              <a:xfrm>
                <a:off x="1122480" y="33480"/>
                <a:ext cx="1677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_tradnl" sz="2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1043"/>
            <p:cNvGrpSpPr/>
            <p:nvPr/>
          </p:nvGrpSpPr>
          <p:grpSpPr>
            <a:xfrm>
              <a:off x="2800440" y="33480"/>
              <a:ext cx="3040200" cy="868320"/>
              <a:chOff x="2800440" y="33480"/>
              <a:chExt cx="3040200" cy="868320"/>
            </a:xfrm>
          </p:grpSpPr>
          <p:sp>
            <p:nvSpPr>
              <p:cNvPr id="332" name="Rectangle 1042"/>
              <p:cNvSpPr/>
              <p:nvPr/>
            </p:nvSpPr>
            <p:spPr>
              <a:xfrm>
                <a:off x="2800440" y="33480"/>
                <a:ext cx="304020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1028"/>
              <p:cNvSpPr/>
              <p:nvPr/>
            </p:nvSpPr>
            <p:spPr>
              <a:xfrm>
                <a:off x="2800440" y="33480"/>
                <a:ext cx="304020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1045"/>
            <p:cNvGrpSpPr/>
            <p:nvPr/>
          </p:nvGrpSpPr>
          <p:grpSpPr>
            <a:xfrm>
              <a:off x="5840640" y="33480"/>
              <a:ext cx="2388960" cy="868320"/>
              <a:chOff x="5840640" y="33480"/>
              <a:chExt cx="2388960" cy="868320"/>
            </a:xfrm>
          </p:grpSpPr>
          <p:sp>
            <p:nvSpPr>
              <p:cNvPr id="335" name="Rectangle 1044"/>
              <p:cNvSpPr/>
              <p:nvPr/>
            </p:nvSpPr>
            <p:spPr>
              <a:xfrm>
                <a:off x="5840640" y="33480"/>
                <a:ext cx="2388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30"/>
              <p:cNvSpPr/>
              <p:nvPr/>
            </p:nvSpPr>
            <p:spPr>
              <a:xfrm>
                <a:off x="5840640" y="33480"/>
                <a:ext cx="2388960" cy="86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_tradnl" sz="2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ectangle 1032"/>
            <p:cNvSpPr/>
            <p:nvPr/>
          </p:nvSpPr>
          <p:spPr>
            <a:xfrm>
              <a:off x="1122480" y="901800"/>
              <a:ext cx="1677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035"/>
            <p:cNvSpPr/>
            <p:nvPr/>
          </p:nvSpPr>
          <p:spPr>
            <a:xfrm>
              <a:off x="2800440" y="901800"/>
              <a:ext cx="30402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37"/>
            <p:cNvSpPr/>
            <p:nvPr/>
          </p:nvSpPr>
          <p:spPr>
            <a:xfrm>
              <a:off x="5840640" y="901800"/>
              <a:ext cx="2388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  </a:t>
              </a:r>
              <a:r>
                <a:rPr b="0" lang="es-ES_tradnl" sz="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059"/>
          <p:cNvGrpSpPr/>
          <p:nvPr/>
        </p:nvGrpSpPr>
        <p:grpSpPr>
          <a:xfrm>
            <a:off x="571680" y="1724040"/>
            <a:ext cx="7581240" cy="2849400"/>
            <a:chOff x="571680" y="1724040"/>
            <a:chExt cx="7581240" cy="2849400"/>
          </a:xfrm>
        </p:grpSpPr>
        <p:sp>
          <p:nvSpPr>
            <p:cNvPr id="341" name="Rectangle 1047"/>
            <p:cNvSpPr/>
            <p:nvPr/>
          </p:nvSpPr>
          <p:spPr>
            <a:xfrm>
              <a:off x="571680" y="1724040"/>
              <a:ext cx="2304720" cy="28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1056"/>
            <p:cNvGrpSpPr/>
            <p:nvPr/>
          </p:nvGrpSpPr>
          <p:grpSpPr>
            <a:xfrm>
              <a:off x="2876400" y="1724040"/>
              <a:ext cx="3108240" cy="396720"/>
              <a:chOff x="2876400" y="1724040"/>
              <a:chExt cx="3108240" cy="396720"/>
            </a:xfrm>
          </p:grpSpPr>
          <p:sp>
            <p:nvSpPr>
              <p:cNvPr id="343" name="Rectangle 1049"/>
              <p:cNvSpPr/>
              <p:nvPr/>
            </p:nvSpPr>
            <p:spPr>
              <a:xfrm>
                <a:off x="2876400" y="1724040"/>
                <a:ext cx="3107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buClr>
                    <a:srgbClr val="000000"/>
                  </a:buClr>
                  <a:buSzPct val="85000"/>
                  <a:buFont typeface="Arial Narrow Special G2" charset="2"/>
                  <a:buChar char="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Group 1054"/>
              <p:cNvGrpSpPr/>
              <p:nvPr/>
            </p:nvGrpSpPr>
            <p:grpSpPr>
              <a:xfrm>
                <a:off x="2876400" y="1769760"/>
                <a:ext cx="3108240" cy="244080"/>
                <a:chOff x="2876400" y="1769760"/>
                <a:chExt cx="3108240" cy="244080"/>
              </a:xfrm>
            </p:grpSpPr>
            <p:sp>
              <p:nvSpPr>
                <p:cNvPr id="345" name="Rectangle 1050"/>
                <p:cNvSpPr/>
                <p:nvPr/>
              </p:nvSpPr>
              <p:spPr>
                <a:xfrm>
                  <a:off x="2876400" y="1769760"/>
                  <a:ext cx="310788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</a:rPr>
                    <a:t>  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1052"/>
                <p:cNvSpPr/>
                <p:nvPr/>
              </p:nvSpPr>
              <p:spPr>
                <a:xfrm>
                  <a:off x="5984280" y="1769760"/>
                  <a:ext cx="36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7" name="Rectangle 1057"/>
            <p:cNvSpPr/>
            <p:nvPr/>
          </p:nvSpPr>
          <p:spPr>
            <a:xfrm>
              <a:off x="5984640" y="1724040"/>
              <a:ext cx="2168280" cy="28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Picture 1027" descr="sombrero1"/>
          <p:cNvPicPr/>
          <p:nvPr/>
        </p:nvPicPr>
        <p:blipFill>
          <a:blip r:embed="rId1"/>
          <a:stretch/>
        </p:blipFill>
        <p:spPr>
          <a:xfrm>
            <a:off x="1219320" y="79200"/>
            <a:ext cx="1417680" cy="435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29" descr="slogan"/>
          <p:cNvPicPr/>
          <p:nvPr/>
        </p:nvPicPr>
        <p:blipFill>
          <a:blip r:embed="rId2"/>
          <a:stretch/>
        </p:blipFill>
        <p:spPr>
          <a:xfrm>
            <a:off x="2417760" y="101520"/>
            <a:ext cx="3051000" cy="171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31" descr="logo1"/>
          <p:cNvPicPr/>
          <p:nvPr/>
        </p:nvPicPr>
        <p:blipFill>
          <a:blip r:embed="rId3"/>
          <a:stretch/>
        </p:blipFill>
        <p:spPr>
          <a:xfrm>
            <a:off x="5457960" y="414360"/>
            <a:ext cx="1885680" cy="468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33" descr="sombrero2"/>
          <p:cNvPicPr/>
          <p:nvPr/>
        </p:nvPicPr>
        <p:blipFill>
          <a:blip r:embed="rId4"/>
          <a:stretch/>
        </p:blipFill>
        <p:spPr>
          <a:xfrm>
            <a:off x="739800" y="947880"/>
            <a:ext cx="1542960" cy="56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34" descr="sombra"/>
          <p:cNvPicPr/>
          <p:nvPr/>
        </p:nvPicPr>
        <p:blipFill>
          <a:blip r:embed="rId5"/>
          <a:stretch/>
        </p:blipFill>
        <p:spPr>
          <a:xfrm>
            <a:off x="892080" y="1312920"/>
            <a:ext cx="492120" cy="57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36" descr="sombra"/>
          <p:cNvPicPr/>
          <p:nvPr/>
        </p:nvPicPr>
        <p:blipFill>
          <a:blip r:embed="rId6"/>
          <a:stretch/>
        </p:blipFill>
        <p:spPr>
          <a:xfrm>
            <a:off x="2417760" y="947880"/>
            <a:ext cx="3978360" cy="56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38" descr="logo2"/>
          <p:cNvPicPr/>
          <p:nvPr/>
        </p:nvPicPr>
        <p:blipFill>
          <a:blip r:embed="rId7"/>
          <a:stretch/>
        </p:blipFill>
        <p:spPr>
          <a:xfrm>
            <a:off x="5457960" y="947880"/>
            <a:ext cx="1885680" cy="56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39" descr="sombra"/>
          <p:cNvPicPr/>
          <p:nvPr/>
        </p:nvPicPr>
        <p:blipFill>
          <a:blip r:embed="rId8"/>
          <a:stretch/>
        </p:blipFill>
        <p:spPr>
          <a:xfrm>
            <a:off x="7372440" y="947880"/>
            <a:ext cx="1200240" cy="56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48" descr="cara"/>
          <p:cNvPicPr/>
          <p:nvPr/>
        </p:nvPicPr>
        <p:blipFill>
          <a:blip r:embed="rId9"/>
          <a:stretch/>
        </p:blipFill>
        <p:spPr>
          <a:xfrm>
            <a:off x="1219320" y="457200"/>
            <a:ext cx="2035080" cy="2492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51" descr="flechita_amarilla"/>
          <p:cNvPicPr/>
          <p:nvPr/>
        </p:nvPicPr>
        <p:blipFill>
          <a:blip r:embed="rId10"/>
          <a:stretch/>
        </p:blipFill>
        <p:spPr>
          <a:xfrm>
            <a:off x="3003480" y="181620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58" descr="logo3"/>
          <p:cNvPicPr/>
          <p:nvPr/>
        </p:nvPicPr>
        <p:blipFill>
          <a:blip r:embed="rId11"/>
          <a:stretch/>
        </p:blipFill>
        <p:spPr>
          <a:xfrm>
            <a:off x="5486400" y="990720"/>
            <a:ext cx="1886040" cy="331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61" descr="cuerpo"/>
          <p:cNvPicPr/>
          <p:nvPr/>
        </p:nvPicPr>
        <p:blipFill>
          <a:blip r:embed="rId12"/>
          <a:stretch/>
        </p:blipFill>
        <p:spPr>
          <a:xfrm>
            <a:off x="1222200" y="2895480"/>
            <a:ext cx="3578400" cy="22068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062"/>
          <p:cNvSpPr/>
          <p:nvPr/>
        </p:nvSpPr>
        <p:spPr>
          <a:xfrm>
            <a:off x="4766400" y="2452680"/>
            <a:ext cx="223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99ccff"/>
                </a:solidFill>
                <a:uFillTx/>
                <a:latin typeface="Times New Roman"/>
                <a:hlinkClick r:id="rId13"/>
              </a:rPr>
              <a:t>www.laborum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amos en presencia de una discontinuidad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583640" y="186696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tencial de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191840" y="57913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/esfue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4653360" y="21337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Electr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4044240" y="548640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Tradi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Object 1056"/>
          <p:cNvGraphicFramePr/>
          <p:nvPr/>
        </p:nvGraphicFramePr>
        <p:xfrm>
          <a:off x="1600200" y="2438280"/>
          <a:ext cx="5487840" cy="29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10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8784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Freeform 18"/>
          <p:cNvSpPr/>
          <p:nvPr/>
        </p:nvSpPr>
        <p:spPr>
          <a:xfrm>
            <a:off x="3200400" y="3886200"/>
            <a:ext cx="2057400" cy="1752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9"/>
          <p:cNvSpPr/>
          <p:nvPr/>
        </p:nvSpPr>
        <p:spPr>
          <a:xfrm>
            <a:off x="4343400" y="2438280"/>
            <a:ext cx="1981080" cy="2210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cambios tecnológicos pueden cambiar radicalmente la forma de competi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lockbuster: Crónica de una resurrección anunc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la mayor cadena de arriendo de videos en EE.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ualizó que su industria cambi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OD: video on deman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 está preparando para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 no haberlo hecho habría desapar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219320" y="1752480"/>
            <a:ext cx="723888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home_logo"/>
          <p:cNvPicPr/>
          <p:nvPr/>
        </p:nvPicPr>
        <p:blipFill>
          <a:blip r:embed="rId1"/>
          <a:stretch/>
        </p:blipFill>
        <p:spPr>
          <a:xfrm>
            <a:off x="6934320" y="4419720"/>
            <a:ext cx="177156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distinguen dos etapas en el proces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682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nueva tecnología está inmadura y no ofrece una competencia real a la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La nueva tecnología tiene una aplicación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uchas veces el rendimiento se mide en otr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ta etapa puede prolongarse por un largo perí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arios electr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sadores de texto v/s máquina de 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ielo natural v/s hielo fabr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ubos al vacío v/s transi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Se distinguen dos etapas en el proces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 el potencial de progreso de la nueva tecnología es mayor, por lo que termina superando a la existente en una o todas las dimensiones de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canza un período de rápido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Los actuales jugadores se defienden mejorando 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y/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s usual ver importantes mejoras e innovaciones en la tecnología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joras en el proceso del hielo natural (tracción, instrum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ón de las compañías de gas ante la entrada de la lámpara de Edison, creando la “camisa de Welsbash” aumentando la eficiencia en cinco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Muchas veces las empresas antiguas no visualizan la dimensión de la amena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1583640" y="186696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tencial de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4191840" y="57913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/esfue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653360" y="21337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Electr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4044240" y="548640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arios Tradi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Object 1051"/>
          <p:cNvGraphicFramePr/>
          <p:nvPr/>
        </p:nvGraphicFramePr>
        <p:xfrm>
          <a:off x="1600200" y="2438280"/>
          <a:ext cx="5487840" cy="29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1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8784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Freeform 21"/>
          <p:cNvSpPr/>
          <p:nvPr/>
        </p:nvSpPr>
        <p:spPr>
          <a:xfrm>
            <a:off x="3124080" y="3886200"/>
            <a:ext cx="2133720" cy="18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22"/>
          <p:cNvSpPr/>
          <p:nvPr/>
        </p:nvSpPr>
        <p:spPr>
          <a:xfrm>
            <a:off x="4343400" y="2438280"/>
            <a:ext cx="1981080" cy="2210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competidores presentan miopía por distintas raz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omienzo no es claro que la nueva tecnología tenga éx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compañías existentes no tienen los conocimientos necesarios para abordar las nuevas tecn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n el caso de los diarios encontramos tecnologías y formas de comercializar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xisten grandes inversiones en gente, equipos, plantas, insumos y conocimientos, muy ligados a la tecnología anti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actitud de “dormirse en los laure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es fácil traspasar las ventajas com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n el caso de los diarios sólo la marca parece traspa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 necesario desviar esfuerzos de los actuales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Algo similar a lo que ocurre con los diarios está ocurriendo con la mús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án entrando múltiple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dio po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itre AM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ard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ciu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ovie T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adio Net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 claro cuál será el diseño defi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escripciones de nuevos lanza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ent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orciones para escu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Diseños Domina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3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distintas industrias se pueden apreciar diseños domina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Object 1063"/>
          <p:cNvGraphicFramePr/>
          <p:nvPr/>
        </p:nvGraphicFramePr>
        <p:xfrm>
          <a:off x="1523880" y="2057400"/>
          <a:ext cx="647712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Object 10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4771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7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7" descr="http://tbn2.google.com/images?q=tbn:RlDGj2nlgAhoMM:http://mujeronconstantsorrow.blogia.com/upload/20070130213150-underwood-204-20wagn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77160" y="304920"/>
            <a:ext cx="1114560" cy="1114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9" descr="http://tbn3.google.com/images?q=tbn:koM7tYfpzAHj3M:http://www.pdm.com.co/images/Noticias/Images%2520Noticias%2520Jun01-Ago31%25202006/IBM%2520PC%25205150.jpg"/>
          <p:cNvPicPr/>
          <p:nvPr/>
        </p:nvPicPr>
        <p:blipFill>
          <a:blip r:embed="rId5"/>
          <a:stretch/>
        </p:blipFill>
        <p:spPr>
          <a:xfrm>
            <a:off x="8067600" y="457200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s trayectorias de diseño están determinadas por factores técnicos y de merc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31"/>
          <p:cNvSpPr/>
          <p:nvPr/>
        </p:nvSpPr>
        <p:spPr>
          <a:xfrm>
            <a:off x="2117880" y="2933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yectori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032"/>
          <p:cNvSpPr/>
          <p:nvPr/>
        </p:nvSpPr>
        <p:spPr>
          <a:xfrm>
            <a:off x="5866920" y="29718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yectori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3"/>
          <p:cNvSpPr/>
          <p:nvPr/>
        </p:nvSpPr>
        <p:spPr>
          <a:xfrm>
            <a:off x="56386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034"/>
          <p:cNvSpPr/>
          <p:nvPr/>
        </p:nvSpPr>
        <p:spPr>
          <a:xfrm>
            <a:off x="5315400" y="557676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eño Do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35"/>
          <p:cNvSpPr/>
          <p:nvPr/>
        </p:nvSpPr>
        <p:spPr>
          <a:xfrm flipH="1">
            <a:off x="2971440" y="2895480"/>
            <a:ext cx="15238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36"/>
          <p:cNvSpPr/>
          <p:nvPr/>
        </p:nvSpPr>
        <p:spPr>
          <a:xfrm>
            <a:off x="3657600" y="3733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37"/>
          <p:cNvSpPr/>
          <p:nvPr/>
        </p:nvSpPr>
        <p:spPr>
          <a:xfrm>
            <a:off x="4495680" y="289548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038"/>
          <p:cNvSpPr/>
          <p:nvPr/>
        </p:nvSpPr>
        <p:spPr>
          <a:xfrm flipH="1">
            <a:off x="5105160" y="36576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039"/>
          <p:cNvSpPr/>
          <p:nvPr/>
        </p:nvSpPr>
        <p:spPr>
          <a:xfrm>
            <a:off x="36576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041"/>
          <p:cNvSpPr/>
          <p:nvPr/>
        </p:nvSpPr>
        <p:spPr>
          <a:xfrm>
            <a:off x="43434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42"/>
          <p:cNvSpPr/>
          <p:nvPr/>
        </p:nvSpPr>
        <p:spPr>
          <a:xfrm>
            <a:off x="662940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043"/>
          <p:cNvSpPr/>
          <p:nvPr/>
        </p:nvSpPr>
        <p:spPr>
          <a:xfrm>
            <a:off x="5638680" y="36576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044"/>
          <p:cNvSpPr/>
          <p:nvPr/>
        </p:nvSpPr>
        <p:spPr>
          <a:xfrm flipH="1">
            <a:off x="26665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045"/>
          <p:cNvSpPr/>
          <p:nvPr/>
        </p:nvSpPr>
        <p:spPr>
          <a:xfrm>
            <a:off x="29718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046"/>
          <p:cNvSpPr/>
          <p:nvPr/>
        </p:nvSpPr>
        <p:spPr>
          <a:xfrm flipH="1">
            <a:off x="33523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047"/>
          <p:cNvSpPr/>
          <p:nvPr/>
        </p:nvSpPr>
        <p:spPr>
          <a:xfrm>
            <a:off x="36576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048"/>
          <p:cNvSpPr/>
          <p:nvPr/>
        </p:nvSpPr>
        <p:spPr>
          <a:xfrm flipH="1">
            <a:off x="480024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049"/>
          <p:cNvSpPr/>
          <p:nvPr/>
        </p:nvSpPr>
        <p:spPr>
          <a:xfrm>
            <a:off x="510552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50"/>
          <p:cNvSpPr/>
          <p:nvPr/>
        </p:nvSpPr>
        <p:spPr>
          <a:xfrm flipH="1">
            <a:off x="5638320" y="44197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051"/>
          <p:cNvSpPr/>
          <p:nvPr/>
        </p:nvSpPr>
        <p:spPr>
          <a:xfrm>
            <a:off x="5943600" y="44197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¿Qué se impondrá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as movidas estraté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kia se asocia con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le permite venta de apl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B tiene su propio 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P no se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2" descr="http://tbn0.google.com/images?q=tbn:vaW08SgYE2wzIM:http://culturacion.com/wp-content/uploads/2009/07/advent_netbook.jpg"/>
          <p:cNvPicPr/>
          <p:nvPr/>
        </p:nvPicPr>
        <p:blipFill>
          <a:blip r:embed="rId1"/>
          <a:stretch/>
        </p:blipFill>
        <p:spPr>
          <a:xfrm>
            <a:off x="1219320" y="4648320"/>
            <a:ext cx="1199880" cy="107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http://tbn3.google.com/images?q=tbn:MAPP_wDrz_sx7M:http://www.ipodtotal.com/imagenes/noticias2/ipod-touch.jpg"/>
          <p:cNvPicPr/>
          <p:nvPr/>
        </p:nvPicPr>
        <p:blipFill>
          <a:blip r:embed="rId2"/>
          <a:stretch/>
        </p:blipFill>
        <p:spPr>
          <a:xfrm>
            <a:off x="2743200" y="449568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http://tbn1.google.com/images?q=tbn:SvhNleYtsJNQ0M:http://tendenciamovil.com/uploads/Nokia_N_gage.jpg"/>
          <p:cNvPicPr/>
          <p:nvPr/>
        </p:nvPicPr>
        <p:blipFill>
          <a:blip r:embed="rId3"/>
          <a:stretch/>
        </p:blipFill>
        <p:spPr>
          <a:xfrm>
            <a:off x="4114800" y="4800600"/>
            <a:ext cx="1190520" cy="933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http://tbn3.google.com/images?q=tbn:vubrXs_o-t1hjM:http://img.blogdeblogs.com/gizig/uploads/2008/09/rim_blackberry_thunder_9500_series.jpg"/>
          <p:cNvPicPr/>
          <p:nvPr/>
        </p:nvPicPr>
        <p:blipFill>
          <a:blip r:embed="rId4"/>
          <a:stretch/>
        </p:blipFill>
        <p:spPr>
          <a:xfrm>
            <a:off x="6172200" y="4572000"/>
            <a:ext cx="857160" cy="1190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http://tbn3.google.com/images?q=tbn:r9xzm5OgDw5B6M:http://pocketnow.com/html/portal/news/0000004418/NewsImage/ipaq.jpg"/>
          <p:cNvPicPr/>
          <p:nvPr/>
        </p:nvPicPr>
        <p:blipFill>
          <a:blip r:embed="rId5"/>
          <a:stretch/>
        </p:blipFill>
        <p:spPr>
          <a:xfrm>
            <a:off x="7620120" y="457200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Times New Roman"/>
              </a:rPr>
              <a:t>Reconocimiento de perso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8 primera empresa en traer soluciones a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si no se 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999 Stadio Italiano incorpora reconocimiento de palmas al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2 el Registro Civil crea base de datos de huell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2 Fonasa incorpora huella digital en la venta de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 Redbank anuncia que incorporará reconocimiento de huella digital en caj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 Registro Civil anuncia que en 2004 pondrá a la venta base de datos de huella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 IBM anuncia notebook con lector de hu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28"/>
          <p:cNvSpPr/>
          <p:nvPr/>
        </p:nvSpPr>
        <p:spPr>
          <a:xfrm>
            <a:off x="1219320" y="14479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Federal Express ganó varios años de ventaja combinando tecnologías exist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servicio de taxis de alcance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lasificación de un sistema postal sin marge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logística de una aerolínea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sistemas de información para entregar datos al i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219320" y="1676520"/>
            <a:ext cx="73152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globalhome_fedex_corp_logo"/>
          <p:cNvPicPr/>
          <p:nvPr/>
        </p:nvPicPr>
        <p:blipFill>
          <a:blip r:embed="rId1"/>
          <a:stretch/>
        </p:blipFill>
        <p:spPr>
          <a:xfrm>
            <a:off x="4800600" y="5105520"/>
            <a:ext cx="17366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Times New Roman"/>
              </a:rPr>
              <a:t>Como se manejará la seguridad no es clar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facial 3D 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voz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retina/iri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firma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palma y dedos (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huella digital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movimiento del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ritmo de te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de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nocimiento múltiple 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) Numero de empresas existentes en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Times New Roman"/>
              </a:rPr>
              <a:t>No todas las tecnologías tienen igual costo ni funcional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1279440" y="19954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2115000" y="5029200"/>
            <a:ext cx="6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2113920" y="4114800"/>
            <a:ext cx="8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3330720" y="4114800"/>
            <a:ext cx="15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no (5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5082120" y="4114800"/>
            <a:ext cx="8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414880" y="3352680"/>
            <a:ext cx="20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uella (99,99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4476240" y="3048120"/>
            <a:ext cx="59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5620320" y="281952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1"/>
          <p:cNvSpPr/>
          <p:nvPr/>
        </p:nvSpPr>
        <p:spPr>
          <a:xfrm>
            <a:off x="7376040" y="5729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1752480" y="24382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 flipH="1">
            <a:off x="1752480" y="5562720"/>
            <a:ext cx="6477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3733920" y="19810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 hay que considerar que tan intrusivas son y si son difíciles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ada vez es más claro cual se impondrá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64" name="Object 4"/>
          <p:cNvGraphicFramePr/>
          <p:nvPr/>
        </p:nvGraphicFramePr>
        <p:xfrm>
          <a:off x="118116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diseño dominante no siempre es el producto más sofistic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un producto que cumple con la mayoría de los requisitos que los consumidores están buscando y que aparece en el mercado cuando las necesidades de los consumidores están bien 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menudo se trata de una síntesis de innovaciones anteriores más un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eo visible en máquinas de escrib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:Suárez y Utter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iseños dominantes y la supervivencia de las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8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Un diseño puede transformarse en dominante por diferentes raz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lara superioridad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Ampol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xistencia de una externalidad de red en la 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l producto es atractivo en la medida que muchos lo te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stándar tarjetas de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iobras estratégicas por parte de las empresas involuc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Videos Sony v/s JVC (estableció alianz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sesión de archivos colaterales por parte de alg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Canales de comercialización, marca o costos de cambio para 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C compa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gulación de la industria o regulación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utos cata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stándar de RCA en televi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143000" y="15238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MasterCard y Visa se unen estableciendo un diseño domina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59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sterCard y Visa acordaron una norma única para las transacciones por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ste es Secure Electronic Transactions (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debió a la presión de los ban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Antes cada una tenía su propio proto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sto atrajo a múltiples proveedores complem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rantizar la reserva en la información. Baja el riesgo de fraude por intercep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segurar la integridad de los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erificar que el titular sea usuario legítimo de la cu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 Narrow Special G2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ilitar y alentar la interoperabilidad entre proveedores de redes y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028"/>
          <p:cNvSpPr/>
          <p:nvPr/>
        </p:nvSpPr>
        <p:spPr>
          <a:xfrm>
            <a:off x="1219320" y="160020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concepto de diseño dominante tiene serias implicancias estratégic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urgimiento de un diseño dominante marcará el comienzo de un período de drástica reducción de firmas en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quellas empresas que no puedan cruzar la barrera hacia mayor enfoque en la innovación de procesos serán incapaces de competir efectiv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incapacidad de una empresa para alterar su estructura organizacional y prácticas, de acuerdo a la evolución de la tecnología, será lo que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tiva redundará en su fracas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concepto de diseño dominante tiene serias implicancias estratégica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13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sten distintas etapas en la evolución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cada etapa las reglas para competir son disti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or ejemplo, las economías de escala no son válidas en la etapa pre-paradigmátic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 más probable que sobreviva una empresa que se formó antes del establecimiento del diseño dom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número de empresas aumentará hasta que se imponga un diseño domina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029"/>
          <p:cNvSpPr/>
          <p:nvPr/>
        </p:nvSpPr>
        <p:spPr>
          <a:xfrm>
            <a:off x="1524960" y="19051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úmero de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030"/>
          <p:cNvSpPr/>
          <p:nvPr/>
        </p:nvSpPr>
        <p:spPr>
          <a:xfrm>
            <a:off x="4634640" y="5600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032"/>
          <p:cNvSpPr/>
          <p:nvPr/>
        </p:nvSpPr>
        <p:spPr>
          <a:xfrm>
            <a:off x="487836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Object 2063"/>
          <p:cNvGraphicFramePr/>
          <p:nvPr/>
        </p:nvGraphicFramePr>
        <p:xfrm>
          <a:off x="1447920" y="2209680"/>
          <a:ext cx="664056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0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664056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Freeform 1040"/>
          <p:cNvSpPr/>
          <p:nvPr/>
        </p:nvSpPr>
        <p:spPr>
          <a:xfrm>
            <a:off x="2209680" y="2971800"/>
            <a:ext cx="4724640" cy="163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1041"/>
          <p:cNvSpPr/>
          <p:nvPr/>
        </p:nvSpPr>
        <p:spPr>
          <a:xfrm>
            <a:off x="2057400" y="2590920"/>
            <a:ext cx="4724280" cy="2070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n el caso de los proveedores de Internet, se puede apreciar el efecto del establecimiento de un diseño dominante sobre el número de competi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Rectangle 1028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29"/>
          <p:cNvSpPr/>
          <p:nvPr/>
        </p:nvSpPr>
        <p:spPr>
          <a:xfrm>
            <a:off x="2208960" y="1905120"/>
            <a:ext cx="48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olidación del mercado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30"/>
          <p:cNvSpPr/>
          <p:nvPr/>
        </p:nvSpPr>
        <p:spPr>
          <a:xfrm>
            <a:off x="1355760" y="24004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rov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031"/>
          <p:cNvSpPr/>
          <p:nvPr/>
        </p:nvSpPr>
        <p:spPr>
          <a:xfrm>
            <a:off x="1512000" y="5624640"/>
            <a:ext cx="29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Yankee Group, abril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33"/>
          <p:cNvSpPr/>
          <p:nvPr/>
        </p:nvSpPr>
        <p:spPr>
          <a:xfrm>
            <a:off x="2363760" y="5181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034"/>
          <p:cNvSpPr/>
          <p:nvPr/>
        </p:nvSpPr>
        <p:spPr>
          <a:xfrm>
            <a:off x="4421160" y="5181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035"/>
          <p:cNvSpPr/>
          <p:nvPr/>
        </p:nvSpPr>
        <p:spPr>
          <a:xfrm>
            <a:off x="335448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36"/>
          <p:cNvSpPr/>
          <p:nvPr/>
        </p:nvSpPr>
        <p:spPr>
          <a:xfrm>
            <a:off x="6402600" y="5181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37"/>
          <p:cNvSpPr/>
          <p:nvPr/>
        </p:nvSpPr>
        <p:spPr>
          <a:xfrm>
            <a:off x="739296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38"/>
          <p:cNvSpPr/>
          <p:nvPr/>
        </p:nvSpPr>
        <p:spPr>
          <a:xfrm>
            <a:off x="541188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39"/>
          <p:cNvSpPr/>
          <p:nvPr/>
        </p:nvSpPr>
        <p:spPr>
          <a:xfrm>
            <a:off x="1371600" y="2743200"/>
            <a:ext cx="698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041"/>
          <p:cNvSpPr/>
          <p:nvPr/>
        </p:nvSpPr>
        <p:spPr>
          <a:xfrm>
            <a:off x="3429360" y="27432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4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045"/>
          <p:cNvSpPr/>
          <p:nvPr/>
        </p:nvSpPr>
        <p:spPr>
          <a:xfrm>
            <a:off x="7544880" y="4572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Object 2068"/>
          <p:cNvGraphicFramePr/>
          <p:nvPr/>
        </p:nvGraphicFramePr>
        <p:xfrm>
          <a:off x="2209680" y="3048120"/>
          <a:ext cx="624852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20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8120"/>
                    <a:ext cx="624852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1047"/>
          <p:cNvSpPr/>
          <p:nvPr/>
        </p:nvSpPr>
        <p:spPr>
          <a:xfrm>
            <a:off x="7544880" y="4724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048"/>
          <p:cNvSpPr/>
          <p:nvPr/>
        </p:nvSpPr>
        <p:spPr>
          <a:xfrm>
            <a:off x="2439360" y="4419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049"/>
          <p:cNvSpPr/>
          <p:nvPr/>
        </p:nvSpPr>
        <p:spPr>
          <a:xfrm>
            <a:off x="4496760" y="38098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050"/>
          <p:cNvSpPr/>
          <p:nvPr/>
        </p:nvSpPr>
        <p:spPr>
          <a:xfrm>
            <a:off x="5563440" y="43434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51"/>
          <p:cNvSpPr/>
          <p:nvPr/>
        </p:nvSpPr>
        <p:spPr>
          <a:xfrm>
            <a:off x="6554160" y="4572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volución del e-busi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066680" y="1143000"/>
            <a:ext cx="8001000" cy="5181120"/>
            <a:chOff x="1066680" y="1143000"/>
            <a:chExt cx="8001000" cy="5181120"/>
          </a:xfrm>
        </p:grpSpPr>
        <p:sp>
          <p:nvSpPr>
            <p:cNvPr id="155" name="Rectangle 4"/>
            <p:cNvSpPr/>
            <p:nvPr/>
          </p:nvSpPr>
          <p:spPr>
            <a:xfrm>
              <a:off x="1066680" y="6019560"/>
              <a:ext cx="8001000" cy="304560"/>
            </a:xfrm>
            <a:prstGeom prst="rect">
              <a:avLst/>
            </a:prstGeom>
            <a:gradFill rotWithShape="0">
              <a:gsLst>
                <a:gs pos="0">
                  <a:srgbClr val="670cec"/>
                </a:gs>
                <a:gs pos="100000">
                  <a:srgbClr val="faf7fe"/>
                </a:gs>
              </a:gsLst>
              <a:lin ang="0"/>
            </a:gradFill>
            <a:ln w="9360">
              <a:solidFill>
                <a:srgbClr val="670c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1066680" y="1180800"/>
              <a:ext cx="7620120" cy="380880"/>
            </a:xfrm>
            <a:prstGeom prst="rect">
              <a:avLst/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1219320" y="1218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ffffff"/>
                  </a:solidFill>
                  <a:latin typeface="Tahoma"/>
                </a:rPr>
                <a:t>Tempr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 rot="5400000">
              <a:off x="449568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8"/>
            <p:cNvSpPr/>
            <p:nvPr/>
          </p:nvSpPr>
          <p:spPr>
            <a:xfrm rot="5400000">
              <a:off x="441936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9"/>
            <p:cNvSpPr/>
            <p:nvPr/>
          </p:nvSpPr>
          <p:spPr>
            <a:xfrm rot="5400000">
              <a:off x="4343400" y="1218960"/>
              <a:ext cx="456840" cy="304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4952880" y="121896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000000"/>
                  </a:solidFill>
                  <a:latin typeface="Tahoma"/>
                </a:rPr>
                <a:t>Integr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11"/>
            <p:cNvSpPr/>
            <p:nvPr/>
          </p:nvSpPr>
          <p:spPr>
            <a:xfrm rot="5400000">
              <a:off x="701028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2"/>
            <p:cNvSpPr/>
            <p:nvPr/>
          </p:nvSpPr>
          <p:spPr>
            <a:xfrm rot="5400000">
              <a:off x="6933960" y="1218960"/>
              <a:ext cx="45684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3"/>
            <p:cNvSpPr/>
            <p:nvPr/>
          </p:nvSpPr>
          <p:spPr>
            <a:xfrm rot="5400000">
              <a:off x="6858000" y="1218960"/>
              <a:ext cx="456840" cy="304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200b0"/>
                </a:gs>
                <a:gs pos="100000">
                  <a:srgbClr val="e8d1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7315200" y="12189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000000"/>
                  </a:solidFill>
                  <a:latin typeface="Tahoma"/>
                </a:rPr>
                <a:t>Avanz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>
            <a:off x="228600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358128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487692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>
            <a:off x="617220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746748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3581280" y="1676520"/>
            <a:ext cx="1981440" cy="4619880"/>
            <a:chOff x="3581280" y="1676520"/>
            <a:chExt cx="1981440" cy="4619880"/>
          </a:xfrm>
        </p:grpSpPr>
        <p:sp>
          <p:nvSpPr>
            <p:cNvPr id="172" name="Rectangle 21"/>
            <p:cNvSpPr/>
            <p:nvPr/>
          </p:nvSpPr>
          <p:spPr>
            <a:xfrm>
              <a:off x="3657600" y="1676520"/>
              <a:ext cx="1143000" cy="685800"/>
            </a:xfrm>
            <a:prstGeom prst="rect">
              <a:avLst/>
            </a:prstGeom>
            <a:solidFill>
              <a:srgbClr val="b180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2"/>
            <p:cNvSpPr/>
            <p:nvPr/>
          </p:nvSpPr>
          <p:spPr>
            <a:xfrm>
              <a:off x="3772080" y="1881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Tramita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3"/>
            <p:cNvSpPr/>
            <p:nvPr/>
          </p:nvSpPr>
          <p:spPr>
            <a:xfrm>
              <a:off x="3657600" y="2667240"/>
              <a:ext cx="121932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permitir que sus clientes hagan transacciones de una o dos vías hacia el núcleo de sus sistemas inter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4"/>
            <p:cNvSpPr/>
            <p:nvPr/>
          </p:nvSpPr>
          <p:spPr>
            <a:xfrm>
              <a:off x="358128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1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5"/>
            <p:cNvSpPr/>
            <p:nvPr/>
          </p:nvSpPr>
          <p:spPr>
            <a:xfrm>
              <a:off x="4343400" y="6019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8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6"/>
          <p:cNvGrpSpPr/>
          <p:nvPr/>
        </p:nvGrpSpPr>
        <p:grpSpPr>
          <a:xfrm>
            <a:off x="2286000" y="1676520"/>
            <a:ext cx="1981080" cy="4619880"/>
            <a:chOff x="2286000" y="1676520"/>
            <a:chExt cx="1981080" cy="4619880"/>
          </a:xfrm>
        </p:grpSpPr>
        <p:sp>
          <p:nvSpPr>
            <p:cNvPr id="178" name="Rectangle 27"/>
            <p:cNvSpPr/>
            <p:nvPr/>
          </p:nvSpPr>
          <p:spPr>
            <a:xfrm>
              <a:off x="2362320" y="1676520"/>
              <a:ext cx="1143000" cy="685800"/>
            </a:xfrm>
            <a:prstGeom prst="rect">
              <a:avLst/>
            </a:prstGeom>
            <a:solidFill>
              <a:srgbClr val="a20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28"/>
            <p:cNvSpPr/>
            <p:nvPr/>
          </p:nvSpPr>
          <p:spPr>
            <a:xfrm>
              <a:off x="2476440" y="1881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ublica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9"/>
            <p:cNvSpPr/>
            <p:nvPr/>
          </p:nvSpPr>
          <p:spPr>
            <a:xfrm>
              <a:off x="2362320" y="2652840"/>
              <a:ext cx="12189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antiene Sitio de Web con varias pág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e-mail, comunicación de una vía y / o publica información de la empresa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30"/>
            <p:cNvSpPr/>
            <p:nvPr/>
          </p:nvSpPr>
          <p:spPr>
            <a:xfrm>
              <a:off x="228600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3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1"/>
            <p:cNvSpPr/>
            <p:nvPr/>
          </p:nvSpPr>
          <p:spPr>
            <a:xfrm>
              <a:off x="3048120" y="60199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d3b7fb"/>
                  </a:solidFill>
                  <a:latin typeface="Tahoma"/>
                </a:rPr>
                <a:t>7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2"/>
          <p:cNvGrpSpPr/>
          <p:nvPr/>
        </p:nvGrpSpPr>
        <p:grpSpPr>
          <a:xfrm>
            <a:off x="4952880" y="1676520"/>
            <a:ext cx="1905120" cy="4619880"/>
            <a:chOff x="4952880" y="1676520"/>
            <a:chExt cx="1905120" cy="4619880"/>
          </a:xfrm>
        </p:grpSpPr>
        <p:sp>
          <p:nvSpPr>
            <p:cNvPr id="184" name="Rectangle 33"/>
            <p:cNvSpPr/>
            <p:nvPr/>
          </p:nvSpPr>
          <p:spPr>
            <a:xfrm>
              <a:off x="4952880" y="1676520"/>
              <a:ext cx="1143000" cy="685800"/>
            </a:xfrm>
            <a:prstGeom prst="rect">
              <a:avLst/>
            </a:prstGeom>
            <a:solidFill>
              <a:srgbClr val="d3b7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4952880" y="17910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tegración Intern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4952880" y="2667240"/>
              <a:ext cx="12193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mejorar sus procesos de negocios por medio de la integración de sus aplicaciones y sistemas intern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36"/>
            <p:cNvSpPr/>
            <p:nvPr/>
          </p:nvSpPr>
          <p:spPr>
            <a:xfrm>
              <a:off x="495288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37"/>
            <p:cNvSpPr/>
            <p:nvPr/>
          </p:nvSpPr>
          <p:spPr>
            <a:xfrm>
              <a:off x="5638680" y="6019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9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6248520" y="1676520"/>
            <a:ext cx="1904760" cy="4619880"/>
            <a:chOff x="6248520" y="1676520"/>
            <a:chExt cx="1904760" cy="4619880"/>
          </a:xfrm>
        </p:grpSpPr>
        <p:sp>
          <p:nvSpPr>
            <p:cNvPr id="190" name="Rectangle 39"/>
            <p:cNvSpPr/>
            <p:nvPr/>
          </p:nvSpPr>
          <p:spPr>
            <a:xfrm>
              <a:off x="6248520" y="1676520"/>
              <a:ext cx="1143000" cy="685800"/>
            </a:xfrm>
            <a:prstGeom prst="rect">
              <a:avLst/>
            </a:prstGeom>
            <a:solidFill>
              <a:srgbClr val="f3e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0"/>
            <p:cNvSpPr/>
            <p:nvPr/>
          </p:nvSpPr>
          <p:spPr>
            <a:xfrm>
              <a:off x="6248520" y="17910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tegración Extern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41"/>
            <p:cNvSpPr/>
            <p:nvPr/>
          </p:nvSpPr>
          <p:spPr>
            <a:xfrm>
              <a:off x="6248520" y="2667240"/>
              <a:ext cx="121896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para mejorar sus procesos por medio de la integración a través de procesos que incluyen otras empresa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6248520" y="57150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6934320" y="60199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9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7543800" y="1676520"/>
            <a:ext cx="1676520" cy="4619880"/>
            <a:chOff x="7543800" y="1676520"/>
            <a:chExt cx="1676520" cy="4619880"/>
          </a:xfrm>
        </p:grpSpPr>
        <p:sp>
          <p:nvSpPr>
            <p:cNvPr id="196" name="Rectangle 45"/>
            <p:cNvSpPr/>
            <p:nvPr/>
          </p:nvSpPr>
          <p:spPr>
            <a:xfrm>
              <a:off x="7543800" y="16765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6"/>
            <p:cNvSpPr/>
            <p:nvPr/>
          </p:nvSpPr>
          <p:spPr>
            <a:xfrm>
              <a:off x="7543800" y="1791000"/>
              <a:ext cx="1143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daptación Dinámic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7"/>
            <p:cNvSpPr/>
            <p:nvPr/>
          </p:nvSpPr>
          <p:spPr>
            <a:xfrm>
              <a:off x="7543800" y="2667240"/>
              <a:ext cx="12952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sa el Web como el cimiento para participar en comunidades digit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8"/>
            <p:cNvSpPr/>
            <p:nvPr/>
          </p:nvSpPr>
          <p:spPr>
            <a:xfrm>
              <a:off x="7543800" y="5715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1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9"/>
            <p:cNvSpPr/>
            <p:nvPr/>
          </p:nvSpPr>
          <p:spPr>
            <a:xfrm>
              <a:off x="8381880" y="6019920"/>
              <a:ext cx="83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50"/>
          <p:cNvGrpSpPr/>
          <p:nvPr/>
        </p:nvGrpSpPr>
        <p:grpSpPr>
          <a:xfrm>
            <a:off x="990720" y="1676520"/>
            <a:ext cx="1295280" cy="4314960"/>
            <a:chOff x="990720" y="1676520"/>
            <a:chExt cx="1295280" cy="4314960"/>
          </a:xfrm>
        </p:grpSpPr>
        <p:sp>
          <p:nvSpPr>
            <p:cNvPr id="202" name="Text Box 51"/>
            <p:cNvSpPr/>
            <p:nvPr/>
          </p:nvSpPr>
          <p:spPr>
            <a:xfrm>
              <a:off x="990720" y="571500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Tahoma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52"/>
            <p:cNvSpPr/>
            <p:nvPr/>
          </p:nvSpPr>
          <p:spPr>
            <a:xfrm>
              <a:off x="990720" y="2667240"/>
              <a:ext cx="12952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stablecimiento Computarizado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uede que use el Web para e-mail y / o un sitio Web con una página de inicio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53"/>
            <p:cNvSpPr/>
            <p:nvPr/>
          </p:nvSpPr>
          <p:spPr>
            <a:xfrm>
              <a:off x="1066680" y="1676520"/>
              <a:ext cx="1143000" cy="685800"/>
            </a:xfrm>
            <a:prstGeom prst="rect">
              <a:avLst/>
            </a:prstGeom>
            <a:solidFill>
              <a:srgbClr val="820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4"/>
            <p:cNvSpPr/>
            <p:nvPr/>
          </p:nvSpPr>
          <p:spPr>
            <a:xfrm>
              <a:off x="1181160" y="1828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ff"/>
                  </a:solidFill>
                  <a:latin typeface="Tahoma"/>
                </a:rPr>
                <a:t>Ac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6" name="Object 55"/>
          <p:cNvGraphicFramePr/>
          <p:nvPr/>
        </p:nvGraphicFramePr>
        <p:xfrm>
          <a:off x="1066680" y="1477800"/>
          <a:ext cx="73756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77800"/>
                    <a:ext cx="73756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onvergía de medi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0" name="Picture 3" descr="MCj04040590000[1]"/>
          <p:cNvPicPr/>
          <p:nvPr/>
        </p:nvPicPr>
        <p:blipFill>
          <a:blip r:embed="rId1"/>
          <a:stretch/>
        </p:blipFill>
        <p:spPr>
          <a:xfrm>
            <a:off x="1066680" y="1523880"/>
            <a:ext cx="914400" cy="9115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MCj02901240000[1]"/>
          <p:cNvPicPr/>
          <p:nvPr/>
        </p:nvPicPr>
        <p:blipFill>
          <a:blip r:embed="rId2"/>
          <a:stretch/>
        </p:blipFill>
        <p:spPr>
          <a:xfrm>
            <a:off x="5486400" y="1828800"/>
            <a:ext cx="1006560" cy="892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MCj03969380000[1]"/>
          <p:cNvPicPr/>
          <p:nvPr/>
        </p:nvPicPr>
        <p:blipFill>
          <a:blip r:embed="rId3"/>
          <a:stretch/>
        </p:blipFill>
        <p:spPr>
          <a:xfrm>
            <a:off x="4038480" y="3352680"/>
            <a:ext cx="814680" cy="6447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8" descr="ipod-nano"/>
          <p:cNvPicPr/>
          <p:nvPr/>
        </p:nvPicPr>
        <p:blipFill>
          <a:blip r:embed="rId4"/>
          <a:stretch/>
        </p:blipFill>
        <p:spPr>
          <a:xfrm>
            <a:off x="6629400" y="2666880"/>
            <a:ext cx="1181160" cy="924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VHS"/>
          <p:cNvPicPr/>
          <p:nvPr/>
        </p:nvPicPr>
        <p:blipFill>
          <a:blip r:embed="rId5"/>
          <a:stretch/>
        </p:blipFill>
        <p:spPr>
          <a:xfrm>
            <a:off x="1828800" y="3581280"/>
            <a:ext cx="1190520" cy="9432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DVD-Logo-Color1"/>
          <p:cNvPicPr/>
          <p:nvPr/>
        </p:nvPicPr>
        <p:blipFill>
          <a:blip r:embed="rId6"/>
          <a:stretch/>
        </p:blipFill>
        <p:spPr>
          <a:xfrm>
            <a:off x="5410080" y="4343400"/>
            <a:ext cx="1247760" cy="6951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periodico"/>
          <p:cNvPicPr/>
          <p:nvPr/>
        </p:nvPicPr>
        <p:blipFill>
          <a:blip r:embed="rId7"/>
          <a:stretch/>
        </p:blipFill>
        <p:spPr>
          <a:xfrm>
            <a:off x="3657600" y="4724280"/>
            <a:ext cx="1171440" cy="1266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5" descr="F200706281358462122148392"/>
          <p:cNvPicPr/>
          <p:nvPr/>
        </p:nvPicPr>
        <p:blipFill>
          <a:blip r:embed="rId8"/>
          <a:stretch/>
        </p:blipFill>
        <p:spPr>
          <a:xfrm>
            <a:off x="4343400" y="1600200"/>
            <a:ext cx="885960" cy="1181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6" descr="palm-m505-p01"/>
          <p:cNvPicPr/>
          <p:nvPr/>
        </p:nvPicPr>
        <p:blipFill>
          <a:blip r:embed="rId9"/>
          <a:stretch/>
        </p:blipFill>
        <p:spPr>
          <a:xfrm>
            <a:off x="1752480" y="4876920"/>
            <a:ext cx="1000080" cy="1352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7" descr="RMG239"/>
          <p:cNvPicPr/>
          <p:nvPr/>
        </p:nvPicPr>
        <p:blipFill>
          <a:blip r:embed="rId10"/>
          <a:stretch/>
        </p:blipFill>
        <p:spPr>
          <a:xfrm>
            <a:off x="7315200" y="1219320"/>
            <a:ext cx="1104840" cy="11332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9" descr="celular"/>
          <p:cNvPicPr/>
          <p:nvPr/>
        </p:nvPicPr>
        <p:blipFill>
          <a:blip r:embed="rId11"/>
          <a:stretch/>
        </p:blipFill>
        <p:spPr>
          <a:xfrm>
            <a:off x="2743200" y="1447920"/>
            <a:ext cx="885960" cy="11048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0" descr="Skype"/>
          <p:cNvPicPr/>
          <p:nvPr/>
        </p:nvPicPr>
        <p:blipFill>
          <a:blip r:embed="rId12"/>
          <a:stretch/>
        </p:blipFill>
        <p:spPr>
          <a:xfrm>
            <a:off x="6477120" y="5029200"/>
            <a:ext cx="214308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¿Quién gana y quién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 pierde con la innovación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siempre se ganó innovan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Object 2073"/>
          <p:cNvGraphicFramePr/>
          <p:nvPr/>
        </p:nvGraphicFramePr>
        <p:xfrm>
          <a:off x="1295280" y="2209680"/>
          <a:ext cx="746784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Object 20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467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Teece plantea que hay tres elementos básicos que explican quién se beneficia con la innov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régimen de apropiabilidad impe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ctivos comple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aradigma del diseño dom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strategia de la empresa (Suáre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apropiabilidad indica la posibilidad de conservar una innovación sin ser imit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strumentos leg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a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rechos de a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cretos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turaleza de l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oducto o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ácita o codif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os activos complementarios son los que deben ser utilizados en conjunto con la innov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en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necesitan ser adecuados a la medida de l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ecializ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xiste una dependencia unilateral entre la innovación y el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-especi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xiste una dependencia bilateral entre la innovación y el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posibilidad de éxito depende del momento del desarrollo del producto o proces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endiendo de si surgió o no el diseño dominante nos encontramos con las etapas pre y post paradig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innovación se produce antes del establecimiento del diseño dominante y es fácil de imitar o mejorar, los imitadores pueden lograr establecer el diseño dominante en perjuicio del cr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siempre es recomendable adquirir ac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Rectangle 1028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Object 2053"/>
          <p:cNvGraphicFramePr/>
          <p:nvPr/>
        </p:nvGraphicFramePr>
        <p:xfrm>
          <a:off x="1295280" y="2438280"/>
          <a:ext cx="746784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8" name="Object 2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4678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siempre es recomendable adquirir ac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Object 2"/>
          <p:cNvGraphicFramePr/>
          <p:nvPr/>
        </p:nvGraphicFramePr>
        <p:xfrm>
          <a:off x="2209680" y="2438280"/>
          <a:ext cx="6553440" cy="26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65534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7"/>
          <p:cNvSpPr/>
          <p:nvPr/>
        </p:nvSpPr>
        <p:spPr>
          <a:xfrm rot="16200000">
            <a:off x="-49320" y="355212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requerido para posicion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Con relación a los competi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apropiabilidad y la posesión de activos complementarios definen el éxito de los innovad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Object 7"/>
          <p:cNvGraphicFramePr/>
          <p:nvPr/>
        </p:nvGraphicFramePr>
        <p:xfrm>
          <a:off x="1219320" y="1905120"/>
          <a:ext cx="75438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5438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Orígenes de la Innov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respir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alimentarse y abrigarse en el espacio el hombre tuvo que desarrollar múltiples inno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stá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paraíso ciudad de cerros obligo a instalar ascen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ic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empre el hombre quiso volar como las 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as sobre el agua permiten convivir con las m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ndia sin pepas / Bio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13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es simple la forma de acceder a los recurs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1447920" y="2362320"/>
            <a:ext cx="2057400" cy="10666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innovación h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 el acces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os comple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el éxito comer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1371600" y="4038480"/>
            <a:ext cx="2362320" cy="3049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mercialice de inmedi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1905120" y="5715000"/>
            <a:ext cx="106668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tegr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9"/>
          <p:cNvSpPr/>
          <p:nvPr/>
        </p:nvSpPr>
        <p:spPr>
          <a:xfrm>
            <a:off x="3962520" y="2057400"/>
            <a:ext cx="22860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os comple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pecial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5"/>
          <p:cNvSpPr/>
          <p:nvPr/>
        </p:nvSpPr>
        <p:spPr>
          <a:xfrm>
            <a:off x="7010280" y="220968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9"/>
          <p:cNvSpPr/>
          <p:nvPr/>
        </p:nvSpPr>
        <p:spPr>
          <a:xfrm>
            <a:off x="7010280" y="304812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0"/>
          <p:cNvSpPr/>
          <p:nvPr/>
        </p:nvSpPr>
        <p:spPr>
          <a:xfrm>
            <a:off x="7010280" y="396252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1"/>
          <p:cNvSpPr/>
          <p:nvPr/>
        </p:nvSpPr>
        <p:spPr>
          <a:xfrm>
            <a:off x="7010280" y="487692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2"/>
          <p:cNvSpPr/>
          <p:nvPr/>
        </p:nvSpPr>
        <p:spPr>
          <a:xfrm>
            <a:off x="7010280" y="5715000"/>
            <a:ext cx="18288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ceder por cont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3"/>
          <p:cNvSpPr/>
          <p:nvPr/>
        </p:nvSpPr>
        <p:spPr>
          <a:xfrm>
            <a:off x="64008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34"/>
          <p:cNvSpPr/>
          <p:nvPr/>
        </p:nvSpPr>
        <p:spPr>
          <a:xfrm>
            <a:off x="6400800" y="3352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35"/>
          <p:cNvSpPr/>
          <p:nvPr/>
        </p:nvSpPr>
        <p:spPr>
          <a:xfrm>
            <a:off x="640080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36"/>
          <p:cNvSpPr/>
          <p:nvPr/>
        </p:nvSpPr>
        <p:spPr>
          <a:xfrm>
            <a:off x="64008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37"/>
          <p:cNvSpPr/>
          <p:nvPr/>
        </p:nvSpPr>
        <p:spPr>
          <a:xfrm>
            <a:off x="64008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8"/>
          <p:cNvSpPr/>
          <p:nvPr/>
        </p:nvSpPr>
        <p:spPr>
          <a:xfrm>
            <a:off x="6478200" y="2133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9"/>
          <p:cNvSpPr/>
          <p:nvPr/>
        </p:nvSpPr>
        <p:spPr>
          <a:xfrm>
            <a:off x="6478200" y="29718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0"/>
          <p:cNvSpPr/>
          <p:nvPr/>
        </p:nvSpPr>
        <p:spPr>
          <a:xfrm>
            <a:off x="6478200" y="3886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6478200" y="4800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2"/>
          <p:cNvSpPr/>
          <p:nvPr/>
        </p:nvSpPr>
        <p:spPr>
          <a:xfrm>
            <a:off x="3125520" y="5486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3"/>
          <p:cNvSpPr/>
          <p:nvPr/>
        </p:nvSpPr>
        <p:spPr>
          <a:xfrm>
            <a:off x="3962520" y="5638680"/>
            <a:ext cx="228600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mitadores y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tán en mejor 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46"/>
          <p:cNvSpPr/>
          <p:nvPr/>
        </p:nvSpPr>
        <p:spPr>
          <a:xfrm flipH="1">
            <a:off x="297144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7"/>
          <p:cNvSpPr/>
          <p:nvPr/>
        </p:nvSpPr>
        <p:spPr>
          <a:xfrm>
            <a:off x="6478920" y="54864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50"/>
          <p:cNvSpPr/>
          <p:nvPr/>
        </p:nvSpPr>
        <p:spPr>
          <a:xfrm>
            <a:off x="2592000" y="35812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251460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52"/>
          <p:cNvSpPr/>
          <p:nvPr/>
        </p:nvSpPr>
        <p:spPr>
          <a:xfrm>
            <a:off x="3962520" y="2971800"/>
            <a:ext cx="22860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égimen de aprop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é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54"/>
          <p:cNvSpPr/>
          <p:nvPr/>
        </p:nvSpPr>
        <p:spPr>
          <a:xfrm>
            <a:off x="3962520" y="3962520"/>
            <a:ext cx="228600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tivo especial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rí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55"/>
          <p:cNvSpPr/>
          <p:nvPr/>
        </p:nvSpPr>
        <p:spPr>
          <a:xfrm>
            <a:off x="3962520" y="4800600"/>
            <a:ext cx="22860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sición de caja adecu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56"/>
          <p:cNvSpPr/>
          <p:nvPr/>
        </p:nvSpPr>
        <p:spPr>
          <a:xfrm>
            <a:off x="35053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7"/>
          <p:cNvSpPr/>
          <p:nvPr/>
        </p:nvSpPr>
        <p:spPr>
          <a:xfrm>
            <a:off x="3545280" y="21337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58"/>
          <p:cNvSpPr/>
          <p:nvPr/>
        </p:nvSpPr>
        <p:spPr>
          <a:xfrm>
            <a:off x="50292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59"/>
          <p:cNvSpPr/>
          <p:nvPr/>
        </p:nvSpPr>
        <p:spPr>
          <a:xfrm>
            <a:off x="50292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60"/>
          <p:cNvSpPr/>
          <p:nvPr/>
        </p:nvSpPr>
        <p:spPr>
          <a:xfrm>
            <a:off x="50292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61"/>
          <p:cNvSpPr/>
          <p:nvPr/>
        </p:nvSpPr>
        <p:spPr>
          <a:xfrm>
            <a:off x="502920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2"/>
          <p:cNvSpPr/>
          <p:nvPr/>
        </p:nvSpPr>
        <p:spPr>
          <a:xfrm>
            <a:off x="5107320" y="2590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3"/>
          <p:cNvSpPr/>
          <p:nvPr/>
        </p:nvSpPr>
        <p:spPr>
          <a:xfrm>
            <a:off x="5107320" y="3581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4"/>
          <p:cNvSpPr/>
          <p:nvPr/>
        </p:nvSpPr>
        <p:spPr>
          <a:xfrm>
            <a:off x="5107320" y="44956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5"/>
          <p:cNvSpPr/>
          <p:nvPr/>
        </p:nvSpPr>
        <p:spPr>
          <a:xfrm>
            <a:off x="5107320" y="5257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Bonos de Carbono - Agrosup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12" name="Picture 4" descr="0825B00303"/>
          <p:cNvPicPr/>
          <p:nvPr/>
        </p:nvPicPr>
        <p:blipFill>
          <a:blip r:embed="rId1"/>
          <a:stretch/>
        </p:blipFill>
        <p:spPr>
          <a:xfrm>
            <a:off x="3686040" y="2921040"/>
            <a:ext cx="17719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Estrategias Tecnológ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ofen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der o “primero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Defen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ir al lí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im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o también “Me To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“Interstit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úsqueda de aplicaciones, ada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ta, subsidiaria, departamento o proveedor tard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absorb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 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Faces del proceso de Innovación Tecnológic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stigación bás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stigación apl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y diseño experimenta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y diseño avanz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loto / Prototipo 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ol de calidad y diseño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tentes y lic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 de post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ucación y consult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es de larg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Estrategia v/s Fa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21" name="Object 3"/>
          <p:cNvGraphicFramePr/>
          <p:nvPr/>
        </p:nvGraphicFramePr>
        <p:xfrm>
          <a:off x="914400" y="990720"/>
          <a:ext cx="82296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82296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Text Box 4"/>
          <p:cNvSpPr/>
          <p:nvPr/>
        </p:nvSpPr>
        <p:spPr>
          <a:xfrm>
            <a:off x="2889000" y="6308640"/>
            <a:ext cx="450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 = Alto, M = Medio, L = Bajo, N = N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72880" y="1341000"/>
            <a:ext cx="743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El Proceso Innovad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166400" y="3886200"/>
            <a:ext cx="75200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52480" y="1294920"/>
            <a:ext cx="59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EL Proceso Innovador y sus Acto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innovación se torna imprescindi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43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hipercompetitividad obliga a desarrollar nuevos productos y servicios para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iclo de vida de los productos y servicios es cada vez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clientes tienen necesidades distintas por lo que hay que entregar productos y servicios distintos para cada uno de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r un proceso de creación rápido y eficiente genera ventaja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l proceso puede involucrar a distintos acto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os pueden ser quienes generan la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Usuarios lí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ienen una necesidad que se general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 beneficia si obtiene una solución a su neces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 Special G2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gunas veces no están dispuestos a compartir sus innov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beneficiado puede ser cualquiera de los 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 necesario estimular a los usuarios líderes a entregar nuevas ide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a el producto deseado del modo más preciso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ecifique una recompensa 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ite sólo a los probable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¿ </a:t>
            </a: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Crea ventajas competitivas la innovación tecnológica 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innovación puede cambiar la posición competitiv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reloj de cuarzo destrozó la industria suiza de relo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hielo artificial hizo quebrar al Rey del Hi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innovación constante permite manten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crosoft e Intel concentran el 50% de las utilidades del negocio de los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siempre el primero es quien se lleva lo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MI creó el scanner y no pudo sacar provecho de su in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siempre la mejor tecnología se imp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formato Beta era mejor técnicamente, pero VHS se imp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219320" y="1523880"/>
            <a:ext cx="73152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s personas juegan distintos roles en el proceso innovad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dor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ampion o impul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derazgo de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tekeeping o vigil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spicio o apoyo ejecu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La estructura funcional elegida dependerá, principalmente, de la envergadura del 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de peso liv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de peso pe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uctura de equipo aut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fun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gente está agrupada por disciplina y cada uno responde a su gerente superior de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 responsabilidad y la acción pasa de una sección a otra en forma secuencial en el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pone que el proyecto puede ser descompuesto en etapas secu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ando inequív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rofundidad en aspect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Baja coordinación e integ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Poca visión de con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Tendencia a diseñar lo mejor sólo desde el aspecto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de peso livia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43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a sección designa una persona como representante en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rdinación central a cargo de un gerente de proyecto de “peso liviano” que proviene de alguna de las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 peso liviano pues es un joven de ubicación intermedia en la jerarquí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No posee autoridad sobre el uso de los recursos y debe solicitarlos a las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ent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ayor coordinación respecto a la organización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de peso pes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ordinador es un gerente de “peso pesado” de alto rango en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equipo central a menudo se ubica físicamente con el gerente, separado de las funciones de donde prov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erente de peso pesado tiene autoridad para evaluar a los miembros de su equipo, no obstante la afiliación a una función 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ructura de equipo autónom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embros del equipo son sacados de las áreas funcionales y formalmente reasignados a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rente del proyecto es un “peso pesado” con plena autoridad sobre los recursos que se le ot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ípicamente, estos equipos inventan sus propias reglas, incentivos, recompensas, patrones de comportamiento, etc. Sólo ellos son responsables de lo que o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Fo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Mo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vent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Poca coordinación con el resto de l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1066680" y="1752480"/>
            <a:ext cx="78487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3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80720" y="1447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ultura y Resistencia al Camb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muchas formas de definir la cultu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ultura de una organización es la forma particular de hacer las cosas en dich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o que está relacionado con la gente y la calidad o características de las organ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está formada por aspectos visibles e invisible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rmas de comportamiento (reglas no escritas del juego. Están justo por debajo de la experi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quemas de conductas visibles y aud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j.: no contradiga al jefe, haga lo mínimo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ir adelante, no rompa la c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está formada por aspectos visibles e invisible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supuestos ocultos (creencias fundamentales que están por detrás de todas las decisiones y ac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frontables con el entorno f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frontables sólo por consens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j.: ningún competidor entrará al mercado, los empleados seguirán aceptando l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Objetivos del semin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682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nder la importancia de la innovación tecnológica para la gestión de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nder los mecanismos que genera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tan l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cer en qué condiciones un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e beneficios económicos a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nder cómo las innovaciones que h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án ocurriendo afectan a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219320" y="1676520"/>
            <a:ext cx="670536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está formada por aspectos visibles e invisibles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naturaleza humana (dadas por sentadas, preconscientes, invisi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con 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 la realidad, el tiempo y el espa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l géner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 la realida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aturaleza de las relacione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51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cultura impacta de diferentes formas el comportamiento de las organiz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ón d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Rumbo que la cultura hace segu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netración d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Grado en que es compartida un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erza d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Nivel de presión que ejerce la cultura sobre los miembros de la organiz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impacto será positivo cuando apunte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ón correcta, sea ampliamente compartida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personas y ejerce una fuerte infl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Kilmann, Saxton y Se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No es fácil cambiar la cultura de las organiz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06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entras más profunda  sea la cultura más difícil será cambi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entras mayor sea el número de culturas distintas, mayor será el esfuerzo necesario para cambi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más fácil el cambio a nivel de superficie que aquellos que afectan a supuestos ocultos o a la naturalez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Introducción del correo electrónico en reemplazo de los “memos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icialmente nadie lo u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debió elegir cuidadosamente la forma de introduci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Grupos pil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so intensivo de la alta 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y con el correo inter empresas son los usuarios los que presionan a las organ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distintos elementos que determinan una cultu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Determina cómo alcanzar el éx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Creencias y supuestos bá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ér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ndividuos que personifican los valores 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Rutinas sistemáticas que muestran a los trabajadores el tipo de comportamiento que se espera de 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d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Transportadores de la mitología heroica en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edio de comunicación básica (infor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1219320" y="1600200"/>
            <a:ext cx="75438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Todo cambio implica un choque entre cultu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os culturas se explici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vang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ultura dominante predo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br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 conjugan ambas cul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2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Las personas no se resisten al cambio en sí mismo, sino a los efectos que éstos puedan tener en una cierta cultura, considerando las características propias de cada perso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Se resisten las personas 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que les suban el suel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tener más días de vacaci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hacer un post gr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hacer un viaje de negoc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...tener un ascen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1143000" y="1752480"/>
            <a:ext cx="746748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resistencia al cambio se debe a una sensación de pérdid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lo 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comod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érdida de a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ta sensación de pérdida se puede deber a diferentes raz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fensa de los propios inter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estruct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lta de comprensión del cambio y 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roducción de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ferentes métodos de valorar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siempre los distintos grupos disponen de la mism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casa tolerancia a los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Las personas pueden no sentirse capaces de enfrentar 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tres tipos distintos de resistencia al cambi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istencia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iempo requerido para 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fuerzo necesario para apr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diciones menos dese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ubutilización de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valuación diferente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1143000" y="1676520"/>
            <a:ext cx="75438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Por qué las empresas deben pensar en innovación tecnológ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mperativos estratégicos de las empresas de h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iscontinuidades Tecnológicas y Diseños Domin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¿Quién gana y quién pierde con la innov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proceso innovador y su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ultura y resistencia a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proceso inno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cnología de información como creador de ventaja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Ventajas competitivas, a través de la Cadena de Valor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l Nuevo Marketing, Creando Ventajas Competitiv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143000" y="1219320"/>
            <a:ext cx="701028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tres tipos distintos de resistencia al cambi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istencia psi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iedo a lo des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Baja tolerancia a los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confianza al gestor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confianza hacia otr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ecesidad de preservar el estado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1219320" y="1676520"/>
            <a:ext cx="75438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xisten tres tipos distintos de resistencia al cambio..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istencia soc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eres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Valores colectivos en confli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Visión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eservación de amis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ereses no explí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1219320" y="1600200"/>
            <a:ext cx="75438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tapas de un proceso de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tiv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rear actitudes favo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mplementar los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bi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nternalización de los cambios e incorporación a la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1219320" y="1523880"/>
            <a:ext cx="708660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43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s necesario planificar la forma de vencer la resistencia al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ormación y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nformar previ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ción y colab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volucrar a los posibles oposi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poyo y fac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Formación y apoyo a lo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f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egociación y 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Ofrecer incentivos a los o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ipulación y coo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ntento abierto de influir en los de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erción explícita e implí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Obligar mediante amenaz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Kotter y Schlesin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estrategia y la velocidad del cambio dependen de factores situacion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calidad y tipo de resistencia que se pre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osición de los proponentes del cambio frente a los o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lugar donde se encuentren los datos claves y la energía necesaria para su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factores ale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urgencia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a velocidad deseada determina la estrateg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58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ás ráp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lanificación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scasa colaboración de otr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eocupación por vencer todo tipo de res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ás l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lanificación inicial conf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ucha colaboración de otr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eocupación por minimizar todo tipo de res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En un proceso de cambio intervienen de distinta forma las perso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553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trocinadores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r las consecuencias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dentificar requerimientos adapt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ecidir sobre cambios por impl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gentes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Administrar el proceso de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nformación del grupo respon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anejar las distintas variables d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sonal afecto a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xperimentar y vivenciar cambios en conocimientos, actitudes y conduc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Para implementar un cambio se requie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oluc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 Narrow Special G2" charset="2"/>
              <a:buChar char=""/>
              <a:tabLst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1219320" y="1676520"/>
            <a:ext cx="7086600" cy="759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Tecnología de información como creador de ventajas competitiva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icolás Di Biase 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4 Marcador de pie de página"/>
          <p:cNvSpPr/>
          <p:nvPr/>
        </p:nvSpPr>
        <p:spPr>
          <a:xfrm>
            <a:off x="3124080" y="6248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ción Tecnológica como Fuente de Ventajas Competitivas - Nicolás Di Biase 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2942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Ventajas Competitivas a través de l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 Cadena de Valor Virtu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2:28:28Z</dcterms:created>
  <dc:creator>Pino</dc:creator>
  <dc:description/>
  <dc:language>en-US</dc:language>
  <cp:lastModifiedBy>Nicolas Di Biase</cp:lastModifiedBy>
  <dcterms:modified xsi:type="dcterms:W3CDTF">2009-08-18T20:37:03Z</dcterms:modified>
  <cp:revision>91</cp:revision>
  <dc:subject/>
  <dc:title> Innovación Tecnológica como fuente de Ventajas Competitivas   Nicolás Di Biase F.  </dc:title>
</cp:coreProperties>
</file>