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E441-818F-4F65-8973-88CFA2FC6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4490-79E1-4DC1-9C92-F88C92EC27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BF00A-562C-4071-A31E-BA4A2CE83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C67F-06A0-473F-8634-E2C88805386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19E63-AE9B-4EA4-94E6-A348855615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66964-65EB-4BDA-89BF-EB794F1FA61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5963D-4F20-4FF9-86A9-58682B24DE8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92525-FEC7-418A-B158-8C3235777B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2F847-717B-4D8B-AC28-756ED5D34CC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F3391-2BAF-4D0B-9250-B2CD9027E35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AFC01-7375-4D4F-875F-807C8674023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43C46-4EC9-41CE-9947-57435DC8BAD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2C0B2-ED35-493B-B640-EE622EC0CAB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54DEE-683E-41EF-B54C-2A1AB0BCC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24DC-9B03-4ECE-B0B9-9FE77A4B41B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4C433-D5B0-48CA-8067-712396975F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C62E-EE8F-43CE-AECD-97DD4511E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DB9D-F905-40EC-A1AF-ABA0C45A63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1BB0-32E8-4DB4-970F-A1107EAE55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F74B-63ED-4236-8F2F-8BE81291C9B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0DC3-A16B-4A2C-AC03-54842822F92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BF94-F043-4F53-BD41-C18DA04C51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3274-39DF-4273-9E80-02FADBA5EF4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2E69-342A-419B-B1B6-15AE5D9D1F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C0FD-3E88-4C6D-8593-A63E34800B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4B78-4CF2-4266-844E-A79CBFEF82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BEF3-08CC-416E-A1F3-27F7973275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8109-48D4-43A0-A1C9-89E9CBB42F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B23C-EF42-49AB-BB69-D80787EB9A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D94D-B679-4007-9384-E07901E8F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8B9B-2888-4625-AACC-B72494EE99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71A8-9C18-4DA3-A817-4AD1DAC6302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3458-076A-4275-B00B-3223E8B134C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FF3E-ADCB-47B7-ACBB-E612ECDD33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7F6-4F45-4AA7-855E-663672FA903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FC6-12E7-41C7-B751-007FB5BB4ED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5A6-C329-4FA8-989A-FE8249805B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651-A190-433E-A93C-FBB5ADB765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BDA-23A9-40B7-B7D2-E6583647B5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5B8-9F0D-495B-AFF2-0A6B998457E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12A-F68D-4022-8A66-DF8D4F9B6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0C52-337B-45EE-B1BA-1EDDFDF3EE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343-E165-4627-AE15-5E081C5DB6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A53-323E-4872-B847-7AC45D97A5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D70-05DD-473F-9C4F-D0511CAE2D0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052-080D-4442-979C-989CB353518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1B0-04F2-4214-B39B-10FF74738D5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8BD86-BF91-44A9-BCF6-4194BB1031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C601A-05A3-4266-A31E-914514CFBE9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B0831-9B35-41EF-92BB-FB81585141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A8BB0-5E2C-407F-B826-33FACABFE80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34AB7-2539-45E5-AC7D-C852EAEDD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A1D5-C747-4ABC-B44C-F4BB3B6E00D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CC097-67AC-4567-B0DD-19B6442F168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BE2F6-66DD-4BC2-A3E4-5F3D09C5203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D3DF4-4FFC-4B69-BE65-5183B7AB621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5055B-7574-4703-A990-13D18786DA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C8F92-4764-4372-A0C9-233D960F94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51A63-5E6D-45CA-9152-2D91F221DE3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A36CD-4236-4401-8071-5A85F63EF03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"/>
          <p:cNvSpPr/>
          <p:nvPr/>
        </p:nvSpPr>
        <p:spPr>
          <a:xfrm>
            <a:off x="489024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0916-9ED4-4CD2-93FD-9C3227CF7893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5" name=""/>
          <p:cNvSpPr/>
          <p:nvPr/>
        </p:nvSpPr>
        <p:spPr>
          <a:xfrm>
            <a:off x="4896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5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884E-AE62-498B-9E4A-2E9F8535A3EE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362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63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4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8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2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6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1422000" y="8113680"/>
            <a:ext cx="10845720" cy="7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1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2" name=""/>
          <p:cNvSpPr/>
          <p:nvPr/>
        </p:nvSpPr>
        <p:spPr>
          <a:xfrm>
            <a:off x="5256360" y="8902800"/>
            <a:ext cx="0" cy="5983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3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1422000" y="7097760"/>
            <a:ext cx="10845720" cy="10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422000" y="8113680"/>
            <a:ext cx="10845720" cy="7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2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3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4" name=""/>
          <p:cNvSpPr/>
          <p:nvPr/>
        </p:nvSpPr>
        <p:spPr>
          <a:xfrm>
            <a:off x="5256360" y="8902800"/>
            <a:ext cx="0" cy="5983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5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1422000" y="7097760"/>
            <a:ext cx="10845720" cy="10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84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spcBef>
                <a:spcPts val="1151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spcBef>
                <a:spcPts val="1151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017440"/>
            <a:ext cx="5333760" cy="2873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41480" y="4876920"/>
            <a:ext cx="5333760" cy="285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041120" y="14745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8815-6E3D-4C63-8875-53686495F29F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01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02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Num" idx="3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8622-2938-4C47-B718-424C3EFB66E0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41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42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Num" idx="4"/>
          </p:nvPr>
        </p:nvSpPr>
        <p:spPr>
          <a:xfrm>
            <a:off x="12436560" y="948708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5BCE-7923-4867-BFB5-BCADD10670DC}" type="slidenum">
              <a:rPr b="0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82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83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28880" y="3225960"/>
            <a:ext cx="1131552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ase Auxiliar</a:t>
            </a:r>
            <a:br>
              <a:rPr sz="7800"/>
            </a:b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Análisis y Diseño de Software</a:t>
            </a:r>
            <a:r>
              <a:rPr b="0" lang="en-US" sz="2500" spc="-1" strike="noStrike">
                <a:solidFill>
                  <a:srgbClr val="4a7594"/>
                </a:solidFill>
                <a:latin typeface="Helvetica Neue Light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422000" y="7594200"/>
            <a:ext cx="105411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3000"/>
          </a:bodyPr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Sistemas de Información Administrativos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Departamento de Ingeniería Industrial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Universidad de Chile 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46461"/>
                </a:solidFill>
                <a:latin typeface="Helvetica Neue"/>
              </a:rPr>
              <a:t>derechos reservados ©</a:t>
            </a:r>
            <a:endParaRPr b="0" lang="en-US" sz="13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7E1C-D16F-4837-A376-3B260301B43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 de caso de Uso alto nivel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Caso de uso: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 Comprar producto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Actores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Cliente, cajero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Tipo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Primario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Descripción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Un Cliente llega a la caja registradora con los artículos que va a comprar. El Cajero registra los artículos y cobra el importe. Al terminar la operación, el Cliente se marcha con los productos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88C6-5960-4593-B057-8CF36FC689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UML para modelar Casos de Uso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90160" y="255600"/>
            <a:ext cx="12409560" cy="24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lementos Básicos del Diagrama de CU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319640" y="4368960"/>
            <a:ext cx="5611680" cy="2844720"/>
            <a:chOff x="4319640" y="4368960"/>
            <a:chExt cx="5611680" cy="2844720"/>
          </a:xfrm>
        </p:grpSpPr>
        <p:pic>
          <p:nvPicPr>
            <p:cNvPr id="762" name="" descr=""/>
            <p:cNvPicPr/>
            <p:nvPr/>
          </p:nvPicPr>
          <p:blipFill>
            <a:blip r:embed="rId2"/>
            <a:stretch/>
          </p:blipFill>
          <p:spPr>
            <a:xfrm>
              <a:off x="4319640" y="4368960"/>
              <a:ext cx="561168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7214040" y="5199120"/>
              <a:ext cx="1588320" cy="10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4a7594"/>
                  </a:solidFill>
                  <a:latin typeface="Helvetica Neue Bold Condensed"/>
                </a:rPr>
                <a:t>JUGAR</a:t>
              </a:r>
              <a:endParaRPr b="0" lang="en-US" sz="21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4a7594"/>
                  </a:solidFill>
                  <a:latin typeface="Helvetica Neue Bold Condensed"/>
                </a:rPr>
                <a:t>BINARIO</a:t>
              </a:r>
              <a:endParaRPr b="0" lang="en-US" sz="21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1690560" y="4619880"/>
            <a:ext cx="17031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ACTORES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(ROLES)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5" name=""/>
          <p:cNvSpPr/>
          <p:nvPr/>
        </p:nvSpPr>
        <p:spPr>
          <a:xfrm>
            <a:off x="6272280" y="7738920"/>
            <a:ext cx="26938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LIMITE DEL SISTEMA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6" name=""/>
          <p:cNvSpPr/>
          <p:nvPr/>
        </p:nvSpPr>
        <p:spPr>
          <a:xfrm>
            <a:off x="6055920" y="3292560"/>
            <a:ext cx="313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NOMBRE DEL CU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3492360" y="5156280"/>
            <a:ext cx="1105200" cy="45720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7658280" y="3822840"/>
            <a:ext cx="203040" cy="125712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7784640" y="7164360"/>
            <a:ext cx="165240" cy="63360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5324-51D9-43E3-B450-D54DA80E3EC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90160" y="255600"/>
            <a:ext cx="1240956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Los diag. de CU del sistema quedarían...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201600" y="1611360"/>
            <a:ext cx="5243400" cy="36576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5854680" y="1474920"/>
            <a:ext cx="6870600" cy="285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aso de Us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omprar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ódig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1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Actore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ajero, Clien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Propósit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El cliente debe ser capaz de comprar los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Tip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rimari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Referencias Cruzadas: 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UC2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Descripción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n Cliente llega a la caja registradora con los artículos que va a comprar. El Cajero registra los artículos y luego informa al cliente el total de la compra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720240" y="2147400"/>
            <a:ext cx="2171880" cy="366840"/>
          </a:xfrm>
          <a:prstGeom prst="line">
            <a:avLst/>
          </a:prstGeom>
          <a:ln w="76320">
            <a:solidFill>
              <a:srgbClr val="908f95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4" name=""/>
          <p:cNvSpPr/>
          <p:nvPr/>
        </p:nvSpPr>
        <p:spPr>
          <a:xfrm>
            <a:off x="4354560" y="4597560"/>
            <a:ext cx="8432640" cy="3352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aso de Us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agar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ódig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2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Actore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ajero, Clien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Propósit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ermitir al cliente elegir el medio de pago de la compra, pagar los artículos, y entregar el vuelto si fuera necesario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Tip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rimari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Referencias Cruzada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1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Descripción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Después de que se a efectuado la compra de los artículos (UC1) el cajero pregunta al cliente el medio de pago (efectivo, cheque o tarjeta de crédito). Si el cliente paga en efectivo, el cajero ingresa la cantidad pagada por el cliente y calcula el vuelto. El cajero termina la venta y emite la boleta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5" name=""/>
          <p:cNvSpPr/>
          <p:nvPr/>
        </p:nvSpPr>
        <p:spPr>
          <a:xfrm>
            <a:off x="3570120" y="4102200"/>
            <a:ext cx="733680" cy="1523880"/>
          </a:xfrm>
          <a:prstGeom prst="line">
            <a:avLst/>
          </a:prstGeom>
          <a:ln w="76320">
            <a:solidFill>
              <a:srgbClr val="908f95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6" name=""/>
          <p:cNvSpPr/>
          <p:nvPr/>
        </p:nvSpPr>
        <p:spPr>
          <a:xfrm>
            <a:off x="685800" y="5429160"/>
            <a:ext cx="25401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rabajo en Clase Aux.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y modelar Casos de Uso de vuestro sistema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EF44-5CB3-45EB-A6CA-DF12D045978B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41120" y="255600"/>
            <a:ext cx="10922040" cy="14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onde estamos...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6" name=""/>
          <p:cNvSpPr/>
          <p:nvPr/>
        </p:nvSpPr>
        <p:spPr>
          <a:xfrm>
            <a:off x="1181160" y="1650960"/>
            <a:ext cx="4392720" cy="2286000"/>
          </a:xfrm>
          <a:prstGeom prst="roundRect">
            <a:avLst>
              <a:gd name="adj" fmla="val 8333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0. Definir el Proyecto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Objetivo General &amp; Específic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edio ambiente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Recursos con disponibl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nteraccio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blecer el alcance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Carta Gantt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quipo y Responsabilidad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7" name=""/>
          <p:cNvSpPr/>
          <p:nvPr/>
        </p:nvSpPr>
        <p:spPr>
          <a:xfrm>
            <a:off x="1181160" y="4624560"/>
            <a:ext cx="4392720" cy="2106360"/>
          </a:xfrm>
          <a:prstGeom prst="roundRect">
            <a:avLst>
              <a:gd name="adj" fmla="val 9032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1. Analisis de la Situación Actual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do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r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Validar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edir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Generar un diagnóstico de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8" name=""/>
          <p:cNvSpPr/>
          <p:nvPr/>
        </p:nvSpPr>
        <p:spPr>
          <a:xfrm>
            <a:off x="1181160" y="7367760"/>
            <a:ext cx="4392720" cy="1660320"/>
          </a:xfrm>
          <a:prstGeom prst="roundRect">
            <a:avLst>
              <a:gd name="adj" fmla="val 11449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3. (Re)Diseñar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blecer la(s) direcciones de cambi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miento del (re)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valuación del re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Seleccionar las tecnologías habilitant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Detallar y Probar el re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9" name=""/>
          <p:cNvSpPr/>
          <p:nvPr/>
        </p:nvSpPr>
        <p:spPr>
          <a:xfrm>
            <a:off x="7164360" y="2133720"/>
            <a:ext cx="4392720" cy="1842840"/>
          </a:xfrm>
          <a:prstGeom prst="roundRect">
            <a:avLst>
              <a:gd name="adj" fmla="val 10343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Helvetica Neue"/>
              </a:rPr>
              <a:t>4. Analisis y Diseño Software de apoyo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pecificación de los requerimientos del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Analisis de requerimient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Diseño del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miento de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0" name=""/>
          <p:cNvSpPr/>
          <p:nvPr/>
        </p:nvSpPr>
        <p:spPr>
          <a:xfrm>
            <a:off x="7164360" y="4648320"/>
            <a:ext cx="4392720" cy="925560"/>
          </a:xfrm>
          <a:prstGeom prst="roundRect">
            <a:avLst>
              <a:gd name="adj" fmla="val 20546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5. Desarrollo de Software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1" name=""/>
          <p:cNvSpPr/>
          <p:nvPr/>
        </p:nvSpPr>
        <p:spPr>
          <a:xfrm>
            <a:off x="7164360" y="7848720"/>
            <a:ext cx="4392720" cy="1371600"/>
          </a:xfrm>
          <a:prstGeom prst="roundRect">
            <a:avLst>
              <a:gd name="adj" fmla="val 13889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7. Implantación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mplantación del Proceso desarrollad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mplantación del Software desarrollad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Pruebas de ambos y correccio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2" name=""/>
          <p:cNvSpPr/>
          <p:nvPr/>
        </p:nvSpPr>
        <p:spPr>
          <a:xfrm flipH="1" rot="16200000">
            <a:off x="9036720" y="38552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3" name=""/>
          <p:cNvSpPr/>
          <p:nvPr/>
        </p:nvSpPr>
        <p:spPr>
          <a:xfrm flipH="1" rot="16200000">
            <a:off x="2394720" y="38552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4" name=""/>
          <p:cNvSpPr/>
          <p:nvPr/>
        </p:nvSpPr>
        <p:spPr>
          <a:xfrm flipH="1" rot="16200000">
            <a:off x="3053520" y="65984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5" name=""/>
          <p:cNvSpPr/>
          <p:nvPr/>
        </p:nvSpPr>
        <p:spPr>
          <a:xfrm flipH="1" rot="16200000">
            <a:off x="9036000" y="5441760"/>
            <a:ext cx="64908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573880" y="3468600"/>
            <a:ext cx="1575720" cy="4621320"/>
            <a:chOff x="5573880" y="3468600"/>
            <a:chExt cx="1575720" cy="4621320"/>
          </a:xfrm>
        </p:grpSpPr>
        <p:sp>
          <p:nvSpPr>
            <p:cNvPr id="737" name=""/>
            <p:cNvSpPr/>
            <p:nvPr/>
          </p:nvSpPr>
          <p:spPr>
            <a:xfrm flipH="1" flipV="1">
              <a:off x="6393600" y="3525480"/>
              <a:ext cx="756000" cy="576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06560" y="3468600"/>
              <a:ext cx="0" cy="462132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73880" y="8020080"/>
              <a:ext cx="845280" cy="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40" name=""/>
          <p:cNvSpPr/>
          <p:nvPr/>
        </p:nvSpPr>
        <p:spPr>
          <a:xfrm rot="16200000">
            <a:off x="3727800" y="3856680"/>
            <a:ext cx="648000" cy="887400"/>
          </a:xfrm>
          <a:prstGeom prst="rightArrow">
            <a:avLst>
              <a:gd name="adj1" fmla="val 20000"/>
              <a:gd name="adj2" fmla="val 490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1" name=""/>
          <p:cNvSpPr/>
          <p:nvPr/>
        </p:nvSpPr>
        <p:spPr>
          <a:xfrm>
            <a:off x="7164360" y="6183360"/>
            <a:ext cx="4392720" cy="1030320"/>
          </a:xfrm>
          <a:prstGeom prst="roundRect">
            <a:avLst>
              <a:gd name="adj" fmla="val 18519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6. Prueba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Proceso y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2" name=""/>
          <p:cNvSpPr/>
          <p:nvPr/>
        </p:nvSpPr>
        <p:spPr>
          <a:xfrm flipH="1" rot="16200000">
            <a:off x="9036000" y="7078680"/>
            <a:ext cx="64944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78DE-E705-4CA4-80BC-E2845F36AF8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79000" y="279000"/>
            <a:ext cx="1275084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Pasos a seguir en Análisi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41120" y="1740960"/>
            <a:ext cx="10922040" cy="775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lgunas de las tareas a realizarse en la etapa de análisis son las siguientes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requerimiento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casos esenciales de us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r y perfeccionar Casos de uso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Crear diagrama de casos de uso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Especificar escenarios. 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r y perfeccionar el modelo conceptual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diagramas de secuencia de alto nivel del sistema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CCA4-809E-4A9C-A8FA-F3370A998E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Fase de Análisis:</a:t>
            </a:r>
            <a:br>
              <a:rPr sz="7500"/>
            </a:b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Casos de Uso del Sistema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90520" y="255240"/>
            <a:ext cx="12423600" cy="15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Casos de Uso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041120" y="2084400"/>
            <a:ext cx="10922040" cy="716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s casos de uso sirven para encontrar y capturar los requerimientos (especialmente los funcionales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51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Son descripciones narrativas en lenguaje natural de los procesos en un formato estructurado de prosa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51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Son denominados por un VERBO. Ejemplo: “Comprar producto”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8CAA-C754-4E9D-B1AF-94ABA29DF7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Actor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768400"/>
            <a:ext cx="11161800" cy="641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Un CU esta íntimamente relacionado con un actor que se encuentra utilizando el </a:t>
            </a: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sistema informático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Actor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Puede ser una Persona (identificada por su rol), otro sistema informático u Organización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24C7-4F82-4D3A-9CF0-8718298FAB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aso de estudio: el punto de venta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	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upongamos como caso de estudio el sistema de una terminal de punto de venta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Esta terminal es un sistema automatizado con el que se registran las ventas y se realizan los pagos. Por lo general este tipo de sistemas comprenden hardware (un computador y un lector de código barras) y software (el sistema que se ejecuta en la terminal). Suponga que se nos ha contratado para crear este software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FAA4-19AE-4F6F-AC55-407DEF00A4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29760" y="255240"/>
            <a:ext cx="123555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Metodología: </a:t>
            </a:r>
            <a:br>
              <a:rPr sz="6400"/>
            </a:b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Buscar Actores y sus funciones</a:t>
            </a:r>
            <a:endParaRPr b="0" lang="en-US" sz="6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8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Lo primero es reconocer a todos los actores que están involucrados en el sistema.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to debería estar claro desde las fases de analisis de la situación actual y en el rediseño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400"/>
              </a:spcBef>
              <a:buSzPct val="174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Luego sus funciones básicas, ejemplo PDV: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2351160" y="5805360"/>
          <a:ext cx="8291520" cy="3454560"/>
        </p:xfrm>
        <a:graphic>
          <a:graphicData uri="http://schemas.openxmlformats.org/drawingml/2006/table">
            <a:tbl>
              <a:tblPr/>
              <a:tblGrid>
                <a:gridCol w="1535040"/>
                <a:gridCol w="6756480"/>
              </a:tblGrid>
              <a:tr h="8510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ajero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Registra Productos, Cobra por lo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Entrega el cambio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liente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ompra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Paga los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Gerente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Inicia las operacione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ierra las operacione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Adm. de Sistema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Incorpora, actualiza, borra usuarios del sistema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2336-B00D-4E5A-B5C7-F7F3AF2661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Escenario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41120" y="2158560"/>
            <a:ext cx="10922040" cy="692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s escenarios son la escénica de los casos de uso. Corresponden a una secuencia especifica de acciones e interacciones entre los actores y el sistema que se esta estudiand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5737-4D94-4E28-8D15-8D243AC9987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nn</cp:lastModifiedBy>
  <dcterms:modified xsi:type="dcterms:W3CDTF">2009-10-07T02:27:27Z</dcterms:modified>
  <cp:revision>12</cp:revision>
  <dc:subject/>
  <dc:title>Capitulo 10 Analisis de Sistemas Basado en : “UML y PATRONES”, Craig Larman, 1Ed y 2 Ed. </dc:title>
</cp:coreProperties>
</file>