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21D635-B523-422A-BC03-1959E76A7AC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B5E9D-E6EB-4A02-94E5-F5365322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DC17-07A5-4DDD-89E4-7AAB7680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0904-DA3B-4963-85FA-ED121D35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B30F-063D-4517-B05D-48CDD501C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EC9C-9521-4991-B79D-42C8DBA7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AB0A-CD4E-4737-B509-87BE4437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225A-F661-4C68-8DA9-71EB1ACE5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3763-AD02-4D34-90AA-1FB2DC26A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9F30-E166-425C-B261-2D9669C6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D5D6-EACF-4019-9AC4-D3B6C57B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C5883-1FD0-46C8-8985-2393255A6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1FB81-BF8A-43F0-94D8-102DBE43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D8B32-5A5C-4316-A18F-4DD82DF61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EEFB2-3DAD-4CCF-852F-BE0254597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E9AC5-0BB5-49CB-9CB1-E62FA5A7E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CEAE3-6384-45F4-A3C0-118F50739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88FF1-AC5F-4D77-8D30-8BA6F48AA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99376-E4EE-4548-A449-3640DA553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C42E2-E707-40CA-9D0F-CECE544E8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15857-DEA5-4D85-9790-269856F2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CE63-CC2C-4E7B-800C-69A3F4045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6C10C-6B5F-4779-BAA1-3733AA466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A90AF-098E-41BA-8936-1A433632B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C454E-1A3F-4ED7-823C-0FEA65226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C961-0651-40FB-ADAE-FE4999F1BEE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7385-EB3B-4134-9635-7AAB5D60E52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gosto 2009</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WinuE</cp:lastModifiedBy>
  <dcterms:modified xsi:type="dcterms:W3CDTF">2009-09-04T00:59:26Z</dcterms:modified>
  <cp:revision>839</cp:revision>
  <dc:subject/>
  <dc:title>Elizabeth Lagos</dc:title>
</cp:coreProperties>
</file>