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9152706-D311-45AC-9F4C-EF8A0AAE5B2D}"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80CB1-98D1-4576-9F26-2734F4F90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FF84B-CAAC-4C26-99BA-2DCEEAD24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5849-965A-4F9F-8812-57F440981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13079-2DF9-43E5-BF9B-051ACC5B8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A6FAF-2A2C-4FD9-892B-A624794C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4798A-5C5C-4402-9991-186E4AA6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7F723-CB54-4176-86E1-DE5EAD03A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C6B9-4B13-405E-A1C6-4A6BAC23F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F1D5-7732-4DA3-8E9A-E9F6F1D9F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F3D98-518F-4CF6-8EA1-E2A1D91BE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158ED-92E4-4FDF-BCED-4BF930DC7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D5B4D-32C3-466D-906C-6DDF4D33B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7F2B5-5EB1-4B62-B7B6-84BA92EC3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8175F-0D1E-4EE8-BA68-F7F12F099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30978-7A44-4670-8E47-7CA5B1AD9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EDB66-C6C3-447F-BEF6-55C55A54B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7A45A-556D-4D08-85C2-0249BAD6C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127F4-EF54-48CD-9C37-05FEB5095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495F5-5760-4C1F-8EFA-369AFDDBF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3EE26-E1F5-4C8B-8BFF-F942CBA5F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F0083-50D2-4FDB-B887-DC4163E59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9E5C7-4C35-45F4-A392-BC376953A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256AA-6F98-4C96-89B9-B32A91E75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C7BDE-AE85-45DB-9B67-085E8E3A2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F7CD-1611-4B26-8C1D-F7F0AFC9A71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C725-4FF1-437F-A6EC-2C42278A3298}"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Agosto 2009</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WinuE</cp:lastModifiedBy>
  <dcterms:modified xsi:type="dcterms:W3CDTF">2009-09-04T00:59:26Z</dcterms:modified>
  <cp:revision>839</cp:revision>
  <dc:subject/>
  <dc:title>Elizabeth Lagos</dc:title>
</cp:coreProperties>
</file>