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58D0-D0C7-4676-972E-748ED284DF88}"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F7DC-4E98-439C-A11F-D023F4E98703}"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5E7A-8329-4A09-98DA-44009C2A1CB7}"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0CC9-F130-4CEB-B284-B8980527588C}"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E5B8-CB66-41F1-95F1-697F3DD0B401}"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8401-4A2C-4687-98AC-94E99D97A928}"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BCBF-2933-4D69-9407-C668F1BE11EC}"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7641-C101-48CA-A3A9-70CBAA939608}"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35D6-2BD8-471E-91BA-EAD0B55828DF}"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CEFF-4BF7-4DA1-9EE0-5422387207A1}"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DFA6-33D7-4D27-AF00-2680E2C0881B}"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7FAA-287F-4BF7-9D57-C95B2B92ECB4}"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3B1E-116E-49A9-96C4-6B5C05D757C9}"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8EF9-F853-4690-8793-D937784CD25B}"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C82E-61DE-4AE7-BE08-0EC4BE8C5587}"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2780-33D9-4BC2-BF48-4109E33C93C3}"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6954-0DF0-4D5C-BBD1-58C145C39D89}"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47023-02A6-47A5-895B-9EF02BA75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3B141-2659-4E1D-A268-07A55D425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20F82-FD4B-4E4A-8C75-5F4CB00F9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492F2-9440-4900-875F-5CD63D388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8918B-9907-45E7-B1A5-33E6D9DA8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E1AAD-F4C0-4436-ADAA-DD305A41F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3CE66-F4F5-4E54-BC6F-6DFCA4252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EB2A0-FA6C-44CB-93BE-0750116DF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2DB31-365A-4739-9C1D-602BA4AB1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A8A85-6AD5-4A31-83DC-A1751276C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5275E-CD16-437D-9280-FF457FE7B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6FC30-AF23-46BA-8A35-A830588F6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4E3CC-B4DB-43E4-992C-FB94F678F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89C3-7D9C-4A4C-9CD1-A35288425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AA4D3-BF04-4CE2-AA09-534E71185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1A4CD-B071-43DC-BF2F-A85325FE2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53F3E-EFEC-45A8-98D2-BE91AE5E7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ED49943-2F97-465A-B14F-C819E4034D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A4E8F7-2415-4965-B764-285519514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19D55E-9C6D-48F6-9BC4-DC3135957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A32CD0-543C-4871-817C-72A0B3CF0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7B74E7-8EE4-482F-AC21-0FBEFD521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F180F-C99A-4C0F-86BF-45FD91FA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64F456-215B-4BD7-AE7E-A91680CE0C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FF1983-5B0A-40A1-B4CE-57A071140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CC1D87-AC0F-41E1-9064-5455048E4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CCB09F-E424-44F7-8B87-7A322997E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33F215-3F6E-4FDE-9956-2CEBB17A44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163F844-2D92-487C-B661-EC82F7F932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F720A85-34DD-4B39-B955-D99A55A6A6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574804-A8E7-4889-8060-FEF0ECBDE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0F612-60C9-4403-81B6-C33F09453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AC8CD3-D944-4753-88DF-394D599DA9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020A7-8ED7-473E-AE32-8B624039D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DF307-8F3E-46D2-8557-D9DEFC16E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02242-7063-4E08-96B2-56CA9B82F6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5744F4-FD0C-4621-A1B5-D4C331A7D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35451-848B-4489-85A8-8EC313D123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B77BD-27B1-4C2D-A8FC-D7FBC631B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7D523-D332-4E40-B9B4-43F982F7D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56591-128C-46A3-84DC-6ED54B0C2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90A01D-550A-43F6-A66C-DE94C560C4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62A0B5-22DE-4A0C-ACC5-8884C5DF91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6A35272-77C5-4706-98B9-CBF2BE4964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EDB12-E687-47EB-875B-BDAED8BF0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3C9D9B-E0FF-40E0-8530-8527F5CC06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2CACEC-5CE6-4566-BAED-442058405F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CAFB7A-7D88-4C94-A913-DBE23DB06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1C2534-2182-44DE-9578-3454DAE51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78E207-BB9B-4CCA-AEEE-B9DAA2E28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EAFA26-820C-467E-97F9-C79BD7A3D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A01307-BB00-46B9-B835-4DE75DD29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26EB42-3AFC-4CDA-8BE5-75F20C600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43B4B1-AB20-42F2-B20A-113EB2757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5A46E80-0713-465B-8D03-27DD3D017D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1F666-57A3-4E16-8104-0E5847CBE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775DD74-2647-4DBC-8412-EBFB3FDDE8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0675FDC-00BD-44A1-BDBC-09EDE8CACB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FA33F6B-0540-48F7-81DE-BB46F51AA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0710B0-FFF0-47CA-868E-48BCE40FC2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63D711A-52A1-4B9B-9735-1A9478C29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930D3BD-552D-4865-AB69-7E60976B80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5B8CEC9-1059-4635-AB04-9F71CFB700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F5B65F-0912-4D9F-B909-248C322C6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7FBD95-BF9D-4D5A-8687-C03156D86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A82F0D-F16E-4F4F-8FF9-2E6548771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18C2-71F2-4E61-B0A3-381423D36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F949135-DC7E-4E49-9595-6E574AB1A7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31C0EBA-AFF0-4283-A1DC-FABF03D38B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966F221-4CE0-4463-AEC2-31C49A20A0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E1FF80F-09B7-46FD-81DC-4A93D0F28C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8F1B72D-E5EE-4ACA-B56C-8AE6CC72BD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3CA3FE3-4875-4B7E-BF74-BD5012E38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566B23-3F3E-4FAE-9236-B7586DE3F1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D0A36D-7687-4A37-A1B1-7918D4A10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9FE8617-891F-44C9-9C73-E730D6DDA8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206F197-D014-4A5F-9665-7479AB598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F57B-BA06-4C81-8152-F2B14AFAC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E36B00-CCB9-4784-96F7-C8BB5A79AD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3272B8-070E-4B79-B408-03019D847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9C15BC-9DFF-4CE3-ADE3-0777F08FD1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71EB76B-588C-4C76-B6DF-DE1AF83550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C158D02-E59D-413B-805B-34F8A5A885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421C-4346-4A57-B4CD-B4AAEAED8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6C81-DDF5-4843-B290-F30FA57F04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AE51-F0EF-4E24-8558-2B7B1A1508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55AB-C4A8-4A2E-94AB-D9D8B67B60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E8A8-C5BC-41E8-8BA4-67F633D3887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DE30-D096-4C33-8574-90824018C8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BCDC-DA64-4B5B-9DEB-2875D7EA4E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FF65-796C-4D76-89ED-33CE9FFA1C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340000" y="2657520"/>
            <a:ext cx="5686560" cy="1131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es-ES_tradnl" sz="2700" spc="-1" strike="noStrike">
                <a:solidFill>
                  <a:srgbClr val="575f6d"/>
                </a:solidFill>
                <a:latin typeface="Calibri"/>
                <a:ea typeface="Aharoni"/>
              </a:rPr>
              <a:t>ESTRATEGIAS PROMOCIONALES GLOBAL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75f6d"/>
                </a:solidFill>
                <a:latin typeface="Calibri"/>
              </a:rPr>
              <a:t>Auxiliar: Paola Martínez Cancino</a:t>
            </a:r>
            <a:endParaRPr b="0" lang="en-US" sz="1800" spc="-1" strike="noStrike">
              <a:solidFill>
                <a:srgbClr val="000000"/>
              </a:solidFill>
              <a:latin typeface="Century Schoolbook"/>
            </a:endParaRPr>
          </a:p>
        </p:txBody>
      </p:sp>
      <p:sp>
        <p:nvSpPr>
          <p:cNvPr id="360" name="2 Subtítulo"/>
          <p:cNvSpPr/>
          <p:nvPr/>
        </p:nvSpPr>
        <p:spPr>
          <a:xfrm>
            <a:off x="324000" y="260280"/>
            <a:ext cx="7108560" cy="1081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IN 556 </a:t>
            </a:r>
            <a:endParaRPr b="0" lang="en-US" sz="20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Marketing Internacional Agroindustrial</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1400" y="546120"/>
            <a:ext cx="3230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nfoque de la Campaña</a:t>
            </a:r>
            <a:endParaRPr b="0" lang="en-US" sz="2500" spc="-1" strike="noStrike">
              <a:solidFill>
                <a:srgbClr val="000000"/>
              </a:solidFill>
              <a:latin typeface="Century Schoolbook"/>
            </a:endParaRPr>
          </a:p>
        </p:txBody>
      </p:sp>
      <p:sp>
        <p:nvSpPr>
          <p:cNvPr id="380" name=""/>
          <p:cNvSpPr/>
          <p:nvPr/>
        </p:nvSpPr>
        <p:spPr>
          <a:xfrm>
            <a:off x="898560" y="1125360"/>
            <a:ext cx="75610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ea typeface="Arial"/>
              </a:rPr>
              <a:t>Se deben tomar dos decisiones básic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Que tipos de servicios externos usar (las más importantes son las agencias de publicidad, cual escoger dependerá de en mayor grado de la calidad de cobertura que ésta podrá proporcionar a la compañía multinacional.)</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mo establecer la autoridad de toma de decisiones para esfuerzos promocionales (Las alternativas van desde la centralización completa, a la descentralización)</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n la centralización completa, el nivel de la matriz es percibido como que tiene todas las respuestas correctas y tiene el poder adecuado para imponer sus sugerencias en todas las unidades operativa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 descentralización requiere relajar la mayoría de los controles sobre las afiliadas extranjeras y permitirles buscar sus propios enfoques promocional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765360" y="546120"/>
            <a:ext cx="5670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ción de la Efectividad de la Publicidad</a:t>
            </a:r>
            <a:endParaRPr b="0" lang="en-US" sz="2500" spc="-1" strike="noStrike">
              <a:solidFill>
                <a:srgbClr val="000000"/>
              </a:solidFill>
              <a:latin typeface="Century Schoolbook"/>
            </a:endParaRPr>
          </a:p>
        </p:txBody>
      </p:sp>
      <p:sp>
        <p:nvSpPr>
          <p:cNvPr id="382" name=""/>
          <p:cNvSpPr/>
          <p:nvPr/>
        </p:nvSpPr>
        <p:spPr>
          <a:xfrm>
            <a:off x="898560" y="1700280"/>
            <a:ext cx="7561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a:t>
            </a:r>
            <a:r>
              <a:rPr b="0" i="1" lang="es-ES_tradnl" sz="1600" spc="-1" strike="noStrike">
                <a:solidFill>
                  <a:srgbClr val="000000"/>
                </a:solidFill>
                <a:latin typeface="Calibri"/>
                <a:ea typeface="Arial"/>
              </a:rPr>
              <a:t>Sé que la mitad del dinero que gasto en publicidad se desperdicia. Lo único es que no sé cuál de las dos mitades”</a:t>
            </a:r>
            <a:endParaRPr b="0" lang="en-US" sz="1600" spc="-1" strike="noStrike">
              <a:solidFill>
                <a:srgbClr val="000000"/>
              </a:solidFill>
              <a:latin typeface="Century Schoolbook"/>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John Wanamaker</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3" name=""/>
          <p:cNvSpPr/>
          <p:nvPr/>
        </p:nvSpPr>
        <p:spPr>
          <a:xfrm>
            <a:off x="826920" y="3284640"/>
            <a:ext cx="756144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i la efectividad de la publicidad puede medirse o no, la mayoría de las compañías lo intentan. Las mediciones de la efectividad de la publicidad deberían ir de la prueba previa del atractivo y reconocimiento del texto, a pruebas de reconocimiento posteriores y hasta efectos de venta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mediciones más usadas son: Ventas, percepción, recordación, juicio ejecutivo, intención de compra, rentabilidad, sin importar el medio usa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760320" y="546120"/>
            <a:ext cx="253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Ventas Personales</a:t>
            </a:r>
            <a:endParaRPr b="0" lang="en-US" sz="2500" spc="-1" strike="noStrike">
              <a:solidFill>
                <a:srgbClr val="000000"/>
              </a:solidFill>
              <a:latin typeface="Century Schoolbook"/>
            </a:endParaRPr>
          </a:p>
        </p:txBody>
      </p:sp>
      <p:sp>
        <p:nvSpPr>
          <p:cNvPr id="385" name=""/>
          <p:cNvSpPr/>
          <p:nvPr/>
        </p:nvSpPr>
        <p:spPr>
          <a:xfrm>
            <a:off x="898560" y="1189080"/>
            <a:ext cx="756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sfuerzo realizado para la promoción de artículos de precios alt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6" name=""/>
          <p:cNvSpPr/>
          <p:nvPr/>
        </p:nvSpPr>
        <p:spPr>
          <a:xfrm>
            <a:off x="759240" y="2060640"/>
            <a:ext cx="2936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omoción de Ventas</a:t>
            </a:r>
            <a:endParaRPr b="0" lang="en-US" sz="2500" spc="-1" strike="noStrike">
              <a:solidFill>
                <a:srgbClr val="000000"/>
              </a:solidFill>
              <a:latin typeface="Century Schoolbook"/>
            </a:endParaRPr>
          </a:p>
        </p:txBody>
      </p:sp>
      <p:sp>
        <p:nvSpPr>
          <p:cNvPr id="387" name=""/>
          <p:cNvSpPr/>
          <p:nvPr/>
        </p:nvSpPr>
        <p:spPr>
          <a:xfrm>
            <a:off x="898560" y="285264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Ha sido usada como la frase genérica para la promoción que no cae bajo publicidad, ventas personales o propaganda. La promoción de ventas dirigida al consumidor incluye actividades como cupones, muestreo, premios, educación al consumidor y demostración, paquetes de descuentos, material en punto de venta y correo direct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61040" y="546120"/>
            <a:ext cx="268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Relaciones Públicas</a:t>
            </a:r>
            <a:endParaRPr b="0" lang="en-US" sz="2500" spc="-1" strike="noStrike">
              <a:solidFill>
                <a:srgbClr val="000000"/>
              </a:solidFill>
              <a:latin typeface="Century Schoolbook"/>
            </a:endParaRPr>
          </a:p>
        </p:txBody>
      </p:sp>
      <p:sp>
        <p:nvSpPr>
          <p:cNvPr id="389" name=""/>
          <p:cNvSpPr/>
          <p:nvPr/>
        </p:nvSpPr>
        <p:spPr>
          <a:xfrm>
            <a:off x="898560" y="318600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Internas: importante para crear una cultura corporativa apropiad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xternas: Preocupadas de la interacción con los client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roactiva: los mercadólogos se preocupan de establecer identidades globales para incrementar las ventas, diferenciar productos y servicios y atraer emplead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90" name=""/>
          <p:cNvSpPr/>
          <p:nvPr/>
        </p:nvSpPr>
        <p:spPr>
          <a:xfrm>
            <a:off x="826920" y="1125360"/>
            <a:ext cx="7561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on la función de comunicaciones de marketing a cargo de la ejecución de programas para ganar comprensión y aceptación del público. (comunicación interna y externa, además de proactiva y reactiv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60320" y="546120"/>
            <a:ext cx="32911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arketing de Patrocinio</a:t>
            </a:r>
            <a:endParaRPr b="0" lang="en-US" sz="2500" spc="-1" strike="noStrike">
              <a:solidFill>
                <a:srgbClr val="000000"/>
              </a:solidFill>
              <a:latin typeface="Century Schoolbook"/>
            </a:endParaRPr>
          </a:p>
        </p:txBody>
      </p:sp>
      <p:sp>
        <p:nvSpPr>
          <p:cNvPr id="392" name=""/>
          <p:cNvSpPr/>
          <p:nvPr/>
        </p:nvSpPr>
        <p:spPr>
          <a:xfrm>
            <a:off x="898560" y="1700280"/>
            <a:ext cx="75610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Inversión en eventos o causas, en el ámbito mundial van dirigidos en mayor grado a eventos deportivos y culturale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reto está en que un evento puede verse envuelto en controversia, lastimando también la imagen de los patrocinadores. Por este alto costo la preocupación esta en el marketing de emboscada por parte de los competidores. (uso no autorizado de un evento sin el permiso del propietario del evento, ejemplo publicidad en las olimpiadas por parte de “No patrocinadore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56720" y="546120"/>
            <a:ext cx="1537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ato Extra</a:t>
            </a:r>
            <a:endParaRPr b="0" lang="en-US" sz="2500" spc="-1" strike="noStrike">
              <a:solidFill>
                <a:srgbClr val="000000"/>
              </a:solidFill>
              <a:latin typeface="Century Schoolbook"/>
            </a:endParaRPr>
          </a:p>
        </p:txBody>
      </p:sp>
      <p:sp>
        <p:nvSpPr>
          <p:cNvPr id="394" name=""/>
          <p:cNvSpPr/>
          <p:nvPr/>
        </p:nvSpPr>
        <p:spPr>
          <a:xfrm>
            <a:off x="898560" y="1700280"/>
            <a:ext cx="7561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locación de Producto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uando se pone algún producto en películ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85480" y="285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FIN</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lIns="90000" rIns="90000" tIns="46800" bIns="46800" anchor="ctr">
            <a:norm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GRACIAS POR SU ATENCIÓN!!</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028520" y="565200"/>
            <a:ext cx="48625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ea typeface="Arial"/>
              </a:rPr>
              <a:t>Estrategias Promocionales Globales</a:t>
            </a:r>
            <a:endParaRPr b="0" lang="en-US" sz="2500" spc="-1" strike="noStrike">
              <a:solidFill>
                <a:srgbClr val="000000"/>
              </a:solidFill>
              <a:latin typeface="Century Schoolbook"/>
            </a:endParaRPr>
          </a:p>
        </p:txBody>
      </p:sp>
      <p:sp>
        <p:nvSpPr>
          <p:cNvPr id="362" name=""/>
          <p:cNvSpPr/>
          <p:nvPr/>
        </p:nvSpPr>
        <p:spPr>
          <a:xfrm>
            <a:off x="1023840" y="2741760"/>
            <a:ext cx="7435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Calibri"/>
                <a:ea typeface="Arial"/>
              </a:rPr>
              <a:t>“</a:t>
            </a:r>
            <a:r>
              <a:rPr b="0" i="1" lang="es-ES_tradnl" sz="2200" spc="-1" strike="noStrike">
                <a:solidFill>
                  <a:srgbClr val="000000"/>
                </a:solidFill>
                <a:latin typeface="Calibri"/>
                <a:ea typeface="Arial"/>
              </a:rPr>
              <a:t>La tecnología está instalada para los esfuerzos de comunicación globales, pero todavía existen retos difíciles en la forma de diferencias culturales, económicas, étnicas, reglamentarias y demográficas en los diversos países y region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258920" y="1557360"/>
            <a:ext cx="63374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audienci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os objetivos de campaña específic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presupuesto</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strategia de Medi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Mensaje</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Enfoque de la Campañ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fectividad de la Campaña</a:t>
            </a:r>
            <a:endParaRPr b="0" lang="en-US" sz="1800" spc="-1" strike="noStrike">
              <a:solidFill>
                <a:srgbClr val="000000"/>
              </a:solidFill>
              <a:latin typeface="Century Schoolbook"/>
            </a:endParaRPr>
          </a:p>
        </p:txBody>
      </p:sp>
      <p:sp>
        <p:nvSpPr>
          <p:cNvPr id="364" name=""/>
          <p:cNvSpPr/>
          <p:nvPr/>
        </p:nvSpPr>
        <p:spPr>
          <a:xfrm>
            <a:off x="978120" y="401760"/>
            <a:ext cx="5368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laneación de Campañas Promocionales</a:t>
            </a: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761400" y="546120"/>
            <a:ext cx="2975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eterminar audiencia</a:t>
            </a:r>
            <a:endParaRPr b="0" lang="en-US" sz="2500" spc="-1" strike="noStrike">
              <a:solidFill>
                <a:srgbClr val="000000"/>
              </a:solidFill>
              <a:latin typeface="Century Schoolbook"/>
            </a:endParaRPr>
          </a:p>
        </p:txBody>
      </p:sp>
      <p:sp>
        <p:nvSpPr>
          <p:cNvPr id="366" name=""/>
          <p:cNvSpPr/>
          <p:nvPr/>
        </p:nvSpPr>
        <p:spPr>
          <a:xfrm>
            <a:off x="898560" y="1700280"/>
            <a:ext cx="7345440" cy="335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Marketing Relacionado con una causa </a:t>
            </a:r>
            <a:r>
              <a:rPr b="0" i="1" lang="es-ES_tradnl" sz="1600" spc="-1" strike="noStrike">
                <a:solidFill>
                  <a:srgbClr val="000000"/>
                </a:solidFill>
                <a:latin typeface="Calibri"/>
                <a:ea typeface="Arial"/>
              </a:rPr>
              <a:t>(compañía o una de sus marcas se enlaza con a una causa, como la protección del medio ambiente o la salud de los niños, promoviendo su imagen con el gobierno y comunidad local, esto puede ser mediante algún patrocinio)</a:t>
            </a:r>
            <a:endParaRPr b="0" lang="en-US" sz="1600" spc="-1" strike="noStrike">
              <a:solidFill>
                <a:srgbClr val="000000"/>
              </a:solidFill>
              <a:latin typeface="Century Schoolbook"/>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Publicidad de Imagen corporativa </a:t>
            </a:r>
            <a:r>
              <a:rPr b="0" i="1" lang="es-ES_tradnl" sz="1600" spc="-1" strike="noStrike">
                <a:solidFill>
                  <a:srgbClr val="000000"/>
                </a:solidFill>
                <a:latin typeface="Calibri"/>
                <a:ea typeface="Arial"/>
              </a:rPr>
              <a:t>(para promover campañas de posicionamiento de marca en mercados múltiples observando similitudes culturales, demográficas, económicas, entre otra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61400" y="546120"/>
            <a:ext cx="3079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Objetivos de Campaña</a:t>
            </a:r>
            <a:endParaRPr b="0" lang="en-US" sz="2500" spc="-1" strike="noStrike">
              <a:solidFill>
                <a:srgbClr val="000000"/>
              </a:solidFill>
              <a:latin typeface="Century Schoolbook"/>
            </a:endParaRPr>
          </a:p>
        </p:txBody>
      </p:sp>
      <p:sp>
        <p:nvSpPr>
          <p:cNvPr id="368" name=""/>
          <p:cNvSpPr/>
          <p:nvPr/>
        </p:nvSpPr>
        <p:spPr>
          <a:xfrm>
            <a:off x="898560" y="1700280"/>
            <a:ext cx="734544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Fijar objetivos claramente definidos y conmensurab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ueden ser Globales, Regionales o Loca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A nivel local son más específicos para mercados individuales (relacionados con producto o servicio)</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Metas típicas: incrementar percepción, fortalecer la imagen, mejorar la participación de mercado en una plaza en particular.</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59960" y="546120"/>
            <a:ext cx="1788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esupuesto</a:t>
            </a:r>
            <a:endParaRPr b="0" lang="en-US" sz="2500" spc="-1" strike="noStrike">
              <a:solidFill>
                <a:srgbClr val="000000"/>
              </a:solidFill>
              <a:latin typeface="Century Schoolbook"/>
            </a:endParaRPr>
          </a:p>
        </p:txBody>
      </p:sp>
      <p:sp>
        <p:nvSpPr>
          <p:cNvPr id="370" name=""/>
          <p:cNvSpPr/>
          <p:nvPr/>
        </p:nvSpPr>
        <p:spPr>
          <a:xfrm>
            <a:off x="898560" y="1700280"/>
            <a:ext cx="734544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EL presupuesto promocional enlaza los objetivos establecidos con las decisiones de medios, mensaje y control. Idealmente, el presupuesto se establecería como respuesta a los objetivos por cumplir, pero las restricciones de recursos a menudo impiden este enfoque.</a:t>
            </a: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59960" y="546120"/>
            <a:ext cx="2893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strategia de Medios</a:t>
            </a:r>
            <a:endParaRPr b="0" lang="en-US" sz="2500" spc="-1" strike="noStrike">
              <a:solidFill>
                <a:srgbClr val="000000"/>
              </a:solidFill>
              <a:latin typeface="Century Schoolbook"/>
            </a:endParaRPr>
          </a:p>
        </p:txBody>
      </p:sp>
      <p:sp>
        <p:nvSpPr>
          <p:cNvPr id="372" name=""/>
          <p:cNvSpPr/>
          <p:nvPr/>
        </p:nvSpPr>
        <p:spPr>
          <a:xfrm>
            <a:off x="898560" y="1700280"/>
            <a:ext cx="756108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as características de la audiencia meta, los objetivos de campaña y presupuesto forman la base para la elección entre los vehículos de medios y desarrollo de un programa de medios.</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Factores que determinan la elección de los vehículos de medios a usar son:</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600" spc="-1" strike="noStrike">
                <a:solidFill>
                  <a:srgbClr val="000000"/>
                </a:solidFill>
                <a:latin typeface="Calibri"/>
                <a:ea typeface="Arial"/>
              </a:rPr>
              <a:t>Disponibilidad de Medios en un mercado determinado (Escrito, Televisivo,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l producto o servicio mismo (restricciones de cada país, Ej. tabaco, alcohol, desodorante en Reino Uni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Hábitos de medios de la audiencia objetivo (MTV)</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63560" y="546120"/>
            <a:ext cx="406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Características de la audiencia</a:t>
            </a:r>
            <a:endParaRPr b="0" lang="en-US" sz="2500" spc="-1" strike="noStrike">
              <a:solidFill>
                <a:srgbClr val="000000"/>
              </a:solidFill>
              <a:latin typeface="Century Schoolbook"/>
            </a:endParaRPr>
          </a:p>
        </p:txBody>
      </p:sp>
      <p:sp>
        <p:nvSpPr>
          <p:cNvPr id="374" name=""/>
          <p:cNvSpPr/>
          <p:nvPr/>
        </p:nvSpPr>
        <p:spPr>
          <a:xfrm>
            <a:off x="898560" y="1700280"/>
            <a:ext cx="7561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Un objetivo importante de la estrategia de medios es alcanzar a la audiencia propuesta con un mínimo de desperdicio.</a:t>
            </a:r>
            <a:endParaRPr b="0" lang="en-US" sz="1800" spc="-1" strike="noStrike">
              <a:solidFill>
                <a:srgbClr val="000000"/>
              </a:solidFill>
              <a:latin typeface="Century Schoolbook"/>
            </a:endParaRPr>
          </a:p>
        </p:txBody>
      </p:sp>
      <p:sp>
        <p:nvSpPr>
          <p:cNvPr id="375" name=""/>
          <p:cNvSpPr/>
          <p:nvPr/>
        </p:nvSpPr>
        <p:spPr>
          <a:xfrm>
            <a:off x="974880" y="3316320"/>
            <a:ext cx="2323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os Globales</a:t>
            </a:r>
            <a:endParaRPr b="0" lang="en-US" sz="2500" spc="-1" strike="noStrike">
              <a:solidFill>
                <a:srgbClr val="000000"/>
              </a:solidFill>
              <a:latin typeface="Century Schoolbook"/>
            </a:endParaRPr>
          </a:p>
        </p:txBody>
      </p:sp>
      <p:sp>
        <p:nvSpPr>
          <p:cNvPr id="376" name=""/>
          <p:cNvSpPr/>
          <p:nvPr/>
        </p:nvSpPr>
        <p:spPr>
          <a:xfrm>
            <a:off x="826920" y="4149720"/>
            <a:ext cx="756144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os vehículos de medios que tienen audiencias metas n al menos tres continentes y parta los cuales la compra de medios se hace a través de una oficina centralizada. (EJ: MTV)</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759240" y="546120"/>
            <a:ext cx="2984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nsaje Promocional</a:t>
            </a:r>
            <a:endParaRPr b="0" lang="en-US" sz="2500" spc="-1" strike="noStrike">
              <a:solidFill>
                <a:srgbClr val="000000"/>
              </a:solidFill>
              <a:latin typeface="Century Schoolbook"/>
            </a:endParaRPr>
          </a:p>
        </p:txBody>
      </p:sp>
      <p:sp>
        <p:nvSpPr>
          <p:cNvPr id="378" name=""/>
          <p:cNvSpPr/>
          <p:nvPr/>
        </p:nvSpPr>
        <p:spPr>
          <a:xfrm>
            <a:off x="898560" y="1700280"/>
            <a:ext cx="756108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personas creativas deben tener una idea clara de las características de la audiencia que se espera este expuesta al mensaje. En este sentido, los principios para crear publicidad efectiva son los mismos que los del mercado doméstico. Se debe determinar lo que el consumidor en verdad está comprando, es decir, las motivaciones del cliente. Las que varían de acuerdo 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Difusión del producto o servicio. (Ej: Penetración de computadoras en lugares donde no hay infraestructura ni acceso a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os criterios sobre los cuales el cliente evaluará el producto (Ej: Menor tiempo en la cocina, Italia Brasil y Poloni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posicionamiento del producto (Lápices Parker en mercados donde es mas importante la conveniencia, solución crear una imagen para un producto de conveniencia y hacer que el consumidor lo pague)</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1:03:15Z</dcterms:created>
  <dc:creator>Eve</dc:creator>
  <dc:description/>
  <dc:language>en-US</dc:language>
  <cp:lastModifiedBy>alumnodii</cp:lastModifiedBy>
  <dcterms:modified xsi:type="dcterms:W3CDTF">2009-11-06T16:58:54Z</dcterms:modified>
  <cp:revision>32</cp:revision>
  <dc:subject/>
  <dc:title>CLASE  IN 556  MARKETING INTERNACIONAL AGROINDUSTRIAL  TEMA: Marketing Mix de Negocios Internacionales</dc:title>
</cp:coreProperties>
</file>