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6C79-2965-4CB3-844D-3A84104057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A792-AF76-43D5-93EF-A20677EE05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27240" y="766800"/>
            <a:ext cx="4403520" cy="3303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0800" y="4871520"/>
            <a:ext cx="503100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9AD-80CE-4085-8C59-2CFCD8DC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C7C-7881-4D45-91D2-F562DC89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E39-9F79-4C19-812D-3DFF07F3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A2C-609F-4A14-A929-B552FE72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08D-2AD2-41BF-B360-C1AA2571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C40-E5E9-457E-A7BC-6A0A15B3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318-2E94-448D-913E-D11E833E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E99-EB96-48E8-AA45-D7F0E20C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339-880F-4C5D-91A6-0911C74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E48-2637-4114-9CB9-10929EE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1C5-2E30-4C18-B4FF-C73B7CBE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192-04A5-4386-8DB1-56305577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1D3B-93BD-48AC-9544-1DAB0257A63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isologo-DII color - central"/>
          <p:cNvPicPr/>
          <p:nvPr/>
        </p:nvPicPr>
        <p:blipFill>
          <a:blip r:embed="rId2"/>
          <a:stretch/>
        </p:blipFill>
        <p:spPr>
          <a:xfrm>
            <a:off x="96840" y="96840"/>
            <a:ext cx="730080" cy="73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8002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stión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347652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zzle4"/>
          <p:cNvSpPr/>
          <p:nvPr/>
        </p:nvSpPr>
        <p:spPr>
          <a:xfrm>
            <a:off x="5292720" y="4437000"/>
            <a:ext cx="1700280" cy="20606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24000" y="1052640"/>
            <a:ext cx="1042920" cy="3671640"/>
            <a:chOff x="324000" y="1052640"/>
            <a:chExt cx="1042920" cy="3671640"/>
          </a:xfrm>
        </p:grpSpPr>
        <p:sp>
          <p:nvSpPr>
            <p:cNvPr id="53" name="Rectangle 4"/>
            <p:cNvSpPr/>
            <p:nvPr/>
          </p:nvSpPr>
          <p:spPr>
            <a:xfrm>
              <a:off x="324000" y="1052640"/>
              <a:ext cx="10429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24000" y="1052640"/>
              <a:ext cx="10429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6"/>
          <p:cNvGrpSpPr/>
          <p:nvPr/>
        </p:nvGrpSpPr>
        <p:grpSpPr>
          <a:xfrm>
            <a:off x="1619280" y="1052640"/>
            <a:ext cx="973080" cy="3671640"/>
            <a:chOff x="1619280" y="1052640"/>
            <a:chExt cx="973080" cy="3671640"/>
          </a:xfrm>
        </p:grpSpPr>
        <p:sp>
          <p:nvSpPr>
            <p:cNvPr id="56" name="Rectangle 7"/>
            <p:cNvSpPr/>
            <p:nvPr/>
          </p:nvSpPr>
          <p:spPr>
            <a:xfrm>
              <a:off x="1619280" y="1052640"/>
              <a:ext cx="973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1619280" y="1052640"/>
              <a:ext cx="97308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9"/>
          <p:cNvGrpSpPr/>
          <p:nvPr/>
        </p:nvGrpSpPr>
        <p:grpSpPr>
          <a:xfrm>
            <a:off x="5435640" y="1052640"/>
            <a:ext cx="1581120" cy="3671640"/>
            <a:chOff x="5435640" y="1052640"/>
            <a:chExt cx="1581120" cy="3671640"/>
          </a:xfrm>
        </p:grpSpPr>
        <p:sp>
          <p:nvSpPr>
            <p:cNvPr id="59" name="Rectangle 10"/>
            <p:cNvSpPr/>
            <p:nvPr/>
          </p:nvSpPr>
          <p:spPr>
            <a:xfrm>
              <a:off x="5435640" y="1052640"/>
              <a:ext cx="15811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. Interpers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5435640" y="1052640"/>
              <a:ext cx="15811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 sicológic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Rectangle 12"/>
          <p:cNvSpPr/>
          <p:nvPr/>
        </p:nvSpPr>
        <p:spPr>
          <a:xfrm>
            <a:off x="2771640" y="1052640"/>
            <a:ext cx="2448000" cy="288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3"/>
          <p:cNvGrpSpPr/>
          <p:nvPr/>
        </p:nvGrpSpPr>
        <p:grpSpPr>
          <a:xfrm>
            <a:off x="2771640" y="1341360"/>
            <a:ext cx="1225440" cy="3382920"/>
            <a:chOff x="2771640" y="1341360"/>
            <a:chExt cx="1225440" cy="3382920"/>
          </a:xfrm>
        </p:grpSpPr>
        <p:sp>
          <p:nvSpPr>
            <p:cNvPr id="63" name="Rectangle 14"/>
            <p:cNvSpPr/>
            <p:nvPr/>
          </p:nvSpPr>
          <p:spPr>
            <a:xfrm>
              <a:off x="2771640" y="1341360"/>
              <a:ext cx="122544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2771640" y="1341360"/>
              <a:ext cx="122544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6"/>
          <p:cNvGrpSpPr/>
          <p:nvPr/>
        </p:nvGrpSpPr>
        <p:grpSpPr>
          <a:xfrm>
            <a:off x="3924360" y="1341360"/>
            <a:ext cx="1296720" cy="3382920"/>
            <a:chOff x="3924360" y="1341360"/>
            <a:chExt cx="1296720" cy="3382920"/>
          </a:xfrm>
        </p:grpSpPr>
        <p:sp>
          <p:nvSpPr>
            <p:cNvPr id="66" name="Rectangle 17"/>
            <p:cNvSpPr/>
            <p:nvPr/>
          </p:nvSpPr>
          <p:spPr>
            <a:xfrm>
              <a:off x="3924360" y="1341360"/>
              <a:ext cx="129672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munera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cen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3924360" y="1341360"/>
              <a:ext cx="129672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9"/>
          <p:cNvGrpSpPr/>
          <p:nvPr/>
        </p:nvGrpSpPr>
        <p:grpSpPr>
          <a:xfrm>
            <a:off x="7236000" y="1052640"/>
            <a:ext cx="1657080" cy="3671640"/>
            <a:chOff x="7236000" y="1052640"/>
            <a:chExt cx="1657080" cy="3671640"/>
          </a:xfrm>
        </p:grpSpPr>
        <p:sp>
          <p:nvSpPr>
            <p:cNvPr id="69" name="Rectangle 20"/>
            <p:cNvSpPr/>
            <p:nvPr/>
          </p:nvSpPr>
          <p:spPr>
            <a:xfrm>
              <a:off x="7236000" y="1052640"/>
              <a:ext cx="1657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7236000" y="1052640"/>
              <a:ext cx="1657080" cy="252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2"/>
            <p:cNvSpPr/>
            <p:nvPr/>
          </p:nvSpPr>
          <p:spPr>
            <a:xfrm>
              <a:off x="7236000" y="1323000"/>
              <a:ext cx="79344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23"/>
            <p:cNvSpPr/>
            <p:nvPr/>
          </p:nvSpPr>
          <p:spPr>
            <a:xfrm>
              <a:off x="8029440" y="1323000"/>
              <a:ext cx="86328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468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delo Comportamien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3780000" y="1700280"/>
            <a:ext cx="315720" cy="30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971640" y="4292640"/>
            <a:ext cx="934920" cy="504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341440" y="4292640"/>
            <a:ext cx="935280" cy="504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5005440" y="4221000"/>
            <a:ext cx="934920" cy="505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6732720" y="4221000"/>
            <a:ext cx="934920" cy="505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2268360" y="508464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uzzle1"/>
          <p:cNvSpPr/>
          <p:nvPr/>
        </p:nvSpPr>
        <p:spPr>
          <a:xfrm>
            <a:off x="2700360" y="4797360"/>
            <a:ext cx="2158920" cy="16560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Selección de 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Preguntas de disc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Deberían las empresas realizar tests psicológicos o deberían centrarse sólo en habilidades específicas (competencias) respecto al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Para qué tipo de trabajo es justificado aplic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419200" y="723960"/>
            <a:ext cx="47851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Selección Eficaz es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45720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2590920" y="981000"/>
            <a:ext cx="396216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55308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80880" y="26668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457200" y="314172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457200" y="472428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H="1">
            <a:off x="6588000" y="1905120"/>
            <a:ext cx="2098800" cy="3971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517680" y="24066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I.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17680" y="371628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33520" y="494172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457200" y="19051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533520" y="130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2666880" y="126828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6655680" y="126828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LO ENTRENABLE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2651040" y="204480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2666880" y="328464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2590920" y="472428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6629400" y="20574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6934320" y="50418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RECLUTAMIENTO Y SELECCIÓN</a:t>
            </a:r>
            <a:r>
              <a:rPr b="0" lang="es-ES_tradnl" sz="1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lasificación de 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est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ivel Intelectual: Test Multi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sonalidad lógicamente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sonalidad proy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1285920" y="2252520"/>
            <a:ext cx="2908080" cy="7430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1"/>
          <p:cNvSpPr/>
          <p:nvPr/>
        </p:nvSpPr>
        <p:spPr>
          <a:xfrm>
            <a:off x="1917720" y="3265560"/>
            <a:ext cx="1639800" cy="7412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5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17"/>
          <p:cNvSpPr/>
          <p:nvPr/>
        </p:nvSpPr>
        <p:spPr>
          <a:xfrm>
            <a:off x="1568520" y="2825640"/>
            <a:ext cx="1228680" cy="2336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18"/>
          <p:cNvSpPr/>
          <p:nvPr/>
        </p:nvSpPr>
        <p:spPr>
          <a:xfrm>
            <a:off x="2678040" y="2830680"/>
            <a:ext cx="1230480" cy="23472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rc 19"/>
          <p:cNvSpPr/>
          <p:nvPr/>
        </p:nvSpPr>
        <p:spPr>
          <a:xfrm>
            <a:off x="1670040" y="2959200"/>
            <a:ext cx="1125720" cy="1886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rc 20"/>
          <p:cNvSpPr/>
          <p:nvPr/>
        </p:nvSpPr>
        <p:spPr>
          <a:xfrm>
            <a:off x="2689200" y="2962440"/>
            <a:ext cx="1122480" cy="1886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rc 21"/>
          <p:cNvSpPr/>
          <p:nvPr/>
        </p:nvSpPr>
        <p:spPr>
          <a:xfrm>
            <a:off x="1757520" y="3062160"/>
            <a:ext cx="1027080" cy="1890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rc 22"/>
          <p:cNvSpPr/>
          <p:nvPr/>
        </p:nvSpPr>
        <p:spPr>
          <a:xfrm>
            <a:off x="2685960" y="3065400"/>
            <a:ext cx="1027080" cy="1890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rc 23"/>
          <p:cNvSpPr/>
          <p:nvPr/>
        </p:nvSpPr>
        <p:spPr>
          <a:xfrm>
            <a:off x="1843200" y="3164040"/>
            <a:ext cx="939600" cy="1872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rc 24"/>
          <p:cNvSpPr/>
          <p:nvPr/>
        </p:nvSpPr>
        <p:spPr>
          <a:xfrm>
            <a:off x="2689200" y="3168720"/>
            <a:ext cx="939960" cy="1872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rc 25"/>
          <p:cNvSpPr/>
          <p:nvPr/>
        </p:nvSpPr>
        <p:spPr>
          <a:xfrm>
            <a:off x="1920960" y="3259080"/>
            <a:ext cx="857160" cy="1890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rc 26"/>
          <p:cNvSpPr/>
          <p:nvPr/>
        </p:nvSpPr>
        <p:spPr>
          <a:xfrm>
            <a:off x="2693880" y="3260880"/>
            <a:ext cx="855720" cy="1904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27"/>
          <p:cNvSpPr/>
          <p:nvPr/>
        </p:nvSpPr>
        <p:spPr>
          <a:xfrm>
            <a:off x="2328840" y="4361040"/>
            <a:ext cx="817560" cy="693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28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9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0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1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2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rc 33"/>
          <p:cNvSpPr/>
          <p:nvPr/>
        </p:nvSpPr>
        <p:spPr>
          <a:xfrm>
            <a:off x="2103480" y="3876840"/>
            <a:ext cx="731880" cy="2016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rc 34"/>
          <p:cNvSpPr/>
          <p:nvPr/>
        </p:nvSpPr>
        <p:spPr>
          <a:xfrm>
            <a:off x="2682720" y="3875040"/>
            <a:ext cx="696960" cy="2034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rc 35"/>
          <p:cNvSpPr/>
          <p:nvPr/>
        </p:nvSpPr>
        <p:spPr>
          <a:xfrm>
            <a:off x="2185920" y="4035600"/>
            <a:ext cx="63648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rc 36"/>
          <p:cNvSpPr/>
          <p:nvPr/>
        </p:nvSpPr>
        <p:spPr>
          <a:xfrm>
            <a:off x="2693880" y="4035600"/>
            <a:ext cx="60984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rc 37"/>
          <p:cNvSpPr/>
          <p:nvPr/>
        </p:nvSpPr>
        <p:spPr>
          <a:xfrm>
            <a:off x="2228760" y="4125960"/>
            <a:ext cx="58572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rc 38"/>
          <p:cNvSpPr/>
          <p:nvPr/>
        </p:nvSpPr>
        <p:spPr>
          <a:xfrm>
            <a:off x="2693880" y="4125960"/>
            <a:ext cx="56196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39"/>
          <p:cNvSpPr/>
          <p:nvPr/>
        </p:nvSpPr>
        <p:spPr>
          <a:xfrm>
            <a:off x="2274840" y="4219560"/>
            <a:ext cx="530280" cy="1224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rc 40"/>
          <p:cNvSpPr/>
          <p:nvPr/>
        </p:nvSpPr>
        <p:spPr>
          <a:xfrm>
            <a:off x="2697120" y="4219560"/>
            <a:ext cx="506520" cy="12240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rc 41"/>
          <p:cNvSpPr/>
          <p:nvPr/>
        </p:nvSpPr>
        <p:spPr>
          <a:xfrm>
            <a:off x="2320920" y="4322880"/>
            <a:ext cx="47772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42"/>
          <p:cNvSpPr/>
          <p:nvPr/>
        </p:nvSpPr>
        <p:spPr>
          <a:xfrm>
            <a:off x="2701800" y="4322880"/>
            <a:ext cx="455760" cy="122040"/>
          </a:xfrm>
          <a:prstGeom prst="pie">
            <a:avLst/>
          </a:pr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3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4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5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6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7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8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9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0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1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2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3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4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5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6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7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18:37:01Z</dcterms:created>
  <dc:creator>María José Varela </dc:creator>
  <dc:description/>
  <dc:language>en-US</dc:language>
  <cp:lastModifiedBy>Administrator</cp:lastModifiedBy>
  <dcterms:modified xsi:type="dcterms:W3CDTF">2009-10-29T13:11:18Z</dcterms:modified>
  <cp:revision>57</cp:revision>
  <dc:subject/>
  <dc:title>TALLER DE SELECCIÓN</dc:title>
</cp:coreProperties>
</file>