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C2D-F49E-4C12-B865-EE7ABB3B55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E73-DB86-40EC-8E6A-4A233576E1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27240" y="766800"/>
            <a:ext cx="4403520" cy="3303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0800" y="4871520"/>
            <a:ext cx="503100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1E3-1544-4DC1-B39D-D595E1FA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35B-308B-4014-9F99-AAFFF16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FFE-C429-41FA-BD03-500CC5E7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25C-2E96-4FDF-9F87-9CFB374B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CD2-596B-41E0-AA7E-FC4B095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F4B-5F18-4EA3-AC03-E20140A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C85-D05E-4726-B444-6024C8D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18A-9BB7-48CB-BE7E-94CEB8B7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1D1-FA0E-4FE9-837A-FA9D55D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818-4310-4864-BF4B-5D5C8A8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CE9-187D-44C2-BCA2-E87319B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035-033E-4C10-8C63-705F18F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226-D72A-4570-AEDA-567B1C9733F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isologo-DII color - central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53" name="Rectangle 4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6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6" name="Rectangle 7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9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9" name="Rectangle 10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2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63" name="Rectangle 14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6" name="Rectangle 17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9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9" name="Rectangle 20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971640" y="4292640"/>
            <a:ext cx="93492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341440" y="4292640"/>
            <a:ext cx="93528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500544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673272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1285920" y="2252520"/>
            <a:ext cx="2908080" cy="7430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1917720" y="3265560"/>
            <a:ext cx="1639800" cy="7412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7"/>
          <p:cNvSpPr/>
          <p:nvPr/>
        </p:nvSpPr>
        <p:spPr>
          <a:xfrm>
            <a:off x="1568520" y="2825640"/>
            <a:ext cx="1228680" cy="233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18"/>
          <p:cNvSpPr/>
          <p:nvPr/>
        </p:nvSpPr>
        <p:spPr>
          <a:xfrm>
            <a:off x="2678040" y="2830680"/>
            <a:ext cx="1230480" cy="23472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rc 19"/>
          <p:cNvSpPr/>
          <p:nvPr/>
        </p:nvSpPr>
        <p:spPr>
          <a:xfrm>
            <a:off x="1670040" y="2959200"/>
            <a:ext cx="112572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rc 20"/>
          <p:cNvSpPr/>
          <p:nvPr/>
        </p:nvSpPr>
        <p:spPr>
          <a:xfrm>
            <a:off x="2689200" y="2962440"/>
            <a:ext cx="112248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rc 21"/>
          <p:cNvSpPr/>
          <p:nvPr/>
        </p:nvSpPr>
        <p:spPr>
          <a:xfrm>
            <a:off x="1757520" y="306216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22"/>
          <p:cNvSpPr/>
          <p:nvPr/>
        </p:nvSpPr>
        <p:spPr>
          <a:xfrm>
            <a:off x="2685960" y="306540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rc 23"/>
          <p:cNvSpPr/>
          <p:nvPr/>
        </p:nvSpPr>
        <p:spPr>
          <a:xfrm>
            <a:off x="1843200" y="3164040"/>
            <a:ext cx="93960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rc 24"/>
          <p:cNvSpPr/>
          <p:nvPr/>
        </p:nvSpPr>
        <p:spPr>
          <a:xfrm>
            <a:off x="2689200" y="3168720"/>
            <a:ext cx="93996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rc 25"/>
          <p:cNvSpPr/>
          <p:nvPr/>
        </p:nvSpPr>
        <p:spPr>
          <a:xfrm>
            <a:off x="1920960" y="3259080"/>
            <a:ext cx="85716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rc 26"/>
          <p:cNvSpPr/>
          <p:nvPr/>
        </p:nvSpPr>
        <p:spPr>
          <a:xfrm>
            <a:off x="2693880" y="3260880"/>
            <a:ext cx="855720" cy="1904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7"/>
          <p:cNvSpPr/>
          <p:nvPr/>
        </p:nvSpPr>
        <p:spPr>
          <a:xfrm>
            <a:off x="2328840" y="4361040"/>
            <a:ext cx="817560" cy="693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9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1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2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2103480" y="3876840"/>
            <a:ext cx="731880" cy="2016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34"/>
          <p:cNvSpPr/>
          <p:nvPr/>
        </p:nvSpPr>
        <p:spPr>
          <a:xfrm>
            <a:off x="2682720" y="3875040"/>
            <a:ext cx="696960" cy="203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rc 35"/>
          <p:cNvSpPr/>
          <p:nvPr/>
        </p:nvSpPr>
        <p:spPr>
          <a:xfrm>
            <a:off x="2185920" y="4035600"/>
            <a:ext cx="63648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rc 36"/>
          <p:cNvSpPr/>
          <p:nvPr/>
        </p:nvSpPr>
        <p:spPr>
          <a:xfrm>
            <a:off x="2693880" y="4035600"/>
            <a:ext cx="60984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37"/>
          <p:cNvSpPr/>
          <p:nvPr/>
        </p:nvSpPr>
        <p:spPr>
          <a:xfrm>
            <a:off x="2228760" y="4125960"/>
            <a:ext cx="585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rc 38"/>
          <p:cNvSpPr/>
          <p:nvPr/>
        </p:nvSpPr>
        <p:spPr>
          <a:xfrm>
            <a:off x="2693880" y="4125960"/>
            <a:ext cx="5619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39"/>
          <p:cNvSpPr/>
          <p:nvPr/>
        </p:nvSpPr>
        <p:spPr>
          <a:xfrm>
            <a:off x="2274840" y="4219560"/>
            <a:ext cx="53028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rc 40"/>
          <p:cNvSpPr/>
          <p:nvPr/>
        </p:nvSpPr>
        <p:spPr>
          <a:xfrm>
            <a:off x="2697120" y="4219560"/>
            <a:ext cx="50652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rc 41"/>
          <p:cNvSpPr/>
          <p:nvPr/>
        </p:nvSpPr>
        <p:spPr>
          <a:xfrm>
            <a:off x="2320920" y="4322880"/>
            <a:ext cx="477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42"/>
          <p:cNvSpPr/>
          <p:nvPr/>
        </p:nvSpPr>
        <p:spPr>
          <a:xfrm>
            <a:off x="2701800" y="4322880"/>
            <a:ext cx="4557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3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4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5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6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7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6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Administrator</cp:lastModifiedBy>
  <dcterms:modified xsi:type="dcterms:W3CDTF">2009-10-29T13:11:18Z</dcterms:modified>
  <cp:revision>57</cp:revision>
  <dc:subject/>
  <dc:title>TALLER DE SELECCIÓN</dc:title>
</cp:coreProperties>
</file>