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CE26-2ED0-4DD9-B07A-4B23306811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7091-49FF-4EDD-8EC2-FE05349033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27240" y="766800"/>
            <a:ext cx="4403520" cy="33037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0800" y="4871520"/>
            <a:ext cx="5031000" cy="35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F4ED-C721-4349-808A-58BF5B96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114-040B-43C3-BCC3-94D9B81B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8A8-D741-4035-A2A7-DB1C8799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8B9-6F25-4AE5-B0F7-3F372163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DD2-A4D6-4CE0-A488-7565BC56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EF7-8AF1-4F45-91DE-23C15278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2AF-35FE-47FA-88F5-43DFA21E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F5C-2D3F-4720-9816-3F95783B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0FE-7EE0-4D6C-BD57-604EAA27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2A6-81B2-43FF-AB97-4EA528DB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06D-E59C-44B8-A5AE-A9F6F000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B81-F920-4C30-A472-032FA79D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3461-E6BF-4263-9BBD-29990B1A342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isologo-DII color - central"/>
          <p:cNvPicPr/>
          <p:nvPr/>
        </p:nvPicPr>
        <p:blipFill>
          <a:blip r:embed="rId2"/>
          <a:stretch/>
        </p:blipFill>
        <p:spPr>
          <a:xfrm>
            <a:off x="96840" y="96840"/>
            <a:ext cx="730080" cy="73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80024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Gestión de 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3476520"/>
            <a:ext cx="6400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uzzle4"/>
          <p:cNvSpPr/>
          <p:nvPr/>
        </p:nvSpPr>
        <p:spPr>
          <a:xfrm>
            <a:off x="5292720" y="4437000"/>
            <a:ext cx="1700280" cy="206064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24000" y="1052640"/>
            <a:ext cx="1042920" cy="3671640"/>
            <a:chOff x="324000" y="1052640"/>
            <a:chExt cx="1042920" cy="3671640"/>
          </a:xfrm>
        </p:grpSpPr>
        <p:sp>
          <p:nvSpPr>
            <p:cNvPr id="53" name="Rectangle 4"/>
            <p:cNvSpPr/>
            <p:nvPr/>
          </p:nvSpPr>
          <p:spPr>
            <a:xfrm>
              <a:off x="324000" y="1052640"/>
              <a:ext cx="104292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eográf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ecnoló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olít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eg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324000" y="1052640"/>
              <a:ext cx="104292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nt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6"/>
          <p:cNvGrpSpPr/>
          <p:nvPr/>
        </p:nvGrpSpPr>
        <p:grpSpPr>
          <a:xfrm>
            <a:off x="1619280" y="1052640"/>
            <a:ext cx="973080" cy="3671640"/>
            <a:chOff x="1619280" y="1052640"/>
            <a:chExt cx="973080" cy="3671640"/>
          </a:xfrm>
        </p:grpSpPr>
        <p:sp>
          <p:nvSpPr>
            <p:cNvPr id="56" name="Rectangle 7"/>
            <p:cNvSpPr/>
            <p:nvPr/>
          </p:nvSpPr>
          <p:spPr>
            <a:xfrm>
              <a:off x="1619280" y="1052640"/>
              <a:ext cx="97308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1619280" y="1052640"/>
              <a:ext cx="97308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9"/>
          <p:cNvGrpSpPr/>
          <p:nvPr/>
        </p:nvGrpSpPr>
        <p:grpSpPr>
          <a:xfrm>
            <a:off x="5435640" y="1052640"/>
            <a:ext cx="1581120" cy="3671640"/>
            <a:chOff x="5435640" y="1052640"/>
            <a:chExt cx="1581120" cy="3671640"/>
          </a:xfrm>
        </p:grpSpPr>
        <p:sp>
          <p:nvSpPr>
            <p:cNvPr id="59" name="Rectangle 10"/>
            <p:cNvSpPr/>
            <p:nvPr/>
          </p:nvSpPr>
          <p:spPr>
            <a:xfrm>
              <a:off x="5435640" y="1052640"/>
              <a:ext cx="158112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l. Interperso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5435640" y="1052640"/>
              <a:ext cx="158112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rocesos sicológic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Rectangle 12"/>
          <p:cNvSpPr/>
          <p:nvPr/>
        </p:nvSpPr>
        <p:spPr>
          <a:xfrm>
            <a:off x="2771640" y="1052640"/>
            <a:ext cx="2448000" cy="288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13"/>
          <p:cNvGrpSpPr/>
          <p:nvPr/>
        </p:nvGrpSpPr>
        <p:grpSpPr>
          <a:xfrm>
            <a:off x="2771640" y="1341360"/>
            <a:ext cx="1225440" cy="3382920"/>
            <a:chOff x="2771640" y="1341360"/>
            <a:chExt cx="1225440" cy="3382920"/>
          </a:xfrm>
        </p:grpSpPr>
        <p:sp>
          <p:nvSpPr>
            <p:cNvPr id="63" name="Rectangle 14"/>
            <p:cNvSpPr/>
            <p:nvPr/>
          </p:nvSpPr>
          <p:spPr>
            <a:xfrm>
              <a:off x="2771640" y="1341360"/>
              <a:ext cx="1225440" cy="3382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2771640" y="1341360"/>
              <a:ext cx="1225440" cy="3542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uct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6"/>
          <p:cNvGrpSpPr/>
          <p:nvPr/>
        </p:nvGrpSpPr>
        <p:grpSpPr>
          <a:xfrm>
            <a:off x="3924360" y="1341360"/>
            <a:ext cx="1296720" cy="3382920"/>
            <a:chOff x="3924360" y="1341360"/>
            <a:chExt cx="1296720" cy="3382920"/>
          </a:xfrm>
        </p:grpSpPr>
        <p:sp>
          <p:nvSpPr>
            <p:cNvPr id="66" name="Rectangle 17"/>
            <p:cNvSpPr/>
            <p:nvPr/>
          </p:nvSpPr>
          <p:spPr>
            <a:xfrm>
              <a:off x="3924360" y="1341360"/>
              <a:ext cx="1296720" cy="3382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Selección</a:t>
              </a: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apac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Desem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munera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centiv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 Carre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Poten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Desv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3924360" y="1341360"/>
              <a:ext cx="1296720" cy="3542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19"/>
          <p:cNvGrpSpPr/>
          <p:nvPr/>
        </p:nvGrpSpPr>
        <p:grpSpPr>
          <a:xfrm>
            <a:off x="7236000" y="1052640"/>
            <a:ext cx="1657080" cy="3671640"/>
            <a:chOff x="7236000" y="1052640"/>
            <a:chExt cx="1657080" cy="3671640"/>
          </a:xfrm>
        </p:grpSpPr>
        <p:sp>
          <p:nvSpPr>
            <p:cNvPr id="69" name="Rectangle 20"/>
            <p:cNvSpPr/>
            <p:nvPr/>
          </p:nvSpPr>
          <p:spPr>
            <a:xfrm>
              <a:off x="7236000" y="1052640"/>
              <a:ext cx="165708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7236000" y="1052640"/>
              <a:ext cx="1657080" cy="252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22"/>
            <p:cNvSpPr/>
            <p:nvPr/>
          </p:nvSpPr>
          <p:spPr>
            <a:xfrm>
              <a:off x="7236000" y="1323000"/>
              <a:ext cx="793440" cy="339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23"/>
            <p:cNvSpPr/>
            <p:nvPr/>
          </p:nvSpPr>
          <p:spPr>
            <a:xfrm>
              <a:off x="8029440" y="1323000"/>
              <a:ext cx="863280" cy="339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468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odelo Comportamiento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3780000" y="1700280"/>
            <a:ext cx="315720" cy="30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971640" y="4292640"/>
            <a:ext cx="934920" cy="504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2341440" y="4292640"/>
            <a:ext cx="935280" cy="504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8"/>
          <p:cNvSpPr/>
          <p:nvPr/>
        </p:nvSpPr>
        <p:spPr>
          <a:xfrm>
            <a:off x="5005440" y="4221000"/>
            <a:ext cx="934920" cy="505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9"/>
          <p:cNvSpPr/>
          <p:nvPr/>
        </p:nvSpPr>
        <p:spPr>
          <a:xfrm>
            <a:off x="6732720" y="4221000"/>
            <a:ext cx="934920" cy="505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2268360" y="5084640"/>
            <a:ext cx="1582920" cy="10810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uzzle1"/>
          <p:cNvSpPr/>
          <p:nvPr/>
        </p:nvSpPr>
        <p:spPr>
          <a:xfrm>
            <a:off x="2700360" y="4797360"/>
            <a:ext cx="2158920" cy="16560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Selección de Pers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Preguntas de disc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Deberían las empresas realizar tests psicológicos o deberían centrarse sólo en habilidades específicas (competencias) respecto al car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Para qué tipo de trabajo es justificado aplic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Se justifican los exámenes de pelo, orina, embarazo u otros a la hora de llevar a cabo la selección de pers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En qué medida usted considera que las evaluaciones a las que ha sido sometido no han sido consistentes (test-retest) o confiables para el cargo al cual postuló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419200" y="723960"/>
            <a:ext cx="47851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Selección Eficaz es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 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84360" y="1990800"/>
            <a:ext cx="7661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marL="353880" indent="-3538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proceso organizado para recopilar información sobre competencias de los candidatos (nuevo ingreso o promoción), tomando en cuenta comportamientos pasados para predecir comportamientos futuros y asegurar la imparcialidad, efectividad y aceptación en la toma de decisiones de sele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1295280" y="260280"/>
            <a:ext cx="7255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Arial Narrow"/>
              </a:rPr>
              <a:t>MODELO BASICO DE COMPETENCI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457200" y="981000"/>
            <a:ext cx="213372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2590920" y="981000"/>
            <a:ext cx="396216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553080" y="981000"/>
            <a:ext cx="213372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80880" y="26668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457200" y="3141720"/>
            <a:ext cx="6095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457200" y="4724280"/>
            <a:ext cx="6095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H="1">
            <a:off x="6588000" y="1905120"/>
            <a:ext cx="2098800" cy="3971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517680" y="240660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I.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17680" y="371628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I. HA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33520" y="494172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II. ACTITU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Y  VAL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457200" y="1905120"/>
            <a:ext cx="822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533520" y="13050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CLASIFIC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2666880" y="126828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JEMP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GENE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6655680" y="126828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LO SELECCIONABLE V/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LO ENTRENABLE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2651040" y="2044800"/>
            <a:ext cx="390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Conocimientos técnicos propios de la activ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Marketing - finanzas - recursos humanos -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Enfasis en la formación y/o la experi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5"/>
          <p:cNvSpPr/>
          <p:nvPr/>
        </p:nvSpPr>
        <p:spPr>
          <a:xfrm>
            <a:off x="2666880" y="3284640"/>
            <a:ext cx="390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Trabajo en equipo (hacer en conju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Comunicación efectiva (saber escuchar y transmiti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Capacidad para la interacción/vinc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Negociación (ganar - gan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Orientación al 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Consultoría  -  Ases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2590920" y="4724280"/>
            <a:ext cx="3886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Capacidad de aprendizaje y adap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Pensamiento individual (local) v/s sistémico (glob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Actitud de servicio (sirvo, no hag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Tolerancia, respeto, empatía, lealtad, honestidad, (va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6629400" y="205740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ENTR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Y APRENDIZ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6934320" y="50418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RECLUTAMIENTO Y SELECCIÓN</a:t>
            </a:r>
            <a:r>
              <a:rPr b="0" lang="es-ES_tradnl" sz="1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lasificación de 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826920" y="4051440"/>
            <a:ext cx="37213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st de Pot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apacidades y habilidad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respuestas correc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se cronometra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a un número (C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55640" y="1949400"/>
            <a:ext cx="7704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st de Personal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aracterísticas y rasgos de person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o posee respuestas correctas e incorrectas, sino prefere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o se cronometra el 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a como resultado un perf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Test Psicológ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ivel Intelectual: Test Multifac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sonalidad lógicamente estructu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sonalidad proy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11280" y="765000"/>
            <a:ext cx="8281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3538440" y="3332160"/>
            <a:ext cx="1677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3844800" y="28386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3392640" y="3832200"/>
            <a:ext cx="18237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098880" y="4413240"/>
            <a:ext cx="21175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7"/>
          <p:cNvSpPr/>
          <p:nvPr/>
        </p:nvSpPr>
        <p:spPr>
          <a:xfrm>
            <a:off x="1285920" y="2252520"/>
            <a:ext cx="2908080" cy="7430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1287360" y="2013120"/>
            <a:ext cx="2901960" cy="50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1508040" y="2017800"/>
            <a:ext cx="2443320" cy="490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1881360" y="2359080"/>
            <a:ext cx="1719000" cy="139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11"/>
          <p:cNvSpPr/>
          <p:nvPr/>
        </p:nvSpPr>
        <p:spPr>
          <a:xfrm>
            <a:off x="1917720" y="3265560"/>
            <a:ext cx="1639800" cy="7412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1930320" y="3025800"/>
            <a:ext cx="1613160" cy="503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13"/>
          <p:cNvSpPr/>
          <p:nvPr/>
        </p:nvSpPr>
        <p:spPr>
          <a:xfrm>
            <a:off x="2052720" y="3030480"/>
            <a:ext cx="1358640" cy="490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2263680" y="3368520"/>
            <a:ext cx="952560" cy="144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5"/>
          <p:cNvSpPr/>
          <p:nvPr/>
        </p:nvSpPr>
        <p:spPr>
          <a:xfrm flipH="1" flipV="1">
            <a:off x="1504800" y="2763360"/>
            <a:ext cx="416160" cy="514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6"/>
          <p:cNvSpPr/>
          <p:nvPr/>
        </p:nvSpPr>
        <p:spPr>
          <a:xfrm flipV="1">
            <a:off x="3556080" y="2787120"/>
            <a:ext cx="417600" cy="49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17"/>
          <p:cNvSpPr/>
          <p:nvPr/>
        </p:nvSpPr>
        <p:spPr>
          <a:xfrm>
            <a:off x="1568520" y="2825640"/>
            <a:ext cx="1228680" cy="2336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18"/>
          <p:cNvSpPr/>
          <p:nvPr/>
        </p:nvSpPr>
        <p:spPr>
          <a:xfrm>
            <a:off x="2678040" y="2830680"/>
            <a:ext cx="1230480" cy="23472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rc 19"/>
          <p:cNvSpPr/>
          <p:nvPr/>
        </p:nvSpPr>
        <p:spPr>
          <a:xfrm>
            <a:off x="1670040" y="2959200"/>
            <a:ext cx="1125720" cy="1886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rc 20"/>
          <p:cNvSpPr/>
          <p:nvPr/>
        </p:nvSpPr>
        <p:spPr>
          <a:xfrm>
            <a:off x="2689200" y="2962440"/>
            <a:ext cx="1122480" cy="1886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rc 21"/>
          <p:cNvSpPr/>
          <p:nvPr/>
        </p:nvSpPr>
        <p:spPr>
          <a:xfrm>
            <a:off x="1757520" y="3062160"/>
            <a:ext cx="1027080" cy="1890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rc 22"/>
          <p:cNvSpPr/>
          <p:nvPr/>
        </p:nvSpPr>
        <p:spPr>
          <a:xfrm>
            <a:off x="2685960" y="3065400"/>
            <a:ext cx="1027080" cy="1890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rc 23"/>
          <p:cNvSpPr/>
          <p:nvPr/>
        </p:nvSpPr>
        <p:spPr>
          <a:xfrm>
            <a:off x="1843200" y="3164040"/>
            <a:ext cx="939600" cy="1872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rc 24"/>
          <p:cNvSpPr/>
          <p:nvPr/>
        </p:nvSpPr>
        <p:spPr>
          <a:xfrm>
            <a:off x="2689200" y="3168720"/>
            <a:ext cx="939960" cy="1872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rc 25"/>
          <p:cNvSpPr/>
          <p:nvPr/>
        </p:nvSpPr>
        <p:spPr>
          <a:xfrm>
            <a:off x="1920960" y="3259080"/>
            <a:ext cx="857160" cy="1890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rc 26"/>
          <p:cNvSpPr/>
          <p:nvPr/>
        </p:nvSpPr>
        <p:spPr>
          <a:xfrm>
            <a:off x="2693880" y="3260880"/>
            <a:ext cx="855720" cy="1904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27"/>
          <p:cNvSpPr/>
          <p:nvPr/>
        </p:nvSpPr>
        <p:spPr>
          <a:xfrm>
            <a:off x="2328840" y="4361040"/>
            <a:ext cx="817560" cy="693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28"/>
          <p:cNvSpPr/>
          <p:nvPr/>
        </p:nvSpPr>
        <p:spPr>
          <a:xfrm>
            <a:off x="2333520" y="4202280"/>
            <a:ext cx="806400" cy="299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9"/>
          <p:cNvSpPr/>
          <p:nvPr/>
        </p:nvSpPr>
        <p:spPr>
          <a:xfrm>
            <a:off x="2394000" y="4206960"/>
            <a:ext cx="677880" cy="287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0"/>
          <p:cNvSpPr/>
          <p:nvPr/>
        </p:nvSpPr>
        <p:spPr>
          <a:xfrm>
            <a:off x="2498760" y="4408560"/>
            <a:ext cx="474480" cy="824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1"/>
          <p:cNvSpPr/>
          <p:nvPr/>
        </p:nvSpPr>
        <p:spPr>
          <a:xfrm flipH="1" flipV="1">
            <a:off x="2034720" y="3758760"/>
            <a:ext cx="298440" cy="59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2"/>
          <p:cNvSpPr/>
          <p:nvPr/>
        </p:nvSpPr>
        <p:spPr>
          <a:xfrm flipV="1">
            <a:off x="3141720" y="3814560"/>
            <a:ext cx="280800" cy="56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rc 33"/>
          <p:cNvSpPr/>
          <p:nvPr/>
        </p:nvSpPr>
        <p:spPr>
          <a:xfrm>
            <a:off x="2103480" y="3876840"/>
            <a:ext cx="731880" cy="2016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rc 34"/>
          <p:cNvSpPr/>
          <p:nvPr/>
        </p:nvSpPr>
        <p:spPr>
          <a:xfrm>
            <a:off x="2682720" y="3875040"/>
            <a:ext cx="696960" cy="2034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rc 35"/>
          <p:cNvSpPr/>
          <p:nvPr/>
        </p:nvSpPr>
        <p:spPr>
          <a:xfrm>
            <a:off x="2185920" y="4035600"/>
            <a:ext cx="63648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rc 36"/>
          <p:cNvSpPr/>
          <p:nvPr/>
        </p:nvSpPr>
        <p:spPr>
          <a:xfrm>
            <a:off x="2693880" y="4035600"/>
            <a:ext cx="60984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rc 37"/>
          <p:cNvSpPr/>
          <p:nvPr/>
        </p:nvSpPr>
        <p:spPr>
          <a:xfrm>
            <a:off x="2228760" y="4125960"/>
            <a:ext cx="58572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rc 38"/>
          <p:cNvSpPr/>
          <p:nvPr/>
        </p:nvSpPr>
        <p:spPr>
          <a:xfrm>
            <a:off x="2693880" y="4125960"/>
            <a:ext cx="56196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rc 39"/>
          <p:cNvSpPr/>
          <p:nvPr/>
        </p:nvSpPr>
        <p:spPr>
          <a:xfrm>
            <a:off x="2274840" y="4219560"/>
            <a:ext cx="530280" cy="1224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rc 40"/>
          <p:cNvSpPr/>
          <p:nvPr/>
        </p:nvSpPr>
        <p:spPr>
          <a:xfrm>
            <a:off x="2697120" y="4219560"/>
            <a:ext cx="506520" cy="1224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rc 41"/>
          <p:cNvSpPr/>
          <p:nvPr/>
        </p:nvSpPr>
        <p:spPr>
          <a:xfrm>
            <a:off x="2320920" y="4322880"/>
            <a:ext cx="47772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rc 42"/>
          <p:cNvSpPr/>
          <p:nvPr/>
        </p:nvSpPr>
        <p:spPr>
          <a:xfrm>
            <a:off x="2701800" y="4322880"/>
            <a:ext cx="45576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3"/>
          <p:cNvSpPr/>
          <p:nvPr/>
        </p:nvSpPr>
        <p:spPr>
          <a:xfrm flipH="1" rot="16200000">
            <a:off x="2581200" y="5099760"/>
            <a:ext cx="353880" cy="336600"/>
          </a:xfrm>
          <a:prstGeom prst="rightArrow">
            <a:avLst>
              <a:gd name="adj1" fmla="val 50000"/>
              <a:gd name="adj2" fmla="val 52571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44"/>
          <p:cNvSpPr/>
          <p:nvPr/>
        </p:nvSpPr>
        <p:spPr>
          <a:xfrm flipH="1" rot="16200000">
            <a:off x="2483280" y="1835640"/>
            <a:ext cx="468360" cy="333360"/>
          </a:xfrm>
          <a:prstGeom prst="rightArrow">
            <a:avLst>
              <a:gd name="adj1" fmla="val 50000"/>
              <a:gd name="adj2" fmla="val 7025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5"/>
          <p:cNvSpPr/>
          <p:nvPr/>
        </p:nvSpPr>
        <p:spPr>
          <a:xfrm flipH="1" rot="17220000">
            <a:off x="2931840" y="1842840"/>
            <a:ext cx="466920" cy="339840"/>
          </a:xfrm>
          <a:prstGeom prst="rightArrow">
            <a:avLst>
              <a:gd name="adj1" fmla="val 50000"/>
              <a:gd name="adj2" fmla="val 68703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6"/>
          <p:cNvSpPr/>
          <p:nvPr/>
        </p:nvSpPr>
        <p:spPr>
          <a:xfrm rot="4380000">
            <a:off x="2048400" y="1846800"/>
            <a:ext cx="468360" cy="339840"/>
          </a:xfrm>
          <a:prstGeom prst="rightArrow">
            <a:avLst>
              <a:gd name="adj1" fmla="val 50000"/>
              <a:gd name="adj2" fmla="val 6891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7"/>
          <p:cNvSpPr/>
          <p:nvPr/>
        </p:nvSpPr>
        <p:spPr>
          <a:xfrm>
            <a:off x="1108080" y="1125360"/>
            <a:ext cx="31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ff9900"/>
                </a:solidFill>
                <a:latin typeface="Arial"/>
              </a:rPr>
              <a:t>50 candidat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8"/>
          <p:cNvSpPr/>
          <p:nvPr/>
        </p:nvSpPr>
        <p:spPr>
          <a:xfrm>
            <a:off x="984960" y="2938320"/>
            <a:ext cx="66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9"/>
          <p:cNvSpPr/>
          <p:nvPr/>
        </p:nvSpPr>
        <p:spPr>
          <a:xfrm>
            <a:off x="1435680" y="34606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0"/>
          <p:cNvSpPr/>
          <p:nvPr/>
        </p:nvSpPr>
        <p:spPr>
          <a:xfrm>
            <a:off x="1676160" y="40132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1"/>
          <p:cNvSpPr/>
          <p:nvPr/>
        </p:nvSpPr>
        <p:spPr>
          <a:xfrm>
            <a:off x="1860120" y="449892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2"/>
          <p:cNvSpPr/>
          <p:nvPr/>
        </p:nvSpPr>
        <p:spPr>
          <a:xfrm>
            <a:off x="3564000" y="2924280"/>
            <a:ext cx="49276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ntrevistas profundas y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3"/>
          <p:cNvSpPr/>
          <p:nvPr/>
        </p:nvSpPr>
        <p:spPr>
          <a:xfrm>
            <a:off x="4168800" y="2327400"/>
            <a:ext cx="429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visión de Antecedentes o 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4"/>
          <p:cNvSpPr/>
          <p:nvPr/>
        </p:nvSpPr>
        <p:spPr>
          <a:xfrm>
            <a:off x="3564000" y="3429000"/>
            <a:ext cx="3117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valuación Psic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5"/>
          <p:cNvSpPr/>
          <p:nvPr/>
        </p:nvSpPr>
        <p:spPr>
          <a:xfrm>
            <a:off x="3294000" y="3932280"/>
            <a:ext cx="581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visión de referencias y exámenes méd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6"/>
          <p:cNvSpPr/>
          <p:nvPr/>
        </p:nvSpPr>
        <p:spPr>
          <a:xfrm>
            <a:off x="1158840" y="5479920"/>
            <a:ext cx="318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ff9900"/>
                </a:solidFill>
                <a:latin typeface="Arial"/>
              </a:rPr>
              <a:t>Ofer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7"/>
          <p:cNvSpPr/>
          <p:nvPr/>
        </p:nvSpPr>
        <p:spPr>
          <a:xfrm>
            <a:off x="6252840" y="5445000"/>
            <a:ext cx="255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Book Antiqua"/>
              </a:rPr>
              <a:t>Flujograma</a:t>
            </a:r>
            <a:r>
              <a:rPr b="0" lang="es-MX" sz="1600" spc="-1" strike="noStrike">
                <a:solidFill>
                  <a:srgbClr val="ffff00"/>
                </a:solidFill>
                <a:latin typeface="Book Antiqua"/>
              </a:rPr>
              <a:t> Contra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18:37:01Z</dcterms:created>
  <dc:creator>María José Varela </dc:creator>
  <dc:description/>
  <dc:language>en-US</dc:language>
  <cp:lastModifiedBy>Administrator</cp:lastModifiedBy>
  <dcterms:modified xsi:type="dcterms:W3CDTF">2009-10-29T13:11:18Z</dcterms:modified>
  <cp:revision>57</cp:revision>
  <dc:subject/>
  <dc:title>TALLER DE SELECCIÓN</dc:title>
</cp:coreProperties>
</file>