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8F3-94CD-412C-829D-3B472C9C22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1E4-77CA-49CF-9712-F3DF2ECC94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A218-2562-46BB-AC66-B9E135C53E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878D-97CC-4784-B9AE-BF80EBD2C1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71B-1B62-4216-B9DB-1A74CFEBB4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0B2-67F5-4C1A-A0CB-CEE60DBCD5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875-DBA1-4A0C-B1FC-268C5C826D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CD21-2D2F-4984-83F9-8FBFA323BA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E81-220B-4105-8931-6C4A670A17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FC97-00C9-48EB-A470-EF2C7E4599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6CD4-1C0D-426D-9B3A-6EBAE3A833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3F4-E6F7-4E99-9BA9-9DB6F20648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61E-D52D-4A2A-8C0F-1C6631C076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56C9-8EA8-43F1-905E-881E25F426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DCD3-C6C7-4923-8C45-5BC2285BCE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4F9-C267-4F66-BB9F-2F3A78E579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973-EC8D-4A2E-B050-A52C2015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C31-7BC5-480A-84DF-7763B80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B61-C0FB-4B8D-9223-2AE8DA08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49E-6C88-4F93-ACE0-DD5112CA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D5B2-27CF-4280-A574-6868F63D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5822-AECF-44FB-8EE7-4DE9837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DFF9-7A06-4E8B-BEAF-A33C922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747-AB6B-4B5C-95AD-EF2FEEE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8251-1F87-4A1C-8C05-EAFE9443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632F-AF72-462F-827B-83C6404A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7007-153D-4D6B-9E4E-2B28108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F6F-7FB8-4377-815E-70F35F8B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62B2-6104-48CF-8B26-F6A72D7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2524-E15B-4A89-AED6-6FD5279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823-A05F-46CE-80C1-AC703D0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92ED-EBAC-446B-B4E1-CF387E7D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78A2-39BF-40AF-8E50-386CF1EB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C2DA-9A6A-45F2-AC5C-9B5CF988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0A0A-1D5C-4902-B222-2E0409F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1F82-6088-4741-BCF8-D56553A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694E-0097-44D9-9F1F-4C2131D1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5C3C-23D8-423C-9E44-8BF8C93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F20-2995-4CC7-9F95-A20131B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F7F7-A6E5-4341-9500-2D55F287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3CC0-0F72-4AE6-AACE-182B38B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EDCF-B6B3-424A-988A-4BF201D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F17D-2F63-473F-AF39-8CC7113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7C37-C994-4DDB-B506-C75BFF3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7C7D-A70E-4D77-87AF-C6146349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E4FA-8262-484C-A5D7-77250CFF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3094D-52C7-454B-AC09-9DD2296A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2DE2-3220-4505-9A6A-93B7D28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FAAB-558B-45B4-94C5-E3CD7736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63B-67E1-4B4C-8C38-EDCE2F0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487C-2BF3-41DF-B8D4-96B86BA9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4108-8807-43AA-B519-A91E7F2B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049B-9F7E-4275-90C8-EE5A3679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A8C2-693F-4A31-8C90-B12A1BD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A9CA-3D25-4375-B54B-5D02DA61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0DFF-E2D6-4F01-A89A-286ACAB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3034-ADFB-4E4A-B137-513C5A1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9215-BAEF-4001-A1FE-BAFD8C05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FEE9-CE6D-4F8A-B86D-2174111A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9905-A391-4936-B61F-2C065945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20A-3E41-49FA-9C22-CAF5FAE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0826-1756-4C8D-BCCB-A5A0F843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EC89-0EB5-40B6-87DC-516D17E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0CCB-229E-403D-937C-B0E3FE1E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6D7B5-7EBA-404E-924E-37E0078A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AC0FD-0F5D-4683-BFED-D07180AD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700B-B4DD-461E-B941-019165C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AD3C-5165-4495-8397-39F84F4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3CBB-D5AB-425F-9283-7DE8AB9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A0EC-975C-4D76-ABD6-CDE24F1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F8D3-B600-4544-9DF3-F77569B8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EA0-B854-4903-968F-DBB43E1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CC3C-ECB7-4D66-BDC3-5798CD52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B3AB-DF7B-4140-A7F3-B5AAC919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6A75F-1202-4C41-9B0C-912C77A8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F6838-3FC9-4C6D-876F-4460454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7603-F10F-4C16-82D1-184815D1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1F427-F8DB-492B-9B41-2E1C9FD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4BF5-DFC0-434F-BC0A-6104C54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9F23-F92F-4402-8E68-8D33FBFF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CD0E-D2BB-47DE-AE83-8804663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2AFE-4DF6-4223-AEA5-E52C014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E4D-466B-402E-AB42-9650919D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7E12-2C4F-427C-9362-212FAC4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51DA-93C2-4C21-AE3D-BCE36789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7551-594E-4A32-8945-DB07AFE1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999A-6A92-4503-86EC-D351FD34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C0FC-9CDB-4DFE-8EC5-710B624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7E70C-F93B-4712-9ABE-1016499F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920E5-9FCB-425C-8F66-13ACA077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FC382-AF92-47EC-8FF8-E60A8AA5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95520" y="304560"/>
            <a:ext cx="83311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0360"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E3A8-D6C8-4688-A76A-05C0A3B9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C909C-DD3B-4A91-ABED-A01B212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652-8E6D-45F4-B63A-C80C4E6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15AB-709D-4761-BB37-C605612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2A31-D0B6-4423-9325-4F1A67E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B5181-170F-4949-B6C0-149689E6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864760" y="439380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7F41-47AB-4A36-9C3B-D00430EE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1252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29160" y="160776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595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41252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229160" y="4393800"/>
            <a:ext cx="268236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76CE-455C-4B3E-9133-5141EF8B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552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4760" y="1607760"/>
            <a:ext cx="406548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5520" y="4393800"/>
            <a:ext cx="8331120" cy="254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E5A-2778-4598-BB18-B7B4D92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E44-58C3-4860-8DB4-D615062C4263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906480" y="-906480"/>
            <a:ext cx="1820880" cy="18208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87200" y="23760"/>
            <a:ext cx="1892520" cy="1890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82520" y="1152360"/>
            <a:ext cx="1298520" cy="1292400"/>
            <a:chOff x="182520" y="1152360"/>
            <a:chExt cx="1298520" cy="12924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82520" y="1152360"/>
              <a:ext cx="12985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85560" y="1350720"/>
              <a:ext cx="885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125360" y="0"/>
            <a:ext cx="90345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1017720" y="1566720"/>
            <a:ext cx="250560" cy="249480"/>
            <a:chOff x="1017720" y="1566720"/>
            <a:chExt cx="250560" cy="24948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1017720" y="1566720"/>
              <a:ext cx="250560" cy="2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057320" y="1604880"/>
              <a:ext cx="166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285920" y="1494000"/>
            <a:ext cx="71280" cy="712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512-C672-4C38-A712-955E03255B8D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536920" y="0"/>
            <a:ext cx="7619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540160" y="0"/>
            <a:ext cx="8388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408400" y="3121200"/>
            <a:ext cx="249120" cy="250560"/>
            <a:chOff x="2408400" y="3121200"/>
            <a:chExt cx="249120" cy="2505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408400" y="3121200"/>
              <a:ext cx="2491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48000" y="3162240"/>
              <a:ext cx="164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674800" y="3051000"/>
            <a:ext cx="71640" cy="716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44B-80C3-4CC3-91A0-A673B327938B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769-2197-4B0F-A64C-E7DA6774D29E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127160" y="0"/>
            <a:ext cx="903276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127160" y="0"/>
            <a:ext cx="82440" cy="762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4AA1-E87B-44C2-9FBF-734AD1EE9376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A2B-FFD2-4951-8252-991BB69C8284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731880" y="1085760"/>
            <a:ext cx="5308560" cy="5315040"/>
            <a:chOff x="731880" y="1085760"/>
            <a:chExt cx="5308560" cy="531504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731880" y="1085760"/>
              <a:ext cx="5308560" cy="53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846000" y="1185840"/>
              <a:ext cx="5079960" cy="50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304920" bIns="50760" anchor="t">
              <a:noAutofit/>
            </a:bodyPr>
            <a:p>
              <a:pPr>
                <a:lnSpc>
                  <a:spcPts val="3336"/>
                </a:lnSpc>
                <a:spcBef>
                  <a:spcPts val="6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441000" y="1060200"/>
            <a:ext cx="762120" cy="226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559120" y="1041120"/>
            <a:ext cx="722160" cy="226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09560" indent="-263520">
              <a:spcBef>
                <a:spcPts val="663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984240" indent="-252360">
              <a:spcBef>
                <a:spcPts val="663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3" marL="1217520" indent="-191880">
              <a:spcBef>
                <a:spcPts val="663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441440" indent="-201600">
              <a:spcBef>
                <a:spcPts val="663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5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6" marL="1441440" indent="-201600">
              <a:spcBef>
                <a:spcPts val="663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979800" y="700524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350040" y="7005240"/>
            <a:ext cx="32176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9570600" y="7005240"/>
            <a:ext cx="50796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1426-DD7F-42D7-B10C-4E60DCA608CD}" type="slidenum">
              <a:rPr b="0" lang="en-US" sz="13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3840" y="738360"/>
            <a:ext cx="8866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e 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ción a los Sistemas Público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erencias y Similitudes entre la Gestión Pública y Privada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il de los Gerentes Públicos </a:t>
            </a:r>
            <a:br>
              <a:rPr sz="2800"/>
            </a:br>
            <a:br>
              <a:rPr sz="44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71200" y="5689440"/>
            <a:ext cx="6613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02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0 - Septiembre - 2009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218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l trabajo del Directivo (privado) según Mintzber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1327320"/>
          <a:ext cx="10159920" cy="6210000"/>
        </p:xfrm>
        <a:graphic>
          <a:graphicData uri="http://schemas.openxmlformats.org/drawingml/2006/table">
            <a:tbl>
              <a:tblPr/>
              <a:tblGrid>
                <a:gridCol w="5079960"/>
                <a:gridCol w="507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ivo planificador reflexivo y sistem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rector reacciones a los estímulos, su trabajo lo condiciona para preferir la actuación inmediata a la dife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ás tiempo para planificar y delegar y menos a ver a sus clientes y a emprender negoci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tiempo para actividades habituales y rituales, ceremonias, negociaciones y transmisión de la información a la 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l Alto ejecutivo necesita información global, que es la que mejor puede proporcionar un sistema oficial de información de la dir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a comunicación verbal: llamadas telefónicas, reuniones, en vez de documentos, rumo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eradores de comun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20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dirección de empresas es ya, o le falta poco para ser, una ciencia y una profe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hay muchos procedimientos sistemáticos o analíticamente determin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cho “criterio e intuició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evedad en el trabajo, fragmentación y comunicación 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tributos y Perfil del Alto Directivo Público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detectar y comprender las señales sociales, económicas, tecnológicas, culturales, de política pública y políticas del entorno local y global e incorporarlas de manera coherente a la estrategia instituciona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estión y Logr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orientarse al logro de los objetivos, seleccionando y formando personas, delegando, generando directrices, planificando, diseñando, analizando información, movilizando recursos organizacionales, controlando la gestión, sopesando riesgos e integrando las actividades de manera de lograr la eficacia, eficiencia y calidad en el cumplimiento de la misión y funciones de la organización.</a:t>
            </a:r>
            <a:br>
              <a:rPr sz="2700"/>
            </a:b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7680" y="1422360"/>
            <a:ext cx="968544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lación con el Entorno y Articulación de red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a los actores involucrados (stakeholders) y generar las alianzas estratégicas necesarias para agregar valor a su gestión y/o para lograr nuevos resultados interinstitucionales, así como gestionar las variables y relaciones del entorno que le proporcionan legitimidad en sus funciones. Capacidad para comunicar oportuna y efectivamente lo necesario para facilitar su gestión institucional y afrontar, de ser necesario, situaciones crítica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nejo de crisis y contingencia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dad para identificar y administrar situaciones de presión, contingencia y conflictos y, al mismo tiempo, crear soluciones estratégicas, oportunas y adecuadas al marco institucional público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7680" y="1422000"/>
            <a:ext cx="9685440" cy="81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generar compromiso de los funcionarios/as y el respaldo de las autoridades superiores para el logro de los desafíos de la Institución. Capacidad para asegurar una adecuada conducción de personas, desarrollar el talento, lograr y mantener un clima organizacional armónico y desafiante.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novación y Flexibilidad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pacidad para transformar en oportunidades las limitaciones y complejidades del contexto e incorporar en los planes, procedimientos y metodologías, nuevas prácticas tomando riesgos calculados que permitan generar soluciones, promover procesos de cambio e incrementar resultad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09240"/>
            <a:ext cx="96742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tributos y Perfil del AD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47680" y="1422000"/>
            <a:ext cx="9685440" cy="57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nocimientos Técnico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seer los conocimientos y/o experiencias específicas, que se requieran para el ejercicio de la función.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uentes Bibliográfic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1822320"/>
            <a:ext cx="9674280" cy="66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ww. serviciocivil.c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es Años del Sistema de Alta Dirección Pública en Chile: Balance y Perspectivas”. Waissbluth M., Costa R. (200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 Trabajo del Directivo”. Mintzberg H. En: “Liderazgo” Harvard Business Review (2004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¿De Burócratas a Gerentes?. Las ciencias de la gestión aplicadas a la administración del Estado”. Losada C., BID, (1999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ituciones Públicas y Sociales de Excelencia. Waissbluth basado en “Good to Great”. Collins J. (2005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Visiones del t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los años han existido distintas apreciaciones sobre las diferencias y similitudes desde que s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iplinas totalmente diferent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que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stión pública es sólo una aplicación más ineficiente de la privad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e pueden destacar ciertas diferencias transversa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79480" indent="-514440">
              <a:lnSpc>
                <a:spcPct val="80000"/>
              </a:lnSpc>
              <a:spcBef>
                <a:spcPts val="663"/>
              </a:spcBef>
              <a:buClr>
                <a:srgbClr val="feb80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itución del mercado por el proceso político como asignador de recurs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ones públicas tienen el carácter de poderes públic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ta naturaleza de la creación de valor por parte del sector públic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icultad de medir el valor cre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800" indent="-51444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v/s Privada: Elementos para el deba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 resumen, podemos encontrar implicancias relevantes de estas características a la gestión institucional: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hareholders v/s stakeholder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Hay una mayor exposición mediática de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xiste una mayor relevancia de la ética en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¿El tamaño y las restricciones son más que una variable cuantitativa para la gestión pública?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404640" indent="-314280"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Instituciones Excelentes según Jim Colli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La distinción no es entre “negocio” o “social” sino entre excelente, méramente bueno o mediocre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8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Gill Sans MT"/>
              </a:rPr>
              <a:t>Diferencias entre mediocre y excelente: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aber calibrar el éxito sin métricas de negoci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grar resultados en una estructura de poder difu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Subir a la gente correcta al carro dentro de las restricc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struir un “motor de recursos” sustentable en un ambiente sin fines de lucr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60480" indent="-514440">
              <a:lnSpc>
                <a:spcPct val="80000"/>
              </a:lnSpc>
              <a:spcBef>
                <a:spcPts val="612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rear un círculo virtuoso de sustentabilidad construyendo mar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Gestión Pública en un Estado en R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95520" y="1607760"/>
            <a:ext cx="833112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Gill Sans MT"/>
              </a:rPr>
              <a:t>¿Cómo es posible visualizar el rol y las características de la gestión pública en un Estado flexible y en red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1760" y="304560"/>
            <a:ext cx="97045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Rol crítico de la Gerencia Pública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08000" y="1809360"/>
            <a:ext cx="8918640" cy="5334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ólo legislar ni dar más dinero =&gt; Gestión instituc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emprendedores =&gt; Ventajas de Oportunidad =&gt; Complicidades transvers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 algn="just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ublic Management, transformación de instituciones, alianzas estratégicas con gremios, TICs, avanzar a pesar de las restric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04640" indent="-314280">
              <a:lnSpc>
                <a:spcPct val="100000"/>
              </a:lnSpc>
              <a:spcBef>
                <a:spcPts val="66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erenciar el rol de diseño de política (cargo político de confianza) con el de implementación (directivo de confianza pero concursado)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érito por sobre compromisos polític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293840" y="1230480"/>
            <a:ext cx="7643880" cy="6008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399960" y="457200"/>
            <a:ext cx="966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stema de Alta Dirección Públic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952640"/>
            <a:ext cx="10159920" cy="46004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5520" y="304560"/>
            <a:ext cx="833112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572314"/>
                </a:solidFill>
                <a:latin typeface="Gill Sans MT"/>
              </a:rPr>
              <a:t>Salario Directivos Públicos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dacunaf</cp:lastModifiedBy>
  <dcterms:modified xsi:type="dcterms:W3CDTF">2009-09-14T22:45:03Z</dcterms:modified>
  <cp:revision>16</cp:revision>
  <dc:subject/>
  <dc:title>PowerPoint Presentation</dc:title>
</cp:coreProperties>
</file>