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1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5.wmf" ContentType="image/x-wmf"/>
  <Override PartName="/ppt/media/image16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8.png" ContentType="image/png"/>
  <Override PartName="/ppt/media/image38.png" ContentType="image/png"/>
  <Override PartName="/ppt/media/image35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6747-14E4-4D8C-8BA6-CD16E5F63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go que "limpiar" mas la presentación. Basarme mas en el Kelly y Muers, con mas ejemplos concr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cer link entre paradigma "privado-ingenieril" (matemático, racional, optimizador) y paradigma "burocrático" (ése es el que se "desmonta" verdad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tará muy larga? creo que no se alcanza a ver todo en 1,5 h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En síntesis, cuál era el desafío relevante y prioritario de Ruckelshau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Identifique el listado de actores, sus intereses  y sus posiciones relativas, que están en el entorno relevante de la EPA y señale cómo  determinan a las definiciones estratégica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.      ¿Cuáles fueron las amenazas-restricciones y las oportunidades observada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.      En síntesis, explique cuál fue la estrategia y sus atributos (ventajas, desventajas) de la misma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.      ¿Qué ventajas/desventajas desde el punto de vista de los ecologistas, industriales, organización, gobiern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.      ¿Qué otra misión habría usted señalad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.      ¿Qué hizo R. respecto a los siguiente atributos deseables (como señala el texto) de una estrategia en el sector público?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      Sustantivamente releva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      Viable políticame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      Operativamente factible y suficientemente cl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ando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gar el sentido de probidad / transparencia que hay detrás de esta forma de operar en el E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 llegar y aplicar formas privadas (este comentario es en gral. Podemos caer en la solución fác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EA2-B6A1-4B9E-8CD7-55E64168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E52-B128-4BE5-AB5F-9694B49C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505-9E0E-4AE4-8124-919FFDF9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E90-F363-464A-8E39-F05A0324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5EF-9308-48F8-A390-552D57F7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3BA-54F9-42D2-8BE0-AB5D8B6D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40D-7FE8-4293-8355-F84702D2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E5C-BB7A-4AE0-AEC9-1B61D5EF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662-FD04-43F2-B25D-FA2C4E49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FF8-A0AF-4232-AA8E-0BFE9A87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9D2-E2FD-456D-8500-3B298E05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B34-D4B4-4487-B212-A0B069BE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0CC0-D318-4818-BFE8-78F63BD14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mailto:jinostro@dii.uchile.cl" TargetMode="External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2880" y="1001880"/>
            <a:ext cx="929016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3366"/>
                </a:solidFill>
                <a:latin typeface="Arial"/>
              </a:rPr>
              <a:t>Creación de Valor en el sector Público, Nuevo Paradigma, Nueva Doctrina</a:t>
            </a:r>
            <a:r>
              <a:rPr b="0" lang="en-US" sz="4900" spc="-1" strike="noStrike">
                <a:solidFill>
                  <a:srgbClr val="003366"/>
                </a:solidFill>
                <a:latin typeface="Arial"/>
              </a:rPr>
              <a:t>.</a:t>
            </a:r>
            <a:br>
              <a:rPr sz="49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 de agosto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969160"/>
            <a:ext cx="9969480" cy="1450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920" y="5897160"/>
            <a:ext cx="9873000" cy="1461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a) Moore, Mark: “Gestión Estratégica y Creación de Valor en el Sector Público”. Paidos, 1998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b) Kelly, G. y Muers, S., “Creating Public Value. An analytical framework for public service reform”, Strategy Unit, Cabinet Office UK, 20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08280" y="0"/>
            <a:ext cx="267840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7600" y="3089160"/>
            <a:ext cx="8649000" cy="224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92320" y="3738600"/>
            <a:ext cx="85518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urso: Introducción a los Sistemas Púb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334360" y="2946240"/>
            <a:ext cx="182556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0640" y="1120320"/>
            <a:ext cx="87170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47800" y="2569680"/>
            <a:ext cx="93088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Supone que los propósitos son nítidos en las pautas normativas (Leyes, discursos o declaraciones de las “autoridades”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atiza más en la “administración” (objetivos y procedimientos definidos) que en “la gestión” (respuesta a objetivos declarados, procedimientos amplios)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959600" y="28116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75960" y="2742840"/>
            <a:ext cx="84582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l directivo debe cumplir sus mandatos con eficacia y eficiencia, tiende a supon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ocimiento expert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(se conocen la respuestas, no requiere particip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ás “burocracia”, menos “emprendi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as fuerzas son: descendentes y hacia aden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iende a no abrir reflexión sobre propós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2680" y="387360"/>
            <a:ext cx="9367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39600" y="2782800"/>
            <a:ext cx="9056520" cy="5996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“ </a:t>
            </a: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Valor agregado que produce el sector público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proveniente de los “beneficios percibidos” po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a) ciudadanos/comunidad 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b) usuarios/consumidores /clientes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descontando los costos” en los que se incurr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a “Valor Presente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6880" y="2600280"/>
            <a:ext cx="9563040" cy="501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Los beneficios pueden darse a nivel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roductos o servicios (outputs): Ej .Vacu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mpactos o resultados (outcomes) Ej. Tasa de enfermedad específic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onfianza: (Ejs. Filtración de info en Banco Central, Caso CORFO/Inverlink, Crisis sanitarias (ESB/´vaca loca’), Corrupció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omponentes de la Confianza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eficacia/desempeño (aunque causalidad es complej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integridad, éti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transparencia/sincerida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83800" y="3219480"/>
            <a:ext cx="9055080" cy="550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En los costos, también se refiere a 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Costos monetarios y NO monetarios. Ejs. de NO monetarios: pérdida de confianza, pérdida de libertad, medidas coercitivas, perdida de intimida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Directos, Indirectos y de Oportunidad (¿Qué se podría hacer alternativamente con los recursos utilizados?)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60400" y="2500200"/>
            <a:ext cx="9056880" cy="5499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n ambos casos -beneficios y costos - el criterio para su definición son la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preferencias públicas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” generadas en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cesos colectivos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(Ej. ley, grupo de ciudadanos, medios de comunicació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y también la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preferencias privadas”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expresadas por los usuarios/clientes/beneficiarios de los servicios públ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RIGEN DE LAS PREFERE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243480" y="3111480"/>
            <a:ext cx="3430800" cy="191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330960" y="3880800"/>
            <a:ext cx="31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9800" y="2909880"/>
            <a:ext cx="2446200" cy="268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0800" y="4064400"/>
            <a:ext cx="219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entes/Usu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703680" y="2909880"/>
            <a:ext cx="2117520" cy="2689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80000" y="3920400"/>
            <a:ext cx="1879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un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02480" y="3860640"/>
            <a:ext cx="31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6640" y="3774960"/>
            <a:ext cx="50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628640" y="5715000"/>
            <a:ext cx="72201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4960" y="2722680"/>
            <a:ext cx="9308880" cy="447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uerte componente subjetivo (preferenci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final NO se define en gabinete, sino por ciudadanos/usuarios/client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yores esfuerzos e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procesos de identificación y valoración”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de preferencias públicas (profundiza la democracia) y las preferencias priva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ocus group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nsejos consultiv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áginas web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municación con las autoridades políticas y representantes de las comunida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ncuestas de satisfacción de usuario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9960" y="20952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0640" y="65160"/>
            <a:ext cx="8717040" cy="11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ÁMBITOS BÁSICOS DONDE MEDI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032360" y="5450040"/>
            <a:ext cx="3111480" cy="2001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140360" y="6266160"/>
            <a:ext cx="28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1840" y="1725480"/>
            <a:ext cx="3346560" cy="244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14280" y="2800080"/>
            <a:ext cx="309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DUCTOS/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639960" y="1722600"/>
            <a:ext cx="3345120" cy="2444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80000" y="2801520"/>
            <a:ext cx="310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7175520" y="1587600"/>
            <a:ext cx="2889360" cy="2530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256520" y="1674360"/>
            <a:ext cx="2643120" cy="22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FI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413080" y="4168800"/>
            <a:ext cx="1650960" cy="1165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5375160" y="4222800"/>
            <a:ext cx="266760" cy="1217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7112160" y="3946680"/>
            <a:ext cx="8157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RIVADO VS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75960" y="2763720"/>
            <a:ext cx="8458200" cy="403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nálogamente a como ocurre en el sector privado se podría hacer un esfuerzo de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estimación en un periodo futuro y traerlo a valor present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¿Cuánto vale una organización pública?=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lujo de beneficios-costos, a valor presente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 muchos casos los beneficios y costos, no pueden ser medidos monetariament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, pero es intrínseco a esta aproximación genera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esfuerzos crecient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 cuantificación en aquellos ámbitos donde sea posibl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Con el tiempo se crearán indic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ncadenando Te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68480" y="2762280"/>
            <a:ext cx="2074680" cy="1133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0560" y="3287880"/>
            <a:ext cx="2155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crocr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121200" y="3290760"/>
            <a:ext cx="3124080" cy="126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349880" y="4518000"/>
            <a:ext cx="3778200" cy="150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59320" y="4979160"/>
            <a:ext cx="3562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evo Enfoque, Nuevo Ro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reación de 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52200" y="2620800"/>
            <a:ext cx="8723160" cy="4578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l concepto d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P es análogo al de Valor Privad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: valor para dueños y valor para client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o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iere de manera importante por la dificultad de la métrica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. El valor público no es completamente reducible a $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794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92000" y="2781000"/>
            <a:ext cx="8723520" cy="4578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or otra parte, en el caso del VP los ciudadanos (dueños) son clientes y usuarios tambié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También son proveedores y empleados (ej. Funcionarios de salud y educación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La comunidad de dueños también considera a las generaciones futu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0640" y="1182600"/>
            <a:ext cx="87170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4280" y="2647440"/>
            <a:ext cx="10071360" cy="447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n el sector público el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ato equitativ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es muy relevante. Es decir, la valoración de los usuarios depende también del trato a otr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l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P es más intensivo en demandar cambios en normas sociales y códigos de comportamient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(COPRODUCCIO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ducción bajo 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igiene y prevención (salud públ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actancia materna y salud infan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gramas contra l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06040" y="1150920"/>
            <a:ext cx="905508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La Estrategia Organizativa en el Sector Públ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237280" y="3303720"/>
            <a:ext cx="43704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Enfoque ESTRATEGICO de Creación de Valor Públic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9240" y="3522600"/>
            <a:ext cx="214452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63800" y="420840"/>
            <a:ext cx="928872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Modelo Analítico Básico (Mark Moore)</a:t>
            </a:r>
            <a:br>
              <a:rPr sz="27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Diagnóstico de la Posición </a:t>
            </a:r>
            <a:br>
              <a:rPr sz="22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Estratégica de una Organiz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36800" y="3386160"/>
            <a:ext cx="3016080" cy="2583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25720" y="4378680"/>
            <a:ext cx="28400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164360" y="2084400"/>
            <a:ext cx="2806560" cy="1335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213680" y="2136600"/>
            <a:ext cx="27018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Propósito/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90440" y="1481040"/>
            <a:ext cx="2360520" cy="214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4440" y="1541520"/>
            <a:ext cx="22622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2.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Cl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Polí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upervi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Económ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Tecnolo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6200" y="4371840"/>
            <a:ext cx="255276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Capac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cesos Sustantivos y de Apoy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istemas de evaluación 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920880" y="6529320"/>
            <a:ext cx="4181400" cy="446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85680" y="6599160"/>
            <a:ext cx="4056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ximizar Valor Público que c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104920" y="4275000"/>
            <a:ext cx="2541600" cy="2213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3174840" y="2635200"/>
            <a:ext cx="3090960" cy="2476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45080" y="313992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2517840" y="2200320"/>
            <a:ext cx="4753080" cy="3664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981760" y="476244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9960" y="425520"/>
            <a:ext cx="9461520" cy="5999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l análisis anterior, la estrategia de la organización debe ser esencialmente, según Moore…</a:t>
            </a:r>
            <a:br>
              <a:rPr sz="40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A) Sustantivamente valiosa</a:t>
            </a:r>
            <a:br>
              <a:rPr sz="33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B) Políticamente Sustentable</a:t>
            </a:r>
            <a:br>
              <a:rPr sz="33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C) Técnicamente Facti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06040" y="1374840"/>
            <a:ext cx="905508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El entorno polí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écnicas de Gestión P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moción ac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estión del Desarrollo de la polí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iberación pública, aprendizaje social y lideraz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rketing y Comunicación Estraté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27080"/>
            <a:ext cx="10159920" cy="1598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280" y="178920"/>
            <a:ext cx="100713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o : “William Ruckelshaus y la Agencia de Protección Ambiental” </a:t>
            </a:r>
            <a:br>
              <a:rPr sz="36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( Moore, 1998; p 108 y 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1882800"/>
            <a:ext cx="10159920" cy="5738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-360" y="1990440"/>
            <a:ext cx="9975960" cy="56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iscusión del cas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os antecedentes básicos? (actores/intereses/tendencia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 es el valor público asociado a la agencia de la EPA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as motivaciones del gobiern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os “desafíos clave” de Ruckleshaus? ¿Cuáles son los “ámbitos donde debe gestionar” R.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as estratégicas que adopta? ¿Qué características/ventajas tiene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Agrega Valor Público la gestión de R., cóm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175600" y="930240"/>
            <a:ext cx="1474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354480"/>
            <a:ext cx="10159920" cy="4265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0" y="4344840"/>
            <a:ext cx="1006164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1)El funcionario debe hacer lo que está mandatado expresamente por las normas, y esto es siempre muy cla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2) La misión es ser fiel al mandato formal y producirlo eficientem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s"/>
          <p:cNvSpPr/>
          <p:nvPr/>
        </p:nvSpPr>
        <p:spPr>
          <a:xfrm>
            <a:off x="8609040" y="28116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8120" y="1322280"/>
            <a:ext cx="4859640" cy="5938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8120" y="1322280"/>
            <a:ext cx="4859640" cy="5938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302080" y="433440"/>
            <a:ext cx="4604040" cy="6827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5360" y="2587320"/>
            <a:ext cx="91393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escribe cómo los directivos públicos deben entender y llevar a cabo su trabaj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renta el riesgo que los directivos públicos conduzcan la administración según intereses distinto a los público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Pone énfasis en el control de procedimientos y la verticalida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Jinostroza</cp:lastModifiedBy>
  <dcterms:modified xsi:type="dcterms:W3CDTF">2009-08-27T18:29:45Z</dcterms:modified>
  <cp:revision>5</cp:revision>
  <dc:subject/>
  <dc:title>PowerPoint Presentation</dc:title>
</cp:coreProperties>
</file>