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5.wmf" ContentType="image/x-wmf"/>
  <Override PartName="/ppt/media/image16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F0A5-CEF6-42E7-A320-D111D6AC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go que "limpiar" mas la presentación. Basarme mas en el Kelly y Muers, con mas ejemplos concre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cer link entre paradigma "privado-ingenieril" (matemático, racional, optimizador) y paradigma "burocrático" (ése es el que se "desmonta" verdad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tará muy larga? creo que no se alcanza a ver todo en 1,5 h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En síntesis, cuál era el desafío relevante y prioritario de Ruckelshau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      Identifique el listado de actores, sus intereses  y sus posiciones relativas, que están en el entorno relevante de la EPA y señale cómo  determinan a las definiciones estratégica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      ¿Cuáles fueron las amenazas-restricciones y las oportunidades observada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      En síntesis, explique cuál fue la estrategia y sus atributos (ventajas, desventajas) de la misma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      ¿Qué ventajas/desventajas desde el punto de vista de los ecologistas, industriales, organización, gobiern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.      ¿Qué otra misión habría usted señalado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ii.      ¿Qué hizo R. respecto a los siguiente atributos deseables (como señala el texto) de una estrategia en el sector público?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      Sustantivamente releva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      Viable políticamen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      Operativamente factible y suficientemente cl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ndo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gar el sentido de probidad / transparencia que hay detrás de esta forma de operar en el E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s llegar y aplicar formas privadas (este comentario es en gral. Podemos caer en la solución fác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CDD-F6D6-461E-B7F8-30C22064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B3C-8CA9-427E-A482-B04E2FEC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33F-E1B6-47B5-ADE9-621109A3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7FA-5425-4889-941E-6CD8FC2D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7C6-D84D-4C8C-AAB4-3FF39C29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AC6-160F-4A9E-9B4A-9B7D5A04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7BD-8036-4DDC-8255-A4F97799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B22-C8C8-4ABD-9195-4FB36F9C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313-204B-484A-AC9F-92277542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50A7-B235-4022-8A94-AE8BC8D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3AC-07BA-428A-AED9-6F7F2979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262-29CB-4409-9A47-5193863B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7C49-88C5-4E5B-9420-344636B64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mailto:jinostro@dii.uchile.cl" TargetMode="External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2880" y="1001880"/>
            <a:ext cx="929016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366"/>
                </a:solidFill>
                <a:latin typeface="Arial"/>
              </a:rPr>
              <a:t>Creación de Valor en el sector Público, Nuevo Paradigma, Nueva Doctrina</a:t>
            </a:r>
            <a:r>
              <a:rPr b="0" lang="en-US" sz="4900" spc="-1" strike="noStrike">
                <a:solidFill>
                  <a:srgbClr val="003366"/>
                </a:solidFill>
                <a:latin typeface="Arial"/>
              </a:rPr>
              <a:t>.</a:t>
            </a:r>
            <a:br>
              <a:rPr sz="49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 de agosto,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5969160"/>
            <a:ext cx="9969480" cy="145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920" y="5897160"/>
            <a:ext cx="9873000" cy="1461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a) Moore, Mark: “Gestión Estratégica y Creación de Valor en el Sector Público”. Paidos, 1998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b) Kelly, G. y Muers, S., “Creating Public Value. An analytical framework for public service reform”, Strategy Unit, Cabinet Office UK, 20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08280" y="0"/>
            <a:ext cx="2678400" cy="857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047600" y="3089160"/>
            <a:ext cx="8649000" cy="224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92320" y="3738600"/>
            <a:ext cx="855180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rso: Introducción a los Sistema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334360" y="2946240"/>
            <a:ext cx="182556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0640" y="1120320"/>
            <a:ext cx="8717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47800" y="2569680"/>
            <a:ext cx="930888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Supone que los propósitos son nítidos en las pautas normativas (Leyes, discursos o declaraciones de las “autoridades”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atiza más en la “administración” (objetivos y procedimientos definidos) que en “la gestión” (respuesta a objetivos declarados, procedimientos amplios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959600" y="28116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5960" y="2742840"/>
            <a:ext cx="8458200" cy="38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 directivo debe cumplir sus mandatos con eficacia y eficiencia, tiende a supon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ocimiento experto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se conocen la respuestas, no requiere particip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ás “burocracia”, menos “emprendi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s fuerzas son: descendentes y hacia aden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ende a no abrir reflexión sobre propós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2680" y="387360"/>
            <a:ext cx="93679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39600" y="2782800"/>
            <a:ext cx="9056520" cy="5996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 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Valor agregado que produce el sector público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proveniente de los “beneficios percibidos” po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) ciudadanos/comunidad y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b) usuarios/consumidores /clientes,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escontando los costos” en los que se incurr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a “Valor Presente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6880" y="2600280"/>
            <a:ext cx="9563040" cy="501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os beneficios pueden darse a nivel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roductos o servicios (outputs): Ej .Vacu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mpactos o resultados (outcomes) Ej. Tasa de enfermedad específ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nfianza: (Ejs. Filtración de info en Banco Central, Caso CORFO/Inverlink, Crisis sanitarias (ESB/´vaca loca’), Corrupció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omponentes de la Confianz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eficacia/desempeño (aunque causalidad es complej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integridad, étic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cepción de transparencia/sincerida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83800" y="3219480"/>
            <a:ext cx="9055080" cy="550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En los costos, también se refiere a 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Costos monetarios y NO monetarios. Ejs. de NO monetarios: pérdida de confianza, pérdida de libertad, medidas coercitivas, perdida de intimid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66"/>
                </a:solidFill>
                <a:latin typeface="Arial"/>
              </a:rPr>
              <a:t>Directos, Indirectos y de Oportunidad (¿Qué se podría hacer alternativamente con los recursos utilizados?)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0">
              <a:lnSpc>
                <a:spcPct val="9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60400" y="2500200"/>
            <a:ext cx="9056880" cy="549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ambos casos -beneficios y costos - el criterio para su definición so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ública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” generadas e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sos colectivos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Ej. ley, grupo de ciudadanos, medios de comunic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y también la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preferencias privadas”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xpresadas por los usuarios/clientes/beneficiarios de los servicios púb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RIGEN DE LAS PREFEREN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243480" y="3111480"/>
            <a:ext cx="3430800" cy="19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30960" y="3880800"/>
            <a:ext cx="31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9800" y="2909880"/>
            <a:ext cx="2446200" cy="268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0800" y="4064400"/>
            <a:ext cx="219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entes/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03680" y="2909880"/>
            <a:ext cx="2117520" cy="2689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80000" y="3920400"/>
            <a:ext cx="1879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un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d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02480" y="3860640"/>
            <a:ext cx="311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6640" y="3774960"/>
            <a:ext cx="50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628640" y="5715000"/>
            <a:ext cx="722016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2240" y="50400"/>
            <a:ext cx="90550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4960" y="2722680"/>
            <a:ext cx="9308880" cy="447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uerte componente subjetivo (preferencia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final NO se define en gabinete, sino por ciudadanos/usuarios/client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yores esfuerzos 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procesos de identificación y valoración”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de preferencias públicas (profundiza la democracia) y las preferencias priva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cus group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nsejos consultiv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áginas we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unicación con las autoridades políticas y representantes de las comunida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cuestas de satisfacción de usuario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9960" y="2095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0640" y="65160"/>
            <a:ext cx="8717040" cy="11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ÁMBITOS BÁSICOS DONDE MEDI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32360" y="5450040"/>
            <a:ext cx="3111480" cy="200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140360" y="6266160"/>
            <a:ext cx="2806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1840" y="1725480"/>
            <a:ext cx="3346560" cy="244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14280" y="2800080"/>
            <a:ext cx="309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DUCTOS/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639960" y="1722600"/>
            <a:ext cx="3345120" cy="244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80000" y="2801520"/>
            <a:ext cx="310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175520" y="1587600"/>
            <a:ext cx="2889360" cy="253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256520" y="1674360"/>
            <a:ext cx="2643120" cy="22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413080" y="4168800"/>
            <a:ext cx="16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375160" y="4222800"/>
            <a:ext cx="266760" cy="1217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7112160" y="3946680"/>
            <a:ext cx="8157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LOR PRIVADO VS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5960" y="2763720"/>
            <a:ext cx="8458200" cy="403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Análogamente a como ocurre en el sector privado se podría hacer un esfuerzo de </a:t>
            </a:r>
            <a:r>
              <a:rPr b="0" i="1" lang="en-US" sz="2200" spc="-1" strike="noStrike">
                <a:solidFill>
                  <a:srgbClr val="003366"/>
                </a:solidFill>
                <a:latin typeface="Arial"/>
              </a:rPr>
              <a:t>estimación en un periodo futuro y traerlo a valor pres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¿Cuánto vale una organización pública?=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ujo de beneficios-costos, a valor presente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 muchos casos los beneficios y costos, no pueden ser medidos monetariament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, pero es intrínseco a esta aproximación gener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esfuerzos crecient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 cuantificación en aquellos ámbitos donde sea posibl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. Con el tiempo se crearán indic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ncadenando Te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68480" y="2762280"/>
            <a:ext cx="2074680" cy="113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0560" y="3287880"/>
            <a:ext cx="2155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crocr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121200" y="3290760"/>
            <a:ext cx="3124080" cy="126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349880" y="4518000"/>
            <a:ext cx="3778200" cy="150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59320" y="4979160"/>
            <a:ext cx="3562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uevo Enfoque, Nuevo Rol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reación de Valor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52200" y="2620800"/>
            <a:ext cx="8723160" cy="457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concepto d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análogo al de Valor Privad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: valor para dueños y valor para client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er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iere de manera importante por la dificultad de la métrica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. El valor público no es completamente reducible a $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94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0640" y="1353960"/>
            <a:ext cx="871704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92000" y="2781000"/>
            <a:ext cx="8723520" cy="4578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Por otra parte, en el caso del VP los ciudadanos (dueños) son clientes y usuarios tambié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También son proveedores y empleados (ej. Funcionarios de salud y educación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La comunidad de dueños también considera a las generaciones fu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-249120" y="-511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0640" y="1182600"/>
            <a:ext cx="87170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66"/>
                </a:solidFill>
                <a:latin typeface="Arial"/>
              </a:rPr>
              <a:t>VALOR PÚBLICO: CONCEPT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4280" y="2647440"/>
            <a:ext cx="10071360" cy="447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n el sector público 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to equitativ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es muy relevante. Es decir, la valoración de los usuarios depende también del trato a ot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El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P es más intensivo en demandar cambios en normas sociales y códigos de comportamiento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(COPRODUCC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nducción bajo 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igiene y prevención (salud públ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ctancia materna y salud infa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gramas contra l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6040" y="1150920"/>
            <a:ext cx="905508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La Estrategia Organizativa en el Sector Públ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237280" y="3303720"/>
            <a:ext cx="437040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Enfoque ESTRATEGICO de Creación de Valor Públic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19240" y="3522600"/>
            <a:ext cx="214452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3800" y="420840"/>
            <a:ext cx="928872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66"/>
                </a:solidFill>
                <a:latin typeface="Arial"/>
              </a:rPr>
              <a:t>Modelo Analítico Básico (Mark Moore)</a:t>
            </a:r>
            <a:br>
              <a:rPr sz="27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Diagnóstico de la Posición </a:t>
            </a:r>
            <a:br>
              <a:rPr sz="22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Estratégica de una Organiz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36800" y="3386160"/>
            <a:ext cx="3016080" cy="2583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25720" y="4378680"/>
            <a:ext cx="28400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164360" y="2084400"/>
            <a:ext cx="2806560" cy="1335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213680" y="2136600"/>
            <a:ext cx="27018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. Propósito/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90440" y="1481040"/>
            <a:ext cx="2360520" cy="214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4440" y="1541520"/>
            <a:ext cx="2262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2.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li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Polít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uperv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. Económ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6200" y="4371840"/>
            <a:ext cx="255276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3. Capa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cesos Sustantivos y de 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istemas de evaluación 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920880" y="6529320"/>
            <a:ext cx="4181400" cy="446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85680" y="6599160"/>
            <a:ext cx="4056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ximizar Valor Público que c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104920" y="4275000"/>
            <a:ext cx="2541600" cy="221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174840" y="2635200"/>
            <a:ext cx="3090960" cy="2476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645080" y="313992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517840" y="2200320"/>
            <a:ext cx="4753080" cy="366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81760" y="4762440"/>
            <a:ext cx="257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9960" y="425520"/>
            <a:ext cx="9461520" cy="59990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l análisis anterior, la estrategia de la organización debe ser esencialmente, según Moore…</a:t>
            </a:r>
            <a:br>
              <a:rPr sz="40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A) Sustantivamente valiosa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B) Políticamente Sustentable</a:t>
            </a:r>
            <a:br>
              <a:rPr sz="3300"/>
            </a:br>
            <a:r>
              <a:rPr b="1" lang="en-US" sz="3300" spc="-1" strike="noStrike">
                <a:solidFill>
                  <a:srgbClr val="660033"/>
                </a:solidFill>
                <a:latin typeface="Arial"/>
              </a:rPr>
              <a:t>(C) Técnicamente Fact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06040" y="1374840"/>
            <a:ext cx="905508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El entorno polí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écnicas de Gestión Polí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moción ac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stión del Desarrollo de la polí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iberación pública, aprendizaje social y lideraz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rketing y Comunicación Estraté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27080"/>
            <a:ext cx="10159920" cy="1598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" y="178920"/>
            <a:ext cx="10071360" cy="14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o : “William Ruckelshaus y la Agencia de Protección Ambiental” </a:t>
            </a:r>
            <a:br>
              <a:rPr sz="3600"/>
            </a:br>
            <a:r>
              <a:rPr b="1" lang="en-US" sz="2200" spc="-1" strike="noStrike">
                <a:solidFill>
                  <a:srgbClr val="006666"/>
                </a:solidFill>
                <a:latin typeface="Arial"/>
              </a:rPr>
              <a:t>( Moore, 1998; p 108 y 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882800"/>
            <a:ext cx="10159920" cy="5738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1990440"/>
            <a:ext cx="9975960" cy="56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iscusión del ca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antecedentes básicos? (actores/intereses/tendencia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 es el valor público asociado a la agencia de la EPA?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motivaciones del gobiern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os “desafíos clave” de Ruckleshaus? ¿Cuáles son los “ámbitos donde debe gestionar” R.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Cuáles son las estratégicas que adopta? ¿Qué características/ventajas tien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3366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"/>
              </a:rPr>
              <a:t>¿Agrega Valor Público la gestión de R., cóm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175600" y="93024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¿Cuál es el principal supuesto de la doctrina tradicional de las funciones del sector públ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354480"/>
            <a:ext cx="10159920" cy="4265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0" y="4344840"/>
            <a:ext cx="1006164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1)El funcionario debe hacer lo que está mandatado expresamente por las normas, y esto es siempre muy cla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(2) La misión es ser fiel al mandato formal y producirlo eficientem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s"/>
          <p:cNvSpPr/>
          <p:nvPr/>
        </p:nvSpPr>
        <p:spPr>
          <a:xfrm>
            <a:off x="8609040" y="28116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75960" y="2674800"/>
            <a:ext cx="84582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Moore rebate una tendencia reduccionista o simplificadora de esta doctrin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366"/>
                </a:solidFill>
                <a:latin typeface="Arial"/>
              </a:rPr>
              <a:t>Propone un transito de un enfoque (A) burocrático a uno (B) de “emprendedor público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8120" y="1322280"/>
            <a:ext cx="4859640" cy="593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95360" y="3536640"/>
            <a:ext cx="24084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de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02080" y="433440"/>
            <a:ext cx="4604040" cy="6827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456240" y="3876480"/>
            <a:ext cx="2289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Enfoqu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99"/>
                </a:solidFill>
                <a:latin typeface="Arial"/>
              </a:rPr>
              <a:t>ascenden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0640" y="896760"/>
            <a:ext cx="871704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O TR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360" y="2587320"/>
            <a:ext cx="91393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Describe cómo los directivos públicos deben entender y llevar a cabo su trabajo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Enfrenta el riesgo que los directivos públicos conduzcan la administración según intereses distinto a los público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3366"/>
                </a:solidFill>
                <a:latin typeface="Arial"/>
              </a:rPr>
              <a:t>Pone énfasis en el control de procedimientos y la verticalida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Jinostroza</cp:lastModifiedBy>
  <dcterms:modified xsi:type="dcterms:W3CDTF">2009-08-27T18:29:45Z</dcterms:modified>
  <cp:revision>5</cp:revision>
  <dc:subject/>
  <dc:title>PowerPoint Presentation</dc:title>
</cp:coreProperties>
</file>