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ACD-8ABE-4EDE-9363-52E4526B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3A2-05A1-4A3D-A577-D3E7B8F7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3E7-78A5-4257-B83A-DFD6E70B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BB2-6903-4392-B701-28C89F51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756E-94EE-4D29-A4B5-319B69B2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C158-D179-4056-B122-F148AAC3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8F31-A986-4699-BC6F-E7BDF781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0C9C-04C9-4CA2-98D3-C021873F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6077-ED48-4CE4-9D9B-25AB3C60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7556-5983-44B0-BC5E-D183CFCE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F979-C535-4D36-84FE-241AB438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91F-979C-480E-93E0-B4D7EE7A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ADB4-A883-4D96-94FE-DCB582D7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A55E-D561-4CBB-9D4A-19410370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CC1B-5527-4F24-8110-64F820D1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D396-75AE-480A-AB76-3132B7B7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8751-A2EA-4D5B-81D3-B1C966B5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A978-8961-49D5-B011-BDFA492E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07D-50ED-486D-9983-3A016C50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FEE-8E1D-49A6-B394-3306D062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571-F3B0-44B2-8BBA-59FAB769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033-7C5D-4E16-8B7B-FC454E88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06D-5C66-4357-AC4D-1398079A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D39-72A9-49F5-A136-28C3B61C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25FE-B8B3-4D33-B774-51FC5AFDA4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1664-F670-490E-A76E-3D10CA2DDC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inostro@dii.uchile.c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mideplan.cl/" TargetMode="External"/><Relationship Id="rId3" Type="http://schemas.openxmlformats.org/officeDocument/2006/relationships/hyperlink" Target="http://www.congreso.cl/" TargetMode="External"/><Relationship Id="rId4" Type="http://schemas.openxmlformats.org/officeDocument/2006/relationships/hyperlink" Target="http://www.segpres.cl/" TargetMode="External"/><Relationship Id="rId5" Type="http://schemas.openxmlformats.org/officeDocument/2006/relationships/hyperlink" Target="http://www.reformadelestado.cl/" TargetMode="External"/><Relationship Id="rId6" Type="http://schemas.openxmlformats.org/officeDocument/2006/relationships/hyperlink" Target="http://www.bcn.cl/" TargetMode="External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3500280"/>
            <a:ext cx="76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lase 3: “Macrosistemas, Estructuras y Funciones del Estado”.</a:t>
            </a:r>
            <a:br>
              <a:rPr sz="4000"/>
            </a:br>
            <a:r>
              <a:rPr b="1" lang="es-CL" sz="2200" spc="-1" strike="noStrike">
                <a:solidFill>
                  <a:srgbClr val="006666"/>
                </a:solidFill>
                <a:latin typeface="Arial"/>
              </a:rPr>
              <a:t>Curso: Introducción a los Sistemas Públicos.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concurren”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 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n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ff9900"/>
                </a:solidFill>
                <a:latin typeface="Verdana"/>
              </a:rPr>
              <a:t>Conocer y resolver asuntos civiles y criminales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 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Dirige la investigación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s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de las leyes orgánic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08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alumno tendrá las referencias suficientes para entrar en la conversación d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; deber ser), pero se harán observaciones crít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cursos Human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19520" y="459720"/>
            <a:ext cx="7906680" cy="6016320"/>
            <a:chOff x="1019520" y="459720"/>
            <a:chExt cx="7906680" cy="6016320"/>
          </a:xfrm>
        </p:grpSpPr>
        <p:grpSp>
          <p:nvGrpSpPr>
            <p:cNvPr id="150" name=""/>
            <p:cNvGrpSpPr/>
            <p:nvPr/>
          </p:nvGrpSpPr>
          <p:grpSpPr>
            <a:xfrm>
              <a:off x="1019520" y="459720"/>
              <a:ext cx="7906680" cy="4829760"/>
              <a:chOff x="1019520" y="459720"/>
              <a:chExt cx="7906680" cy="4829760"/>
            </a:xfrm>
          </p:grpSpPr>
          <p:sp>
            <p:nvSpPr>
              <p:cNvPr id="151" name="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8061800">
                <a:off x="5399280" y="2616480"/>
                <a:ext cx="456840" cy="384120"/>
              </a:xfrm>
              <a:custGeom>
                <a:avLst/>
                <a:gdLst>
                  <a:gd name="textAreaLeft" fmla="*/ 195840 w 456840"/>
                  <a:gd name="textAreaRight" fmla="*/ 402120 w 456840"/>
                  <a:gd name="textAreaTop" fmla="*/ 212040 h 384120"/>
                  <a:gd name="textAreaBottom" fmla="*/ 33840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9257" y="9340"/>
                    </a:lnTo>
                    <a:lnTo>
                      <a:pt x="9257" y="11928"/>
                    </a:lnTo>
                    <a:lnTo>
                      <a:pt x="11928" y="11928"/>
                    </a:lnTo>
                    <a:lnTo>
                      <a:pt x="11928" y="9257"/>
                    </a:lnTo>
                    <a:lnTo>
                      <a:pt x="9340" y="9257"/>
                    </a:lnTo>
                    <a:lnTo>
                      <a:pt x="15470" y="0"/>
                    </a:lnTo>
                    <a:lnTo>
                      <a:pt x="21600" y="9257"/>
                    </a:lnTo>
                    <a:lnTo>
                      <a:pt x="19012" y="9257"/>
                    </a:lnTo>
                    <a:lnTo>
                      <a:pt x="19012" y="19012"/>
                    </a:lnTo>
                    <a:lnTo>
                      <a:pt x="9257" y="19012"/>
                    </a:lnTo>
                    <a:lnTo>
                      <a:pt x="9257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958560" y="2237400"/>
                <a:ext cx="402840" cy="456840"/>
              </a:xfrm>
              <a:custGeom>
                <a:avLst/>
                <a:gdLst>
                  <a:gd name="textAreaLeft" fmla="*/ 115560 w 402840"/>
                  <a:gd name="textAreaRight" fmla="*/ 345240 w 402840"/>
                  <a:gd name="textAreaTop" fmla="*/ 263160 h 456840"/>
                  <a:gd name="textAreaBottom" fmla="*/ 39132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861600">
                <a:off x="4550400" y="3184200"/>
                <a:ext cx="281880" cy="402480"/>
              </a:xfrm>
              <a:custGeom>
                <a:avLst/>
                <a:gdLst>
                  <a:gd name="textAreaLeft" fmla="*/ 81000 w 281880"/>
                  <a:gd name="textAreaRight" fmla="*/ 241560 w 281880"/>
                  <a:gd name="textAreaTop" fmla="*/ 231840 h 402480"/>
                  <a:gd name="textAreaBottom" fmla="*/ 344880 h 4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186" name="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3890520" y="5373720"/>
                <a:ext cx="128448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6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774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weberi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Nueva gerencia pública, participación ciudad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capturas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políticas, gremiales, empresariales…); promueven el interés general y permanente….pero puede generar costos de transacción, administrativos importantes, e incentivos perversos en algunos ca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idencialismo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organismos autónom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dipres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www.bcn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Rol, Restricciones, Princip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640" y="1827360"/>
            <a:ext cx="69199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promover el bien común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para lo cual debe contribuir a crear condiciones sociales”… que permitan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la mayor realización espiritual y material posible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(art 1 Constitució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integración armónica de todos los sectores;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asegurar derecho de las personas a participar con igualdad de oportunidades en la vida nacional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(art 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728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descentralizada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actuar válida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Responder civil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71228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Igualdad ante la ley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ducación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ff9900"/>
                </a:solidFill>
                <a:latin typeface="Verdana"/>
              </a:rPr>
              <a:t>DERECHO DE PROPIEDAD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(expropiación,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RECURSO DE PROTE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gobierno y la administración del Estado”.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organización básica del Estado”,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la carrera funcionaria”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1382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inostroza</cp:lastModifiedBy>
  <dcterms:modified xsi:type="dcterms:W3CDTF">2009-08-14T01:17:09Z</dcterms:modified>
  <cp:revision>9</cp:revision>
  <dc:subject/>
  <dc:title>Macrosistemas, Estructuras del y Funciones del Estado.</dc:title>
</cp:coreProperties>
</file>