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A26A-066D-4A6D-BB01-2058B2D69A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536E-5DA1-4427-BF31-980DE3BF782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3E2-F338-4ED5-98C7-F93F873B44F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7A7-7DD5-4FE0-8368-4C99F5E19A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DEEA-FED3-4655-A486-3E5C2B7A95B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F171-853D-47C7-8C71-8A769587C9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E44-283E-4DF4-9253-18B580612CF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C3E8-0D98-44C9-8C9D-DFF6E9BADF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6BE4-19E9-490F-9826-262E08E8DE0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C928-49F3-457B-BBF5-AD3D3176751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AB5B-FC19-4CFD-8C49-9BA54A19B4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7CE8-95A5-43E1-B6E5-87934E04649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5876-A271-46FB-BE81-22B75751D8E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ECFD-0098-48D7-AF80-F56E843672E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AFAA-717D-489E-9E2B-2450B94C6DA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9DD-3CE0-492D-9950-E5887B01786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FB36-0638-4DE7-BFAE-B21061843E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B9C-17D9-4AFD-925D-9ACEBCC328D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8CFB-3944-4B4D-B474-F806E58153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71C1-5AD9-4F30-A6F6-75B4EF5202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2B46-CA9C-464B-A902-FE726E6DD67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0AFA-68D6-4375-8D13-A8AA095050A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33C9-3696-4FB2-9765-6B2A1C8B50F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7B7-ED41-4165-A989-211F614A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6D8-F10E-4080-948A-57782643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6B7-0467-48C1-BE13-AC07904F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08F-B6FF-4BDC-B7C9-BACF9B02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E994-B17D-4DBD-BCA4-33E29896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AFF6-3B94-49BC-9E2E-3CF5C62D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FE57-B822-4732-8998-B9E032D8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3577-FF48-412F-AA77-D4B7AF52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10C5-0EA2-412C-936C-968301C3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77C7-E170-45C1-9D9A-D8BB0E13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C516-EE47-468D-BC1B-02A50DE5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B363-B340-4BA2-93D8-60FB7061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4D14-4128-47C4-897C-5F09E204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B635-0752-43A7-9665-C33625E7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572F-68DB-4C0A-8E50-6F0E7878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6887-8A17-48F3-A72B-CB594CFD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63D3-EDE9-45C2-8940-66629497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2C613-0D79-4C99-B59B-20051DD7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325D1-A5DB-47AA-92DE-4577E737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B2E5A-D02A-40D1-AC98-262AED0F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852E2-0057-415C-B0D5-AFDAA58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C1B57-745F-4A77-B724-8F632A9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6BE-E7D8-410F-ADDC-FE4EC4DC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CED1B-12CA-460A-A9BC-FA85D7CB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0B0BFE-B1FB-4FCC-AB59-9E33C8A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B31DD-C9FD-49CB-8361-EC933D7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02C00-08DF-419C-836E-CEAEF360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324B3-DA78-4A1F-89A6-94150D32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B8005-F08A-4FDF-A9B2-9F01B21B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024B8-F075-417C-A1A4-D7F1D093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912C-2C31-416D-B986-20BCF13C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80DD0-470B-48C2-85DD-3A661E11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A165-BCD2-4460-9178-E113F4D2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02BE-9F89-4655-9AF8-C5C77279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E20AF-3C1E-4DF7-B87C-2F374BA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F46EE-E817-4F2F-BBF9-7D4A49CB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100DD-4617-4700-A5D1-5E5EAF9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EC8CF-FFF0-43F6-A463-B16B9655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33F57-2664-4F51-821B-222402CB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F6A5E-46CD-4A29-8864-FE25ACF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5F43-5AA0-43EE-A4D7-0DE0B557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9242-6D9C-4D8E-B6F1-84EDC1DA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AD18-6403-4FD8-8715-83C15E14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9B8252-C5EA-4290-AD50-C4E6418AA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5F9-EBF3-42DB-99A8-EEEE9744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99CED-ABF0-45F9-AC04-2F82BD3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E1AA61-7B0B-4425-80D9-CA025E3E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E936C-C8A2-4C69-A7C4-6DFB1642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B1250A-58EA-43DB-BC64-CB2F024A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62117-C55C-48F9-97B7-A7B4ABF9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DB5DB-F44D-4994-94FD-764748E8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B45A4-AC33-489C-9EA4-5B2BF382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2AE08-9C7B-48B0-8A60-E10EED66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5F713-CF3C-49C1-A7B0-C92F776F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F596E-BB89-491B-8502-001D7772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E8C-F38F-48E4-B4CA-2F287C9B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67AA9D-1F20-427D-95DF-255E8A4F2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6D96E-AF74-4223-A4FF-4A71FB2A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63B06-EC34-4408-964F-7719E9C0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59795-C94B-427F-A2E6-2A1C672C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AF488-C5CF-45BF-A528-7B41213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5A097F-83D4-477E-A524-FE2C9C08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B2672-A6E0-4D4C-A3BB-936D517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1CE9D-23D8-42B2-85B8-F5A8A413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60E572-787F-4651-8C1B-7426876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6F514-D09D-4B58-A556-723A2B53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0EA-7847-40D0-9D30-0C98A7F5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D43E0-1B2C-454D-94DE-2E5187CB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99A50-53B6-4F04-8E25-4C14AF46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E49A3-2EEA-47C7-864C-9F6BBC57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571BA-88C0-4A20-9584-968FACD7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3E936-8BF0-400A-92E7-194C0D5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AAAEF-BE41-47A1-8AF5-5FCB62C6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1F6C4-27BB-4C98-A107-45FAACC9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94C0E-26D2-403D-AB6A-CFBE4AC4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C5DBC-2521-4D28-B54B-7ABF629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94659-DA1B-4647-BBE8-6AB3BDA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64E-56C9-4EFB-8766-A91F41C8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2CD294-7197-46C1-BA18-7E3594D6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89A41-4F0D-4B3B-9542-1AA8FBCA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954119-D281-4071-8834-A6BF86B9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E45608-AA10-41D4-8E35-8D62F63D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A8A50E-7857-49A2-8F01-6C7DB03F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2B1-DD06-4641-9378-30B9F6E4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51A-8AFA-49C9-A8B8-E7985F24703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B003-8A67-4641-A694-102F56FB4BE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A74-5F9F-4176-AABF-18D23293921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59F3-A79B-4F69-A0BD-A3990DC5744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503E-07E0-4EB7-8046-1952D54DC99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9982-5B9B-47D4-9145-7324EF9422F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7A05-B2D0-490A-A95B-D36BC2F0F88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dipres.cl/" TargetMode="External"/><Relationship Id="rId2" Type="http://schemas.openxmlformats.org/officeDocument/2006/relationships/hyperlink" Target="http://www.junaeb.cl/" TargetMode="External"/><Relationship Id="rId3" Type="http://schemas.openxmlformats.org/officeDocument/2006/relationships/hyperlink" Target="http://www.minsal.cl/" TargetMode="External"/><Relationship Id="rId4" Type="http://schemas.openxmlformats.org/officeDocument/2006/relationships/hyperlink" Target="http://www.fonasa.cl/" TargetMode="External"/><Relationship Id="rId5" Type="http://schemas.openxmlformats.org/officeDocument/2006/relationships/hyperlink" Target="http://www.worldbank.org/" TargetMode="Externa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CLASE Nº1: IMPORTANCIA DEL SECTOR PÚBLICO EN EL DESARROLLO DE CHILE ¿QUÉ TAN GRANDE ES Y CUÁNTO PRODUCE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Profesor: Mario Waissblut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75f6d"/>
                </a:solidFill>
                <a:latin typeface="Century Schoolbook"/>
              </a:rPr>
              <a:t>30 – julio – 2009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4 CuadroTexto"/>
          <p:cNvSpPr/>
          <p:nvPr/>
        </p:nvSpPr>
        <p:spPr>
          <a:xfrm>
            <a:off x="0" y="0"/>
            <a:ext cx="9144000" cy="1008720"/>
          </a:xfrm>
          <a:prstGeom prst="rect">
            <a:avLst/>
          </a:prstGeom>
          <a:solidFill>
            <a:srgbClr val="e75c01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661 / IN4821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Introducción a los Sistemas Públic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entury Schoolbook"/>
              </a:rPr>
              <a:t>Semestre: Primavera 2009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1" name="3 Imagen" descr="logotipo PGPP.jpg"/>
          <p:cNvPicPr/>
          <p:nvPr/>
        </p:nvPicPr>
        <p:blipFill>
          <a:blip r:embed="rId1"/>
          <a:stretch/>
        </p:blipFill>
        <p:spPr>
          <a:xfrm>
            <a:off x="3071880" y="1071720"/>
            <a:ext cx="3429000" cy="12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DU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8" name="4 Marcador de contenido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67840" cy="48736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0" y="5143680"/>
            <a:ext cx="1963800" cy="1714320"/>
          </a:xfrm>
          <a:prstGeom prst="rect">
            <a:avLst/>
          </a:prstGeom>
          <a:ln w="0">
            <a:noFill/>
          </a:ln>
        </p:spPr>
      </p:pic>
      <p:sp>
        <p:nvSpPr>
          <p:cNvPr id="420" name="5 CuadroTexto"/>
          <p:cNvSpPr/>
          <p:nvPr/>
        </p:nvSpPr>
        <p:spPr>
          <a:xfrm>
            <a:off x="3071880" y="6357960"/>
            <a:ext cx="32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MINEDUC 2006-2007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7072200" y="0"/>
            <a:ext cx="2071800" cy="2884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MPREND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3" name="3 Marcador de contenido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-714240" y="4714920"/>
            <a:ext cx="2143080" cy="2286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JUNAEB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423200" y="0"/>
            <a:ext cx="1720800" cy="2428920"/>
          </a:xfrm>
          <a:prstGeom prst="rect">
            <a:avLst/>
          </a:prstGeom>
          <a:ln w="0">
            <a:noFill/>
          </a:ln>
        </p:spPr>
      </p:pic>
      <p:pic>
        <p:nvPicPr>
          <p:cNvPr id="427" name="9 Gráfico" descr=""/>
          <p:cNvPicPr/>
          <p:nvPr/>
        </p:nvPicPr>
        <p:blipFill>
          <a:blip r:embed="rId3"/>
          <a:stretch/>
        </p:blipFill>
        <p:spPr>
          <a:xfrm>
            <a:off x="428760" y="1143000"/>
            <a:ext cx="7405560" cy="4818240"/>
          </a:xfrm>
          <a:prstGeom prst="rect">
            <a:avLst/>
          </a:prstGeom>
          <a:ln w="0">
            <a:noFill/>
          </a:ln>
        </p:spPr>
      </p:pic>
      <p:sp>
        <p:nvSpPr>
          <p:cNvPr id="428" name="11 CuadroTexto"/>
          <p:cNvSpPr/>
          <p:nvPr/>
        </p:nvSpPr>
        <p:spPr>
          <a:xfrm>
            <a:off x="1928880" y="6072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otal Programa: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1.916.927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raciones</a:t>
            </a: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6 CuadroTexto"/>
          <p:cNvSpPr/>
          <p:nvPr/>
        </p:nvSpPr>
        <p:spPr>
          <a:xfrm>
            <a:off x="6715080" y="264312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1 MM US$ 2008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l d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UERZAS ARMAD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3 Marcador de contenido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48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516880" cy="4716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TAMAÑO DEL ESTADO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7643880" y="0"/>
            <a:ext cx="1500120" cy="1903320"/>
          </a:xfrm>
          <a:prstGeom prst="rect">
            <a:avLst/>
          </a:prstGeom>
          <a:ln w="0">
            <a:noFill/>
          </a:ln>
        </p:spPr>
      </p:pic>
      <p:sp>
        <p:nvSpPr>
          <p:cNvPr id="435" name="4 CuadroTexto"/>
          <p:cNvSpPr/>
          <p:nvPr/>
        </p:nvSpPr>
        <p:spPr>
          <a:xfrm>
            <a:off x="2643120" y="6572160"/>
            <a:ext cx="35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Texto Reforma al Estad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7215120" y="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CALIDAD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200160" y="1380960"/>
            <a:ext cx="8586720" cy="5334120"/>
          </a:xfrm>
          <a:prstGeom prst="rect">
            <a:avLst/>
          </a:prstGeom>
          <a:ln w="0">
            <a:noFill/>
          </a:ln>
        </p:spPr>
      </p:pic>
      <p:sp>
        <p:nvSpPr>
          <p:cNvPr id="440" name="5 Elipse"/>
          <p:cNvSpPr/>
          <p:nvPr/>
        </p:nvSpPr>
        <p:spPr>
          <a:xfrm>
            <a:off x="285840" y="6286680"/>
            <a:ext cx="1428840" cy="28548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6929280" y="0"/>
            <a:ext cx="1843200" cy="18432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EFICIENCIA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500040" y="1374840"/>
            <a:ext cx="7786800" cy="5354640"/>
          </a:xfrm>
          <a:prstGeom prst="rect">
            <a:avLst/>
          </a:prstGeom>
          <a:ln w="0">
            <a:noFill/>
          </a:ln>
        </p:spPr>
      </p:pic>
      <p:sp>
        <p:nvSpPr>
          <p:cNvPr id="445" name="5 Elipse"/>
          <p:cNvSpPr/>
          <p:nvPr/>
        </p:nvSpPr>
        <p:spPr>
          <a:xfrm>
            <a:off x="500040" y="3143160"/>
            <a:ext cx="1071720" cy="2145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1060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ISTRIBUCIÓN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9" name="Picture 6" descr=""/>
          <p:cNvPicPr/>
          <p:nvPr/>
        </p:nvPicPr>
        <p:blipFill>
          <a:blip r:embed="rId1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8286840" cy="4483080"/>
          </a:xfrm>
          <a:prstGeom prst="rect">
            <a:avLst/>
          </a:prstGeom>
          <a:ln w="0">
            <a:noFill/>
          </a:ln>
        </p:spPr>
      </p:pic>
      <p:sp>
        <p:nvSpPr>
          <p:cNvPr id="451" name="5 Elipse"/>
          <p:cNvSpPr/>
          <p:nvPr/>
        </p:nvSpPr>
        <p:spPr>
          <a:xfrm>
            <a:off x="6072120" y="2428920"/>
            <a:ext cx="1000080" cy="6429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157320" y="1684440"/>
            <a:ext cx="8057880" cy="48546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DISTRIBUCIÓN Y ACTIVIDAD ECONÓ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6" descr=""/>
          <p:cNvPicPr/>
          <p:nvPr/>
        </p:nvPicPr>
        <p:blipFill>
          <a:blip r:embed="rId2"/>
          <a:stretch/>
        </p:blipFill>
        <p:spPr>
          <a:xfrm>
            <a:off x="6886440" y="0"/>
            <a:ext cx="2257560" cy="2571840"/>
          </a:xfrm>
          <a:prstGeom prst="rect">
            <a:avLst/>
          </a:prstGeom>
          <a:ln w="0">
            <a:noFill/>
          </a:ln>
        </p:spPr>
      </p:pic>
      <p:sp>
        <p:nvSpPr>
          <p:cNvPr id="455" name="8 Elipse"/>
          <p:cNvSpPr/>
          <p:nvPr/>
        </p:nvSpPr>
        <p:spPr>
          <a:xfrm>
            <a:off x="2143080" y="2428920"/>
            <a:ext cx="857160" cy="42876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PROGRAMA CURS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28760" y="1143000"/>
          <a:ext cx="8215200" cy="5494320"/>
        </p:xfrm>
        <a:graphic>
          <a:graphicData uri="http://schemas.openxmlformats.org/drawingml/2006/table">
            <a:tbl>
              <a:tblPr/>
              <a:tblGrid>
                <a:gridCol w="1982520"/>
                <a:gridCol w="5026320"/>
                <a:gridCol w="1206360"/>
              </a:tblGrid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alu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</a:tr>
              <a:tr h="3744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de 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ncia del Sector Público en el Desarrollo de 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(confirmando) / Macrosistemas, Estructuras y Funciones del Es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Sector Público desde la mirada de los "Sistemas Complejo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es agregar Valor Públic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Ago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Pública y Privada: Diferencias y Similitu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58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entes Públicos Efectivos: Cómo son, qué y cómo trabaj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orma al Estado en Chile (casos y proyecc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de Sept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 Olímpica (sin clas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ica y Probidad en el Estado: Análisis y Gestión Ries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P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cia y Participación Ciudad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Govern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de Octu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la Invitado Ext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41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del Cambio: Los Desafíos de lograr la Moder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 corto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-análisis, problemas frecuentes d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de Noviemb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novación y Marketing en el sector públ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á fijada por Esc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en (*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90360" y="1338120"/>
            <a:ext cx="7910640" cy="537696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FORTALEZAS: GASTO PÚBLICO Y CRECIMIENT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59" name="5 Elipse"/>
          <p:cNvSpPr/>
          <p:nvPr/>
        </p:nvSpPr>
        <p:spPr>
          <a:xfrm>
            <a:off x="2500200" y="2214720"/>
            <a:ext cx="85752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7786440" cy="51354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DESAFÍOS: 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Y DISTRIBU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2" name="Picture 6" descr=""/>
          <p:cNvPicPr/>
          <p:nvPr/>
        </p:nvPicPr>
        <p:blipFill>
          <a:blip r:embed="rId2"/>
          <a:stretch/>
        </p:blipFill>
        <p:spPr>
          <a:xfrm>
            <a:off x="6572160" y="-285840"/>
            <a:ext cx="2759040" cy="3143520"/>
          </a:xfrm>
          <a:prstGeom prst="rect">
            <a:avLst/>
          </a:prstGeom>
          <a:ln w="0">
            <a:noFill/>
          </a:ln>
        </p:spPr>
      </p:pic>
      <p:sp>
        <p:nvSpPr>
          <p:cNvPr id="463" name="5 Elipse"/>
          <p:cNvSpPr/>
          <p:nvPr/>
        </p:nvSpPr>
        <p:spPr>
          <a:xfrm>
            <a:off x="2786040" y="2214720"/>
            <a:ext cx="8571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BIBLIOGRAF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lgunos datos del Estado de Chile.xls: Diversas Fuentes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www.dipres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www.junaeb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www.minsal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www.fonasa.c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www.worldbank.or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 la Confrontación al Consenso” La Reforma al Estado en Chile 1990-2005, Mario Waissbluth y José Inostroza (U-curso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GASTO PÚBLICO V/S PIB 1998 – 2007 </a:t>
            </a:r>
            <a:br>
              <a:rPr sz="3000"/>
            </a:br>
            <a:r>
              <a:rPr b="0" lang="es-ES" sz="2400" spc="-1" strike="noStrike">
                <a:solidFill>
                  <a:srgbClr val="575f6d"/>
                </a:solidFill>
                <a:latin typeface="Century Schoolbook"/>
              </a:rPr>
              <a:t>($ 2007)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1571760" y="5262480"/>
            <a:ext cx="1197000" cy="15955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2790720" y="5276880"/>
            <a:ext cx="1710000" cy="1224000"/>
          </a:xfrm>
          <a:prstGeom prst="rect">
            <a:avLst/>
          </a:prstGeom>
          <a:ln w="0">
            <a:noFill/>
          </a:ln>
        </p:spPr>
      </p:pic>
      <p:sp>
        <p:nvSpPr>
          <p:cNvPr id="367" name="8 Rectángulo"/>
          <p:cNvSpPr/>
          <p:nvPr/>
        </p:nvSpPr>
        <p:spPr>
          <a:xfrm>
            <a:off x="2571840" y="1928880"/>
            <a:ext cx="571320" cy="32148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6 Rectángulo"/>
          <p:cNvSpPr/>
          <p:nvPr/>
        </p:nvSpPr>
        <p:spPr>
          <a:xfrm>
            <a:off x="2214720" y="4500720"/>
            <a:ext cx="571320" cy="642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11 CuadroTexto"/>
          <p:cNvSpPr/>
          <p:nvPr/>
        </p:nvSpPr>
        <p:spPr>
          <a:xfrm>
            <a:off x="-214200" y="4211640"/>
            <a:ext cx="242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20,7 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12.645.736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asto Públic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286080" y="1357200"/>
          <a:ext cx="5643720" cy="4000680"/>
        </p:xfrm>
        <a:graphic>
          <a:graphicData uri="http://schemas.openxmlformats.org/drawingml/2006/table">
            <a:tbl>
              <a:tblPr/>
              <a:tblGrid>
                <a:gridCol w="4807080"/>
                <a:gridCol w="836640"/>
              </a:tblGrid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edio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27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 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 Servicios Públicos Gener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2 Defen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 Orden Público y Segur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4 Asuntos Económ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5 Protección del Medio Ambi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6 Vivienda y Servicios Comunitar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7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8 Actividades Recreativas, Cultura y Relig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9 Educ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Protección So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: DIP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16 CuadroTexto"/>
          <p:cNvSpPr/>
          <p:nvPr/>
        </p:nvSpPr>
        <p:spPr>
          <a:xfrm>
            <a:off x="0" y="18572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61.090.510.000.00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IB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RRHH DEL ESTA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"/>
          <p:cNvPicPr/>
          <p:nvPr/>
        </p:nvPicPr>
        <p:blipFill>
          <a:blip r:embed="rId3"/>
          <a:stretch/>
        </p:blipFill>
        <p:spPr>
          <a:xfrm>
            <a:off x="692928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"/>
          <p:cNvPicPr/>
          <p:nvPr/>
        </p:nvPicPr>
        <p:blipFill>
          <a:blip r:embed="rId4"/>
          <a:stretch/>
        </p:blipFill>
        <p:spPr>
          <a:xfrm>
            <a:off x="60008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7" descr=""/>
          <p:cNvPicPr/>
          <p:nvPr/>
        </p:nvPicPr>
        <p:blipFill>
          <a:blip r:embed="rId5"/>
          <a:stretch/>
        </p:blipFill>
        <p:spPr>
          <a:xfrm>
            <a:off x="507204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6"/>
          <a:stretch/>
        </p:blipFill>
        <p:spPr>
          <a:xfrm>
            <a:off x="414324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"/>
          <p:cNvPicPr/>
          <p:nvPr/>
        </p:nvPicPr>
        <p:blipFill>
          <a:blip r:embed="rId7"/>
          <a:stretch/>
        </p:blipFill>
        <p:spPr>
          <a:xfrm>
            <a:off x="32148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"/>
          <p:cNvPicPr/>
          <p:nvPr/>
        </p:nvPicPr>
        <p:blipFill>
          <a:blip r:embed="rId8"/>
          <a:stretch/>
        </p:blipFill>
        <p:spPr>
          <a:xfrm>
            <a:off x="228600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"/>
          <p:cNvPicPr/>
          <p:nvPr/>
        </p:nvPicPr>
        <p:blipFill>
          <a:blip r:embed="rId9"/>
          <a:stretch/>
        </p:blipFill>
        <p:spPr>
          <a:xfrm>
            <a:off x="1357200" y="3643200"/>
            <a:ext cx="857520" cy="1695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"/>
          <p:cNvPicPr/>
          <p:nvPr/>
        </p:nvPicPr>
        <p:blipFill>
          <a:blip r:embed="rId10"/>
          <a:stretch/>
        </p:blipFill>
        <p:spPr>
          <a:xfrm>
            <a:off x="428760" y="3643200"/>
            <a:ext cx="857160" cy="1695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3" descr=""/>
          <p:cNvPicPr/>
          <p:nvPr/>
        </p:nvPicPr>
        <p:blipFill>
          <a:blip r:embed="rId11"/>
          <a:stretch/>
        </p:blipFill>
        <p:spPr>
          <a:xfrm>
            <a:off x="785808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4" descr=""/>
          <p:cNvPicPr/>
          <p:nvPr/>
        </p:nvPicPr>
        <p:blipFill>
          <a:blip r:embed="rId12"/>
          <a:stretch/>
        </p:blipFill>
        <p:spPr>
          <a:xfrm>
            <a:off x="692928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"/>
          <p:cNvPicPr/>
          <p:nvPr/>
        </p:nvPicPr>
        <p:blipFill>
          <a:blip r:embed="rId13"/>
          <a:stretch/>
        </p:blipFill>
        <p:spPr>
          <a:xfrm>
            <a:off x="60008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6" descr=""/>
          <p:cNvPicPr/>
          <p:nvPr/>
        </p:nvPicPr>
        <p:blipFill>
          <a:blip r:embed="rId14"/>
          <a:stretch/>
        </p:blipFill>
        <p:spPr>
          <a:xfrm>
            <a:off x="507204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"/>
          <p:cNvPicPr/>
          <p:nvPr/>
        </p:nvPicPr>
        <p:blipFill>
          <a:blip r:embed="rId15"/>
          <a:stretch/>
        </p:blipFill>
        <p:spPr>
          <a:xfrm>
            <a:off x="4143240" y="1571760"/>
            <a:ext cx="857520" cy="16952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8" descr=""/>
          <p:cNvPicPr/>
          <p:nvPr/>
        </p:nvPicPr>
        <p:blipFill>
          <a:blip r:embed="rId16"/>
          <a:stretch/>
        </p:blipFill>
        <p:spPr>
          <a:xfrm>
            <a:off x="3214800" y="1571760"/>
            <a:ext cx="857160" cy="1695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9" descr=""/>
          <p:cNvPicPr/>
          <p:nvPr/>
        </p:nvPicPr>
        <p:blipFill>
          <a:blip r:embed="rId17"/>
          <a:stretch/>
        </p:blipFill>
        <p:spPr>
          <a:xfrm>
            <a:off x="2286000" y="1571760"/>
            <a:ext cx="857160" cy="1695240"/>
          </a:xfrm>
          <a:prstGeom prst="rect">
            <a:avLst/>
          </a:prstGeom>
          <a:ln w="0">
            <a:noFill/>
          </a:ln>
        </p:spPr>
      </p:pic>
      <p:sp>
        <p:nvSpPr>
          <p:cNvPr id="390" name="22 CuadroTexto"/>
          <p:cNvSpPr/>
          <p:nvPr/>
        </p:nvSpPr>
        <p:spPr>
          <a:xfrm>
            <a:off x="857160" y="5857920"/>
            <a:ext cx="7000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Schoolbook"/>
              </a:rPr>
              <a:t>155.942 personas </a:t>
            </a: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(promedio 1998-2007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Administración Central + Contraloría + Poder Judicial + Congreso + Ministerio Público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" descr=""/>
          <p:cNvPicPr/>
          <p:nvPr/>
        </p:nvPicPr>
        <p:blipFill>
          <a:blip r:embed="rId1"/>
          <a:stretch/>
        </p:blipFill>
        <p:spPr>
          <a:xfrm>
            <a:off x="5929200" y="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COMPRAS PÚBLICAS </a:t>
            </a:r>
            <a:r>
              <a:rPr b="0" lang="es-ES" sz="2800" spc="-1" strike="noStrike">
                <a:solidFill>
                  <a:srgbClr val="575f6d"/>
                </a:solidFill>
                <a:latin typeface="Century Schoolbook"/>
              </a:rPr>
              <a:t>(CHILECOMPRAS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3" name="Picture 1" descr=""/>
          <p:cNvPicPr/>
          <p:nvPr/>
        </p:nvPicPr>
        <p:blipFill>
          <a:blip r:embed="rId2"/>
          <a:stretch/>
        </p:blipFill>
        <p:spPr>
          <a:xfrm>
            <a:off x="285840" y="1585800"/>
            <a:ext cx="6815160" cy="496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6072120" y="2786040"/>
          <a:ext cx="3071880" cy="291960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transado 2008 (Millones de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oportunidades de negoc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.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úmero órdenes de comp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.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6014880" y="0"/>
            <a:ext cx="3129120" cy="25002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INVERSIÓN PÚBLICA V/S PRIVAD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4 Marcador de contenido" descr=""/>
          <p:cNvPicPr/>
          <p:nvPr/>
        </p:nvPicPr>
        <p:blipFill>
          <a:blip r:embed="rId2"/>
          <a:stretch/>
        </p:blipFill>
        <p:spPr>
          <a:xfrm>
            <a:off x="0" y="1357200"/>
            <a:ext cx="5786280" cy="350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2071800" y="4714920"/>
          <a:ext cx="4857480" cy="1928880"/>
        </p:xfrm>
        <a:graphic>
          <a:graphicData uri="http://schemas.openxmlformats.org/drawingml/2006/table">
            <a:tbl>
              <a:tblPr/>
              <a:tblGrid>
                <a:gridCol w="996840"/>
                <a:gridCol w="1930320"/>
                <a:gridCol w="1930320"/>
              </a:tblGrid>
              <a:tr h="1006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tivas de Inversión (MU$ 20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447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15.099.8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23.8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ff"/>
                      </a:solidFill>
                    </a:lnT>
                    <a:lnB w="288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67.512.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17.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9" name="6 CuadroTexto"/>
          <p:cNvSpPr/>
          <p:nvPr/>
        </p:nvSpPr>
        <p:spPr>
          <a:xfrm>
            <a:off x="5429160" y="2928960"/>
            <a:ext cx="257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Eduardo Contrera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7 CuadroTexto"/>
          <p:cNvSpPr/>
          <p:nvPr/>
        </p:nvSpPr>
        <p:spPr>
          <a:xfrm>
            <a:off x="7000920" y="492912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DIPRE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BENEFICIARIOS POR TIPO DE SISTEMA DE SALUD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04" name="5 Gráfico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7286760" cy="4714920"/>
          </a:xfrm>
          <a:prstGeom prst="rect">
            <a:avLst/>
          </a:prstGeom>
          <a:ln w="0">
            <a:noFill/>
          </a:ln>
        </p:spPr>
      </p:pic>
      <p:sp>
        <p:nvSpPr>
          <p:cNvPr id="40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DISTRIBUCIÓN DE LA POBLACIÓN MAYORES DE 60 AÑOS SEGÚN TIPO DE SISTEMA DE SALUD (%)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CASEN 2006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150840" y="1000080"/>
            <a:ext cx="8707320" cy="52293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"/>
          <p:cNvPicPr/>
          <p:nvPr/>
        </p:nvPicPr>
        <p:blipFill>
          <a:blip r:embed="rId2"/>
          <a:stretch/>
        </p:blipFill>
        <p:spPr>
          <a:xfrm>
            <a:off x="0" y="5456160"/>
            <a:ext cx="1428840" cy="1401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929280" y="5691240"/>
            <a:ext cx="2214720" cy="11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TENCIONES DE URGENCIA SISTEMA PÚBLICO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5072040" y="4643280"/>
            <a:ext cx="3095640" cy="1632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"/>
          <p:cNvPicPr/>
          <p:nvPr/>
        </p:nvPicPr>
        <p:blipFill>
          <a:blip r:embed="rId2"/>
          <a:stretch/>
        </p:blipFill>
        <p:spPr>
          <a:xfrm>
            <a:off x="142920" y="4857840"/>
            <a:ext cx="2038320" cy="2000160"/>
          </a:xfrm>
          <a:prstGeom prst="rect">
            <a:avLst/>
          </a:prstGeom>
          <a:ln w="0">
            <a:noFill/>
          </a:ln>
        </p:spPr>
      </p:pic>
      <p:pic>
        <p:nvPicPr>
          <p:cNvPr id="414" name="5 Gráfico" descr=""/>
          <p:cNvPicPr/>
          <p:nvPr/>
        </p:nvPicPr>
        <p:blipFill>
          <a:blip r:embed="rId3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5" name="7 CuadroTexto"/>
          <p:cNvSpPr/>
          <p:nvPr/>
        </p:nvSpPr>
        <p:spPr>
          <a:xfrm>
            <a:off x="2571840" y="65502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entury Schoolbook"/>
              </a:rPr>
              <a:t>Fuente: A partir de CASEN 2006 e 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6" name="6 Elipse"/>
          <p:cNvSpPr/>
          <p:nvPr/>
        </p:nvSpPr>
        <p:spPr>
          <a:xfrm>
            <a:off x="1857240" y="3286080"/>
            <a:ext cx="1571760" cy="500040"/>
          </a:xfrm>
          <a:prstGeom prst="ellipse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17:03:49Z</dcterms:created>
  <dc:creator>Edacunaf</dc:creator>
  <dc:description/>
  <dc:language>en-US</dc:language>
  <cp:lastModifiedBy>Edacunaf</cp:lastModifiedBy>
  <dcterms:modified xsi:type="dcterms:W3CDTF">2009-07-31T20:56:26Z</dcterms:modified>
  <cp:revision>43</cp:revision>
  <dc:subject/>
  <dc:title>Clase Nº1: Importancia del Sector Público en el Desarrollo de Chile</dc:title>
</cp:coreProperties>
</file>