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4.png" ContentType="image/png"/>
  <Override PartName="/ppt/media/image18.wmf" ContentType="image/x-wmf"/>
  <Override PartName="/ppt/media/image1.png" ContentType="image/png"/>
  <Override PartName="/ppt/media/image3.jpeg" ContentType="image/jpe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ldImg"/>
          </p:nvPr>
        </p:nvSpPr>
        <p:spPr>
          <a:xfrm>
            <a:off x="780840" y="1320480"/>
            <a:ext cx="4089240" cy="3066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hdr"/>
          </p:nvPr>
        </p:nvSpPr>
        <p:spPr>
          <a:xfrm>
            <a:off x="63000" y="9303840"/>
            <a:ext cx="3549960" cy="34308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Session 3: Process Analysi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4"/>
          </p:nvPr>
        </p:nvSpPr>
        <p:spPr>
          <a:xfrm>
            <a:off x="232920" y="-360"/>
            <a:ext cx="2846520" cy="34452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  <a:defRPr b="0" lang="en-US" sz="900" spc="-1" strike="noStrike">
                <a:solidFill>
                  <a:srgbClr val="000000"/>
                </a:solidFill>
                <a:latin typeface="Palatino Linotyp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Competitive Advantage From Operation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4296960" y="-360"/>
            <a:ext cx="3019320" cy="34452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  <a:defRPr b="0" lang="en-US" sz="900" spc="-1" strike="noStrike">
                <a:solidFill>
                  <a:srgbClr val="000000"/>
                </a:solidFill>
                <a:latin typeface="Palatino Linotyp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Prof: Ren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é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  Caldente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stern" descr=""/>
          <p:cNvPicPr/>
          <p:nvPr/>
        </p:nvPicPr>
        <p:blipFill>
          <a:blip r:embed="rId2"/>
          <a:stretch/>
        </p:blipFill>
        <p:spPr>
          <a:xfrm>
            <a:off x="6046920" y="9228240"/>
            <a:ext cx="1209600" cy="3110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731520" y="4560480"/>
            <a:ext cx="5851800" cy="43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" Target="../slides/slide11.xml"/><Relationship Id="rId3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" Target="../slides/slide13.xml"/><Relationship Id="rId3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" Target="../slides/slide15.xml"/><Relationship Id="rId3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" Target="../slides/slide17.xml"/><Relationship Id="rId3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" Target="../slides/slide18.xml"/><Relationship Id="rId4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slide" Target="../slides/slide20.xml"/><Relationship Id="rId4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" Target="../slides/slide3.xml"/><Relationship Id="rId3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" Target="../slides/slide5.xml"/><Relationship Id="rId3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" Target="../slides/slide7.xml"/><Relationship Id="rId3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" Target="../slides/slide9.xml"/><Relationship Id="rId3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781200" y="1320840"/>
            <a:ext cx="4089240" cy="3066840"/>
          </a:xfrm>
          <a:prstGeom prst="rect">
            <a:avLst/>
          </a:prstGeom>
          <a:ln w="0">
            <a:noFill/>
          </a:ln>
        </p:spPr>
      </p:sp>
      <p:pic>
        <p:nvPicPr>
          <p:cNvPr id="454" name="" descr=""/>
          <p:cNvPicPr/>
          <p:nvPr/>
        </p:nvPicPr>
        <p:blipFill>
          <a:blip r:embed="rId1"/>
          <a:stretch/>
        </p:blipFill>
        <p:spPr>
          <a:xfrm>
            <a:off x="762120" y="5473800"/>
            <a:ext cx="4128840" cy="306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455" name=""/>
          <p:cNvGrpSpPr/>
          <p:nvPr/>
        </p:nvGrpSpPr>
        <p:grpSpPr>
          <a:xfrm>
            <a:off x="4898160" y="1279440"/>
            <a:ext cx="2237400" cy="7121160"/>
            <a:chOff x="4898160" y="1279440"/>
            <a:chExt cx="2237400" cy="7121160"/>
          </a:xfrm>
        </p:grpSpPr>
        <p:sp>
          <p:nvSpPr>
            <p:cNvPr id="456" name=""/>
            <p:cNvSpPr/>
            <p:nvPr/>
          </p:nvSpPr>
          <p:spPr>
            <a:xfrm>
              <a:off x="4900680" y="1279440"/>
              <a:ext cx="605160" cy="2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880" rIns="101880" tIns="51120" bIns="511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4898160" y="5427000"/>
              <a:ext cx="605160" cy="2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880" rIns="101880" tIns="51120" bIns="511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5032440" y="168228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5032440" y="191736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032440" y="238752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5032440" y="215244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032440" y="26226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032440" y="285768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5032440" y="332784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5032440" y="309276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5032440" y="356292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5032440" y="37980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032440" y="42678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032440" y="403272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5032440" y="581508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5032440" y="605016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5032440" y="652032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5032440" y="628524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032440" y="67554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5032440" y="699048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032440" y="746064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5032440" y="722556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032440" y="769572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032440" y="79308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5032440" y="84006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5032440" y="816588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2689200" y="1320840"/>
            <a:ext cx="4089600" cy="3066840"/>
          </a:xfrm>
          <a:prstGeom prst="rect">
            <a:avLst/>
          </a:prstGeom>
          <a:ln w="0">
            <a:noFill/>
          </a:ln>
        </p:spPr>
      </p:sp>
      <p:pic>
        <p:nvPicPr>
          <p:cNvPr id="599" name="" descr=""/>
          <p:cNvPicPr/>
          <p:nvPr/>
        </p:nvPicPr>
        <p:blipFill>
          <a:blip r:embed="rId1"/>
          <a:stretch/>
        </p:blipFill>
        <p:spPr>
          <a:xfrm>
            <a:off x="2670120" y="5473800"/>
            <a:ext cx="4129200" cy="306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600" name=""/>
          <p:cNvGrpSpPr/>
          <p:nvPr/>
        </p:nvGrpSpPr>
        <p:grpSpPr>
          <a:xfrm>
            <a:off x="246960" y="1279440"/>
            <a:ext cx="2237040" cy="7121160"/>
            <a:chOff x="246960" y="1279440"/>
            <a:chExt cx="2237040" cy="7121160"/>
          </a:xfrm>
        </p:grpSpPr>
        <p:sp>
          <p:nvSpPr>
            <p:cNvPr id="601" name=""/>
            <p:cNvSpPr/>
            <p:nvPr/>
          </p:nvSpPr>
          <p:spPr>
            <a:xfrm>
              <a:off x="249480" y="1279440"/>
              <a:ext cx="605160" cy="2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880" rIns="101880" tIns="51120" bIns="511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246960" y="5427000"/>
              <a:ext cx="605160" cy="2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880" rIns="101880" tIns="51120" bIns="511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381240" y="168228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381240" y="191736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381240" y="238752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81240" y="215244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381240" y="26226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381240" y="285768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81240" y="332784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381240" y="309276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381240" y="356292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81240" y="37980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381240" y="42678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381240" y="403272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381240" y="581508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381240" y="605016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381240" y="652032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381240" y="628524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381240" y="67554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381240" y="699048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381240" y="746064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381240" y="722556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381240" y="769572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381240" y="79308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381240" y="84006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381240" y="816588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781200" y="1320840"/>
            <a:ext cx="4089240" cy="3066840"/>
          </a:xfrm>
          <a:prstGeom prst="rect">
            <a:avLst/>
          </a:prstGeom>
          <a:ln w="0">
            <a:noFill/>
          </a:ln>
        </p:spPr>
      </p:sp>
      <p:pic>
        <p:nvPicPr>
          <p:cNvPr id="628" name="" descr=""/>
          <p:cNvPicPr/>
          <p:nvPr/>
        </p:nvPicPr>
        <p:blipFill>
          <a:blip r:embed="rId1"/>
          <a:stretch/>
        </p:blipFill>
        <p:spPr>
          <a:xfrm>
            <a:off x="762120" y="5473800"/>
            <a:ext cx="4128840" cy="306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629" name=""/>
          <p:cNvGrpSpPr/>
          <p:nvPr/>
        </p:nvGrpSpPr>
        <p:grpSpPr>
          <a:xfrm>
            <a:off x="4898160" y="1279440"/>
            <a:ext cx="2237400" cy="7121160"/>
            <a:chOff x="4898160" y="1279440"/>
            <a:chExt cx="2237400" cy="7121160"/>
          </a:xfrm>
        </p:grpSpPr>
        <p:sp>
          <p:nvSpPr>
            <p:cNvPr id="630" name=""/>
            <p:cNvSpPr/>
            <p:nvPr/>
          </p:nvSpPr>
          <p:spPr>
            <a:xfrm>
              <a:off x="4900680" y="1279440"/>
              <a:ext cx="605160" cy="2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880" rIns="101880" tIns="51120" bIns="511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4898160" y="5427000"/>
              <a:ext cx="605160" cy="2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880" rIns="101880" tIns="51120" bIns="511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032440" y="168228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5032440" y="191736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5032440" y="238752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5032440" y="215244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5032440" y="26226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5032440" y="285768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5032440" y="332784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5032440" y="309276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5032440" y="356292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5032440" y="37980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5032440" y="42678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032440" y="403272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5032440" y="581508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5032440" y="605016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032440" y="652032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5032440" y="628524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032440" y="67554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5032440" y="699048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5032440" y="746064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5032440" y="722556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5032440" y="769572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5032440" y="79308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5032440" y="84006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5032440" y="816588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sldImg"/>
          </p:nvPr>
        </p:nvSpPr>
        <p:spPr>
          <a:xfrm>
            <a:off x="2689200" y="1320840"/>
            <a:ext cx="4089600" cy="3066840"/>
          </a:xfrm>
          <a:prstGeom prst="rect">
            <a:avLst/>
          </a:prstGeom>
          <a:ln w="0">
            <a:noFill/>
          </a:ln>
        </p:spPr>
      </p:sp>
      <p:pic>
        <p:nvPicPr>
          <p:cNvPr id="657" name="" descr=""/>
          <p:cNvPicPr/>
          <p:nvPr/>
        </p:nvPicPr>
        <p:blipFill>
          <a:blip r:embed="rId1"/>
          <a:stretch/>
        </p:blipFill>
        <p:spPr>
          <a:xfrm>
            <a:off x="2670120" y="5473800"/>
            <a:ext cx="4129200" cy="306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658" name=""/>
          <p:cNvGrpSpPr/>
          <p:nvPr/>
        </p:nvGrpSpPr>
        <p:grpSpPr>
          <a:xfrm>
            <a:off x="246960" y="1279440"/>
            <a:ext cx="2237040" cy="7121160"/>
            <a:chOff x="246960" y="1279440"/>
            <a:chExt cx="2237040" cy="7121160"/>
          </a:xfrm>
        </p:grpSpPr>
        <p:sp>
          <p:nvSpPr>
            <p:cNvPr id="659" name=""/>
            <p:cNvSpPr/>
            <p:nvPr/>
          </p:nvSpPr>
          <p:spPr>
            <a:xfrm>
              <a:off x="249480" y="1279440"/>
              <a:ext cx="605160" cy="2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880" rIns="101880" tIns="51120" bIns="511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246960" y="5427000"/>
              <a:ext cx="605160" cy="2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880" rIns="101880" tIns="51120" bIns="511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381240" y="168228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381240" y="191736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381240" y="238752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381240" y="215244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381240" y="26226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381240" y="285768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81240" y="332784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381240" y="309276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381240" y="356292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381240" y="37980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381240" y="42678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381240" y="403272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381240" y="581508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381240" y="605016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381240" y="652032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381240" y="628524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381240" y="67554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381240" y="699048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381240" y="746064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381240" y="722556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381240" y="769572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81240" y="79308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381240" y="84006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381240" y="816588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sldImg"/>
          </p:nvPr>
        </p:nvSpPr>
        <p:spPr>
          <a:xfrm>
            <a:off x="781200" y="1320840"/>
            <a:ext cx="4089240" cy="3066840"/>
          </a:xfrm>
          <a:prstGeom prst="rect">
            <a:avLst/>
          </a:prstGeom>
          <a:ln w="0">
            <a:noFill/>
          </a:ln>
        </p:spPr>
      </p:sp>
      <p:pic>
        <p:nvPicPr>
          <p:cNvPr id="686" name="" descr=""/>
          <p:cNvPicPr/>
          <p:nvPr/>
        </p:nvPicPr>
        <p:blipFill>
          <a:blip r:embed="rId1"/>
          <a:stretch/>
        </p:blipFill>
        <p:spPr>
          <a:xfrm>
            <a:off x="762120" y="5473800"/>
            <a:ext cx="4128840" cy="306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687" name=""/>
          <p:cNvGrpSpPr/>
          <p:nvPr/>
        </p:nvGrpSpPr>
        <p:grpSpPr>
          <a:xfrm>
            <a:off x="4898160" y="1279440"/>
            <a:ext cx="2237400" cy="7121160"/>
            <a:chOff x="4898160" y="1279440"/>
            <a:chExt cx="2237400" cy="7121160"/>
          </a:xfrm>
        </p:grpSpPr>
        <p:sp>
          <p:nvSpPr>
            <p:cNvPr id="688" name=""/>
            <p:cNvSpPr/>
            <p:nvPr/>
          </p:nvSpPr>
          <p:spPr>
            <a:xfrm>
              <a:off x="4900680" y="1279440"/>
              <a:ext cx="605160" cy="2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880" rIns="101880" tIns="51120" bIns="511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4898160" y="5427000"/>
              <a:ext cx="605160" cy="2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880" rIns="101880" tIns="51120" bIns="511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5032440" y="168228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5032440" y="191736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5032440" y="238752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5032440" y="215244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5032440" y="26226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5032440" y="285768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5032440" y="332784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5032440" y="309276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5032440" y="356292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5032440" y="37980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5032440" y="42678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032440" y="403272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5032440" y="581508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5032440" y="605016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5032440" y="652032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5032440" y="628524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5032440" y="67554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5032440" y="699048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032440" y="746064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032440" y="722556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5032440" y="769572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032440" y="79308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5032440" y="84006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032440" y="816588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4" name="" descr=""/>
          <p:cNvPicPr/>
          <p:nvPr/>
        </p:nvPicPr>
        <p:blipFill>
          <a:blip r:embed="rId1"/>
          <a:stretch/>
        </p:blipFill>
        <p:spPr>
          <a:xfrm>
            <a:off x="2670120" y="1320840"/>
            <a:ext cx="4129200" cy="306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715" name=""/>
          <p:cNvGrpSpPr/>
          <p:nvPr/>
        </p:nvGrpSpPr>
        <p:grpSpPr>
          <a:xfrm>
            <a:off x="246960" y="1279440"/>
            <a:ext cx="2237040" cy="7121160"/>
            <a:chOff x="246960" y="1279440"/>
            <a:chExt cx="2237040" cy="7121160"/>
          </a:xfrm>
        </p:grpSpPr>
        <p:sp>
          <p:nvSpPr>
            <p:cNvPr id="716" name=""/>
            <p:cNvSpPr/>
            <p:nvPr/>
          </p:nvSpPr>
          <p:spPr>
            <a:xfrm>
              <a:off x="249480" y="1279440"/>
              <a:ext cx="605160" cy="2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880" rIns="101880" tIns="51120" bIns="511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246960" y="5427000"/>
              <a:ext cx="605160" cy="2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880" rIns="101880" tIns="51120" bIns="511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381240" y="168228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381240" y="191736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381240" y="238752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381240" y="215244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381240" y="26226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381240" y="285768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381240" y="332784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381240" y="309276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381240" y="356292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381240" y="37980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381240" y="42678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381240" y="403272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81240" y="581508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81240" y="605016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381240" y="652032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381240" y="628524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381240" y="67554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381240" y="699048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381240" y="746064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81240" y="722556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81240" y="769572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381240" y="79308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381240" y="84006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381240" y="816588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42" name="" descr=""/>
          <p:cNvPicPr/>
          <p:nvPr/>
        </p:nvPicPr>
        <p:blipFill>
          <a:blip r:embed="rId2"/>
          <a:stretch/>
        </p:blipFill>
        <p:spPr>
          <a:xfrm>
            <a:off x="2670120" y="5473800"/>
            <a:ext cx="4140360" cy="3068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3" name="" descr=""/>
          <p:cNvPicPr/>
          <p:nvPr/>
        </p:nvPicPr>
        <p:blipFill>
          <a:blip r:embed="rId1"/>
          <a:stretch/>
        </p:blipFill>
        <p:spPr>
          <a:xfrm>
            <a:off x="762120" y="1320840"/>
            <a:ext cx="4128840" cy="306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744" name=""/>
          <p:cNvGrpSpPr/>
          <p:nvPr/>
        </p:nvGrpSpPr>
        <p:grpSpPr>
          <a:xfrm>
            <a:off x="4898160" y="1279440"/>
            <a:ext cx="2237400" cy="7121160"/>
            <a:chOff x="4898160" y="1279440"/>
            <a:chExt cx="2237400" cy="7121160"/>
          </a:xfrm>
        </p:grpSpPr>
        <p:sp>
          <p:nvSpPr>
            <p:cNvPr id="745" name=""/>
            <p:cNvSpPr/>
            <p:nvPr/>
          </p:nvSpPr>
          <p:spPr>
            <a:xfrm>
              <a:off x="4900680" y="1279440"/>
              <a:ext cx="605160" cy="2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880" rIns="101880" tIns="51120" bIns="511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4898160" y="5427000"/>
              <a:ext cx="605160" cy="2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880" rIns="101880" tIns="51120" bIns="511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032440" y="168228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032440" y="191736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5032440" y="238752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5032440" y="215244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5032440" y="26226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5032440" y="285768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5032440" y="332784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5032440" y="309276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5032440" y="356292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5032440" y="37980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5032440" y="42678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5032440" y="403272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5032440" y="581508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5032440" y="605016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5032440" y="652032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5032440" y="628524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5032440" y="67554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5032440" y="699048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5032440" y="746064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032440" y="722556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5032440" y="769572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5032440" y="79308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5032440" y="84006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5032440" y="816588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71" name="" descr=""/>
          <p:cNvPicPr/>
          <p:nvPr/>
        </p:nvPicPr>
        <p:blipFill>
          <a:blip r:embed="rId2"/>
          <a:stretch/>
        </p:blipFill>
        <p:spPr>
          <a:xfrm>
            <a:off x="762120" y="5473800"/>
            <a:ext cx="4132080" cy="3068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2689200" y="1320840"/>
            <a:ext cx="4089600" cy="3066840"/>
          </a:xfrm>
          <a:prstGeom prst="rect">
            <a:avLst/>
          </a:prstGeom>
          <a:ln w="0">
            <a:noFill/>
          </a:ln>
        </p:spPr>
      </p:sp>
      <p:pic>
        <p:nvPicPr>
          <p:cNvPr id="483" name="" descr=""/>
          <p:cNvPicPr/>
          <p:nvPr/>
        </p:nvPicPr>
        <p:blipFill>
          <a:blip r:embed="rId1"/>
          <a:stretch/>
        </p:blipFill>
        <p:spPr>
          <a:xfrm>
            <a:off x="2670120" y="5473800"/>
            <a:ext cx="4129200" cy="306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484" name=""/>
          <p:cNvGrpSpPr/>
          <p:nvPr/>
        </p:nvGrpSpPr>
        <p:grpSpPr>
          <a:xfrm>
            <a:off x="246960" y="1279440"/>
            <a:ext cx="2237040" cy="7121160"/>
            <a:chOff x="246960" y="1279440"/>
            <a:chExt cx="2237040" cy="7121160"/>
          </a:xfrm>
        </p:grpSpPr>
        <p:sp>
          <p:nvSpPr>
            <p:cNvPr id="485" name=""/>
            <p:cNvSpPr/>
            <p:nvPr/>
          </p:nvSpPr>
          <p:spPr>
            <a:xfrm>
              <a:off x="249480" y="1279440"/>
              <a:ext cx="605160" cy="2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880" rIns="101880" tIns="51120" bIns="511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46960" y="5427000"/>
              <a:ext cx="605160" cy="2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880" rIns="101880" tIns="51120" bIns="511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381240" y="168228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381240" y="191736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381240" y="238752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381240" y="215244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381240" y="26226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81240" y="285768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381240" y="332784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381240" y="309276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381240" y="356292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381240" y="37980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381240" y="42678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381240" y="403272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81240" y="581508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81240" y="605016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381240" y="652032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381240" y="628524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381240" y="67554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381240" y="699048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381240" y="746064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381240" y="722556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381240" y="769572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381240" y="79308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381240" y="84006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381240" y="816588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781200" y="1320840"/>
            <a:ext cx="4089240" cy="3066840"/>
          </a:xfrm>
          <a:prstGeom prst="rect">
            <a:avLst/>
          </a:prstGeom>
          <a:ln w="0">
            <a:noFill/>
          </a:ln>
        </p:spPr>
      </p:sp>
      <p:pic>
        <p:nvPicPr>
          <p:cNvPr id="512" name="" descr=""/>
          <p:cNvPicPr/>
          <p:nvPr/>
        </p:nvPicPr>
        <p:blipFill>
          <a:blip r:embed="rId1"/>
          <a:stretch/>
        </p:blipFill>
        <p:spPr>
          <a:xfrm>
            <a:off x="762120" y="5473800"/>
            <a:ext cx="4128840" cy="306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513" name=""/>
          <p:cNvGrpSpPr/>
          <p:nvPr/>
        </p:nvGrpSpPr>
        <p:grpSpPr>
          <a:xfrm>
            <a:off x="4898160" y="1279440"/>
            <a:ext cx="2237400" cy="7121160"/>
            <a:chOff x="4898160" y="1279440"/>
            <a:chExt cx="2237400" cy="7121160"/>
          </a:xfrm>
        </p:grpSpPr>
        <p:sp>
          <p:nvSpPr>
            <p:cNvPr id="514" name=""/>
            <p:cNvSpPr/>
            <p:nvPr/>
          </p:nvSpPr>
          <p:spPr>
            <a:xfrm>
              <a:off x="4900680" y="1279440"/>
              <a:ext cx="605160" cy="2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880" rIns="101880" tIns="51120" bIns="511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4898160" y="5427000"/>
              <a:ext cx="605160" cy="2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880" rIns="101880" tIns="51120" bIns="511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5032440" y="168228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5032440" y="191736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5032440" y="238752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5032440" y="215244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5032440" y="26226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5032440" y="285768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5032440" y="332784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032440" y="309276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5032440" y="356292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5032440" y="37980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032440" y="42678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5032440" y="403272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5032440" y="581508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032440" y="605016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5032440" y="652032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5032440" y="628524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5032440" y="67554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032440" y="699048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5032440" y="746064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5032440" y="722556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5032440" y="769572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5032440" y="79308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5032440" y="84006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032440" y="816588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2689200" y="1320840"/>
            <a:ext cx="4089600" cy="3066840"/>
          </a:xfrm>
          <a:prstGeom prst="rect">
            <a:avLst/>
          </a:prstGeom>
          <a:ln w="0">
            <a:noFill/>
          </a:ln>
        </p:spPr>
      </p:sp>
      <p:pic>
        <p:nvPicPr>
          <p:cNvPr id="541" name="" descr=""/>
          <p:cNvPicPr/>
          <p:nvPr/>
        </p:nvPicPr>
        <p:blipFill>
          <a:blip r:embed="rId1"/>
          <a:stretch/>
        </p:blipFill>
        <p:spPr>
          <a:xfrm>
            <a:off x="2670120" y="5473800"/>
            <a:ext cx="4129200" cy="306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542" name=""/>
          <p:cNvGrpSpPr/>
          <p:nvPr/>
        </p:nvGrpSpPr>
        <p:grpSpPr>
          <a:xfrm>
            <a:off x="246960" y="1279440"/>
            <a:ext cx="2237040" cy="7121160"/>
            <a:chOff x="246960" y="1279440"/>
            <a:chExt cx="2237040" cy="7121160"/>
          </a:xfrm>
        </p:grpSpPr>
        <p:sp>
          <p:nvSpPr>
            <p:cNvPr id="543" name=""/>
            <p:cNvSpPr/>
            <p:nvPr/>
          </p:nvSpPr>
          <p:spPr>
            <a:xfrm>
              <a:off x="249480" y="1279440"/>
              <a:ext cx="605160" cy="2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880" rIns="101880" tIns="51120" bIns="511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246960" y="5427000"/>
              <a:ext cx="605160" cy="2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880" rIns="101880" tIns="51120" bIns="511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381240" y="168228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381240" y="191736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81240" y="238752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81240" y="215244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81240" y="26226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381240" y="285768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381240" y="332784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381240" y="309276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381240" y="356292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381240" y="37980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381240" y="42678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381240" y="403272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381240" y="581508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1240" y="605016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81240" y="652032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381240" y="628524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381240" y="67554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381240" y="699048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381240" y="746064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381240" y="722556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381240" y="769572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381240" y="79308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81240" y="84006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240" y="816588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781200" y="1320840"/>
            <a:ext cx="4089240" cy="3066840"/>
          </a:xfrm>
          <a:prstGeom prst="rect">
            <a:avLst/>
          </a:prstGeom>
          <a:ln w="0">
            <a:noFill/>
          </a:ln>
        </p:spPr>
      </p:sp>
      <p:pic>
        <p:nvPicPr>
          <p:cNvPr id="570" name="" descr=""/>
          <p:cNvPicPr/>
          <p:nvPr/>
        </p:nvPicPr>
        <p:blipFill>
          <a:blip r:embed="rId1"/>
          <a:stretch/>
        </p:blipFill>
        <p:spPr>
          <a:xfrm>
            <a:off x="762120" y="5473800"/>
            <a:ext cx="4128840" cy="306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571" name=""/>
          <p:cNvGrpSpPr/>
          <p:nvPr/>
        </p:nvGrpSpPr>
        <p:grpSpPr>
          <a:xfrm>
            <a:off x="4898160" y="1279440"/>
            <a:ext cx="2237400" cy="7121160"/>
            <a:chOff x="4898160" y="1279440"/>
            <a:chExt cx="2237400" cy="7121160"/>
          </a:xfrm>
        </p:grpSpPr>
        <p:sp>
          <p:nvSpPr>
            <p:cNvPr id="572" name=""/>
            <p:cNvSpPr/>
            <p:nvPr/>
          </p:nvSpPr>
          <p:spPr>
            <a:xfrm>
              <a:off x="4900680" y="1279440"/>
              <a:ext cx="605160" cy="2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880" rIns="101880" tIns="51120" bIns="511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898160" y="5427000"/>
              <a:ext cx="605160" cy="2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880" rIns="101880" tIns="51120" bIns="511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032440" y="168228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5032440" y="191736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032440" y="238752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032440" y="215244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5032440" y="26226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5032440" y="285768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5032440" y="332784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5032440" y="309276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032440" y="356292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032440" y="37980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032440" y="42678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5032440" y="403272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5032440" y="581508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5032440" y="605016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5032440" y="652032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5032440" y="628524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5032440" y="67554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5032440" y="699048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5032440" y="746064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5032440" y="722556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032440" y="769572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032440" y="79308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5032440" y="84006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5032440" y="816588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C9659-DFED-4E7F-8AB5-84D6448AD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A9EB5-A139-40F4-BA85-54F5BCDB8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FDF29-B462-481A-B5DA-7D9CA00BE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8E103-E9C6-46E4-8A69-E240466A8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5F292-F4B2-45D1-AD21-D6901FAF5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6CE13-0EF3-4EBF-9F51-22386725C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E7B2A-E2EB-4B39-A0D2-A7C8EB585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70171-DDFC-401E-BBB6-9AB08837C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D8501-5D7B-41BA-8E28-19D50D3E5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9743C-ABCE-4B10-B596-FDB5AF13F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D0E29-8619-47A3-B0F8-BE322262D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DD29A-AFC3-48D1-8096-D3E0E3A20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3D99E-1A6C-4F93-9885-FD834D71E8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04920" y="6477120"/>
            <a:ext cx="5257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Palatino Linotype"/>
              </a:rPr>
              <a:t>Análisis de Proces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6981840" y="6299280"/>
            <a:ext cx="2162160" cy="495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59520"/>
            <a:ext cx="7772400" cy="169164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17175e"/>
              </a:gs>
              <a:gs pos="100000">
                <a:srgbClr val="3333cc"/>
              </a:gs>
            </a:gsLst>
            <a:lin ang="5400000"/>
          </a:gra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0" lang="es-CL" sz="5400" spc="-1" strike="noStrike">
                <a:solidFill>
                  <a:srgbClr val="ffffff"/>
                </a:solidFill>
                <a:latin typeface="Georgia"/>
              </a:rPr>
              <a:t>Análisis de Procesos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685800" y="2819520"/>
            <a:ext cx="7924680" cy="33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317520" y="152280"/>
            <a:ext cx="6845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Conceptos &amp; Definicio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3520" y="914400"/>
            <a:ext cx="78483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30120" y="1079640"/>
            <a:ext cx="83822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990033"/>
                </a:solidFill>
                <a:latin typeface="Garamond"/>
              </a:rPr>
              <a:t>Tiempo de Ciclo</a:t>
            </a:r>
            <a:r>
              <a:rPr b="0" lang="es-CL" sz="2400" spc="-1" strike="noStrike">
                <a:solidFill>
                  <a:srgbClr val="3333cc"/>
                </a:solidFill>
                <a:latin typeface="Garamond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= Tiempo </a:t>
            </a:r>
            <a:r>
              <a:rPr b="1" lang="es-CL" sz="2400" spc="-1" strike="noStrike" u="sng">
                <a:solidFill>
                  <a:srgbClr val="000000"/>
                </a:solidFill>
                <a:uFillTx/>
                <a:latin typeface="Garamond"/>
              </a:rPr>
              <a:t>promedio</a:t>
            </a: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 entre la producción de dos unidades  consecutivas en un procesos que produce continuame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990033"/>
                </a:solidFill>
                <a:latin typeface="Garamond"/>
              </a:rPr>
              <a:t>Capacidad</a:t>
            </a:r>
            <a:r>
              <a:rPr b="0" lang="es-CL" sz="2400" spc="-1" strike="noStrike">
                <a:solidFill>
                  <a:srgbClr val="3333cc"/>
                </a:solidFill>
                <a:latin typeface="Garamond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= Producción  </a:t>
            </a:r>
            <a:r>
              <a:rPr b="1" lang="es-CL" sz="2400" spc="-1" strike="noStrike" u="sng">
                <a:solidFill>
                  <a:srgbClr val="000000"/>
                </a:solidFill>
                <a:uFillTx/>
                <a:latin typeface="Garamond"/>
              </a:rPr>
              <a:t>promedio</a:t>
            </a: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 por unidad de tiempo cuando el proceso produce continuame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990033"/>
                </a:solidFill>
                <a:latin typeface="Garamond"/>
              </a:rPr>
              <a:t>Utilización </a:t>
            </a: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= Producción / Capacid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990033"/>
                </a:solidFill>
                <a:latin typeface="Garamond"/>
              </a:rPr>
              <a:t>Tiempo de Flujo</a:t>
            </a: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 = Tiempo que una unidad pasa en el sistema (incluyendo tiempos de esper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019600" y="3022560"/>
            <a:ext cx="5661000" cy="5205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3333cc"/>
                </a:solidFill>
                <a:latin typeface="Garamond"/>
              </a:rPr>
              <a:t>Capacidad = 1/ (Tiempo de Cicl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01680" y="5019840"/>
            <a:ext cx="8702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Garamond"/>
              </a:rPr>
              <a:t>Observacion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Garamond"/>
              </a:rPr>
              <a:t>Las medidas tiempo de ciclo, capacidad, utilización, tiempo de flujo pueden aplicarse a cada proceso o al sistema complet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Garamond"/>
              </a:rPr>
              <a:t>Tiempo de Flujo de un proceso no coincide necesariamente con Tiempo de Ciclo. Porqué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317520" y="152280"/>
            <a:ext cx="66168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Mas Conceptos &amp; Definicio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914400"/>
            <a:ext cx="78483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80880" y="1130400"/>
            <a:ext cx="853452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990033"/>
                </a:solidFill>
                <a:latin typeface="Garamond"/>
              </a:rPr>
              <a:t>Proceso en Batch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= Varias unidades son procesada simultáneamente. El número de unidades procesadas simultáneamente se conoce como </a:t>
            </a:r>
            <a:r>
              <a:rPr b="1" lang="es-CL" sz="2400" spc="-1" strike="noStrike">
                <a:solidFill>
                  <a:srgbClr val="990033"/>
                </a:solidFill>
                <a:latin typeface="Garamond"/>
              </a:rPr>
              <a:t>Tamaño de Lote</a:t>
            </a: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 (</a:t>
            </a:r>
            <a:r>
              <a:rPr b="1" lang="es-CL" sz="2400" spc="-1" strike="noStrike">
                <a:solidFill>
                  <a:srgbClr val="990033"/>
                </a:solidFill>
                <a:latin typeface="Garamond"/>
              </a:rPr>
              <a:t>Batch</a:t>
            </a: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4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990033"/>
                </a:solidFill>
                <a:latin typeface="Garamond"/>
              </a:rPr>
              <a:t>Cuello de Botella (CB)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= Operación/Recurso que limita la produccion total de un proceso: usualmente es la operación/recurso con menor capacid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2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990033"/>
                </a:solidFill>
                <a:latin typeface="Garamond"/>
              </a:rPr>
              <a:t>Capacidad del Sistema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= Capacidad del C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2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990033"/>
                </a:solidFill>
                <a:latin typeface="Garamond"/>
              </a:rPr>
              <a:t>Tiempo de Ciclo del Sistema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= Tiempo de Ciclo del C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990033"/>
                </a:solidFill>
                <a:latin typeface="Garamond"/>
              </a:rPr>
              <a:t>Tiempo Ocioso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= Tiempo durante el cual una operación/recursos no está producien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982800" y="2438280"/>
            <a:ext cx="7375680" cy="5205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3333cc"/>
                </a:solidFill>
                <a:latin typeface="Garamond"/>
              </a:rPr>
              <a:t>Tiempo de Flujo = Tiempo de Ciclo </a:t>
            </a:r>
            <a:r>
              <a:rPr b="0" lang="es-CL" sz="2400" spc="-1" strike="noStrike">
                <a:solidFill>
                  <a:srgbClr val="3333cc"/>
                </a:solidFill>
                <a:latin typeface="Symbol"/>
                <a:ea typeface="Symbol"/>
              </a:rPr>
              <a:t></a:t>
            </a:r>
            <a:r>
              <a:rPr b="0" lang="es-CL" sz="2800" spc="-1" strike="noStrike">
                <a:solidFill>
                  <a:srgbClr val="3333cc"/>
                </a:solidFill>
                <a:latin typeface="Garamond"/>
              </a:rPr>
              <a:t> Bat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38160" y="152280"/>
            <a:ext cx="85215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Análisis de Proceso con un Horn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95360" y="914400"/>
            <a:ext cx="78487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343080" y="1270080"/>
          <a:ext cx="8420040" cy="4700520"/>
        </p:xfrm>
        <a:graphic>
          <a:graphicData uri="http://schemas.openxmlformats.org/drawingml/2006/table">
            <a:tbl>
              <a:tblPr/>
              <a:tblGrid>
                <a:gridCol w="1126800"/>
                <a:gridCol w="1019160"/>
                <a:gridCol w="1320840"/>
                <a:gridCol w="1219320"/>
                <a:gridCol w="1066680"/>
                <a:gridCol w="1295640"/>
                <a:gridCol w="1371600"/>
              </a:tblGrid>
              <a:tr h="5781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200" spc="-1" strike="noStrike">
                          <a:solidFill>
                            <a:srgbClr val="990033"/>
                          </a:solidFill>
                          <a:latin typeface="Times New Roman"/>
                        </a:rPr>
                        <a:t>Proces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200" spc="-1" strike="noStrike">
                          <a:solidFill>
                            <a:srgbClr val="990033"/>
                          </a:solidFill>
                          <a:latin typeface="Times New Roman"/>
                        </a:rPr>
                        <a:t>Tamaño Orden = 1 dz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200" spc="-1" strike="noStrike">
                          <a:solidFill>
                            <a:srgbClr val="990033"/>
                          </a:solidFill>
                          <a:latin typeface="Times New Roman"/>
                        </a:rPr>
                        <a:t>Tamaño Orden = 2 dz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6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pacida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dz/hr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iempo de Cicl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min/dz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iempo de Fluj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min/orden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pacida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dz/hr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iempo de Cicl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min/dz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iempo de Fluj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min/orden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ezcla 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Vacia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Hor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400" spc="-1" strike="noStrike">
                          <a:solidFill>
                            <a:srgbClr val="990033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400" spc="-1" strike="noStrike">
                          <a:solidFill>
                            <a:srgbClr val="990033"/>
                          </a:solidFill>
                          <a:latin typeface="Times New Roman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400" spc="-1" strike="noStrike">
                          <a:solidFill>
                            <a:srgbClr val="990033"/>
                          </a:solidFill>
                          <a:latin typeface="Times New Roman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400" spc="-1" strike="noStrike">
                          <a:solidFill>
                            <a:srgbClr val="990033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400" spc="-1" strike="noStrike">
                          <a:solidFill>
                            <a:srgbClr val="990033"/>
                          </a:solidFill>
                          <a:latin typeface="Times New Roman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400" spc="-1" strike="noStrike">
                          <a:solidFill>
                            <a:srgbClr val="990033"/>
                          </a:solidFill>
                          <a:latin typeface="Times New Roman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nfria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fini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fini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mpaq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3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ntrega y Pag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 </a:t>
                      </a: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rden/h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 </a:t>
                      </a: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rden/h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rden/m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3" name=""/>
          <p:cNvSpPr/>
          <p:nvPr/>
        </p:nvSpPr>
        <p:spPr>
          <a:xfrm>
            <a:off x="1066680" y="5943600"/>
            <a:ext cx="708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00"/>
                </a:solidFill>
                <a:latin typeface="Georgia"/>
              </a:rPr>
              <a:t>Ver transparencias que  siguen con la discusión de estos valor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469800" y="152280"/>
            <a:ext cx="567684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Carta Gant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95360" y="914400"/>
            <a:ext cx="78487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92120" y="1171440"/>
            <a:ext cx="8423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imes New Roman"/>
              </a:rPr>
              <a:t>Cuanto tiempo toma producir 1 dz. con un solo horno? 2 dzs? 3 dzs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1609560" y="5102280"/>
            <a:ext cx="6791400" cy="680040"/>
            <a:chOff x="1609560" y="5102280"/>
            <a:chExt cx="6791400" cy="680040"/>
          </a:xfrm>
        </p:grpSpPr>
        <p:sp>
          <p:nvSpPr>
            <p:cNvPr id="188" name=""/>
            <p:cNvSpPr/>
            <p:nvPr/>
          </p:nvSpPr>
          <p:spPr>
            <a:xfrm>
              <a:off x="1609560" y="5416560"/>
              <a:ext cx="3838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619280" y="51120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457960" y="51022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934320" y="51120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400960" y="51120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472000" y="5416560"/>
              <a:ext cx="1447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939000" y="5416560"/>
              <a:ext cx="1447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001320" y="5383440"/>
              <a:ext cx="79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990033"/>
                  </a:solidFill>
                  <a:latin typeface="Times New Roman"/>
                </a:rPr>
                <a:t>1</a:t>
              </a:r>
              <a:r>
                <a:rPr b="0" lang="es-CL" sz="2000" spc="-1" strike="noStrike" baseline="30000">
                  <a:solidFill>
                    <a:srgbClr val="990033"/>
                  </a:solidFill>
                  <a:latin typeface="Times New Roman"/>
                </a:rPr>
                <a:t>ra</a:t>
              </a:r>
              <a:r>
                <a:rPr b="0" lang="es-CL" sz="2000" spc="-1" strike="noStrike">
                  <a:solidFill>
                    <a:srgbClr val="990033"/>
                  </a:solidFill>
                  <a:latin typeface="Times New Roman"/>
                </a:rPr>
                <a:t>  dz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057480" y="5121360"/>
              <a:ext cx="82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Times New Roman"/>
                </a:rPr>
                <a:t>26 mi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796000" y="5381640"/>
              <a:ext cx="817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990033"/>
                  </a:solidFill>
                  <a:latin typeface="Times New Roman"/>
                </a:rPr>
                <a:t>2</a:t>
              </a:r>
              <a:r>
                <a:rPr b="0" lang="es-CL" sz="2000" spc="-1" strike="noStrike" baseline="30000">
                  <a:solidFill>
                    <a:srgbClr val="990033"/>
                  </a:solidFill>
                  <a:latin typeface="Times New Roman"/>
                </a:rPr>
                <a:t>da</a:t>
              </a:r>
              <a:r>
                <a:rPr b="0" lang="es-CL" sz="2000" spc="-1" strike="noStrike">
                  <a:solidFill>
                    <a:srgbClr val="990033"/>
                  </a:solidFill>
                  <a:latin typeface="Times New Roman"/>
                </a:rPr>
                <a:t>  dz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818320" y="5119920"/>
              <a:ext cx="82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Times New Roman"/>
                </a:rPr>
                <a:t>10 mi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290720" y="5373720"/>
              <a:ext cx="79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990033"/>
                  </a:solidFill>
                  <a:latin typeface="Times New Roman"/>
                </a:rPr>
                <a:t>3</a:t>
              </a:r>
              <a:r>
                <a:rPr b="0" lang="es-CL" sz="2000" spc="-1" strike="noStrike" baseline="30000">
                  <a:solidFill>
                    <a:srgbClr val="990033"/>
                  </a:solidFill>
                  <a:latin typeface="Times New Roman"/>
                </a:rPr>
                <a:t>ra</a:t>
              </a:r>
              <a:r>
                <a:rPr b="0" lang="es-CL" sz="2000" spc="-1" strike="noStrike">
                  <a:solidFill>
                    <a:srgbClr val="990033"/>
                  </a:solidFill>
                  <a:latin typeface="Times New Roman"/>
                </a:rPr>
                <a:t>  dz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313760" y="5112000"/>
              <a:ext cx="82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Times New Roman"/>
                </a:rPr>
                <a:t>10 mi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" name=""/>
          <p:cNvSpPr/>
          <p:nvPr/>
        </p:nvSpPr>
        <p:spPr>
          <a:xfrm>
            <a:off x="493200" y="5970600"/>
            <a:ext cx="6369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imes New Roman"/>
              </a:rPr>
              <a:t>Qué pasa con otros recursos como Bandejas y Trabajo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46680" y="2301840"/>
            <a:ext cx="8670240" cy="2822760"/>
            <a:chOff x="346680" y="2301840"/>
            <a:chExt cx="8670240" cy="2822760"/>
          </a:xfrm>
        </p:grpSpPr>
        <p:sp>
          <p:nvSpPr>
            <p:cNvPr id="203" name=""/>
            <p:cNvSpPr/>
            <p:nvPr/>
          </p:nvSpPr>
          <p:spPr>
            <a:xfrm>
              <a:off x="431640" y="3124080"/>
              <a:ext cx="8574120" cy="986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31640" y="3521160"/>
              <a:ext cx="8574120" cy="982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31640" y="3919680"/>
              <a:ext cx="8574120" cy="968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31640" y="4316400"/>
              <a:ext cx="8574120" cy="982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31640" y="4713120"/>
              <a:ext cx="8574120" cy="986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06320" y="2913120"/>
              <a:ext cx="7034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800000"/>
                  </a:solidFill>
                  <a:latin typeface="Arial"/>
                </a:rPr>
                <a:t>Proces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755360" y="29368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1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050560" y="29368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1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344320" y="29368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1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639520" y="29368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1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893320" y="293688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1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188880" y="293688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1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482280" y="293688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100" spc="-1" strike="noStrike">
                  <a:solidFill>
                    <a:srgbClr val="000000"/>
                  </a:solidFill>
                  <a:latin typeface="Arial"/>
                </a:rPr>
                <a:t>14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777840" y="293688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1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071240" y="293688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100" spc="-1" strike="noStrike">
                  <a:solidFill>
                    <a:srgbClr val="000000"/>
                  </a:solidFill>
                  <a:latin typeface="Arial"/>
                </a:rPr>
                <a:t>18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366800" y="293688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1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660200" y="293688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100" spc="-1" strike="noStrike">
                  <a:solidFill>
                    <a:srgbClr val="000000"/>
                  </a:solidFill>
                  <a:latin typeface="Arial"/>
                </a:rPr>
                <a:t>2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955760" y="293688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100" spc="-1" strike="noStrike">
                  <a:solidFill>
                    <a:srgbClr val="000000"/>
                  </a:solidFill>
                  <a:latin typeface="Arial"/>
                </a:rPr>
                <a:t>24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249160" y="293688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1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544720" y="293688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1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838120" y="293688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1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133680" y="293688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100" spc="-1" strike="noStrike">
                  <a:solidFill>
                    <a:srgbClr val="000000"/>
                  </a:solidFill>
                  <a:latin typeface="Arial"/>
                </a:rPr>
                <a:t>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427080" y="293688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100" spc="-1" strike="noStrike">
                  <a:solidFill>
                    <a:srgbClr val="000000"/>
                  </a:solidFill>
                  <a:latin typeface="Arial"/>
                </a:rPr>
                <a:t>34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722640" y="293688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100" spc="-1" strike="noStrike">
                  <a:solidFill>
                    <a:srgbClr val="000000"/>
                  </a:solidFill>
                  <a:latin typeface="Arial"/>
                </a:rPr>
                <a:t>36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016040" y="293688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100" spc="-1" strike="noStrike">
                  <a:solidFill>
                    <a:srgbClr val="000000"/>
                  </a:solidFill>
                  <a:latin typeface="Arial"/>
                </a:rPr>
                <a:t>38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309800" y="293688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1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7605000" y="293688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100" spc="-1" strike="noStrike">
                  <a:solidFill>
                    <a:srgbClr val="000000"/>
                  </a:solidFill>
                  <a:latin typeface="Arial"/>
                </a:rPr>
                <a:t>4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898760" y="293688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100" spc="-1" strike="noStrike">
                  <a:solidFill>
                    <a:srgbClr val="000000"/>
                  </a:solidFill>
                  <a:latin typeface="Arial"/>
                </a:rPr>
                <a:t>44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8194320" y="293688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100" spc="-1" strike="noStrike">
                  <a:solidFill>
                    <a:srgbClr val="000000"/>
                  </a:solidFill>
                  <a:latin typeface="Arial"/>
                </a:rPr>
                <a:t>46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8487720" y="293688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100" spc="-1" strike="noStrike">
                  <a:solidFill>
                    <a:srgbClr val="000000"/>
                  </a:solidFill>
                  <a:latin typeface="Arial"/>
                </a:rPr>
                <a:t>48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8783280" y="293688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1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46680" y="3273480"/>
              <a:ext cx="10386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800000"/>
                  </a:solidFill>
                  <a:latin typeface="Arial"/>
                </a:rPr>
                <a:t>         </a:t>
              </a:r>
              <a:r>
                <a:rPr b="1" lang="es-CL" sz="1400" spc="-1" strike="noStrike">
                  <a:solidFill>
                    <a:srgbClr val="800000"/>
                  </a:solidFill>
                  <a:latin typeface="Arial"/>
                </a:rPr>
                <a:t>Mezcl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835920" y="3670200"/>
              <a:ext cx="5234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993300"/>
                  </a:solidFill>
                  <a:latin typeface="Arial"/>
                </a:rPr>
                <a:t>Horn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90120" y="4068720"/>
              <a:ext cx="7232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800000"/>
                  </a:solidFill>
                  <a:latin typeface="Arial"/>
                </a:rPr>
                <a:t>Enfriad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03440" y="4465800"/>
              <a:ext cx="801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800000"/>
                  </a:solidFill>
                  <a:latin typeface="Arial"/>
                </a:rPr>
                <a:t>Empaqu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62320" y="4863960"/>
              <a:ext cx="10004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800000"/>
                  </a:solidFill>
                  <a:latin typeface="Arial"/>
                </a:rPr>
                <a:t>Ent. &amp; Pag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054040" y="2708280"/>
              <a:ext cx="546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100" spc="-1" strike="noStrike">
                  <a:solidFill>
                    <a:srgbClr val="000000"/>
                  </a:solidFill>
                  <a:latin typeface="Arial"/>
                </a:rPr>
                <a:t>minuto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775520" y="2301840"/>
              <a:ext cx="56242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800000"/>
                  </a:solidFill>
                  <a:latin typeface="Arial"/>
                </a:rPr>
                <a:t>Carta Gantt Chart con un Horno (Orden = 1 dz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930320" y="2908440"/>
              <a:ext cx="0" cy="201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930320" y="2908440"/>
              <a:ext cx="14040" cy="20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223720" y="2908440"/>
              <a:ext cx="0" cy="201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223720" y="2908440"/>
              <a:ext cx="14400" cy="20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519280" y="2908440"/>
              <a:ext cx="0" cy="201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519280" y="2908440"/>
              <a:ext cx="14040" cy="20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812680" y="2908440"/>
              <a:ext cx="0" cy="201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812680" y="2908440"/>
              <a:ext cx="14400" cy="20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108240" y="2908440"/>
              <a:ext cx="0" cy="201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108240" y="2908440"/>
              <a:ext cx="14040" cy="20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401640" y="2908440"/>
              <a:ext cx="0" cy="201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401640" y="2908440"/>
              <a:ext cx="14400" cy="20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697200" y="2908440"/>
              <a:ext cx="0" cy="201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97200" y="2908440"/>
              <a:ext cx="12600" cy="20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990600" y="2908440"/>
              <a:ext cx="0" cy="201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990600" y="2908440"/>
              <a:ext cx="14400" cy="20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286160" y="2908440"/>
              <a:ext cx="0" cy="201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286160" y="2908440"/>
              <a:ext cx="12600" cy="20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579560" y="2908440"/>
              <a:ext cx="0" cy="201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579560" y="2908440"/>
              <a:ext cx="14400" cy="20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875120" y="2908440"/>
              <a:ext cx="0" cy="201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875120" y="2908440"/>
              <a:ext cx="12600" cy="20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168520" y="2908440"/>
              <a:ext cx="0" cy="201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168520" y="2908440"/>
              <a:ext cx="14400" cy="20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464080" y="2908440"/>
              <a:ext cx="0" cy="201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464080" y="2908440"/>
              <a:ext cx="12600" cy="20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757480" y="2908440"/>
              <a:ext cx="0" cy="201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757480" y="2908440"/>
              <a:ext cx="14400" cy="20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6053040" y="2908440"/>
              <a:ext cx="0" cy="201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053040" y="2908440"/>
              <a:ext cx="12600" cy="20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346440" y="2908440"/>
              <a:ext cx="0" cy="201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346440" y="2908440"/>
              <a:ext cx="14400" cy="20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642000" y="2908440"/>
              <a:ext cx="0" cy="201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642000" y="2908440"/>
              <a:ext cx="12600" cy="20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935400" y="2908440"/>
              <a:ext cx="0" cy="201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935400" y="2908440"/>
              <a:ext cx="14400" cy="20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229160" y="2908440"/>
              <a:ext cx="0" cy="201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7229160" y="2908440"/>
              <a:ext cx="14400" cy="20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7524360" y="2908440"/>
              <a:ext cx="0" cy="201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524360" y="2908440"/>
              <a:ext cx="14400" cy="20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818120" y="2908440"/>
              <a:ext cx="0" cy="201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7818120" y="2908440"/>
              <a:ext cx="14400" cy="20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8113320" y="2908440"/>
              <a:ext cx="0" cy="201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8113320" y="2908440"/>
              <a:ext cx="14400" cy="20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8407080" y="2908440"/>
              <a:ext cx="0" cy="201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8407080" y="2908440"/>
              <a:ext cx="14400" cy="20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8702280" y="2908440"/>
              <a:ext cx="0" cy="201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8702280" y="2908440"/>
              <a:ext cx="14400" cy="20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45680" y="3213000"/>
              <a:ext cx="118296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45680" y="3213000"/>
              <a:ext cx="1182960" cy="14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45680" y="3514680"/>
              <a:ext cx="118296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45680" y="3514680"/>
              <a:ext cx="1182960" cy="14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45680" y="3611520"/>
              <a:ext cx="118296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45680" y="3611520"/>
              <a:ext cx="118296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45680" y="3911760"/>
              <a:ext cx="118296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45680" y="3911760"/>
              <a:ext cx="118296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45680" y="4008600"/>
              <a:ext cx="118296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45680" y="4008600"/>
              <a:ext cx="118296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445680" y="4309920"/>
              <a:ext cx="118296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45680" y="4309920"/>
              <a:ext cx="1182960" cy="12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45680" y="4405320"/>
              <a:ext cx="118296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45680" y="4405320"/>
              <a:ext cx="1182960" cy="14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5680" y="4707000"/>
              <a:ext cx="118296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45680" y="4707000"/>
              <a:ext cx="1182960" cy="14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45680" y="4803840"/>
              <a:ext cx="118296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45680" y="4803840"/>
              <a:ext cx="118296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19040" y="2881440"/>
              <a:ext cx="26640" cy="2243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628640" y="2908440"/>
              <a:ext cx="28440" cy="2216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930320" y="3138480"/>
              <a:ext cx="0" cy="1959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930320" y="3138480"/>
              <a:ext cx="14040" cy="195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223720" y="3138480"/>
              <a:ext cx="0" cy="1959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223720" y="3138480"/>
              <a:ext cx="14400" cy="195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519280" y="3138480"/>
              <a:ext cx="0" cy="1959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519280" y="3138480"/>
              <a:ext cx="14040" cy="195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812680" y="3138480"/>
              <a:ext cx="0" cy="1959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12680" y="3138480"/>
              <a:ext cx="14400" cy="195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108240" y="3138480"/>
              <a:ext cx="0" cy="1959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108240" y="3138480"/>
              <a:ext cx="14040" cy="195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401640" y="3138480"/>
              <a:ext cx="0" cy="1959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401640" y="3138480"/>
              <a:ext cx="14400" cy="195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3697200" y="3138480"/>
              <a:ext cx="0" cy="1959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697200" y="3138480"/>
              <a:ext cx="12600" cy="195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990600" y="3138480"/>
              <a:ext cx="0" cy="1959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990600" y="3138480"/>
              <a:ext cx="14400" cy="195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4286160" y="3138480"/>
              <a:ext cx="0" cy="1959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286160" y="3138480"/>
              <a:ext cx="12600" cy="195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579560" y="3138480"/>
              <a:ext cx="0" cy="1959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579560" y="3138480"/>
              <a:ext cx="14400" cy="195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4875120" y="3138480"/>
              <a:ext cx="0" cy="1959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4875120" y="3138480"/>
              <a:ext cx="12600" cy="195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168520" y="3138480"/>
              <a:ext cx="0" cy="1959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168520" y="3138480"/>
              <a:ext cx="14400" cy="195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464080" y="3138480"/>
              <a:ext cx="0" cy="1959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464080" y="3138480"/>
              <a:ext cx="12600" cy="195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757480" y="3138480"/>
              <a:ext cx="0" cy="1959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757480" y="3138480"/>
              <a:ext cx="14400" cy="195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053040" y="3138480"/>
              <a:ext cx="0" cy="1959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053040" y="3138480"/>
              <a:ext cx="12600" cy="195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346440" y="3138480"/>
              <a:ext cx="0" cy="1959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6346440" y="3138480"/>
              <a:ext cx="14400" cy="195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6642000" y="3138480"/>
              <a:ext cx="0" cy="1959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642000" y="3138480"/>
              <a:ext cx="12600" cy="195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935400" y="3138480"/>
              <a:ext cx="0" cy="1959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935400" y="3138480"/>
              <a:ext cx="14400" cy="195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229160" y="3138480"/>
              <a:ext cx="0" cy="1959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229160" y="3138480"/>
              <a:ext cx="14400" cy="195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524360" y="3138480"/>
              <a:ext cx="0" cy="1959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524360" y="3138480"/>
              <a:ext cx="14400" cy="195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818120" y="3138480"/>
              <a:ext cx="0" cy="1959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818120" y="3138480"/>
              <a:ext cx="14400" cy="195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8113320" y="3138480"/>
              <a:ext cx="0" cy="1959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8113320" y="3138480"/>
              <a:ext cx="14400" cy="195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8407080" y="3138480"/>
              <a:ext cx="0" cy="1959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407080" y="3138480"/>
              <a:ext cx="14400" cy="195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8702280" y="3138480"/>
              <a:ext cx="0" cy="1959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8702280" y="3138480"/>
              <a:ext cx="14400" cy="195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8989920" y="2908440"/>
              <a:ext cx="27000" cy="2216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445680" y="2881440"/>
              <a:ext cx="857124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445680" y="3110040"/>
              <a:ext cx="857124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657080" y="3213000"/>
              <a:ext cx="73328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657080" y="3213000"/>
              <a:ext cx="7332840" cy="14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657080" y="3514680"/>
              <a:ext cx="73328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657080" y="3514680"/>
              <a:ext cx="7332840" cy="14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657080" y="3611520"/>
              <a:ext cx="73328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657080" y="3611520"/>
              <a:ext cx="733284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1657080" y="3911760"/>
              <a:ext cx="73328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657080" y="3911760"/>
              <a:ext cx="733284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1657080" y="4008600"/>
              <a:ext cx="73328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657080" y="4008600"/>
              <a:ext cx="733284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1657080" y="4309920"/>
              <a:ext cx="73328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1657080" y="4309920"/>
              <a:ext cx="7332840" cy="12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1657080" y="4405320"/>
              <a:ext cx="73328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1657080" y="4405320"/>
              <a:ext cx="7332840" cy="14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657080" y="4707000"/>
              <a:ext cx="73328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1657080" y="4707000"/>
              <a:ext cx="7332840" cy="14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657080" y="4803840"/>
              <a:ext cx="73328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657080" y="4803840"/>
              <a:ext cx="733284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45680" y="5097600"/>
              <a:ext cx="857124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2828880" y="3600360"/>
            <a:ext cx="1449000" cy="337320"/>
            <a:chOff x="2828880" y="3600360"/>
            <a:chExt cx="1449000" cy="337320"/>
          </a:xfrm>
        </p:grpSpPr>
        <p:sp>
          <p:nvSpPr>
            <p:cNvPr id="380" name=""/>
            <p:cNvSpPr/>
            <p:nvPr/>
          </p:nvSpPr>
          <p:spPr>
            <a:xfrm>
              <a:off x="2828880" y="3622680"/>
              <a:ext cx="1449000" cy="285840"/>
            </a:xfrm>
            <a:custGeom>
              <a:avLst/>
              <a:gdLst/>
              <a:ahLst/>
              <a:rect l="l" t="t" r="r" b="b"/>
              <a:pathLst>
                <a:path w="547" h="184">
                  <a:moveTo>
                    <a:pt x="0" y="184"/>
                  </a:moveTo>
                  <a:lnTo>
                    <a:pt x="0" y="0"/>
                  </a:lnTo>
                  <a:lnTo>
                    <a:pt x="547" y="0"/>
                  </a:lnTo>
                  <a:lnTo>
                    <a:pt x="547" y="184"/>
                  </a:lnTo>
                  <a:lnTo>
                    <a:pt x="0" y="184"/>
                  </a:lnTo>
                  <a:close/>
                </a:path>
              </a:pathLst>
            </a:custGeom>
            <a:solidFill>
              <a:srgbClr val="3366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854800" y="3600360"/>
              <a:ext cx="1399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6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4282920" y="4000680"/>
            <a:ext cx="744840" cy="337320"/>
            <a:chOff x="4282920" y="4000680"/>
            <a:chExt cx="744840" cy="337320"/>
          </a:xfrm>
        </p:grpSpPr>
        <p:sp>
          <p:nvSpPr>
            <p:cNvPr id="383" name=""/>
            <p:cNvSpPr/>
            <p:nvPr/>
          </p:nvSpPr>
          <p:spPr>
            <a:xfrm>
              <a:off x="4282920" y="4022640"/>
              <a:ext cx="744840" cy="285480"/>
            </a:xfrm>
            <a:custGeom>
              <a:avLst/>
              <a:gdLst/>
              <a:ahLst/>
              <a:rect l="l" t="t" r="r" b="b"/>
              <a:pathLst>
                <a:path w="547" h="184">
                  <a:moveTo>
                    <a:pt x="0" y="184"/>
                  </a:moveTo>
                  <a:lnTo>
                    <a:pt x="0" y="0"/>
                  </a:lnTo>
                  <a:lnTo>
                    <a:pt x="547" y="0"/>
                  </a:lnTo>
                  <a:lnTo>
                    <a:pt x="547" y="184"/>
                  </a:lnTo>
                  <a:lnTo>
                    <a:pt x="0" y="184"/>
                  </a:lnTo>
                  <a:close/>
                </a:path>
              </a:pathLst>
            </a:custGeom>
            <a:solidFill>
              <a:srgbClr val="3366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296240" y="4000680"/>
              <a:ext cx="719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6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5" name=""/>
          <p:cNvGrpSpPr/>
          <p:nvPr/>
        </p:nvGrpSpPr>
        <p:grpSpPr>
          <a:xfrm>
            <a:off x="5018040" y="4397400"/>
            <a:ext cx="316080" cy="337320"/>
            <a:chOff x="5018040" y="4397400"/>
            <a:chExt cx="316080" cy="337320"/>
          </a:xfrm>
        </p:grpSpPr>
        <p:sp>
          <p:nvSpPr>
            <p:cNvPr id="386" name=""/>
            <p:cNvSpPr/>
            <p:nvPr/>
          </p:nvSpPr>
          <p:spPr>
            <a:xfrm>
              <a:off x="5018040" y="4419720"/>
              <a:ext cx="316080" cy="285840"/>
            </a:xfrm>
            <a:custGeom>
              <a:avLst/>
              <a:gdLst/>
              <a:ahLst/>
              <a:rect l="l" t="t" r="r" b="b"/>
              <a:pathLst>
                <a:path w="547" h="184">
                  <a:moveTo>
                    <a:pt x="0" y="184"/>
                  </a:moveTo>
                  <a:lnTo>
                    <a:pt x="0" y="0"/>
                  </a:lnTo>
                  <a:lnTo>
                    <a:pt x="547" y="0"/>
                  </a:lnTo>
                  <a:lnTo>
                    <a:pt x="547" y="184"/>
                  </a:lnTo>
                  <a:lnTo>
                    <a:pt x="0" y="184"/>
                  </a:lnTo>
                  <a:close/>
                </a:path>
              </a:pathLst>
            </a:custGeom>
            <a:solidFill>
              <a:srgbClr val="3366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5023440" y="4397400"/>
              <a:ext cx="30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6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5251320" y="4772160"/>
            <a:ext cx="244440" cy="368280"/>
            <a:chOff x="5251320" y="4772160"/>
            <a:chExt cx="244440" cy="368280"/>
          </a:xfrm>
        </p:grpSpPr>
        <p:sp>
          <p:nvSpPr>
            <p:cNvPr id="389" name=""/>
            <p:cNvSpPr/>
            <p:nvPr/>
          </p:nvSpPr>
          <p:spPr>
            <a:xfrm>
              <a:off x="5326200" y="4809960"/>
              <a:ext cx="136440" cy="291600"/>
            </a:xfrm>
            <a:custGeom>
              <a:avLst/>
              <a:gdLst/>
              <a:ahLst/>
              <a:rect l="l" t="t" r="r" b="b"/>
              <a:pathLst>
                <a:path w="86" h="184">
                  <a:moveTo>
                    <a:pt x="2" y="184"/>
                  </a:moveTo>
                  <a:lnTo>
                    <a:pt x="0" y="0"/>
                  </a:lnTo>
                  <a:lnTo>
                    <a:pt x="86" y="0"/>
                  </a:lnTo>
                  <a:lnTo>
                    <a:pt x="85" y="183"/>
                  </a:lnTo>
                  <a:lnTo>
                    <a:pt x="2" y="184"/>
                  </a:lnTo>
                  <a:close/>
                </a:path>
              </a:pathLst>
            </a:custGeom>
            <a:solidFill>
              <a:srgbClr val="3366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251320" y="4772160"/>
              <a:ext cx="244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1" name=""/>
          <p:cNvGrpSpPr/>
          <p:nvPr/>
        </p:nvGrpSpPr>
        <p:grpSpPr>
          <a:xfrm>
            <a:off x="3119400" y="3206880"/>
            <a:ext cx="3890880" cy="1935000"/>
            <a:chOff x="3119400" y="3206880"/>
            <a:chExt cx="3890880" cy="1935000"/>
          </a:xfrm>
        </p:grpSpPr>
        <p:grpSp>
          <p:nvGrpSpPr>
            <p:cNvPr id="392" name=""/>
            <p:cNvGrpSpPr/>
            <p:nvPr/>
          </p:nvGrpSpPr>
          <p:grpSpPr>
            <a:xfrm>
              <a:off x="3119400" y="3206880"/>
              <a:ext cx="1163520" cy="337320"/>
              <a:chOff x="3119400" y="3206880"/>
              <a:chExt cx="1163520" cy="337320"/>
            </a:xfrm>
          </p:grpSpPr>
          <p:sp>
            <p:nvSpPr>
              <p:cNvPr id="393" name=""/>
              <p:cNvSpPr/>
              <p:nvPr/>
            </p:nvSpPr>
            <p:spPr>
              <a:xfrm>
                <a:off x="3119400" y="3229200"/>
                <a:ext cx="1163520" cy="291960"/>
              </a:xfrm>
              <a:custGeom>
                <a:avLst/>
                <a:gdLst/>
                <a:ahLst/>
                <a:rect l="l" t="t" r="r" b="b"/>
                <a:pathLst>
                  <a:path w="547" h="184">
                    <a:moveTo>
                      <a:pt x="0" y="184"/>
                    </a:moveTo>
                    <a:lnTo>
                      <a:pt x="0" y="0"/>
                    </a:lnTo>
                    <a:lnTo>
                      <a:pt x="547" y="0"/>
                    </a:lnTo>
                    <a:lnTo>
                      <a:pt x="547" y="184"/>
                    </a:lnTo>
                    <a:lnTo>
                      <a:pt x="0" y="184"/>
                    </a:lnTo>
                    <a:close/>
                  </a:path>
                </a:pathLst>
              </a:custGeom>
              <a:solidFill>
                <a:srgbClr val="a5002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3146400" y="3206880"/>
                <a:ext cx="11239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600" spc="-1" strike="noStrike">
                    <a:solidFill>
                      <a:srgbClr val="ffffff"/>
                    </a:solidFill>
                    <a:latin typeface="Times New Roman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5" name=""/>
            <p:cNvGrpSpPr/>
            <p:nvPr/>
          </p:nvGrpSpPr>
          <p:grpSpPr>
            <a:xfrm>
              <a:off x="4299120" y="3597480"/>
              <a:ext cx="1449360" cy="337320"/>
              <a:chOff x="4299120" y="3597480"/>
              <a:chExt cx="1449360" cy="337320"/>
            </a:xfrm>
          </p:grpSpPr>
          <p:sp>
            <p:nvSpPr>
              <p:cNvPr id="396" name=""/>
              <p:cNvSpPr/>
              <p:nvPr/>
            </p:nvSpPr>
            <p:spPr>
              <a:xfrm>
                <a:off x="4299120" y="3619800"/>
                <a:ext cx="1449360" cy="285480"/>
              </a:xfrm>
              <a:custGeom>
                <a:avLst/>
                <a:gdLst/>
                <a:ahLst/>
                <a:rect l="l" t="t" r="r" b="b"/>
                <a:pathLst>
                  <a:path w="547" h="184">
                    <a:moveTo>
                      <a:pt x="0" y="184"/>
                    </a:moveTo>
                    <a:lnTo>
                      <a:pt x="0" y="0"/>
                    </a:lnTo>
                    <a:lnTo>
                      <a:pt x="547" y="0"/>
                    </a:lnTo>
                    <a:lnTo>
                      <a:pt x="547" y="184"/>
                    </a:lnTo>
                    <a:lnTo>
                      <a:pt x="0" y="184"/>
                    </a:lnTo>
                    <a:close/>
                  </a:path>
                </a:pathLst>
              </a:custGeom>
              <a:solidFill>
                <a:srgbClr val="a5002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4324320" y="3597480"/>
                <a:ext cx="1400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600" spc="-1" strike="noStrike">
                    <a:solidFill>
                      <a:srgbClr val="ffffff"/>
                    </a:solidFill>
                    <a:latin typeface="Times New Roman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8" name=""/>
            <p:cNvGrpSpPr/>
            <p:nvPr/>
          </p:nvGrpSpPr>
          <p:grpSpPr>
            <a:xfrm>
              <a:off x="5761080" y="3997440"/>
              <a:ext cx="744480" cy="337320"/>
              <a:chOff x="5761080" y="3997440"/>
              <a:chExt cx="744480" cy="337320"/>
            </a:xfrm>
          </p:grpSpPr>
          <p:sp>
            <p:nvSpPr>
              <p:cNvPr id="399" name=""/>
              <p:cNvSpPr/>
              <p:nvPr/>
            </p:nvSpPr>
            <p:spPr>
              <a:xfrm>
                <a:off x="5761080" y="4019760"/>
                <a:ext cx="744480" cy="285840"/>
              </a:xfrm>
              <a:custGeom>
                <a:avLst/>
                <a:gdLst/>
                <a:ahLst/>
                <a:rect l="l" t="t" r="r" b="b"/>
                <a:pathLst>
                  <a:path w="547" h="184">
                    <a:moveTo>
                      <a:pt x="0" y="184"/>
                    </a:moveTo>
                    <a:lnTo>
                      <a:pt x="0" y="0"/>
                    </a:lnTo>
                    <a:lnTo>
                      <a:pt x="547" y="0"/>
                    </a:lnTo>
                    <a:lnTo>
                      <a:pt x="547" y="184"/>
                    </a:lnTo>
                    <a:lnTo>
                      <a:pt x="0" y="184"/>
                    </a:lnTo>
                    <a:close/>
                  </a:path>
                </a:pathLst>
              </a:custGeom>
              <a:solidFill>
                <a:srgbClr val="a5002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5773680" y="3997440"/>
                <a:ext cx="719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600" spc="-1" strike="noStrike">
                    <a:solidFill>
                      <a:srgbClr val="ffffff"/>
                    </a:solidFill>
                    <a:latin typeface="Times New Roman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1" name=""/>
            <p:cNvGrpSpPr/>
            <p:nvPr/>
          </p:nvGrpSpPr>
          <p:grpSpPr>
            <a:xfrm>
              <a:off x="6494400" y="4399200"/>
              <a:ext cx="316080" cy="337320"/>
              <a:chOff x="6494400" y="4399200"/>
              <a:chExt cx="316080" cy="337320"/>
            </a:xfrm>
          </p:grpSpPr>
          <p:sp>
            <p:nvSpPr>
              <p:cNvPr id="402" name=""/>
              <p:cNvSpPr/>
              <p:nvPr/>
            </p:nvSpPr>
            <p:spPr>
              <a:xfrm>
                <a:off x="6494400" y="4421160"/>
                <a:ext cx="316080" cy="285840"/>
              </a:xfrm>
              <a:custGeom>
                <a:avLst/>
                <a:gdLst/>
                <a:ahLst/>
                <a:rect l="l" t="t" r="r" b="b"/>
                <a:pathLst>
                  <a:path w="547" h="184">
                    <a:moveTo>
                      <a:pt x="0" y="184"/>
                    </a:moveTo>
                    <a:lnTo>
                      <a:pt x="0" y="0"/>
                    </a:lnTo>
                    <a:lnTo>
                      <a:pt x="547" y="0"/>
                    </a:lnTo>
                    <a:lnTo>
                      <a:pt x="547" y="184"/>
                    </a:lnTo>
                    <a:lnTo>
                      <a:pt x="0" y="184"/>
                    </a:lnTo>
                    <a:close/>
                  </a:path>
                </a:pathLst>
              </a:custGeom>
              <a:solidFill>
                <a:srgbClr val="a5002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6500880" y="4399200"/>
                <a:ext cx="3045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600" spc="-1" strike="noStrike">
                    <a:solidFill>
                      <a:srgbClr val="ffffff"/>
                    </a:solidFill>
                    <a:latin typeface="Times New Roman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4" name=""/>
            <p:cNvGrpSpPr/>
            <p:nvPr/>
          </p:nvGrpSpPr>
          <p:grpSpPr>
            <a:xfrm>
              <a:off x="6719760" y="4773600"/>
              <a:ext cx="290520" cy="368280"/>
              <a:chOff x="6719760" y="4773600"/>
              <a:chExt cx="290520" cy="368280"/>
            </a:xfrm>
          </p:grpSpPr>
          <p:sp>
            <p:nvSpPr>
              <p:cNvPr id="405" name=""/>
              <p:cNvSpPr/>
              <p:nvPr/>
            </p:nvSpPr>
            <p:spPr>
              <a:xfrm>
                <a:off x="6794640" y="4811760"/>
                <a:ext cx="136440" cy="292320"/>
              </a:xfrm>
              <a:custGeom>
                <a:avLst/>
                <a:gdLst/>
                <a:ahLst/>
                <a:rect l="l" t="t" r="r" b="b"/>
                <a:pathLst>
                  <a:path w="86" h="184">
                    <a:moveTo>
                      <a:pt x="2" y="184"/>
                    </a:moveTo>
                    <a:lnTo>
                      <a:pt x="0" y="0"/>
                    </a:lnTo>
                    <a:lnTo>
                      <a:pt x="86" y="0"/>
                    </a:lnTo>
                    <a:lnTo>
                      <a:pt x="85" y="183"/>
                    </a:lnTo>
                    <a:lnTo>
                      <a:pt x="2" y="184"/>
                    </a:lnTo>
                    <a:close/>
                  </a:path>
                </a:pathLst>
              </a:custGeom>
              <a:solidFill>
                <a:srgbClr val="a5002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6719760" y="4773600"/>
                <a:ext cx="290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800" spc="-1" strike="noStrike">
                    <a:solidFill>
                      <a:srgbClr val="ffffff"/>
                    </a:solidFill>
                    <a:latin typeface="Times New Roman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07" name=""/>
          <p:cNvGrpSpPr/>
          <p:nvPr/>
        </p:nvGrpSpPr>
        <p:grpSpPr>
          <a:xfrm>
            <a:off x="4591080" y="3206880"/>
            <a:ext cx="3890880" cy="1935000"/>
            <a:chOff x="4591080" y="3206880"/>
            <a:chExt cx="3890880" cy="1935000"/>
          </a:xfrm>
        </p:grpSpPr>
        <p:grpSp>
          <p:nvGrpSpPr>
            <p:cNvPr id="408" name=""/>
            <p:cNvGrpSpPr/>
            <p:nvPr/>
          </p:nvGrpSpPr>
          <p:grpSpPr>
            <a:xfrm>
              <a:off x="4591080" y="3206880"/>
              <a:ext cx="1163520" cy="337320"/>
              <a:chOff x="4591080" y="3206880"/>
              <a:chExt cx="1163520" cy="337320"/>
            </a:xfrm>
          </p:grpSpPr>
          <p:sp>
            <p:nvSpPr>
              <p:cNvPr id="409" name=""/>
              <p:cNvSpPr/>
              <p:nvPr/>
            </p:nvSpPr>
            <p:spPr>
              <a:xfrm>
                <a:off x="4591080" y="3229200"/>
                <a:ext cx="1163520" cy="291960"/>
              </a:xfrm>
              <a:custGeom>
                <a:avLst/>
                <a:gdLst/>
                <a:ahLst/>
                <a:rect l="l" t="t" r="r" b="b"/>
                <a:pathLst>
                  <a:path w="547" h="184">
                    <a:moveTo>
                      <a:pt x="0" y="184"/>
                    </a:moveTo>
                    <a:lnTo>
                      <a:pt x="0" y="0"/>
                    </a:lnTo>
                    <a:lnTo>
                      <a:pt x="547" y="0"/>
                    </a:lnTo>
                    <a:lnTo>
                      <a:pt x="547" y="184"/>
                    </a:lnTo>
                    <a:lnTo>
                      <a:pt x="0" y="184"/>
                    </a:lnTo>
                    <a:close/>
                  </a:path>
                </a:pathLst>
              </a:custGeom>
              <a:solidFill>
                <a:srgbClr val="33993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4618080" y="3206880"/>
                <a:ext cx="11239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600" spc="-1" strike="noStrike">
                    <a:solidFill>
                      <a:srgbClr val="ffffff"/>
                    </a:solidFill>
                    <a:latin typeface="Times New Roman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1" name=""/>
            <p:cNvGrpSpPr/>
            <p:nvPr/>
          </p:nvGrpSpPr>
          <p:grpSpPr>
            <a:xfrm>
              <a:off x="5770440" y="3597480"/>
              <a:ext cx="1449360" cy="337320"/>
              <a:chOff x="5770440" y="3597480"/>
              <a:chExt cx="1449360" cy="337320"/>
            </a:xfrm>
          </p:grpSpPr>
          <p:sp>
            <p:nvSpPr>
              <p:cNvPr id="412" name=""/>
              <p:cNvSpPr/>
              <p:nvPr/>
            </p:nvSpPr>
            <p:spPr>
              <a:xfrm>
                <a:off x="5770440" y="3619800"/>
                <a:ext cx="1449360" cy="285480"/>
              </a:xfrm>
              <a:custGeom>
                <a:avLst/>
                <a:gdLst/>
                <a:ahLst/>
                <a:rect l="l" t="t" r="r" b="b"/>
                <a:pathLst>
                  <a:path w="547" h="184">
                    <a:moveTo>
                      <a:pt x="0" y="184"/>
                    </a:moveTo>
                    <a:lnTo>
                      <a:pt x="0" y="0"/>
                    </a:lnTo>
                    <a:lnTo>
                      <a:pt x="547" y="0"/>
                    </a:lnTo>
                    <a:lnTo>
                      <a:pt x="547" y="184"/>
                    </a:lnTo>
                    <a:lnTo>
                      <a:pt x="0" y="184"/>
                    </a:lnTo>
                    <a:close/>
                  </a:path>
                </a:pathLst>
              </a:custGeom>
              <a:solidFill>
                <a:srgbClr val="33993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5796000" y="3597480"/>
                <a:ext cx="1400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600" spc="-1" strike="noStrike">
                    <a:solidFill>
                      <a:srgbClr val="ffffff"/>
                    </a:solidFill>
                    <a:latin typeface="Times New Roman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4" name=""/>
            <p:cNvGrpSpPr/>
            <p:nvPr/>
          </p:nvGrpSpPr>
          <p:grpSpPr>
            <a:xfrm>
              <a:off x="7232760" y="3997440"/>
              <a:ext cx="744480" cy="337320"/>
              <a:chOff x="7232760" y="3997440"/>
              <a:chExt cx="744480" cy="337320"/>
            </a:xfrm>
          </p:grpSpPr>
          <p:sp>
            <p:nvSpPr>
              <p:cNvPr id="415" name=""/>
              <p:cNvSpPr/>
              <p:nvPr/>
            </p:nvSpPr>
            <p:spPr>
              <a:xfrm>
                <a:off x="7232760" y="4019760"/>
                <a:ext cx="744480" cy="285840"/>
              </a:xfrm>
              <a:custGeom>
                <a:avLst/>
                <a:gdLst/>
                <a:ahLst/>
                <a:rect l="l" t="t" r="r" b="b"/>
                <a:pathLst>
                  <a:path w="547" h="184">
                    <a:moveTo>
                      <a:pt x="0" y="184"/>
                    </a:moveTo>
                    <a:lnTo>
                      <a:pt x="0" y="0"/>
                    </a:lnTo>
                    <a:lnTo>
                      <a:pt x="547" y="0"/>
                    </a:lnTo>
                    <a:lnTo>
                      <a:pt x="547" y="184"/>
                    </a:lnTo>
                    <a:lnTo>
                      <a:pt x="0" y="184"/>
                    </a:lnTo>
                    <a:close/>
                  </a:path>
                </a:pathLst>
              </a:custGeom>
              <a:solidFill>
                <a:srgbClr val="33993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7245360" y="3997440"/>
                <a:ext cx="719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600" spc="-1" strike="noStrike">
                    <a:solidFill>
                      <a:srgbClr val="ffffff"/>
                    </a:solidFill>
                    <a:latin typeface="Times New Roman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7" name=""/>
            <p:cNvGrpSpPr/>
            <p:nvPr/>
          </p:nvGrpSpPr>
          <p:grpSpPr>
            <a:xfrm>
              <a:off x="7966080" y="4399200"/>
              <a:ext cx="316080" cy="337320"/>
              <a:chOff x="7966080" y="4399200"/>
              <a:chExt cx="316080" cy="337320"/>
            </a:xfrm>
          </p:grpSpPr>
          <p:sp>
            <p:nvSpPr>
              <p:cNvPr id="418" name=""/>
              <p:cNvSpPr/>
              <p:nvPr/>
            </p:nvSpPr>
            <p:spPr>
              <a:xfrm>
                <a:off x="7966080" y="4421160"/>
                <a:ext cx="316080" cy="285840"/>
              </a:xfrm>
              <a:custGeom>
                <a:avLst/>
                <a:gdLst/>
                <a:ahLst/>
                <a:rect l="l" t="t" r="r" b="b"/>
                <a:pathLst>
                  <a:path w="547" h="184">
                    <a:moveTo>
                      <a:pt x="0" y="184"/>
                    </a:moveTo>
                    <a:lnTo>
                      <a:pt x="0" y="0"/>
                    </a:lnTo>
                    <a:lnTo>
                      <a:pt x="547" y="0"/>
                    </a:lnTo>
                    <a:lnTo>
                      <a:pt x="547" y="184"/>
                    </a:lnTo>
                    <a:lnTo>
                      <a:pt x="0" y="184"/>
                    </a:lnTo>
                    <a:close/>
                  </a:path>
                </a:pathLst>
              </a:custGeom>
              <a:solidFill>
                <a:srgbClr val="33993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7972560" y="4399200"/>
                <a:ext cx="3045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600" spc="-1" strike="noStrike">
                    <a:solidFill>
                      <a:srgbClr val="ffffff"/>
                    </a:solidFill>
                    <a:latin typeface="Times New Roman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0" name=""/>
            <p:cNvGrpSpPr/>
            <p:nvPr/>
          </p:nvGrpSpPr>
          <p:grpSpPr>
            <a:xfrm>
              <a:off x="8191440" y="4773600"/>
              <a:ext cx="290520" cy="368280"/>
              <a:chOff x="8191440" y="4773600"/>
              <a:chExt cx="290520" cy="368280"/>
            </a:xfrm>
          </p:grpSpPr>
          <p:sp>
            <p:nvSpPr>
              <p:cNvPr id="421" name=""/>
              <p:cNvSpPr/>
              <p:nvPr/>
            </p:nvSpPr>
            <p:spPr>
              <a:xfrm>
                <a:off x="8265960" y="4811760"/>
                <a:ext cx="136800" cy="292320"/>
              </a:xfrm>
              <a:custGeom>
                <a:avLst/>
                <a:gdLst/>
                <a:ahLst/>
                <a:rect l="l" t="t" r="r" b="b"/>
                <a:pathLst>
                  <a:path w="86" h="184">
                    <a:moveTo>
                      <a:pt x="2" y="184"/>
                    </a:moveTo>
                    <a:lnTo>
                      <a:pt x="0" y="0"/>
                    </a:lnTo>
                    <a:lnTo>
                      <a:pt x="86" y="0"/>
                    </a:lnTo>
                    <a:lnTo>
                      <a:pt x="85" y="183"/>
                    </a:lnTo>
                    <a:lnTo>
                      <a:pt x="2" y="184"/>
                    </a:lnTo>
                    <a:close/>
                  </a:path>
                </a:pathLst>
              </a:custGeom>
              <a:solidFill>
                <a:srgbClr val="33993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8191440" y="4773600"/>
                <a:ext cx="290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800" spc="-1" strike="noStrike">
                    <a:solidFill>
                      <a:srgbClr val="ffffff"/>
                    </a:solidFill>
                    <a:latin typeface="Times New Roman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23" name=""/>
          <p:cNvGrpSpPr/>
          <p:nvPr/>
        </p:nvGrpSpPr>
        <p:grpSpPr>
          <a:xfrm>
            <a:off x="1649520" y="3206880"/>
            <a:ext cx="1163160" cy="337320"/>
            <a:chOff x="1649520" y="3206880"/>
            <a:chExt cx="1163160" cy="337320"/>
          </a:xfrm>
        </p:grpSpPr>
        <p:sp>
          <p:nvSpPr>
            <p:cNvPr id="424" name=""/>
            <p:cNvSpPr/>
            <p:nvPr/>
          </p:nvSpPr>
          <p:spPr>
            <a:xfrm>
              <a:off x="1649520" y="3229200"/>
              <a:ext cx="1163160" cy="291960"/>
            </a:xfrm>
            <a:custGeom>
              <a:avLst/>
              <a:gdLst/>
              <a:ahLst/>
              <a:rect l="l" t="t" r="r" b="b"/>
              <a:pathLst>
                <a:path w="547" h="184">
                  <a:moveTo>
                    <a:pt x="0" y="184"/>
                  </a:moveTo>
                  <a:lnTo>
                    <a:pt x="0" y="0"/>
                  </a:lnTo>
                  <a:lnTo>
                    <a:pt x="547" y="0"/>
                  </a:lnTo>
                  <a:lnTo>
                    <a:pt x="547" y="184"/>
                  </a:lnTo>
                  <a:lnTo>
                    <a:pt x="0" y="184"/>
                  </a:lnTo>
                  <a:close/>
                </a:path>
              </a:pathLst>
            </a:custGeom>
            <a:solidFill>
              <a:srgbClr val="3366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1677240" y="3206880"/>
              <a:ext cx="1122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6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/>
          <p:nvPr/>
        </p:nvSpPr>
        <p:spPr>
          <a:xfrm>
            <a:off x="-114480" y="152280"/>
            <a:ext cx="356904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Pregunt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5360" y="914400"/>
            <a:ext cx="78487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492120" y="1400040"/>
            <a:ext cx="8245440" cy="44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imes New Roman"/>
              </a:rPr>
              <a:t>Cuántas ordenes de 1 dz. Puede procesar Kristen en una hora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imes New Roman"/>
              </a:rPr>
              <a:t>Cómo cambia la capacidad del proceso “Mezcla y Vaciado” si el tamaño de las ordenes aumenta de 1dz a 2 dzs y a 3 dzs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imes New Roman"/>
              </a:rPr>
              <a:t>Cómo cambia la capacidad del proceso entero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/>
          <p:nvPr/>
        </p:nvSpPr>
        <p:spPr>
          <a:xfrm>
            <a:off x="507960" y="152280"/>
            <a:ext cx="83311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Análisis de Proceso con dos Horn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4280" y="914400"/>
            <a:ext cx="78483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1" name=""/>
          <p:cNvGraphicFramePr/>
          <p:nvPr/>
        </p:nvGraphicFramePr>
        <p:xfrm>
          <a:off x="304920" y="1359000"/>
          <a:ext cx="8458200" cy="4333680"/>
        </p:xfrm>
        <a:graphic>
          <a:graphicData uri="http://schemas.openxmlformats.org/drawingml/2006/table">
            <a:tbl>
              <a:tblPr/>
              <a:tblGrid>
                <a:gridCol w="1066680"/>
                <a:gridCol w="747720"/>
                <a:gridCol w="851040"/>
                <a:gridCol w="849240"/>
                <a:gridCol w="771480"/>
                <a:gridCol w="851040"/>
                <a:gridCol w="849240"/>
                <a:gridCol w="772920"/>
                <a:gridCol w="849240"/>
                <a:gridCol w="849600"/>
              </a:tblGrid>
              <a:tr h="5788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990033"/>
                          </a:solidFill>
                          <a:latin typeface="Times New Roman"/>
                        </a:rPr>
                        <a:t>Proces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200" spc="-1" strike="noStrike">
                          <a:solidFill>
                            <a:srgbClr val="990033"/>
                          </a:solidFill>
                          <a:latin typeface="Times New Roman"/>
                        </a:rPr>
                        <a:t>Orden = 1 dz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200" spc="-1" strike="noStrike">
                          <a:solidFill>
                            <a:srgbClr val="990033"/>
                          </a:solidFill>
                          <a:latin typeface="Times New Roman"/>
                        </a:rPr>
                        <a:t>Orden = 2 dz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200" spc="-1" strike="noStrike">
                          <a:solidFill>
                            <a:srgbClr val="990033"/>
                          </a:solidFill>
                          <a:latin typeface="Times New Roman"/>
                        </a:rPr>
                        <a:t>Orden = 3 dz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40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pac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dz/hr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iempo de Ciclo </a:t>
                      </a: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min/dz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iempo de Fluj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min/Or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pac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dz/hr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iempo de Ciclo </a:t>
                      </a: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min/dz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iempo de Fluj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min/Or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pac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dz/hr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iempo de Ciclo </a:t>
                      </a: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min/dz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iempo de Fluj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min/Or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ezc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Hor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nfria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7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mpaq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ntrega 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ag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-114480" y="152280"/>
            <a:ext cx="356904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Pregunt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5360" y="914400"/>
            <a:ext cx="78487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492120" y="1400040"/>
            <a:ext cx="824544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imes New Roman"/>
              </a:rPr>
              <a:t>Cuál es el efecto de agregar un horno mas en la capacidad del sistema (para distintos tamaños de orden)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imes New Roman"/>
              </a:rPr>
              <a:t>Cuál es la capacidad del sistema si Kristen trabaja sola? Asuma que hay un solo horno y las ordenes son por 1dz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-114480" y="152280"/>
            <a:ext cx="356904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Pregunt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495360" y="914400"/>
            <a:ext cx="78487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2120" y="1400040"/>
            <a:ext cx="824544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imes New Roman"/>
              </a:rPr>
              <a:t>Cuál es la utilización de cada proceso? Asuma que hay 1 horno y las ordenes son por 1 dz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/>
          <p:nvPr/>
        </p:nvSpPr>
        <p:spPr>
          <a:xfrm>
            <a:off x="419040" y="152280"/>
            <a:ext cx="84963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Formas de Aumentar la Capacida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95360" y="914400"/>
            <a:ext cx="78487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817560" y="1108080"/>
            <a:ext cx="785520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ejorando la carga de trabajo en los C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Trabajando eficientemente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Trabajando mas ráp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Haciendo el trabajo correcto la primera vez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ligiendo el mix de productos adecu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oviendo trabajo del CB a otras estaciones que no son CB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o incluso a 3</a:t>
            </a:r>
            <a:r>
              <a:rPr b="0" lang="es-CL" sz="2400" spc="-1" strike="noStrike" baseline="30000">
                <a:solidFill>
                  <a:srgbClr val="000000"/>
                </a:solidFill>
                <a:latin typeface="Times New Roman"/>
              </a:rPr>
              <a:t>r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partes (outsourc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umentar la disponibilidad del C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Trabajando horas extr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umentando la escala (inversiones de capit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umentando el tamaño del batch (economías de escal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liminando desperdicios (producción ajustad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/>
          </p:nvPr>
        </p:nvSpPr>
        <p:spPr>
          <a:xfrm>
            <a:off x="152280" y="1219320"/>
            <a:ext cx="65534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Cuál es el margen asociado a ordenes de distinto tamaño? Asuma el trabajo cuesta $10/hr, los costos variables (insumos) son de $0.7/dz y el precio de venta es $3/d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Orden = 1 d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Trabajo = 12 min./d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Costo = $0.70 Insumos +$10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12/60 Trabajo = $2.70/d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16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Margen = $0.30/d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Orden = 2 d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Trabajo = 8.5 min./d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Costo = $0.70 Insumos +$10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8.5/60 Trabajo = $2.12/d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16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Margen = $0.88/d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Orden = 3 d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Trabajo = 7.33 min./d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Costo = $0.70 Insumos +$10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7.33/60 Trabajo = $1.92/d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16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Margen = $1.08/dz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e que hemos ignorado el tiempo ocioso del trabajo. Cuál sería el margen si no ignoramos el tiempo ocioso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81080" y="152280"/>
            <a:ext cx="538164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Preguntas Adicion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5360" y="914400"/>
            <a:ext cx="78487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4" name=""/>
          <p:cNvGraphicFramePr/>
          <p:nvPr/>
        </p:nvGraphicFramePr>
        <p:xfrm>
          <a:off x="6781680" y="1981080"/>
          <a:ext cx="2186280" cy="1925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81680" y="1981080"/>
                    <a:ext cx="2186280" cy="192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4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4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4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4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4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4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4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4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4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4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44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44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4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4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44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44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44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44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44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44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609480" y="152280"/>
            <a:ext cx="27432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Contenid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3520" y="914400"/>
            <a:ext cx="784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4920" y="1247760"/>
            <a:ext cx="8686800" cy="554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990033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aramond"/>
              </a:rPr>
              <a:t>Análisis de Proceso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990033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0000"/>
                </a:solidFill>
                <a:latin typeface="Garamond"/>
              </a:rPr>
              <a:t>Medidas de Desempeño</a:t>
            </a:r>
            <a:r>
              <a:rPr b="0" lang="es-CL" sz="2200" spc="-1" strike="noStrike">
                <a:solidFill>
                  <a:srgbClr val="000000"/>
                </a:solidFill>
                <a:latin typeface="Garamond"/>
              </a:rPr>
              <a:t>: Capacidad, Tiempo de Ciclo, Tiempos de Flujos, Cuellos de  Botella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990033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0000"/>
                </a:solidFill>
                <a:latin typeface="Garamond"/>
              </a:rPr>
              <a:t>Productividad y Eficiencia</a:t>
            </a:r>
            <a:r>
              <a:rPr b="0" lang="es-CL" sz="2200" spc="-1" strike="noStrike">
                <a:solidFill>
                  <a:srgbClr val="000000"/>
                </a:solidFill>
                <a:latin typeface="Garamond"/>
              </a:rPr>
              <a:t>: Como los cuellos de botella afectan la capacidad y los retornos de un sistema de producció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990033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0000"/>
                </a:solidFill>
                <a:latin typeface="Garamond"/>
              </a:rPr>
              <a:t>Efectos  de los Tiempos de Setup y  Tamaños del Lote</a:t>
            </a:r>
            <a:r>
              <a:rPr b="0" lang="es-CL" sz="22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990033"/>
              </a:buClr>
              <a:buFont typeface="Garamond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990033"/>
              </a:buClr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aramond"/>
              </a:rPr>
              <a:t>Discusión del caso “Kristen’s Cookie Company”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990033"/>
              </a:buClr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990033"/>
              </a:buClr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aramond"/>
              </a:rPr>
              <a:t>Producción Agregada y Sistemas MR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990033"/>
              </a:buClr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"/>
          <p:cNvSpPr/>
          <p:nvPr/>
        </p:nvSpPr>
        <p:spPr>
          <a:xfrm>
            <a:off x="495360" y="914400"/>
            <a:ext cx="78487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457200" y="1108080"/>
            <a:ext cx="83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33520" y="1095480"/>
            <a:ext cx="807696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597240" indent="-5972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uál es el mayor descuento que Kristen podría hacer para incentivar ordenes de 2dz en lugar de 1dz? Asuma que hay dos horn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70560" indent="-522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La capacidad del sistema aumenta con el tamaño de la orden. Es decir, ordenes por 2dz liberan tiempo del CB que se puede usar para generar mas ingreso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70560" indent="-522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70560" indent="-522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Orden = 1 d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70560" indent="-5227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Se requieren 8 min del CB para producir 1 d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70560" indent="-5227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Margen por min. del CB 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= ($0.30 dz.)/ (8 min./dz.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343880" indent="-4478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=  $0.0375/mi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70560" indent="-522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Orden = 2 d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70560" indent="-5227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Se requieren 5 min del CB para producir 1 d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70560" indent="-5227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Margen por min.del CB 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= ($0.88 dz.)/ (5 min./dz.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343880" indent="-4478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=  $0.176/mi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70560" indent="-522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Descuento Maxim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70560" indent="-5227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= Margen adicional generado al procesar ordenes de 2 dz. En lugar de ordenes de 1d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70560" indent="-5227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= $(0.176-0.0375) × 10min = $1.385 por orden de 2 d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70560" indent="-522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70560" indent="-522720">
              <a:lnSpc>
                <a:spcPct val="80000"/>
              </a:lnSpc>
              <a:spcBef>
                <a:spcPts val="400"/>
              </a:spcBef>
              <a:buClr>
                <a:srgbClr val="990033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990033"/>
                </a:solidFill>
                <a:latin typeface="Times New Roman"/>
              </a:rPr>
              <a:t>Concepto: MONETARIZAR EL CUELLO DE BOTELL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80000"/>
              </a:lnSpc>
              <a:spcBef>
                <a:spcPts val="400"/>
              </a:spcBef>
              <a:buClr>
                <a:srgbClr val="99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0" y="152280"/>
            <a:ext cx="538164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Preguntas Adicion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4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4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4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4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4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4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4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4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4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4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4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4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4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4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4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4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4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4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44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44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44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44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44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44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44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44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52280" y="114480"/>
            <a:ext cx="28958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Resum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iagram de Fluj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Separar procesos en secuencia de activ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Identificar recursos asociados con cada activ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0">
              <a:lnSpc>
                <a:spcPct val="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-240120"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arta Gan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Muy útil para la gestión de recursos y su schedu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0">
              <a:lnSpc>
                <a:spcPct val="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-240120"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edidas de Desempeño: Capacidad, Tiempo de Ciclo, Tiempo de Flujo, Cuellos de Botel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0">
              <a:lnSpc>
                <a:spcPct val="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-240120"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special énfasis en manejar correctamente el CB ya que determina la capacidad del sistem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0">
              <a:lnSpc>
                <a:spcPct val="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-240120"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onetarizar el CB, i.e., calculando el margen generado por unidad de tiempo en el C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495360" y="914400"/>
            <a:ext cx="78487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4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4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4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4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4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4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4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4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4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4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4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4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4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4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04920" y="139680"/>
            <a:ext cx="42670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Pregunta Centr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33520" y="914400"/>
            <a:ext cx="784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355680" y="1955880"/>
            <a:ext cx="8533800" cy="4275360"/>
            <a:chOff x="355680" y="1955880"/>
            <a:chExt cx="8533800" cy="4275360"/>
          </a:xfrm>
        </p:grpSpPr>
        <p:sp>
          <p:nvSpPr>
            <p:cNvPr id="58" name=""/>
            <p:cNvSpPr/>
            <p:nvPr/>
          </p:nvSpPr>
          <p:spPr>
            <a:xfrm>
              <a:off x="3098880" y="2876400"/>
              <a:ext cx="251460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400" spc="-1" strike="noStrike">
                  <a:solidFill>
                    <a:srgbClr val="000000"/>
                  </a:solidFill>
                  <a:latin typeface="Arial"/>
                </a:rPr>
                <a:t>Venta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" name=""/>
            <p:cNvGrpSpPr/>
            <p:nvPr/>
          </p:nvGrpSpPr>
          <p:grpSpPr>
            <a:xfrm>
              <a:off x="3098880" y="3333600"/>
              <a:ext cx="2514600" cy="1450080"/>
              <a:chOff x="3098880" y="3333600"/>
              <a:chExt cx="2514600" cy="1450080"/>
            </a:xfrm>
          </p:grpSpPr>
          <p:sp>
            <p:nvSpPr>
              <p:cNvPr id="60" name=""/>
              <p:cNvSpPr/>
              <p:nvPr/>
            </p:nvSpPr>
            <p:spPr>
              <a:xfrm>
                <a:off x="3098880" y="4019040"/>
                <a:ext cx="2514600" cy="7646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2000" spc="-1" strike="noStrike">
                    <a:solidFill>
                      <a:srgbClr val="000000"/>
                    </a:solidFill>
                    <a:latin typeface="Arial"/>
                  </a:rPr>
                  <a:t>Tiempos de Entrega</a:t>
                </a:r>
                <a:r>
                  <a:rPr b="0" lang="es-CL" sz="2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s-CL" sz="2000" spc="-1" strike="noStrike">
                    <a:solidFill>
                      <a:srgbClr val="000000"/>
                    </a:solidFill>
                    <a:latin typeface="Arial"/>
                  </a:rPr>
                  <a:t>(actual)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flipV="1">
                <a:off x="4318200" y="3333600"/>
                <a:ext cx="0" cy="685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" name=""/>
            <p:cNvGrpSpPr/>
            <p:nvPr/>
          </p:nvGrpSpPr>
          <p:grpSpPr>
            <a:xfrm>
              <a:off x="355680" y="3108960"/>
              <a:ext cx="2743200" cy="1369440"/>
              <a:chOff x="355680" y="3108960"/>
              <a:chExt cx="2743200" cy="1369440"/>
            </a:xfrm>
          </p:grpSpPr>
          <p:sp>
            <p:nvSpPr>
              <p:cNvPr id="63" name=""/>
              <p:cNvSpPr/>
              <p:nvPr/>
            </p:nvSpPr>
            <p:spPr>
              <a:xfrm>
                <a:off x="355680" y="4018680"/>
                <a:ext cx="1219320" cy="4597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2400" spc="-1" strike="noStrike">
                    <a:solidFill>
                      <a:srgbClr val="000000"/>
                    </a:solidFill>
                    <a:latin typeface="Arial"/>
                  </a:rPr>
                  <a:t>Precio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64" name=""/>
              <p:cNvCxnSpPr>
                <a:stCxn id="63" idx="0"/>
                <a:endCxn id="58" idx="1"/>
              </p:cNvCxnSpPr>
              <p:nvPr/>
            </p:nvCxnSpPr>
            <p:spPr>
              <a:xfrm flipH="1" flipV="1" rot="5400000">
                <a:off x="1577160" y="2496600"/>
                <a:ext cx="909720" cy="2134440"/>
              </a:xfrm>
              <a:prstGeom prst="bentConnector2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grpSp>
          <p:nvGrpSpPr>
            <p:cNvPr id="65" name=""/>
            <p:cNvGrpSpPr/>
            <p:nvPr/>
          </p:nvGrpSpPr>
          <p:grpSpPr>
            <a:xfrm>
              <a:off x="1727280" y="3108960"/>
              <a:ext cx="1942920" cy="2756520"/>
              <a:chOff x="1727280" y="3108960"/>
              <a:chExt cx="1942920" cy="2756520"/>
            </a:xfrm>
          </p:grpSpPr>
          <p:sp>
            <p:nvSpPr>
              <p:cNvPr id="66" name=""/>
              <p:cNvSpPr/>
              <p:nvPr/>
            </p:nvSpPr>
            <p:spPr>
              <a:xfrm>
                <a:off x="1727280" y="5466600"/>
                <a:ext cx="1523520" cy="398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2000" spc="-1" strike="noStrike">
                    <a:solidFill>
                      <a:srgbClr val="990033"/>
                    </a:solidFill>
                    <a:latin typeface="Arial"/>
                  </a:rPr>
                  <a:t>Capacidad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67" name=""/>
              <p:cNvCxnSpPr>
                <a:stCxn id="66" idx="0"/>
                <a:endCxn id="58" idx="1"/>
              </p:cNvCxnSpPr>
              <p:nvPr/>
            </p:nvCxnSpPr>
            <p:spPr>
              <a:xfrm flipH="1" flipV="1" rot="5400000">
                <a:off x="1614960" y="3983040"/>
                <a:ext cx="2357640" cy="609840"/>
              </a:xfrm>
              <a:prstGeom prst="bentConnector2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68" name=""/>
              <p:cNvCxnSpPr>
                <a:stCxn id="66" idx="3"/>
              </p:cNvCxnSpPr>
              <p:nvPr/>
            </p:nvCxnSpPr>
            <p:spPr>
              <a:xfrm flipV="1">
                <a:off x="3250800" y="4856760"/>
                <a:ext cx="419760" cy="843120"/>
              </a:xfrm>
              <a:prstGeom prst="bentConnector2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grpSp>
          <p:nvGrpSpPr>
            <p:cNvPr id="69" name=""/>
            <p:cNvGrpSpPr/>
            <p:nvPr/>
          </p:nvGrpSpPr>
          <p:grpSpPr>
            <a:xfrm>
              <a:off x="4013280" y="4857480"/>
              <a:ext cx="2057400" cy="1008000"/>
              <a:chOff x="4013280" y="4857480"/>
              <a:chExt cx="2057400" cy="1008000"/>
            </a:xfrm>
          </p:grpSpPr>
          <p:sp>
            <p:nvSpPr>
              <p:cNvPr id="70" name=""/>
              <p:cNvSpPr/>
              <p:nvPr/>
            </p:nvSpPr>
            <p:spPr>
              <a:xfrm>
                <a:off x="4013280" y="5466600"/>
                <a:ext cx="2057400" cy="398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2000" spc="-1" strike="noStrike">
                    <a:solidFill>
                      <a:srgbClr val="000000"/>
                    </a:solidFill>
                    <a:latin typeface="Arial"/>
                  </a:rPr>
                  <a:t>Tiempo de Flujo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V="1">
                <a:off x="4851360" y="4857480"/>
                <a:ext cx="0" cy="609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" name=""/>
            <p:cNvGrpSpPr/>
            <p:nvPr/>
          </p:nvGrpSpPr>
          <p:grpSpPr>
            <a:xfrm>
              <a:off x="5613120" y="3109320"/>
              <a:ext cx="3276360" cy="3121920"/>
              <a:chOff x="5613120" y="3109320"/>
              <a:chExt cx="3276360" cy="3121920"/>
            </a:xfrm>
          </p:grpSpPr>
          <p:grpSp>
            <p:nvGrpSpPr>
              <p:cNvPr id="73" name=""/>
              <p:cNvGrpSpPr/>
              <p:nvPr/>
            </p:nvGrpSpPr>
            <p:grpSpPr>
              <a:xfrm>
                <a:off x="5613120" y="3109320"/>
                <a:ext cx="3276360" cy="1772280"/>
                <a:chOff x="5613120" y="3109320"/>
                <a:chExt cx="3276360" cy="1772280"/>
              </a:xfrm>
            </p:grpSpPr>
            <p:sp>
              <p:nvSpPr>
                <p:cNvPr id="74" name=""/>
                <p:cNvSpPr/>
                <p:nvPr/>
              </p:nvSpPr>
              <p:spPr>
                <a:xfrm>
                  <a:off x="6375240" y="4019040"/>
                  <a:ext cx="2514240" cy="8625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2000" spc="-1" strike="noStrike">
                      <a:solidFill>
                        <a:srgbClr val="000000"/>
                      </a:solidFill>
                      <a:latin typeface="Arial"/>
                    </a:rPr>
                    <a:t>Tiempos de Entrega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2000" spc="-1" strike="noStrike">
                      <a:solidFill>
                        <a:srgbClr val="000000"/>
                      </a:solidFill>
                      <a:latin typeface="Arial"/>
                    </a:rPr>
                    <a:t>(confiabilidad)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cxnSp>
              <p:nvCxnSpPr>
                <p:cNvPr id="75" name=""/>
                <p:cNvCxnSpPr>
                  <a:stCxn id="74" idx="0"/>
                  <a:endCxn id="58" idx="3"/>
                </p:cNvCxnSpPr>
                <p:nvPr/>
              </p:nvCxnSpPr>
              <p:spPr>
                <a:xfrm flipV="1" rot="16200000">
                  <a:off x="6167880" y="2554200"/>
                  <a:ext cx="910080" cy="2019600"/>
                </a:xfrm>
                <a:prstGeom prst="bentConnector2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</p:grpSp>
          <p:grpSp>
            <p:nvGrpSpPr>
              <p:cNvPr id="76" name=""/>
              <p:cNvGrpSpPr/>
              <p:nvPr/>
            </p:nvGrpSpPr>
            <p:grpSpPr>
              <a:xfrm>
                <a:off x="6679800" y="4856760"/>
                <a:ext cx="2133360" cy="1374480"/>
                <a:chOff x="6679800" y="4856760"/>
                <a:chExt cx="2133360" cy="1374480"/>
              </a:xfrm>
            </p:grpSpPr>
            <p:sp>
              <p:nvSpPr>
                <p:cNvPr id="77" name=""/>
                <p:cNvSpPr/>
                <p:nvPr/>
              </p:nvSpPr>
              <p:spPr>
                <a:xfrm>
                  <a:off x="6679800" y="5466600"/>
                  <a:ext cx="2133360" cy="7646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2000" spc="-1" strike="noStrike">
                      <a:solidFill>
                        <a:srgbClr val="000000"/>
                      </a:solidFill>
                      <a:latin typeface="Times New Roman"/>
                    </a:rPr>
                    <a:t>Tiempos Entrega</a:t>
                  </a:r>
                  <a:r>
                    <a:rPr b="1" lang="es-CL" sz="24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1" lang="es-CL" sz="2000" spc="-1" strike="noStrike">
                      <a:solidFill>
                        <a:srgbClr val="000000"/>
                      </a:solidFill>
                      <a:latin typeface="Times New Roman"/>
                    </a:rPr>
                    <a:t>(</a:t>
                  </a:r>
                  <a:r>
                    <a:rPr b="0" lang="es-CL" sz="2000" spc="-1" strike="noStrike">
                      <a:solidFill>
                        <a:srgbClr val="000000"/>
                      </a:solidFill>
                      <a:latin typeface="Arial"/>
                    </a:rPr>
                    <a:t>Promesa)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 flipV="1">
                  <a:off x="7746480" y="4856760"/>
                  <a:ext cx="0" cy="609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9" name=""/>
            <p:cNvGrpSpPr/>
            <p:nvPr/>
          </p:nvGrpSpPr>
          <p:grpSpPr>
            <a:xfrm>
              <a:off x="964800" y="1955880"/>
              <a:ext cx="4191480" cy="2062800"/>
              <a:chOff x="964800" y="1955880"/>
              <a:chExt cx="4191480" cy="2062800"/>
            </a:xfrm>
          </p:grpSpPr>
          <p:grpSp>
            <p:nvGrpSpPr>
              <p:cNvPr id="80" name=""/>
              <p:cNvGrpSpPr/>
              <p:nvPr/>
            </p:nvGrpSpPr>
            <p:grpSpPr>
              <a:xfrm>
                <a:off x="3479760" y="1955880"/>
                <a:ext cx="1676520" cy="913320"/>
                <a:chOff x="3479760" y="1955880"/>
                <a:chExt cx="1676520" cy="913320"/>
              </a:xfrm>
            </p:grpSpPr>
            <p:sp>
              <p:nvSpPr>
                <p:cNvPr id="81" name=""/>
                <p:cNvSpPr/>
                <p:nvPr/>
              </p:nvSpPr>
              <p:spPr>
                <a:xfrm>
                  <a:off x="3479760" y="1955880"/>
                  <a:ext cx="1676520" cy="4597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CL" sz="2400" spc="-1" strike="noStrike">
                      <a:solidFill>
                        <a:srgbClr val="990033"/>
                      </a:solidFill>
                      <a:latin typeface="Arial"/>
                    </a:rPr>
                    <a:t>Retornos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" name=""/>
                <p:cNvSpPr/>
                <p:nvPr/>
              </p:nvSpPr>
              <p:spPr>
                <a:xfrm flipV="1">
                  <a:off x="4318200" y="2412360"/>
                  <a:ext cx="0" cy="456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cxnSp>
            <p:nvCxnSpPr>
              <p:cNvPr id="83" name=""/>
              <p:cNvCxnSpPr>
                <a:stCxn id="63" idx="0"/>
                <a:endCxn id="81" idx="1"/>
              </p:cNvCxnSpPr>
              <p:nvPr/>
            </p:nvCxnSpPr>
            <p:spPr>
              <a:xfrm flipH="1" flipV="1" rot="5400000">
                <a:off x="1307160" y="1846080"/>
                <a:ext cx="1830600" cy="2515320"/>
              </a:xfrm>
              <a:prstGeom prst="bentConnector2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sp>
          <p:nvSpPr>
            <p:cNvPr id="84" name=""/>
            <p:cNvSpPr/>
            <p:nvPr/>
          </p:nvSpPr>
          <p:spPr>
            <a:xfrm>
              <a:off x="3657600" y="570204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" name=""/>
          <p:cNvSpPr/>
          <p:nvPr/>
        </p:nvSpPr>
        <p:spPr>
          <a:xfrm>
            <a:off x="-335520" y="1181160"/>
            <a:ext cx="10053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990033"/>
                </a:solidFill>
                <a:latin typeface="Garamond"/>
              </a:rPr>
              <a:t>Como podemos estimar la rentabilidad  de una operació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533520" y="914400"/>
            <a:ext cx="784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2286000"/>
            <a:ext cx="25146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990033"/>
                </a:solidFill>
                <a:latin typeface="Arial"/>
              </a:rPr>
              <a:t>Cos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2971800" y="2743200"/>
            <a:ext cx="2514600" cy="1145160"/>
            <a:chOff x="2971800" y="2743200"/>
            <a:chExt cx="2514600" cy="1145160"/>
          </a:xfrm>
        </p:grpSpPr>
        <p:sp>
          <p:nvSpPr>
            <p:cNvPr id="89" name=""/>
            <p:cNvSpPr/>
            <p:nvPr/>
          </p:nvSpPr>
          <p:spPr>
            <a:xfrm>
              <a:off x="2971800" y="3428640"/>
              <a:ext cx="251460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400" spc="-1" strike="noStrike">
                  <a:solidFill>
                    <a:srgbClr val="990033"/>
                  </a:solidFill>
                  <a:latin typeface="Arial"/>
                </a:rPr>
                <a:t>Trabaj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V="1">
              <a:off x="4191120" y="2743200"/>
              <a:ext cx="0" cy="68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28600" y="2518920"/>
            <a:ext cx="2743200" cy="1308600"/>
            <a:chOff x="228600" y="2518920"/>
            <a:chExt cx="2743200" cy="1308600"/>
          </a:xfrm>
        </p:grpSpPr>
        <p:sp>
          <p:nvSpPr>
            <p:cNvPr id="92" name=""/>
            <p:cNvSpPr/>
            <p:nvPr/>
          </p:nvSpPr>
          <p:spPr>
            <a:xfrm>
              <a:off x="228600" y="3428640"/>
              <a:ext cx="144792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</a:rPr>
                <a:t>Material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93" name=""/>
            <p:cNvCxnSpPr>
              <a:stCxn id="92" idx="0"/>
              <a:endCxn id="87" idx="1"/>
            </p:cNvCxnSpPr>
            <p:nvPr/>
          </p:nvCxnSpPr>
          <p:spPr>
            <a:xfrm flipH="1" flipV="1" rot="5400000">
              <a:off x="1506960" y="1963800"/>
              <a:ext cx="910080" cy="2019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94" name=""/>
          <p:cNvGrpSpPr/>
          <p:nvPr/>
        </p:nvGrpSpPr>
        <p:grpSpPr>
          <a:xfrm>
            <a:off x="5485680" y="2518920"/>
            <a:ext cx="3277440" cy="1925640"/>
            <a:chOff x="5485680" y="2518920"/>
            <a:chExt cx="3277440" cy="1925640"/>
          </a:xfrm>
        </p:grpSpPr>
        <p:sp>
          <p:nvSpPr>
            <p:cNvPr id="95" name=""/>
            <p:cNvSpPr/>
            <p:nvPr/>
          </p:nvSpPr>
          <p:spPr>
            <a:xfrm>
              <a:off x="6248520" y="3428640"/>
              <a:ext cx="2514600" cy="1015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400" spc="-1" strike="noStrike">
                  <a:solidFill>
                    <a:srgbClr val="990033"/>
                  </a:solidFill>
                  <a:latin typeface="Arial"/>
                </a:rPr>
                <a:t>Inversiones d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400" spc="-1" strike="noStrike">
                  <a:solidFill>
                    <a:srgbClr val="990033"/>
                  </a:solidFill>
                  <a:latin typeface="Arial"/>
                </a:rPr>
                <a:t>Capit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96" name=""/>
            <p:cNvCxnSpPr>
              <a:stCxn id="95" idx="0"/>
              <a:endCxn id="87" idx="3"/>
            </p:cNvCxnSpPr>
            <p:nvPr/>
          </p:nvCxnSpPr>
          <p:spPr>
            <a:xfrm flipV="1" rot="16200000">
              <a:off x="6040800" y="1963800"/>
              <a:ext cx="910080" cy="2019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97" name=""/>
          <p:cNvSpPr/>
          <p:nvPr/>
        </p:nvSpPr>
        <p:spPr>
          <a:xfrm>
            <a:off x="304920" y="139680"/>
            <a:ext cx="42670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Pregunta Centr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-335520" y="1181160"/>
            <a:ext cx="10053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990033"/>
                </a:solidFill>
                <a:latin typeface="Garamond"/>
              </a:rPr>
              <a:t>Como podemos estimar la rentabilidad  de una operació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64520"/>
            <a:ext cx="7772400" cy="19191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17175e"/>
              </a:gs>
              <a:gs pos="100000">
                <a:srgbClr val="3333cc"/>
              </a:gs>
            </a:gsLst>
            <a:lin ang="5400000"/>
          </a:gra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Georgia"/>
              </a:rPr>
              <a:t>KRISTEN’S COOKIES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2870280" y="2763720"/>
          <a:ext cx="3009960" cy="23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70280" y="2763720"/>
                    <a:ext cx="3009960" cy="23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609480" y="152280"/>
            <a:ext cx="5943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Definición de un Proces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33520" y="914400"/>
            <a:ext cx="784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0880" y="3797280"/>
            <a:ext cx="830592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Ejempl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200" spc="-1" strike="noStrike">
                <a:solidFill>
                  <a:srgbClr val="000000"/>
                </a:solidFill>
                <a:latin typeface="Times New Roman"/>
              </a:rPr>
              <a:t>En Kristen’s cookies, en el proceso del horno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28600" y="1066680"/>
            <a:ext cx="8763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990033"/>
                </a:solidFill>
                <a:latin typeface="Times New Roman"/>
              </a:rPr>
              <a:t>Un proceso consiste de inputs, outputs, recursos y transformaciones. Los recursos transforman los inputs en outpu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80880" y="4711680"/>
            <a:ext cx="70106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200" spc="-1" strike="noStrike">
                <a:solidFill>
                  <a:srgbClr val="000000"/>
                </a:solidFill>
                <a:latin typeface="Times New Roman"/>
              </a:rPr>
              <a:t>En una Aerolín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04920" y="4573440"/>
            <a:ext cx="861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Times New Roman"/>
              </a:rPr>
              <a:t>Input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= masa,   </a:t>
            </a:r>
            <a:r>
              <a:rPr b="0" lang="es-CL" sz="2000" spc="-1" strike="noStrike">
                <a:solidFill>
                  <a:srgbClr val="3333cc"/>
                </a:solidFill>
                <a:latin typeface="Times New Roman"/>
              </a:rPr>
              <a:t>Output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= galletas cocidas,    </a:t>
            </a:r>
            <a:r>
              <a:rPr b="0" lang="es-CL" sz="2000" spc="-1" strike="noStrike">
                <a:solidFill>
                  <a:srgbClr val="3333cc"/>
                </a:solidFill>
                <a:latin typeface="Times New Roman"/>
              </a:rPr>
              <a:t>Recursos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= Kristen, Horno, Bande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546200" y="5923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143000" y="5321160"/>
            <a:ext cx="6858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Times New Roman"/>
              </a:rPr>
              <a:t>Input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= personas/equipaje un punto de origen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Times New Roman"/>
              </a:rPr>
              <a:t>Output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= personas/equipaje un punto de destino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Times New Roman"/>
              </a:rPr>
              <a:t>Recursos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= aviones, pilotos, azafatas, aeropuertos,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895480" y="2120760"/>
            <a:ext cx="2819520" cy="9144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roceso 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Transform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981080" y="257796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715000" y="257796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191240" y="2327400"/>
            <a:ext cx="82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In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565320" y="231156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4191120" y="303516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04600" y="3416400"/>
            <a:ext cx="129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Recurs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17520" y="152280"/>
            <a:ext cx="83692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cc"/>
                </a:solidFill>
                <a:latin typeface="Times New Roman"/>
              </a:rPr>
              <a:t>Definición de un Diagrama de Flujo de Proces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33520" y="914400"/>
            <a:ext cx="78483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7680" y="1108080"/>
            <a:ext cx="8397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200" spc="-1" strike="noStrike">
                <a:solidFill>
                  <a:srgbClr val="000000"/>
                </a:solidFill>
                <a:latin typeface="Times New Roman"/>
              </a:rPr>
              <a:t>Un diagram de flujos comprende un conjunto de procesos unidos en una secuencia appropiada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143000" y="2362320"/>
            <a:ext cx="1447920" cy="4572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roceso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867280" y="2362320"/>
            <a:ext cx="1447920" cy="4572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roceso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33520" y="2590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2590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590920" y="25909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724280" y="25909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709080" y="1676520"/>
            <a:ext cx="112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Col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Inventa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55760" y="3100320"/>
            <a:ext cx="5369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1" lang="es-CL" sz="2200" spc="-1" strike="noStrike">
                <a:solidFill>
                  <a:srgbClr val="990033"/>
                </a:solidFill>
                <a:latin typeface="Times New Roman"/>
              </a:rPr>
              <a:t>Como dividir una operación en procesos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04920" y="3506760"/>
            <a:ext cx="8686800" cy="30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Sólo inputs y outputs se mueven a lo largo de las flechas. Recursos están fijos. Por ello, todo set de recursos usados en forma conjunta define un proces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or ejemplo, en Kristen’s Cookies, “Mezclar Masa” y “Vaciarla en la Bandeja” are son un mismo procesos ya que comparten el recipiente donde se mezcl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Descomponer los procesos de esta manera, donde sólo inputs y outputs se mueven entre procesos permite “romper” una operación complejas en partes mas sencillas que pueden analizarse en forma independient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or ejemplo, podemos analizar “Mezcla y Vaciado” en forma separada del Horno, el empaque o el pag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3517920" y="2259720"/>
            <a:ext cx="1447920" cy="83844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imes New Roman"/>
              </a:rPr>
              <a:t>Buff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317520" y="152280"/>
            <a:ext cx="85215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Inputs, Outputs y Recurs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33520" y="914400"/>
            <a:ext cx="78483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457200" y="1308240"/>
          <a:ext cx="8229600" cy="4319280"/>
        </p:xfrm>
        <a:graphic>
          <a:graphicData uri="http://schemas.openxmlformats.org/drawingml/2006/table">
            <a:tbl>
              <a:tblPr/>
              <a:tblGrid>
                <a:gridCol w="1828800"/>
                <a:gridCol w="2286000"/>
                <a:gridCol w="2057400"/>
                <a:gridCol w="2057400"/>
              </a:tblGrid>
              <a:tr h="67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800" spc="-1" strike="noStrike">
                          <a:solidFill>
                            <a:srgbClr val="990033"/>
                          </a:solidFill>
                          <a:latin typeface="Times New Roman"/>
                        </a:rPr>
                        <a:t>Proces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800" spc="-1" strike="noStrike">
                          <a:solidFill>
                            <a:srgbClr val="990033"/>
                          </a:solidFill>
                          <a:latin typeface="Times New Roman"/>
                        </a:rPr>
                        <a:t>Inpu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800" spc="-1" strike="noStrike">
                          <a:solidFill>
                            <a:srgbClr val="990033"/>
                          </a:solidFill>
                          <a:latin typeface="Times New Roman"/>
                        </a:rPr>
                        <a:t>Outpu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800" spc="-1" strike="noStrike">
                          <a:solidFill>
                            <a:srgbClr val="990033"/>
                          </a:solidFill>
                          <a:latin typeface="Times New Roman"/>
                        </a:rPr>
                        <a:t>Recurs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zcla y Vacia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gredien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sa en Bande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cesador, Recipiente, Bandeja, Kris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cción/Horn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sa en Bande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lletas Calien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iga, Horno, Bande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fria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lletas Calien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lletas Frí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spacio de la Coci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5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mpaq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lletas, Caja, Cord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lletas Empacad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ig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cepción de Pago y Entreg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llet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n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iga, Caja Registrado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3" name=""/>
          <p:cNvSpPr/>
          <p:nvPr/>
        </p:nvSpPr>
        <p:spPr>
          <a:xfrm>
            <a:off x="365040" y="5637240"/>
            <a:ext cx="8321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Excepto por Kristen, su amiga y las bandejas ninguno otro recursos es compartido por dos o mas procesos. Asumiremos un numero ilimitado de bandejas, espacio ilimitado para enfriar en la cocina y tiempo ilimitado para Kristen y su amiga. De esta forma podemos analizar cada proceso por separad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317520" y="152280"/>
            <a:ext cx="85215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Kristen’s Cookies: Diagrama de Fluj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33520" y="914400"/>
            <a:ext cx="78483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27200" y="1371600"/>
            <a:ext cx="1218960" cy="68580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990033"/>
                </a:solidFill>
                <a:latin typeface="Times New Roman"/>
              </a:rPr>
              <a:t>Recep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85560" y="2030400"/>
            <a:ext cx="184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Computador (0 m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71720" y="17398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2502000" y="1459800"/>
            <a:ext cx="647640" cy="54612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025800" y="17398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786120" y="1397160"/>
            <a:ext cx="3998880" cy="68580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990033"/>
                </a:solidFill>
                <a:latin typeface="Times New Roman"/>
              </a:rPr>
              <a:t>Lavar Recipiente, Mezclar Mas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990033"/>
                </a:solidFill>
                <a:latin typeface="Times New Roman"/>
              </a:rPr>
              <a:t>Vaciar en Bande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830400" y="2055960"/>
            <a:ext cx="3986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Kristen (Setup = 6 min, Operación = 2 min/dz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Lote = hasta 3 dz por recipie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785000" y="17398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8470800" y="175248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8153280" y="2590200"/>
            <a:ext cx="648000" cy="54612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8470800" y="31114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7784640" y="35812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660920" y="3255840"/>
            <a:ext cx="3062160" cy="68580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990033"/>
                </a:solidFill>
                <a:latin typeface="Times New Roman"/>
              </a:rPr>
              <a:t>Carga, ajuste del Timer 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990033"/>
                </a:solidFill>
                <a:latin typeface="Times New Roman"/>
              </a:rPr>
              <a:t>Co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127400" y="3914640"/>
            <a:ext cx="4419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Amiga (Setup = 1 min, Operación = 9 min/dz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Lote = 1 dz. por hor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3746520" y="35812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755800" y="3233880"/>
            <a:ext cx="963720" cy="68580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990033"/>
                </a:solidFill>
                <a:latin typeface="Times New Roman"/>
              </a:rPr>
              <a:t>Descarg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15400" y="3892680"/>
            <a:ext cx="138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Amiga (0 m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2133720" y="3581280"/>
            <a:ext cx="622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197000" y="3233880"/>
            <a:ext cx="936720" cy="68580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990033"/>
                </a:solidFill>
                <a:latin typeface="Times New Roman"/>
              </a:rPr>
              <a:t>Enfri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250280" y="3879720"/>
            <a:ext cx="782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(5 m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635040" y="35812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22440" y="35812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291960" y="4177440"/>
            <a:ext cx="648000" cy="54612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09480" y="47242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22440" y="5334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501920" y="4986360"/>
            <a:ext cx="1218960" cy="68580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990033"/>
                </a:solidFill>
                <a:latin typeface="Times New Roman"/>
              </a:rPr>
              <a:t>Empa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301040" y="564516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Amiga (2 min/dz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730600" y="5334120"/>
            <a:ext cx="711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3289320" y="5054040"/>
            <a:ext cx="647640" cy="54612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797280" y="5334120"/>
            <a:ext cx="711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565520" y="4952880"/>
            <a:ext cx="1771920" cy="7192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990033"/>
                </a:solidFill>
                <a:latin typeface="Times New Roman"/>
              </a:rPr>
              <a:t>Entrega y Pa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631760" y="565776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Amiga (1 min/dz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337440" y="5321160"/>
            <a:ext cx="711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7162920" y="4772160"/>
          <a:ext cx="1384200" cy="109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62920" y="4772160"/>
                    <a:ext cx="1384200" cy="109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1T18:26:37Z</dcterms:created>
  <dc:creator>Rene Caldentey</dc:creator>
  <dc:description/>
  <dc:language>en-US</dc:language>
  <cp:lastModifiedBy>Rene Caldentey</cp:lastModifiedBy>
  <dcterms:modified xsi:type="dcterms:W3CDTF">2008-06-17T12:57:09Z</dcterms:modified>
  <cp:revision>98</cp:revision>
  <dc:subject/>
  <dc:title>KRISTEN’S COOKIES</dc:title>
</cp:coreProperties>
</file>