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80840" y="1320480"/>
            <a:ext cx="4089240" cy="30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hdr"/>
          </p:nvPr>
        </p:nvSpPr>
        <p:spPr>
          <a:xfrm>
            <a:off x="63000" y="9303840"/>
            <a:ext cx="3549960" cy="343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32920" y="-360"/>
            <a:ext cx="28465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4296960" y="-360"/>
            <a:ext cx="30193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tern" descr=""/>
          <p:cNvPicPr/>
          <p:nvPr/>
        </p:nvPicPr>
        <p:blipFill>
          <a:blip r:embed="rId2"/>
          <a:stretch/>
        </p:blipFill>
        <p:spPr>
          <a:xfrm>
            <a:off x="6046920" y="9228240"/>
            <a:ext cx="1209600" cy="31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" Target="../slides/slide18.xml"/><Relationship Id="rId4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" Target="../slides/slide20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55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456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00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01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29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30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58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59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87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88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2670120" y="132084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15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716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2670120" y="5473800"/>
            <a:ext cx="414036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762120" y="132084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44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745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762120" y="5473800"/>
            <a:ext cx="413208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84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485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13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14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2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543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71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72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783-D1CC-464C-A780-3A436531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4E2-631A-4033-B74D-030273C0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DAA-DBC6-4CED-A081-A191C2E5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BDA-9094-46BB-BB10-54A0589D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7BA-CA4E-4B1A-A656-1EA63E05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809-A885-4602-9718-65CA3AC7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FD2-E1D0-467C-838E-0A06F007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0F2-73CC-4E88-B857-8B7AC1BA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7AD6-F715-4260-8A44-6768445B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96E-FA99-46AC-8D6E-7C9CBA16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9BB-521E-401B-9741-8FD9B693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AEE-DD6E-4496-924D-8B2DDFC4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6BD1-D9BD-44E5-B45E-7A4EAF0A8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Análisis de Proc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59520"/>
            <a:ext cx="7772400" cy="1691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CL" sz="5400" spc="-1" strike="noStrike">
                <a:solidFill>
                  <a:srgbClr val="ffffff"/>
                </a:solidFill>
                <a:latin typeface="Georgia"/>
              </a:rPr>
              <a:t>Análisis de Proceso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9246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152280"/>
            <a:ext cx="6845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0120" y="107964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tre la producción de dos unidades  consecutivas en un procesos que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por unidad de tiempo cuando el proceso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Utilización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/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Fluj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Tiempo que una unidad pasa en el sistema (incluyendo tiempos de esp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19600" y="3022560"/>
            <a:ext cx="566100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Capacidad = 1/ (Tiempo de Cic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1680" y="5019840"/>
            <a:ext cx="870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Observ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Las medidas tiempo de ciclo, capacidad, utilización, tiempo de flujo pueden aplicarse a cada proceso o al sistema compl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Tiempo de Flujo de un proceso no coincide necesariamente con Tiempo de Ciclo. Por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17520" y="152280"/>
            <a:ext cx="661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Mas 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130400"/>
            <a:ext cx="8534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roceso en Batc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Varias unidades son procesada simultáneamente. El número de unidades procesadas simultáneamente se conoce como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amaño de Lote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Batch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uello de Botella (CB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Operación/Recurso que limita la produccion total de un proceso: usualmente es la operación/recurso con menor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Capac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e Ciclo d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Ocios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urante el cual una operación/recursos no está produc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82800" y="2438280"/>
            <a:ext cx="73756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Tiempo de Flujo = Tiempo de Ciclo 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16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un Ho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43080" y="1270080"/>
          <a:ext cx="8420040" cy="4700520"/>
        </p:xfrm>
        <a:graphic>
          <a:graphicData uri="http://schemas.openxmlformats.org/drawingml/2006/table">
            <a:tbl>
              <a:tblPr/>
              <a:tblGrid>
                <a:gridCol w="1126800"/>
                <a:gridCol w="1019160"/>
                <a:gridCol w="1320840"/>
                <a:gridCol w="1219320"/>
                <a:gridCol w="1066680"/>
                <a:gridCol w="1295640"/>
                <a:gridCol w="1371600"/>
              </a:tblGrid>
              <a:tr h="57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 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66680" y="5943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Georgia"/>
              </a:rPr>
              <a:t>Ver transparencias que  siguen con la discusión de estos val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9800" y="152280"/>
            <a:ext cx="5676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rta Gant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2120" y="1171440"/>
            <a:ext cx="84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anto tiempo toma producir 1 dz. con un solo horno? 2 dzs?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9560" y="5102280"/>
            <a:ext cx="6791400" cy="680040"/>
            <a:chOff x="1609560" y="5102280"/>
            <a:chExt cx="6791400" cy="680040"/>
          </a:xfrm>
        </p:grpSpPr>
        <p:sp>
          <p:nvSpPr>
            <p:cNvPr id="188" name=""/>
            <p:cNvSpPr/>
            <p:nvPr/>
          </p:nvSpPr>
          <p:spPr>
            <a:xfrm>
              <a:off x="1609560" y="5416560"/>
              <a:ext cx="38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1928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57960" y="5102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432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0096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2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9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01320" y="5383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1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7480" y="512136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26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6000" y="5381640"/>
              <a:ext cx="81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2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d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18320" y="511992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90720" y="5373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3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3760" y="511200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93200" y="5970600"/>
            <a:ext cx="636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Qué pasa con otros recursos como Bandejas y Trabaj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6680" y="2301840"/>
            <a:ext cx="8670240" cy="2822760"/>
            <a:chOff x="346680" y="2301840"/>
            <a:chExt cx="8670240" cy="2822760"/>
          </a:xfrm>
        </p:grpSpPr>
        <p:sp>
          <p:nvSpPr>
            <p:cNvPr id="203" name=""/>
            <p:cNvSpPr/>
            <p:nvPr/>
          </p:nvSpPr>
          <p:spPr>
            <a:xfrm>
              <a:off x="431640" y="312408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1640" y="352116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1640" y="3919680"/>
              <a:ext cx="8574120" cy="96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1640" y="431640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1640" y="471312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6320" y="291312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Proc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53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05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443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395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3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888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82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778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712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66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602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5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491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44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381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336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270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226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60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09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050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98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94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87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83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6680" y="32734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         </a:t>
              </a: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Mezc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5920" y="367020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993300"/>
                  </a:solidFill>
                  <a:latin typeface="Arial"/>
                </a:rPr>
                <a:t>H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0120" y="4068720"/>
              <a:ext cx="72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fri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3440" y="4465800"/>
              <a:ext cx="80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mpa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2320" y="486396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t. &amp; P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54040" y="2708280"/>
              <a:ext cx="54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minu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75520" y="2301840"/>
              <a:ext cx="562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800000"/>
                  </a:solidFill>
                  <a:latin typeface="Arial"/>
                </a:rPr>
                <a:t>Carta Gantt Chart con un Horno (Orden = 1 d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0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3032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237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237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9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928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26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126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82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824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016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016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972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972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906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906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86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8616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95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95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75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512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685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685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64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408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574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574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530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5304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464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464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420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420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54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54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29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291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243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243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18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181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13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133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07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070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02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22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5680" y="3213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5680" y="3213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5680" y="351468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5680" y="351468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5680" y="36115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5680" y="361152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5680" y="391176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5680" y="391176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680" y="40086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5680" y="400860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5680" y="43099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5680" y="4309920"/>
              <a:ext cx="118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5680" y="44053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5680" y="440532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5680" y="4707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5680" y="4707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680" y="480384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5680" y="480384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9040" y="2881440"/>
              <a:ext cx="26640" cy="22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28640" y="2908440"/>
              <a:ext cx="2844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30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3032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237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237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19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928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126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126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082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0824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16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016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972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72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906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906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86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616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95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95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75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7512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685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685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64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6408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574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574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530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5304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464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464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420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20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354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354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29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91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43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243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18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181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13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133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407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4070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02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7022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989920" y="2908440"/>
              <a:ext cx="2700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5680" y="288144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5680" y="3110040"/>
              <a:ext cx="85712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57080" y="3213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57080" y="3213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7080" y="351468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57080" y="351468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57080" y="36115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57080" y="361152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57080" y="391176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57080" y="391176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57080" y="40086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57080" y="400860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57080" y="43099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57080" y="4309920"/>
              <a:ext cx="73328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57080" y="44053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57080" y="440532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57080" y="4707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57080" y="4707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57080" y="480384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57080" y="480384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680" y="509760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828880" y="3600360"/>
            <a:ext cx="1449000" cy="337320"/>
            <a:chOff x="2828880" y="3600360"/>
            <a:chExt cx="1449000" cy="337320"/>
          </a:xfrm>
        </p:grpSpPr>
        <p:sp>
          <p:nvSpPr>
            <p:cNvPr id="380" name=""/>
            <p:cNvSpPr/>
            <p:nvPr/>
          </p:nvSpPr>
          <p:spPr>
            <a:xfrm>
              <a:off x="2828880" y="3622680"/>
              <a:ext cx="144900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54800" y="3600360"/>
              <a:ext cx="13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282920" y="4000680"/>
            <a:ext cx="744840" cy="337320"/>
            <a:chOff x="4282920" y="4000680"/>
            <a:chExt cx="744840" cy="337320"/>
          </a:xfrm>
        </p:grpSpPr>
        <p:sp>
          <p:nvSpPr>
            <p:cNvPr id="383" name=""/>
            <p:cNvSpPr/>
            <p:nvPr/>
          </p:nvSpPr>
          <p:spPr>
            <a:xfrm>
              <a:off x="4282920" y="4022640"/>
              <a:ext cx="744840" cy="28548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6240" y="400068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018040" y="4397400"/>
            <a:ext cx="316080" cy="337320"/>
            <a:chOff x="5018040" y="4397400"/>
            <a:chExt cx="316080" cy="337320"/>
          </a:xfrm>
        </p:grpSpPr>
        <p:sp>
          <p:nvSpPr>
            <p:cNvPr id="386" name=""/>
            <p:cNvSpPr/>
            <p:nvPr/>
          </p:nvSpPr>
          <p:spPr>
            <a:xfrm>
              <a:off x="5018040" y="4419720"/>
              <a:ext cx="31608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23440" y="4397400"/>
              <a:ext cx="30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251320" y="4772160"/>
            <a:ext cx="244440" cy="368280"/>
            <a:chOff x="5251320" y="4772160"/>
            <a:chExt cx="244440" cy="368280"/>
          </a:xfrm>
        </p:grpSpPr>
        <p:sp>
          <p:nvSpPr>
            <p:cNvPr id="389" name=""/>
            <p:cNvSpPr/>
            <p:nvPr/>
          </p:nvSpPr>
          <p:spPr>
            <a:xfrm>
              <a:off x="5326200" y="4809960"/>
              <a:ext cx="136440" cy="291600"/>
            </a:xfrm>
            <a:custGeom>
              <a:avLst/>
              <a:gdLst/>
              <a:ahLst/>
              <a:rect l="l" t="t" r="r" b="b"/>
              <a:pathLst>
                <a:path w="86" h="184">
                  <a:moveTo>
                    <a:pt x="2" y="184"/>
                  </a:moveTo>
                  <a:lnTo>
                    <a:pt x="0" y="0"/>
                  </a:lnTo>
                  <a:lnTo>
                    <a:pt x="86" y="0"/>
                  </a:lnTo>
                  <a:lnTo>
                    <a:pt x="85" y="183"/>
                  </a:lnTo>
                  <a:lnTo>
                    <a:pt x="2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1320" y="4772160"/>
              <a:ext cx="2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119400" y="3206880"/>
            <a:ext cx="3890880" cy="1935000"/>
            <a:chOff x="3119400" y="3206880"/>
            <a:chExt cx="3890880" cy="1935000"/>
          </a:xfrm>
        </p:grpSpPr>
        <p:grpSp>
          <p:nvGrpSpPr>
            <p:cNvPr id="392" name=""/>
            <p:cNvGrpSpPr/>
            <p:nvPr/>
          </p:nvGrpSpPr>
          <p:grpSpPr>
            <a:xfrm>
              <a:off x="3119400" y="3206880"/>
              <a:ext cx="1163520" cy="337320"/>
              <a:chOff x="3119400" y="3206880"/>
              <a:chExt cx="1163520" cy="337320"/>
            </a:xfrm>
          </p:grpSpPr>
          <p:sp>
            <p:nvSpPr>
              <p:cNvPr id="393" name=""/>
              <p:cNvSpPr/>
              <p:nvPr/>
            </p:nvSpPr>
            <p:spPr>
              <a:xfrm>
                <a:off x="311940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4640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299120" y="3597480"/>
              <a:ext cx="1449360" cy="337320"/>
              <a:chOff x="4299120" y="3597480"/>
              <a:chExt cx="1449360" cy="337320"/>
            </a:xfrm>
          </p:grpSpPr>
          <p:sp>
            <p:nvSpPr>
              <p:cNvPr id="396" name=""/>
              <p:cNvSpPr/>
              <p:nvPr/>
            </p:nvSpPr>
            <p:spPr>
              <a:xfrm>
                <a:off x="429912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2432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761080" y="3997440"/>
              <a:ext cx="744480" cy="337320"/>
              <a:chOff x="5761080" y="3997440"/>
              <a:chExt cx="744480" cy="337320"/>
            </a:xfrm>
          </p:grpSpPr>
          <p:sp>
            <p:nvSpPr>
              <p:cNvPr id="399" name=""/>
              <p:cNvSpPr/>
              <p:nvPr/>
            </p:nvSpPr>
            <p:spPr>
              <a:xfrm>
                <a:off x="576108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77368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494400" y="4399200"/>
              <a:ext cx="316080" cy="337320"/>
              <a:chOff x="6494400" y="4399200"/>
              <a:chExt cx="316080" cy="337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9440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0088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719760" y="4773600"/>
              <a:ext cx="290520" cy="368280"/>
              <a:chOff x="6719760" y="4773600"/>
              <a:chExt cx="290520" cy="368280"/>
            </a:xfrm>
          </p:grpSpPr>
          <p:sp>
            <p:nvSpPr>
              <p:cNvPr id="405" name=""/>
              <p:cNvSpPr/>
              <p:nvPr/>
            </p:nvSpPr>
            <p:spPr>
              <a:xfrm>
                <a:off x="6794640" y="4811760"/>
                <a:ext cx="13644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1976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4591080" y="3206880"/>
            <a:ext cx="3890880" cy="1935000"/>
            <a:chOff x="4591080" y="3206880"/>
            <a:chExt cx="3890880" cy="1935000"/>
          </a:xfrm>
        </p:grpSpPr>
        <p:grpSp>
          <p:nvGrpSpPr>
            <p:cNvPr id="408" name=""/>
            <p:cNvGrpSpPr/>
            <p:nvPr/>
          </p:nvGrpSpPr>
          <p:grpSpPr>
            <a:xfrm>
              <a:off x="4591080" y="3206880"/>
              <a:ext cx="1163520" cy="337320"/>
              <a:chOff x="4591080" y="3206880"/>
              <a:chExt cx="1163520" cy="337320"/>
            </a:xfrm>
          </p:grpSpPr>
          <p:sp>
            <p:nvSpPr>
              <p:cNvPr id="409" name=""/>
              <p:cNvSpPr/>
              <p:nvPr/>
            </p:nvSpPr>
            <p:spPr>
              <a:xfrm>
                <a:off x="459108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1808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770440" y="3597480"/>
              <a:ext cx="1449360" cy="337320"/>
              <a:chOff x="5770440" y="3597480"/>
              <a:chExt cx="1449360" cy="3373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7044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9600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232760" y="3997440"/>
              <a:ext cx="744480" cy="337320"/>
              <a:chOff x="7232760" y="3997440"/>
              <a:chExt cx="744480" cy="337320"/>
            </a:xfrm>
          </p:grpSpPr>
          <p:sp>
            <p:nvSpPr>
              <p:cNvPr id="415" name=""/>
              <p:cNvSpPr/>
              <p:nvPr/>
            </p:nvSpPr>
            <p:spPr>
              <a:xfrm>
                <a:off x="723276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4536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966080" y="4399200"/>
              <a:ext cx="316080" cy="337320"/>
              <a:chOff x="7966080" y="4399200"/>
              <a:chExt cx="316080" cy="337320"/>
            </a:xfrm>
          </p:grpSpPr>
          <p:sp>
            <p:nvSpPr>
              <p:cNvPr id="418" name=""/>
              <p:cNvSpPr/>
              <p:nvPr/>
            </p:nvSpPr>
            <p:spPr>
              <a:xfrm>
                <a:off x="796608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7256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8191440" y="4773600"/>
              <a:ext cx="290520" cy="368280"/>
              <a:chOff x="8191440" y="4773600"/>
              <a:chExt cx="290520" cy="368280"/>
            </a:xfrm>
          </p:grpSpPr>
          <p:sp>
            <p:nvSpPr>
              <p:cNvPr id="421" name=""/>
              <p:cNvSpPr/>
              <p:nvPr/>
            </p:nvSpPr>
            <p:spPr>
              <a:xfrm>
                <a:off x="8265960" y="4811760"/>
                <a:ext cx="13680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19144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1649520" y="3206880"/>
            <a:ext cx="1163160" cy="337320"/>
            <a:chOff x="1649520" y="3206880"/>
            <a:chExt cx="1163160" cy="337320"/>
          </a:xfrm>
        </p:grpSpPr>
        <p:sp>
          <p:nvSpPr>
            <p:cNvPr id="424" name=""/>
            <p:cNvSpPr/>
            <p:nvPr/>
          </p:nvSpPr>
          <p:spPr>
            <a:xfrm>
              <a:off x="1649520" y="3229200"/>
              <a:ext cx="1163160" cy="29196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7240" y="3206880"/>
              <a:ext cx="112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2120" y="1400040"/>
            <a:ext cx="8245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ntas ordenes de 1 dz. Puede procesar Kristen en una ho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“Mezcla y Vaciado” si el tamaño de las ordenes aumenta de 1dz a 2 dzs y a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enter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07960" y="152280"/>
            <a:ext cx="833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dos Hor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428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04920" y="1359000"/>
          <a:ext cx="8458200" cy="4333680"/>
        </p:xfrm>
        <a:graphic>
          <a:graphicData uri="http://schemas.openxmlformats.org/drawingml/2006/table">
            <a:tbl>
              <a:tblPr/>
              <a:tblGrid>
                <a:gridCol w="1066680"/>
                <a:gridCol w="747720"/>
                <a:gridCol w="851040"/>
                <a:gridCol w="849240"/>
                <a:gridCol w="771480"/>
                <a:gridCol w="851040"/>
                <a:gridCol w="849240"/>
                <a:gridCol w="772920"/>
                <a:gridCol w="849240"/>
                <a:gridCol w="849600"/>
              </a:tblGrid>
              <a:tr h="57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3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2120" y="1400040"/>
            <a:ext cx="824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el efecto de agregar un horno mas en la capacidad del sistema (para distintos tamaños de orden)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capacidad del sistema si Kristen trabaja sola? Asuma que hay un solo horno y las ordenes son por 1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2120" y="1400040"/>
            <a:ext cx="824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utilización de cada proceso? Asuma que hay 1 horno y las ordenes son por 1 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19040" y="152280"/>
            <a:ext cx="849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Formas de Aumentar la Capac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17560" y="1108080"/>
            <a:ext cx="7855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jorando la carga de trabajo en los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eficientemen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ma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ciendo el trabajo correcto la primera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giendo el mix de productos adecu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viendo trabajo del CB a otras estaciones que no son C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incluso a 3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tes (outsourc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r la disponibil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horas ex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la escala (inversiones de cap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el tamaño del batch (economías de esca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minando desperdicios (producción ajust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6553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uál es el margen asociado a ordenes de distinto tamaño? Asuma el trabajo cuesta $10/hr, los costos variables (insumos) son de $0.7/dz y el precio de venta es $3/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12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2/60 Trabajo = $2.7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3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8.5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.5/60 Trabajo = $2.1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88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3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7.33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7.33/60 Trabajo = $1.9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1.08/dz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que hemos ignorado el tiempo ocioso del trabajo. Cuál sería el margen si no ignoramos el tiempo ocios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108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6781680" y="1981080"/>
          <a:ext cx="2186280" cy="192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21862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152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47760"/>
            <a:ext cx="8686800" cy="55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nálisis de Proces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Medidas de Desempeño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apacidad, Tiempo de Ciclo, Tiempos de Flujos, Cuellos de  Botel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Productividad y Eficienci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omo los cuellos de botella afectan la capacidad y los retornos de un sistema de produc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Efectos  de los Tiempos de Setup y  Tamaños del Lote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iscusión del caso “Kristen’s Cookie Company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roducción Agregada y Sistemas MR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1108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109548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ál es el mayor descuento que Kristen podría hacer para incentivar ordenes de 2dz en lugar de 1dz? Asuma que hay dos ho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apacidad del sistema aumenta con el tamaño de la orden. Es decir, ordenes por 2dz liberan tiempo del CB que se puede usar para generar mas ingre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8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 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30 dz.)/ (8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0375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5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88 dz.)/ (5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176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scuento Max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Margen adicional generado al procesar ordenes de 2 dz. En lugar de ordenes de 1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$(0.176-0.0375) × 10min = $1.385 por orden de 2 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33"/>
                </a:solidFill>
                <a:latin typeface="Times New Roman"/>
              </a:rPr>
              <a:t>Concepto: MONETARIZAR EL CUELLO DE BOT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11448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ram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parar procesos en secuencia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r recursos asociados con cad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uy útil para la gestión de recursos y su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das de Desempeño: Capacidad, Tiempo de Ciclo, Tiempo de Flujo, Cuellos de B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 énfasis en manejar correctamente el CB ya que determina la capacidad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netarizar el CB, i.e., calculando el margen generado por unidad de tiempo en 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55680" y="1955880"/>
            <a:ext cx="8533800" cy="4275360"/>
            <a:chOff x="355680" y="1955880"/>
            <a:chExt cx="8533800" cy="4275360"/>
          </a:xfrm>
        </p:grpSpPr>
        <p:sp>
          <p:nvSpPr>
            <p:cNvPr id="58" name=""/>
            <p:cNvSpPr/>
            <p:nvPr/>
          </p:nvSpPr>
          <p:spPr>
            <a:xfrm>
              <a:off x="3098880" y="287640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098880" y="3333600"/>
              <a:ext cx="2514600" cy="1450080"/>
              <a:chOff x="3098880" y="3333600"/>
              <a:chExt cx="2514600" cy="1450080"/>
            </a:xfrm>
          </p:grpSpPr>
          <p:sp>
            <p:nvSpPr>
              <p:cNvPr id="60" name=""/>
              <p:cNvSpPr/>
              <p:nvPr/>
            </p:nvSpPr>
            <p:spPr>
              <a:xfrm>
                <a:off x="3098880" y="4019040"/>
                <a:ext cx="2514600" cy="76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s de Entrega</a:t>
                </a: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(actual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4318200" y="33336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55680" y="3108960"/>
              <a:ext cx="2743200" cy="1369440"/>
              <a:chOff x="355680" y="3108960"/>
              <a:chExt cx="2743200" cy="1369440"/>
            </a:xfrm>
          </p:grpSpPr>
          <p:sp>
            <p:nvSpPr>
              <p:cNvPr id="63" name=""/>
              <p:cNvSpPr/>
              <p:nvPr/>
            </p:nvSpPr>
            <p:spPr>
              <a:xfrm>
                <a:off x="355680" y="4018680"/>
                <a:ext cx="1219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Prec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3" idx="0"/>
                <a:endCxn id="58" idx="1"/>
              </p:cNvCxnSpPr>
              <p:nvPr/>
            </p:nvCxnSpPr>
            <p:spPr>
              <a:xfrm flipH="1" flipV="1" rot="5400000">
                <a:off x="1577160" y="2496600"/>
                <a:ext cx="909720" cy="2134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5" name=""/>
            <p:cNvGrpSpPr/>
            <p:nvPr/>
          </p:nvGrpSpPr>
          <p:grpSpPr>
            <a:xfrm>
              <a:off x="1727280" y="3108960"/>
              <a:ext cx="1942920" cy="2756520"/>
              <a:chOff x="1727280" y="3108960"/>
              <a:chExt cx="1942920" cy="2756520"/>
            </a:xfrm>
          </p:grpSpPr>
          <p:sp>
            <p:nvSpPr>
              <p:cNvPr id="66" name=""/>
              <p:cNvSpPr/>
              <p:nvPr/>
            </p:nvSpPr>
            <p:spPr>
              <a:xfrm>
                <a:off x="1727280" y="5466600"/>
                <a:ext cx="15235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990033"/>
                    </a:solidFill>
                    <a:latin typeface="Arial"/>
                  </a:rPr>
                  <a:t>Capacid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" name=""/>
              <p:cNvCxnSpPr>
                <a:stCxn id="66" idx="0"/>
                <a:endCxn id="58" idx="1"/>
              </p:cNvCxnSpPr>
              <p:nvPr/>
            </p:nvCxnSpPr>
            <p:spPr>
              <a:xfrm flipH="1" flipV="1" rot="5400000">
                <a:off x="1614960" y="3983040"/>
                <a:ext cx="2357640" cy="609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" name=""/>
              <p:cNvCxnSpPr>
                <a:stCxn id="66" idx="3"/>
              </p:cNvCxnSpPr>
              <p:nvPr/>
            </p:nvCxnSpPr>
            <p:spPr>
              <a:xfrm flipV="1">
                <a:off x="3250800" y="4856760"/>
                <a:ext cx="419760" cy="8431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9" name=""/>
            <p:cNvGrpSpPr/>
            <p:nvPr/>
          </p:nvGrpSpPr>
          <p:grpSpPr>
            <a:xfrm>
              <a:off x="4013280" y="4857480"/>
              <a:ext cx="2057400" cy="1008000"/>
              <a:chOff x="4013280" y="4857480"/>
              <a:chExt cx="2057400" cy="1008000"/>
            </a:xfrm>
          </p:grpSpPr>
          <p:sp>
            <p:nvSpPr>
              <p:cNvPr id="70" name=""/>
              <p:cNvSpPr/>
              <p:nvPr/>
            </p:nvSpPr>
            <p:spPr>
              <a:xfrm>
                <a:off x="4013280" y="5466600"/>
                <a:ext cx="2057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 de Fluj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4851360" y="485748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5613120" y="3109320"/>
              <a:ext cx="3276360" cy="3121920"/>
              <a:chOff x="5613120" y="3109320"/>
              <a:chExt cx="3276360" cy="312192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5613120" y="3109320"/>
                <a:ext cx="3276360" cy="1772280"/>
                <a:chOff x="5613120" y="3109320"/>
                <a:chExt cx="3276360" cy="1772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375240" y="4019040"/>
                  <a:ext cx="2514240" cy="862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Tiempos de Entreg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(confiabilidad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5" name=""/>
                <p:cNvCxnSpPr>
                  <a:stCxn id="74" idx="0"/>
                  <a:endCxn id="58" idx="3"/>
                </p:cNvCxnSpPr>
                <p:nvPr/>
              </p:nvCxnSpPr>
              <p:spPr>
                <a:xfrm flipV="1" rot="16200000">
                  <a:off x="6167880" y="2554200"/>
                  <a:ext cx="910080" cy="201960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6" name=""/>
              <p:cNvGrpSpPr/>
              <p:nvPr/>
            </p:nvGrpSpPr>
            <p:grpSpPr>
              <a:xfrm>
                <a:off x="6679800" y="4856760"/>
                <a:ext cx="2133360" cy="1374480"/>
                <a:chOff x="6679800" y="4856760"/>
                <a:chExt cx="2133360" cy="13744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679800" y="5466600"/>
                  <a:ext cx="2133360" cy="764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Tiempos Entrega</a:t>
                  </a:r>
                  <a:r>
                    <a:rPr b="1" lang="es-CL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Promesa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7746480" y="485676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964800" y="1955880"/>
              <a:ext cx="4191480" cy="2062800"/>
              <a:chOff x="964800" y="1955880"/>
              <a:chExt cx="4191480" cy="20628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479760" y="1955880"/>
                <a:ext cx="1676520" cy="913320"/>
                <a:chOff x="3479760" y="1955880"/>
                <a:chExt cx="1676520" cy="9133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479760" y="1955880"/>
                  <a:ext cx="167652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0033"/>
                      </a:solidFill>
                      <a:latin typeface="Arial"/>
                    </a:rPr>
                    <a:t>Retorno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4318200" y="24123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3" name=""/>
              <p:cNvCxnSpPr>
                <a:stCxn id="63" idx="0"/>
                <a:endCxn id="81" idx="1"/>
              </p:cNvCxnSpPr>
              <p:nvPr/>
            </p:nvCxnSpPr>
            <p:spPr>
              <a:xfrm flipH="1" flipV="1" rot="5400000">
                <a:off x="1307160" y="1846080"/>
                <a:ext cx="1830600" cy="2515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4" name=""/>
            <p:cNvSpPr/>
            <p:nvPr/>
          </p:nvSpPr>
          <p:spPr>
            <a:xfrm>
              <a:off x="3657600" y="5702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28600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971800" y="2743200"/>
            <a:ext cx="2514600" cy="1145160"/>
            <a:chOff x="2971800" y="2743200"/>
            <a:chExt cx="2514600" cy="1145160"/>
          </a:xfrm>
        </p:grpSpPr>
        <p:sp>
          <p:nvSpPr>
            <p:cNvPr id="89" name=""/>
            <p:cNvSpPr/>
            <p:nvPr/>
          </p:nvSpPr>
          <p:spPr>
            <a:xfrm>
              <a:off x="2971800" y="342864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Tra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191120" y="27432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8600" y="2518920"/>
            <a:ext cx="2743200" cy="1308600"/>
            <a:chOff x="228600" y="2518920"/>
            <a:chExt cx="2743200" cy="1308600"/>
          </a:xfrm>
        </p:grpSpPr>
        <p:sp>
          <p:nvSpPr>
            <p:cNvPr id="92" name=""/>
            <p:cNvSpPr/>
            <p:nvPr/>
          </p:nvSpPr>
          <p:spPr>
            <a:xfrm>
              <a:off x="228600" y="3428640"/>
              <a:ext cx="1447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7" idx="1"/>
            </p:cNvCxnSpPr>
            <p:nvPr/>
          </p:nvCxnSpPr>
          <p:spPr>
            <a:xfrm flipH="1" flipV="1" rot="5400000">
              <a:off x="150696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5485680" y="2518920"/>
            <a:ext cx="3277440" cy="1925640"/>
            <a:chOff x="5485680" y="2518920"/>
            <a:chExt cx="3277440" cy="1925640"/>
          </a:xfrm>
        </p:grpSpPr>
        <p:sp>
          <p:nvSpPr>
            <p:cNvPr id="95" name=""/>
            <p:cNvSpPr/>
            <p:nvPr/>
          </p:nvSpPr>
          <p:spPr>
            <a:xfrm>
              <a:off x="6248520" y="3428640"/>
              <a:ext cx="251460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Inversione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Capi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"/>
            <p:cNvCxnSpPr>
              <a:stCxn id="95" idx="0"/>
              <a:endCxn id="87" idx="3"/>
            </p:cNvCxnSpPr>
            <p:nvPr/>
          </p:nvCxnSpPr>
          <p:spPr>
            <a:xfrm flipV="1" rot="16200000">
              <a:off x="604080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7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4520"/>
            <a:ext cx="7772400" cy="1919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KRISTEN’S COOKI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70280" y="2763720"/>
          <a:ext cx="300996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2763720"/>
                    <a:ext cx="300996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1522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efinición de un Proc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797280"/>
            <a:ext cx="8305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Kristen’s cookies, en el proceso del horn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066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990033"/>
                </a:solidFill>
                <a:latin typeface="Times New Roman"/>
              </a:rPr>
              <a:t>Un proceso consiste de inputs, outputs, recursos y transformaciones. Los recursos transforman los inputs en out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711680"/>
            <a:ext cx="701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una Aero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573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masa,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galletas cocidas, 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Kristen, Horno,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6200" y="592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32116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orig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destin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aviones, pilotos, azafatas, aeropuert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2120760"/>
            <a:ext cx="28195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ns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91240" y="2327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65320" y="2311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91120" y="303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4600" y="34164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152280"/>
            <a:ext cx="8369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Definición de un Diagrama de Flujo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7680" y="1108080"/>
            <a:ext cx="83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n diagram de flujos comprende un conjunto de procesos unidos en una secuencia appropi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09080" y="16765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5760" y="3100320"/>
            <a:ext cx="536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Como dividir una operación en proces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506760"/>
            <a:ext cx="868680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ólo inputs y outputs se mueven a lo largo de las flechas. Recursos están fijos. Por ello, todo set de recursos usados en forma conjunta define un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en Kristen’s Cookies, “Mezclar Masa” y “Vaciarla en la Bandeja” are son un mismo procesos ya que comparten el recipiente donde se mezc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scomponer los procesos de esta manera, donde sólo inputs y outputs se mueven entre procesos permite “romper” una operación complejas en partes mas sencillas que pueden analizarse en forma independ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podemos analizar “Mezcla y Vaciado” en forma separada del Horno, el empaque o el pa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517920" y="2259720"/>
            <a:ext cx="1447920" cy="83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Inputs, Outputs y 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308240"/>
          <a:ext cx="8229600" cy="431928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57400"/>
                <a:gridCol w="20574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Recur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cla y 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ador, Recipiente, Bandeja, Kr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cción/Hor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Horno,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F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io de la Co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, Caja, Cor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Empac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pción de Pago y Entr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Caja Registr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65040" y="5637240"/>
            <a:ext cx="832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xcepto por Kristen, su amiga y las bandejas ninguno otro recursos es compartido por dos o mas procesos. Asumiremos un numero ilimitado de bandejas, espacio ilimitado para enfriar en la cocina y tiempo ilimitado para Kristen y su amiga. De esta forma podemos analizar cada proceso por sepa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Kristen’s Cookies: Diagrama de Flu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00" y="137160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Re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560" y="2030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utador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7172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02000" y="145980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258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86120" y="1397160"/>
            <a:ext cx="399888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Lavar Recipiente, Mezclar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Vaciar en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0400" y="2055960"/>
            <a:ext cx="39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Kristen (Setup = 6 min, Operación = 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hasta 3 dz por recip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850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708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153280" y="259020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70800" y="311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78464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60920" y="3255840"/>
            <a:ext cx="30621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arga, ajuste del Time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o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27400" y="391464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Setup = 1 min, Operación = 9 min/dz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1 dz. por ho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7465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5800" y="3233880"/>
            <a:ext cx="963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Des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15400" y="38926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133720" y="358128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97000" y="3233880"/>
            <a:ext cx="936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fr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50280" y="38797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(5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504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244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91960" y="417744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244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1920" y="498636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mp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01040" y="56451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30600" y="53341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289320" y="505404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7280" y="533412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65520" y="4952880"/>
            <a:ext cx="1771920" cy="719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trega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31760" y="56577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1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37440" y="532116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162920" y="4772160"/>
          <a:ext cx="138420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72160"/>
                    <a:ext cx="13842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8:26:37Z</dcterms:created>
  <dc:creator>Rene Caldentey</dc:creator>
  <dc:description/>
  <dc:language>en-US</dc:language>
  <cp:lastModifiedBy>Rene Caldentey</cp:lastModifiedBy>
  <dcterms:modified xsi:type="dcterms:W3CDTF">2008-06-17T12:57:09Z</dcterms:modified>
  <cp:revision>98</cp:revision>
  <dc:subject/>
  <dc:title>KRISTEN’S COOKIES</dc:title>
</cp:coreProperties>
</file>