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wmf" ContentType="image/x-wmf"/>
  <Override PartName="/ppt/media/image19.wmf" ContentType="image/x-wmf"/>
  <Override PartName="/ppt/media/image14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B397-DE09-45EC-BD5F-22E4DE2A561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" Target="../slides/slide24.xml"/><Relationship Id="rId3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" Target="../slides/slide31.xml"/><Relationship Id="rId3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AD36-D36C-4947-859A-7D6630CE8C14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09A7-9820-4AC6-8872-3E7AF2B7670C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5395-7B7B-4671-9536-5A8CBE17D624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CD9A-323A-4C28-A343-BC5053712026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AFB0-40B9-491F-9EE5-E685F5861DA3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96C7-0228-4505-B56D-D062DCB9376D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21C1-6A4E-4D93-82E9-472763EB38B5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71C0-0CC8-4C03-9446-F65D1DE8D762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D525-AF7B-41B2-8AFB-798825A03302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9792-0E59-4902-903C-CB837675B489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8A38-31B0-402B-A124-294823D69159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7CA0-9810-4A9D-97C3-48CC24F38B79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B1C0-BAB6-4D3F-A10F-79D84A527D94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EF08-1405-4AFA-B101-86448598DAE4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859C-FC51-4515-97E7-593C59A6AB43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E4A7-82B4-4745-8DAA-63C18C87EC62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535C-D783-4FB8-90D8-FC4663040E2D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2495520" y="1258920"/>
            <a:ext cx="3656160" cy="2741760"/>
          </a:xfrm>
          <a:prstGeom prst="rect">
            <a:avLst/>
          </a:prstGeom>
          <a:ln w="0">
            <a:noFill/>
          </a:ln>
        </p:spPr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2503440" y="5213520"/>
            <a:ext cx="3640320" cy="274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73" name="Group 4"/>
          <p:cNvGrpSpPr/>
          <p:nvPr/>
        </p:nvGrpSpPr>
        <p:grpSpPr>
          <a:xfrm>
            <a:off x="4680" y="1150920"/>
            <a:ext cx="2398680" cy="6811920"/>
            <a:chOff x="4680" y="1150920"/>
            <a:chExt cx="2398680" cy="6811920"/>
          </a:xfrm>
        </p:grpSpPr>
        <p:sp>
          <p:nvSpPr>
            <p:cNvPr id="574" name="Text Box 5"/>
            <p:cNvSpPr/>
            <p:nvPr/>
          </p:nvSpPr>
          <p:spPr>
            <a:xfrm>
              <a:off x="7200" y="1150920"/>
              <a:ext cx="580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5" name="Text Box 6"/>
            <p:cNvSpPr/>
            <p:nvPr/>
          </p:nvSpPr>
          <p:spPr>
            <a:xfrm>
              <a:off x="4680" y="5118120"/>
              <a:ext cx="580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" name="Line 7"/>
            <p:cNvSpPr/>
            <p:nvPr/>
          </p:nvSpPr>
          <p:spPr>
            <a:xfrm>
              <a:off x="166680" y="153648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Line 8"/>
            <p:cNvSpPr/>
            <p:nvPr/>
          </p:nvSpPr>
          <p:spPr>
            <a:xfrm>
              <a:off x="166680" y="176112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9"/>
            <p:cNvSpPr/>
            <p:nvPr/>
          </p:nvSpPr>
          <p:spPr>
            <a:xfrm>
              <a:off x="166680" y="221076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10"/>
            <p:cNvSpPr/>
            <p:nvPr/>
          </p:nvSpPr>
          <p:spPr>
            <a:xfrm>
              <a:off x="166680" y="198612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Line 11"/>
            <p:cNvSpPr/>
            <p:nvPr/>
          </p:nvSpPr>
          <p:spPr>
            <a:xfrm>
              <a:off x="166680" y="243576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Line 12"/>
            <p:cNvSpPr/>
            <p:nvPr/>
          </p:nvSpPr>
          <p:spPr>
            <a:xfrm>
              <a:off x="166680" y="266040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13"/>
            <p:cNvSpPr/>
            <p:nvPr/>
          </p:nvSpPr>
          <p:spPr>
            <a:xfrm>
              <a:off x="166680" y="31100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14"/>
            <p:cNvSpPr/>
            <p:nvPr/>
          </p:nvSpPr>
          <p:spPr>
            <a:xfrm>
              <a:off x="166680" y="288540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Line 15"/>
            <p:cNvSpPr/>
            <p:nvPr/>
          </p:nvSpPr>
          <p:spPr>
            <a:xfrm>
              <a:off x="166680" y="33350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5" name="Line 16"/>
            <p:cNvSpPr/>
            <p:nvPr/>
          </p:nvSpPr>
          <p:spPr>
            <a:xfrm>
              <a:off x="166680" y="355968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Line 17"/>
            <p:cNvSpPr/>
            <p:nvPr/>
          </p:nvSpPr>
          <p:spPr>
            <a:xfrm>
              <a:off x="166680" y="400932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Line 18"/>
            <p:cNvSpPr/>
            <p:nvPr/>
          </p:nvSpPr>
          <p:spPr>
            <a:xfrm>
              <a:off x="166680" y="378468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19"/>
            <p:cNvSpPr/>
            <p:nvPr/>
          </p:nvSpPr>
          <p:spPr>
            <a:xfrm>
              <a:off x="166680" y="54896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Line 20"/>
            <p:cNvSpPr/>
            <p:nvPr/>
          </p:nvSpPr>
          <p:spPr>
            <a:xfrm>
              <a:off x="166680" y="571428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Line 21"/>
            <p:cNvSpPr/>
            <p:nvPr/>
          </p:nvSpPr>
          <p:spPr>
            <a:xfrm>
              <a:off x="166680" y="616392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" name="Line 22"/>
            <p:cNvSpPr/>
            <p:nvPr/>
          </p:nvSpPr>
          <p:spPr>
            <a:xfrm>
              <a:off x="166680" y="593928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Line 23"/>
            <p:cNvSpPr/>
            <p:nvPr/>
          </p:nvSpPr>
          <p:spPr>
            <a:xfrm>
              <a:off x="166680" y="638892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Line 24"/>
            <p:cNvSpPr/>
            <p:nvPr/>
          </p:nvSpPr>
          <p:spPr>
            <a:xfrm>
              <a:off x="166680" y="661356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Line 25"/>
            <p:cNvSpPr/>
            <p:nvPr/>
          </p:nvSpPr>
          <p:spPr>
            <a:xfrm>
              <a:off x="166680" y="706320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Line 26"/>
            <p:cNvSpPr/>
            <p:nvPr/>
          </p:nvSpPr>
          <p:spPr>
            <a:xfrm>
              <a:off x="166680" y="683856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Line 27"/>
            <p:cNvSpPr/>
            <p:nvPr/>
          </p:nvSpPr>
          <p:spPr>
            <a:xfrm>
              <a:off x="166680" y="728820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Line 28"/>
            <p:cNvSpPr/>
            <p:nvPr/>
          </p:nvSpPr>
          <p:spPr>
            <a:xfrm>
              <a:off x="166680" y="75128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Line 29"/>
            <p:cNvSpPr/>
            <p:nvPr/>
          </p:nvSpPr>
          <p:spPr>
            <a:xfrm>
              <a:off x="166680" y="79628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Line 30"/>
            <p:cNvSpPr/>
            <p:nvPr/>
          </p:nvSpPr>
          <p:spPr>
            <a:xfrm>
              <a:off x="166680" y="77378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6D34-42FC-4722-AB14-18BB1019CC37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6DA1-8E42-47F1-8C98-97914C4FFBCF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 nuestro stand los invitamos a ver una gran variedad de etiquetas electrónicas, aplicadas para trazabilidad animal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7E8D-843F-4DF9-BC79-6A213B040086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1D38-AA6F-40BA-9337-E08BBB5F4F46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1CA8-3588-450B-86B9-C54FD9916766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15FA-04CC-4B15-9A4F-18E3F4A94B6C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4F55-001D-4C17-87CB-4F080AC242C7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1CC6-6F55-49E8-AED4-B5E6697221FF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708120" y="1258920"/>
            <a:ext cx="3654360" cy="2741760"/>
          </a:xfrm>
          <a:prstGeom prst="rect">
            <a:avLst/>
          </a:prstGeom>
          <a:ln w="0">
            <a:noFill/>
          </a:ln>
        </p:spPr>
      </p:sp>
      <p:pic>
        <p:nvPicPr>
          <p:cNvPr id="618" name="Picture 3" descr=""/>
          <p:cNvPicPr/>
          <p:nvPr/>
        </p:nvPicPr>
        <p:blipFill>
          <a:blip r:embed="rId1"/>
          <a:stretch/>
        </p:blipFill>
        <p:spPr>
          <a:xfrm>
            <a:off x="714240" y="5213520"/>
            <a:ext cx="3637080" cy="274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19" name="Group 4"/>
          <p:cNvGrpSpPr/>
          <p:nvPr/>
        </p:nvGrpSpPr>
        <p:grpSpPr>
          <a:xfrm>
            <a:off x="4310280" y="1189080"/>
            <a:ext cx="2397960" cy="6811920"/>
            <a:chOff x="4310280" y="1189080"/>
            <a:chExt cx="2397960" cy="6811920"/>
          </a:xfrm>
        </p:grpSpPr>
        <p:sp>
          <p:nvSpPr>
            <p:cNvPr id="620" name="Text Box 5"/>
            <p:cNvSpPr/>
            <p:nvPr/>
          </p:nvSpPr>
          <p:spPr>
            <a:xfrm>
              <a:off x="4312800" y="1189080"/>
              <a:ext cx="580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1" name="Text Box 6"/>
            <p:cNvSpPr/>
            <p:nvPr/>
          </p:nvSpPr>
          <p:spPr>
            <a:xfrm>
              <a:off x="4310280" y="5156280"/>
              <a:ext cx="580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2" name="Line 7"/>
            <p:cNvSpPr/>
            <p:nvPr/>
          </p:nvSpPr>
          <p:spPr>
            <a:xfrm>
              <a:off x="4471920" y="157464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Line 8"/>
            <p:cNvSpPr/>
            <p:nvPr/>
          </p:nvSpPr>
          <p:spPr>
            <a:xfrm>
              <a:off x="4471920" y="179928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Line 9"/>
            <p:cNvSpPr/>
            <p:nvPr/>
          </p:nvSpPr>
          <p:spPr>
            <a:xfrm>
              <a:off x="4471920" y="224892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5" name="Line 10"/>
            <p:cNvSpPr/>
            <p:nvPr/>
          </p:nvSpPr>
          <p:spPr>
            <a:xfrm>
              <a:off x="4471920" y="202428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Line 11"/>
            <p:cNvSpPr/>
            <p:nvPr/>
          </p:nvSpPr>
          <p:spPr>
            <a:xfrm>
              <a:off x="4471920" y="247392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Line 12"/>
            <p:cNvSpPr/>
            <p:nvPr/>
          </p:nvSpPr>
          <p:spPr>
            <a:xfrm>
              <a:off x="4471920" y="269856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Line 13"/>
            <p:cNvSpPr/>
            <p:nvPr/>
          </p:nvSpPr>
          <p:spPr>
            <a:xfrm>
              <a:off x="4471920" y="31482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Line 14"/>
            <p:cNvSpPr/>
            <p:nvPr/>
          </p:nvSpPr>
          <p:spPr>
            <a:xfrm>
              <a:off x="4471920" y="292356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Line 15"/>
            <p:cNvSpPr/>
            <p:nvPr/>
          </p:nvSpPr>
          <p:spPr>
            <a:xfrm>
              <a:off x="4471920" y="33732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1" name="Line 16"/>
            <p:cNvSpPr/>
            <p:nvPr/>
          </p:nvSpPr>
          <p:spPr>
            <a:xfrm>
              <a:off x="4471920" y="359784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Line 17"/>
            <p:cNvSpPr/>
            <p:nvPr/>
          </p:nvSpPr>
          <p:spPr>
            <a:xfrm>
              <a:off x="4471920" y="404748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Line 18"/>
            <p:cNvSpPr/>
            <p:nvPr/>
          </p:nvSpPr>
          <p:spPr>
            <a:xfrm>
              <a:off x="4471920" y="382284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Line 19"/>
            <p:cNvSpPr/>
            <p:nvPr/>
          </p:nvSpPr>
          <p:spPr>
            <a:xfrm>
              <a:off x="4471920" y="55278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Line 20"/>
            <p:cNvSpPr/>
            <p:nvPr/>
          </p:nvSpPr>
          <p:spPr>
            <a:xfrm>
              <a:off x="4471920" y="575244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Line 21"/>
            <p:cNvSpPr/>
            <p:nvPr/>
          </p:nvSpPr>
          <p:spPr>
            <a:xfrm>
              <a:off x="4471920" y="620208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Line 22"/>
            <p:cNvSpPr/>
            <p:nvPr/>
          </p:nvSpPr>
          <p:spPr>
            <a:xfrm>
              <a:off x="4471920" y="597744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8" name="Line 23"/>
            <p:cNvSpPr/>
            <p:nvPr/>
          </p:nvSpPr>
          <p:spPr>
            <a:xfrm>
              <a:off x="4471920" y="642708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Line 24"/>
            <p:cNvSpPr/>
            <p:nvPr/>
          </p:nvSpPr>
          <p:spPr>
            <a:xfrm>
              <a:off x="4471920" y="665172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Line 25"/>
            <p:cNvSpPr/>
            <p:nvPr/>
          </p:nvSpPr>
          <p:spPr>
            <a:xfrm>
              <a:off x="4471920" y="710136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Line 26"/>
            <p:cNvSpPr/>
            <p:nvPr/>
          </p:nvSpPr>
          <p:spPr>
            <a:xfrm>
              <a:off x="4471920" y="687672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Line 27"/>
            <p:cNvSpPr/>
            <p:nvPr/>
          </p:nvSpPr>
          <p:spPr>
            <a:xfrm>
              <a:off x="4471920" y="732636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3" name="Line 28"/>
            <p:cNvSpPr/>
            <p:nvPr/>
          </p:nvSpPr>
          <p:spPr>
            <a:xfrm>
              <a:off x="4471920" y="75510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4" name="Line 29"/>
            <p:cNvSpPr/>
            <p:nvPr/>
          </p:nvSpPr>
          <p:spPr>
            <a:xfrm>
              <a:off x="4471920" y="80010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Line 30"/>
            <p:cNvSpPr/>
            <p:nvPr/>
          </p:nvSpPr>
          <p:spPr>
            <a:xfrm>
              <a:off x="4471920" y="77760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229C-175D-48DB-93A2-E884BAE736DE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3123-135C-4868-B08D-CC0804224FA7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018A-3949-4690-98C1-AC448761CB5D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61B4-6D99-408F-8FF5-10D269714D60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6CE4-B2CE-44F4-AAB8-D1ACE60E4E22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740A-5930-4077-BBD5-B23261B4EFBD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82D1-7BAC-4C49-946B-BD7A110E1DA7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7F23-08C2-4706-B5D4-3358D52C9F42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8AFC-D037-4CCD-BFA2-1D76E2EFEF4D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8B5B-FE6E-42B7-A293-9F004C1FBC6A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708120" y="1258920"/>
            <a:ext cx="3654360" cy="2741760"/>
          </a:xfrm>
          <a:prstGeom prst="rect">
            <a:avLst/>
          </a:prstGeom>
          <a:ln w="0">
            <a:noFill/>
          </a:ln>
        </p:spPr>
      </p:sp>
      <p:pic>
        <p:nvPicPr>
          <p:cNvPr id="469" name="Picture 3" descr=""/>
          <p:cNvPicPr/>
          <p:nvPr/>
        </p:nvPicPr>
        <p:blipFill>
          <a:blip r:embed="rId1"/>
          <a:stretch/>
        </p:blipFill>
        <p:spPr>
          <a:xfrm>
            <a:off x="714240" y="5213520"/>
            <a:ext cx="3637080" cy="274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70" name="Group 4"/>
          <p:cNvGrpSpPr/>
          <p:nvPr/>
        </p:nvGrpSpPr>
        <p:grpSpPr>
          <a:xfrm>
            <a:off x="4310280" y="1189080"/>
            <a:ext cx="2397960" cy="6811920"/>
            <a:chOff x="4310280" y="1189080"/>
            <a:chExt cx="2397960" cy="6811920"/>
          </a:xfrm>
        </p:grpSpPr>
        <p:sp>
          <p:nvSpPr>
            <p:cNvPr id="471" name="Text Box 5"/>
            <p:cNvSpPr/>
            <p:nvPr/>
          </p:nvSpPr>
          <p:spPr>
            <a:xfrm>
              <a:off x="4312800" y="1189080"/>
              <a:ext cx="580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Text Box 6"/>
            <p:cNvSpPr/>
            <p:nvPr/>
          </p:nvSpPr>
          <p:spPr>
            <a:xfrm>
              <a:off x="4310280" y="5156280"/>
              <a:ext cx="580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Line 7"/>
            <p:cNvSpPr/>
            <p:nvPr/>
          </p:nvSpPr>
          <p:spPr>
            <a:xfrm>
              <a:off x="4471920" y="157464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4" name="Line 8"/>
            <p:cNvSpPr/>
            <p:nvPr/>
          </p:nvSpPr>
          <p:spPr>
            <a:xfrm>
              <a:off x="4471920" y="179928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Line 9"/>
            <p:cNvSpPr/>
            <p:nvPr/>
          </p:nvSpPr>
          <p:spPr>
            <a:xfrm>
              <a:off x="4471920" y="224892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Line 10"/>
            <p:cNvSpPr/>
            <p:nvPr/>
          </p:nvSpPr>
          <p:spPr>
            <a:xfrm>
              <a:off x="4471920" y="202428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Line 11"/>
            <p:cNvSpPr/>
            <p:nvPr/>
          </p:nvSpPr>
          <p:spPr>
            <a:xfrm>
              <a:off x="4471920" y="247392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Line 12"/>
            <p:cNvSpPr/>
            <p:nvPr/>
          </p:nvSpPr>
          <p:spPr>
            <a:xfrm>
              <a:off x="4471920" y="269856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Line 13"/>
            <p:cNvSpPr/>
            <p:nvPr/>
          </p:nvSpPr>
          <p:spPr>
            <a:xfrm>
              <a:off x="4471920" y="31482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" name="Line 14"/>
            <p:cNvSpPr/>
            <p:nvPr/>
          </p:nvSpPr>
          <p:spPr>
            <a:xfrm>
              <a:off x="4471920" y="292356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Line 15"/>
            <p:cNvSpPr/>
            <p:nvPr/>
          </p:nvSpPr>
          <p:spPr>
            <a:xfrm>
              <a:off x="4471920" y="33732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Line 16"/>
            <p:cNvSpPr/>
            <p:nvPr/>
          </p:nvSpPr>
          <p:spPr>
            <a:xfrm>
              <a:off x="4471920" y="359784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Line 17"/>
            <p:cNvSpPr/>
            <p:nvPr/>
          </p:nvSpPr>
          <p:spPr>
            <a:xfrm>
              <a:off x="4471920" y="404748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Line 18"/>
            <p:cNvSpPr/>
            <p:nvPr/>
          </p:nvSpPr>
          <p:spPr>
            <a:xfrm>
              <a:off x="4471920" y="382284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Line 19"/>
            <p:cNvSpPr/>
            <p:nvPr/>
          </p:nvSpPr>
          <p:spPr>
            <a:xfrm>
              <a:off x="4471920" y="55278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Line 20"/>
            <p:cNvSpPr/>
            <p:nvPr/>
          </p:nvSpPr>
          <p:spPr>
            <a:xfrm>
              <a:off x="4471920" y="575244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Line 21"/>
            <p:cNvSpPr/>
            <p:nvPr/>
          </p:nvSpPr>
          <p:spPr>
            <a:xfrm>
              <a:off x="4471920" y="620208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Line 22"/>
            <p:cNvSpPr/>
            <p:nvPr/>
          </p:nvSpPr>
          <p:spPr>
            <a:xfrm>
              <a:off x="4471920" y="597744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" name="Line 23"/>
            <p:cNvSpPr/>
            <p:nvPr/>
          </p:nvSpPr>
          <p:spPr>
            <a:xfrm>
              <a:off x="4471920" y="642708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" name="Line 24"/>
            <p:cNvSpPr/>
            <p:nvPr/>
          </p:nvSpPr>
          <p:spPr>
            <a:xfrm>
              <a:off x="4471920" y="665172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" name="Line 25"/>
            <p:cNvSpPr/>
            <p:nvPr/>
          </p:nvSpPr>
          <p:spPr>
            <a:xfrm>
              <a:off x="4471920" y="710136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" name="Line 26"/>
            <p:cNvSpPr/>
            <p:nvPr/>
          </p:nvSpPr>
          <p:spPr>
            <a:xfrm>
              <a:off x="4471920" y="687672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Line 27"/>
            <p:cNvSpPr/>
            <p:nvPr/>
          </p:nvSpPr>
          <p:spPr>
            <a:xfrm>
              <a:off x="4471920" y="732636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Line 28"/>
            <p:cNvSpPr/>
            <p:nvPr/>
          </p:nvSpPr>
          <p:spPr>
            <a:xfrm>
              <a:off x="4471920" y="75510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" name="Line 29"/>
            <p:cNvSpPr/>
            <p:nvPr/>
          </p:nvSpPr>
          <p:spPr>
            <a:xfrm>
              <a:off x="4471920" y="80010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" name="Line 30"/>
            <p:cNvSpPr/>
            <p:nvPr/>
          </p:nvSpPr>
          <p:spPr>
            <a:xfrm>
              <a:off x="4471920" y="7776000"/>
              <a:ext cx="22363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417E-0641-4C94-96BC-E86AA3DA7135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AC05-E860-4E9E-8430-1591BEE1CB00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2495520" y="1258920"/>
            <a:ext cx="3656160" cy="2741760"/>
          </a:xfrm>
          <a:prstGeom prst="rect">
            <a:avLst/>
          </a:prstGeom>
          <a:ln w="0">
            <a:noFill/>
          </a:ln>
        </p:spPr>
      </p:sp>
      <p:pic>
        <p:nvPicPr>
          <p:cNvPr id="500" name="Picture 3" descr=""/>
          <p:cNvPicPr/>
          <p:nvPr/>
        </p:nvPicPr>
        <p:blipFill>
          <a:blip r:embed="rId1"/>
          <a:stretch/>
        </p:blipFill>
        <p:spPr>
          <a:xfrm>
            <a:off x="2503440" y="5213520"/>
            <a:ext cx="3637080" cy="274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01" name="Group 4"/>
          <p:cNvGrpSpPr/>
          <p:nvPr/>
        </p:nvGrpSpPr>
        <p:grpSpPr>
          <a:xfrm>
            <a:off x="4680" y="1150920"/>
            <a:ext cx="2398680" cy="6811920"/>
            <a:chOff x="4680" y="1150920"/>
            <a:chExt cx="2398680" cy="6811920"/>
          </a:xfrm>
        </p:grpSpPr>
        <p:sp>
          <p:nvSpPr>
            <p:cNvPr id="502" name="Text Box 5"/>
            <p:cNvSpPr/>
            <p:nvPr/>
          </p:nvSpPr>
          <p:spPr>
            <a:xfrm>
              <a:off x="7200" y="1150920"/>
              <a:ext cx="580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Text Box 6"/>
            <p:cNvSpPr/>
            <p:nvPr/>
          </p:nvSpPr>
          <p:spPr>
            <a:xfrm>
              <a:off x="4680" y="5118120"/>
              <a:ext cx="580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Line 7"/>
            <p:cNvSpPr/>
            <p:nvPr/>
          </p:nvSpPr>
          <p:spPr>
            <a:xfrm>
              <a:off x="166680" y="153648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Line 8"/>
            <p:cNvSpPr/>
            <p:nvPr/>
          </p:nvSpPr>
          <p:spPr>
            <a:xfrm>
              <a:off x="166680" y="176112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Line 9"/>
            <p:cNvSpPr/>
            <p:nvPr/>
          </p:nvSpPr>
          <p:spPr>
            <a:xfrm>
              <a:off x="166680" y="221076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Line 10"/>
            <p:cNvSpPr/>
            <p:nvPr/>
          </p:nvSpPr>
          <p:spPr>
            <a:xfrm>
              <a:off x="166680" y="198612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" name="Line 11"/>
            <p:cNvSpPr/>
            <p:nvPr/>
          </p:nvSpPr>
          <p:spPr>
            <a:xfrm>
              <a:off x="166680" y="243576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" name="Line 12"/>
            <p:cNvSpPr/>
            <p:nvPr/>
          </p:nvSpPr>
          <p:spPr>
            <a:xfrm>
              <a:off x="166680" y="266040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Line 13"/>
            <p:cNvSpPr/>
            <p:nvPr/>
          </p:nvSpPr>
          <p:spPr>
            <a:xfrm>
              <a:off x="166680" y="31100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Line 14"/>
            <p:cNvSpPr/>
            <p:nvPr/>
          </p:nvSpPr>
          <p:spPr>
            <a:xfrm>
              <a:off x="166680" y="288540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" name="Line 15"/>
            <p:cNvSpPr/>
            <p:nvPr/>
          </p:nvSpPr>
          <p:spPr>
            <a:xfrm>
              <a:off x="166680" y="33350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Line 16"/>
            <p:cNvSpPr/>
            <p:nvPr/>
          </p:nvSpPr>
          <p:spPr>
            <a:xfrm>
              <a:off x="166680" y="355968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Line 17"/>
            <p:cNvSpPr/>
            <p:nvPr/>
          </p:nvSpPr>
          <p:spPr>
            <a:xfrm>
              <a:off x="166680" y="400932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" name="Line 18"/>
            <p:cNvSpPr/>
            <p:nvPr/>
          </p:nvSpPr>
          <p:spPr>
            <a:xfrm>
              <a:off x="166680" y="378468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Line 19"/>
            <p:cNvSpPr/>
            <p:nvPr/>
          </p:nvSpPr>
          <p:spPr>
            <a:xfrm>
              <a:off x="166680" y="54896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Line 20"/>
            <p:cNvSpPr/>
            <p:nvPr/>
          </p:nvSpPr>
          <p:spPr>
            <a:xfrm>
              <a:off x="166680" y="571428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21"/>
            <p:cNvSpPr/>
            <p:nvPr/>
          </p:nvSpPr>
          <p:spPr>
            <a:xfrm>
              <a:off x="166680" y="616392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Line 22"/>
            <p:cNvSpPr/>
            <p:nvPr/>
          </p:nvSpPr>
          <p:spPr>
            <a:xfrm>
              <a:off x="166680" y="593928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Line 23"/>
            <p:cNvSpPr/>
            <p:nvPr/>
          </p:nvSpPr>
          <p:spPr>
            <a:xfrm>
              <a:off x="166680" y="638892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Line 24"/>
            <p:cNvSpPr/>
            <p:nvPr/>
          </p:nvSpPr>
          <p:spPr>
            <a:xfrm>
              <a:off x="166680" y="661356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Line 25"/>
            <p:cNvSpPr/>
            <p:nvPr/>
          </p:nvSpPr>
          <p:spPr>
            <a:xfrm>
              <a:off x="166680" y="706320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Line 26"/>
            <p:cNvSpPr/>
            <p:nvPr/>
          </p:nvSpPr>
          <p:spPr>
            <a:xfrm>
              <a:off x="166680" y="683856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Line 27"/>
            <p:cNvSpPr/>
            <p:nvPr/>
          </p:nvSpPr>
          <p:spPr>
            <a:xfrm>
              <a:off x="166680" y="728820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Line 28"/>
            <p:cNvSpPr/>
            <p:nvPr/>
          </p:nvSpPr>
          <p:spPr>
            <a:xfrm>
              <a:off x="166680" y="75128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Line 29"/>
            <p:cNvSpPr/>
            <p:nvPr/>
          </p:nvSpPr>
          <p:spPr>
            <a:xfrm>
              <a:off x="166680" y="79628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Line 30"/>
            <p:cNvSpPr/>
            <p:nvPr/>
          </p:nvSpPr>
          <p:spPr>
            <a:xfrm>
              <a:off x="166680" y="7737840"/>
              <a:ext cx="223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CB4BF-CB4D-451A-9333-27DECE046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B1B36-6210-4A28-87D0-82DD2500C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22BBE-5E28-4CC6-AE5C-E300A852F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BFE7A-EEA2-402C-AF39-702105AE8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D3A20-A95F-493C-B81F-D36346C3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781D5-5B43-4926-9326-0DC94558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097D2-8FBF-4E3A-8715-8C2E4AEA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97F23-BCC9-452E-9496-851691CB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09954-6203-49DA-AB7B-35467ACD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41B19-1B6F-45E6-B8B8-4B67125B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23A02-92F4-45CD-96FD-7DEED263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CE5DF-0546-4DDF-8196-165E38455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46EB5-80F2-470C-99BF-8AB7178E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2BDA8-C3BF-4F09-90AD-9BCDFB42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23377-D4EF-4138-A1AC-538A1C20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F9AE5-D657-40D8-B0CF-A5B05338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7E782-5A57-4397-8C50-928EACA2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87953-2C1C-483F-8913-1ED31799BE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226E4-0496-4D11-B815-BF8AFA714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5488F-9ED6-44E3-8808-63B1E532F0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1C311-FF3E-4FA3-9A3B-0481E8F49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B6062-B5DA-4F36-9793-49A94AA65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E7E59-BA46-4283-A3A6-31AB57F75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E06C1-990C-4179-B253-D1F2D23CE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92696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3D33-C8A5-4408-85FA-FC49735FFDB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B71E-6215-4F44-B17F-F4F585171621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371600" y="342900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1: La Función de Oper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2EF5-4871-47A9-8B85-32E5F1B842F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Picture 5" descr="01-00010"/>
          <p:cNvPicPr/>
          <p:nvPr/>
        </p:nvPicPr>
        <p:blipFill>
          <a:blip r:embed="rId1"/>
          <a:stretch/>
        </p:blipFill>
        <p:spPr>
          <a:xfrm>
            <a:off x="762120" y="1611360"/>
            <a:ext cx="731520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3A86-C6A6-4CD9-8B28-CCE11804E73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gunos Paradigmas de Ho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idad Total y Mejoramiento Continu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ción Ajustada (Lean Produc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Just in Time (JI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ingenier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timización integral de la cadena de agregación de valor (Suma Positiv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o integrado para la calidad y la manufactura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, CAM, CAE, CI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de apoyo a la toma de decisiones (MRP, ERP, etc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1DA1-310F-49C3-8D15-2F99D85ED27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317600" y="3062160"/>
            <a:ext cx="6912000" cy="309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317600" y="3676680"/>
            <a:ext cx="6912000" cy="309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317600" y="4289400"/>
            <a:ext cx="6912000" cy="311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317600" y="4903920"/>
            <a:ext cx="6912000" cy="309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317600" y="5518080"/>
            <a:ext cx="6912000" cy="327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814040" y="2263680"/>
            <a:ext cx="60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Í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4082040" y="2128680"/>
            <a:ext cx="1271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Comienz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5667840" y="2128680"/>
            <a:ext cx="686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F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7269840" y="2128680"/>
            <a:ext cx="43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(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4029480" y="2430360"/>
            <a:ext cx="1288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de los ’70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5401080" y="2430360"/>
            <a:ext cx="1288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de los ’90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6922080" y="2430360"/>
            <a:ext cx="1186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Au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1202040" y="2770200"/>
            <a:ext cx="213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Modelos de Au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4504320" y="277020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5815800" y="277020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2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7205040" y="277020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86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1212480" y="3076560"/>
            <a:ext cx="186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tilos de au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4583880" y="30765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734440" y="307656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2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23"/>
          <p:cNvSpPr/>
          <p:nvPr/>
        </p:nvSpPr>
        <p:spPr>
          <a:xfrm>
            <a:off x="7045920" y="3076560"/>
            <a:ext cx="796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6633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24"/>
          <p:cNvSpPr/>
          <p:nvPr/>
        </p:nvSpPr>
        <p:spPr>
          <a:xfrm>
            <a:off x="1180080" y="3384720"/>
            <a:ext cx="2218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ipos de Biciclet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25"/>
          <p:cNvSpPr/>
          <p:nvPr/>
        </p:nvSpPr>
        <p:spPr>
          <a:xfrm>
            <a:off x="4663440" y="3384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26"/>
          <p:cNvSpPr/>
          <p:nvPr/>
        </p:nvSpPr>
        <p:spPr>
          <a:xfrm>
            <a:off x="5895360" y="33847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27"/>
          <p:cNvSpPr/>
          <p:nvPr/>
        </p:nvSpPr>
        <p:spPr>
          <a:xfrm>
            <a:off x="7125480" y="3384720"/>
            <a:ext cx="65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38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28"/>
          <p:cNvSpPr/>
          <p:nvPr/>
        </p:nvSpPr>
        <p:spPr>
          <a:xfrm>
            <a:off x="1246320" y="3691080"/>
            <a:ext cx="1203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oftwa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29"/>
          <p:cNvSpPr/>
          <p:nvPr/>
        </p:nvSpPr>
        <p:spPr>
          <a:xfrm>
            <a:off x="4663440" y="36910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30"/>
          <p:cNvSpPr/>
          <p:nvPr/>
        </p:nvSpPr>
        <p:spPr>
          <a:xfrm>
            <a:off x="5575320" y="3691080"/>
            <a:ext cx="851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380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31"/>
          <p:cNvSpPr/>
          <p:nvPr/>
        </p:nvSpPr>
        <p:spPr>
          <a:xfrm>
            <a:off x="1260720" y="3997440"/>
            <a:ext cx="1095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Web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32"/>
          <p:cNvSpPr/>
          <p:nvPr/>
        </p:nvSpPr>
        <p:spPr>
          <a:xfrm>
            <a:off x="4663440" y="3997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33"/>
          <p:cNvSpPr/>
          <p:nvPr/>
        </p:nvSpPr>
        <p:spPr>
          <a:xfrm>
            <a:off x="5495760" y="3997440"/>
            <a:ext cx="992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986598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34"/>
          <p:cNvSpPr/>
          <p:nvPr/>
        </p:nvSpPr>
        <p:spPr>
          <a:xfrm>
            <a:off x="1174680" y="4305240"/>
            <a:ext cx="203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uevas Películ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35"/>
          <p:cNvSpPr/>
          <p:nvPr/>
        </p:nvSpPr>
        <p:spPr>
          <a:xfrm>
            <a:off x="4504320" y="430524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26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36"/>
          <p:cNvSpPr/>
          <p:nvPr/>
        </p:nvSpPr>
        <p:spPr>
          <a:xfrm>
            <a:off x="5815800" y="430524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45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37"/>
          <p:cNvSpPr/>
          <p:nvPr/>
        </p:nvSpPr>
        <p:spPr>
          <a:xfrm>
            <a:off x="7205040" y="43052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7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38"/>
          <p:cNvSpPr/>
          <p:nvPr/>
        </p:nvSpPr>
        <p:spPr>
          <a:xfrm>
            <a:off x="1229760" y="4611600"/>
            <a:ext cx="1742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uevos Libr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39"/>
          <p:cNvSpPr/>
          <p:nvPr/>
        </p:nvSpPr>
        <p:spPr>
          <a:xfrm>
            <a:off x="4343400" y="4611600"/>
            <a:ext cx="70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405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40"/>
          <p:cNvSpPr/>
          <p:nvPr/>
        </p:nvSpPr>
        <p:spPr>
          <a:xfrm>
            <a:off x="5654880" y="4611600"/>
            <a:ext cx="70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7744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41"/>
          <p:cNvSpPr/>
          <p:nvPr/>
        </p:nvSpPr>
        <p:spPr>
          <a:xfrm>
            <a:off x="7205040" y="461160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91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1172520" y="4919760"/>
            <a:ext cx="257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Houston TV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43"/>
          <p:cNvSpPr/>
          <p:nvPr/>
        </p:nvSpPr>
        <p:spPr>
          <a:xfrm>
            <a:off x="4663440" y="49197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44"/>
          <p:cNvSpPr/>
          <p:nvPr/>
        </p:nvSpPr>
        <p:spPr>
          <a:xfrm>
            <a:off x="5815800" y="491976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85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45"/>
          <p:cNvSpPr/>
          <p:nvPr/>
        </p:nvSpPr>
        <p:spPr>
          <a:xfrm>
            <a:off x="6966000" y="4919760"/>
            <a:ext cx="93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692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46"/>
          <p:cNvSpPr/>
          <p:nvPr/>
        </p:nvSpPr>
        <p:spPr>
          <a:xfrm>
            <a:off x="1263960" y="5226120"/>
            <a:ext cx="1021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ere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47"/>
          <p:cNvSpPr/>
          <p:nvPr/>
        </p:nvSpPr>
        <p:spPr>
          <a:xfrm>
            <a:off x="4504320" y="52261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48"/>
          <p:cNvSpPr/>
          <p:nvPr/>
        </p:nvSpPr>
        <p:spPr>
          <a:xfrm>
            <a:off x="5815800" y="52261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3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49"/>
          <p:cNvSpPr/>
          <p:nvPr/>
        </p:nvSpPr>
        <p:spPr>
          <a:xfrm>
            <a:off x="7125480" y="5226120"/>
            <a:ext cx="65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13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Rectangle 50"/>
          <p:cNvSpPr/>
          <p:nvPr/>
        </p:nvSpPr>
        <p:spPr>
          <a:xfrm>
            <a:off x="1081440" y="5526000"/>
            <a:ext cx="3001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Ítems en Supermerc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51"/>
          <p:cNvSpPr/>
          <p:nvPr/>
        </p:nvSpPr>
        <p:spPr>
          <a:xfrm>
            <a:off x="4343400" y="5526000"/>
            <a:ext cx="70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4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Rectangle 52"/>
          <p:cNvSpPr/>
          <p:nvPr/>
        </p:nvSpPr>
        <p:spPr>
          <a:xfrm>
            <a:off x="5654880" y="5526000"/>
            <a:ext cx="70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20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53"/>
          <p:cNvSpPr/>
          <p:nvPr/>
        </p:nvSpPr>
        <p:spPr>
          <a:xfrm>
            <a:off x="7205040" y="552600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43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54"/>
          <p:cNvSpPr/>
          <p:nvPr/>
        </p:nvSpPr>
        <p:spPr>
          <a:xfrm>
            <a:off x="1317600" y="2098800"/>
            <a:ext cx="6912000" cy="4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55"/>
          <p:cNvSpPr/>
          <p:nvPr/>
        </p:nvSpPr>
        <p:spPr>
          <a:xfrm>
            <a:off x="1317600" y="2730600"/>
            <a:ext cx="6912000" cy="4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56"/>
          <p:cNvSpPr/>
          <p:nvPr/>
        </p:nvSpPr>
        <p:spPr>
          <a:xfrm>
            <a:off x="1317600" y="5818320"/>
            <a:ext cx="6912000" cy="4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57"/>
          <p:cNvSpPr/>
          <p:nvPr/>
        </p:nvSpPr>
        <p:spPr>
          <a:xfrm>
            <a:off x="1317600" y="2098800"/>
            <a:ext cx="0" cy="375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58"/>
          <p:cNvSpPr/>
          <p:nvPr/>
        </p:nvSpPr>
        <p:spPr>
          <a:xfrm>
            <a:off x="8229600" y="2098800"/>
            <a:ext cx="0" cy="375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5D1E-2DFF-401B-AFEA-8B8C93E3D98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v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levanc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servicios son cada vez un componente más importante de la econom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odo negocio tiene componentes de SERVICIO  y componentes MANUFACTURERAS (pocas excepcione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CONTINUO DE LAS OPERA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7" name="Group 9"/>
          <p:cNvGrpSpPr/>
          <p:nvPr/>
        </p:nvGrpSpPr>
        <p:grpSpPr>
          <a:xfrm>
            <a:off x="1905120" y="5029200"/>
            <a:ext cx="6618600" cy="1069200"/>
            <a:chOff x="1905120" y="5029200"/>
            <a:chExt cx="6618600" cy="1069200"/>
          </a:xfrm>
        </p:grpSpPr>
        <p:sp>
          <p:nvSpPr>
            <p:cNvPr id="238" name="Text Box 4"/>
            <p:cNvSpPr/>
            <p:nvPr/>
          </p:nvSpPr>
          <p:spPr>
            <a:xfrm>
              <a:off x="1905120" y="502920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Manufactura Pur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Text Box 5"/>
            <p:cNvSpPr/>
            <p:nvPr/>
          </p:nvSpPr>
          <p:spPr>
            <a:xfrm>
              <a:off x="6175800" y="5029200"/>
              <a:ext cx="23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Servicios Puro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Text Box 6"/>
            <p:cNvSpPr/>
            <p:nvPr/>
          </p:nvSpPr>
          <p:spPr>
            <a:xfrm>
              <a:off x="3621240" y="5638680"/>
              <a:ext cx="30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Operaciones Mixta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Line 8"/>
            <p:cNvSpPr/>
            <p:nvPr/>
          </p:nvSpPr>
          <p:spPr>
            <a:xfrm>
              <a:off x="2057400" y="5562720"/>
              <a:ext cx="6324120" cy="0"/>
            </a:xfrm>
            <a:prstGeom prst="line">
              <a:avLst/>
            </a:prstGeom>
            <a:ln w="507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18FB-C832-471C-9520-B03CBB0EE8D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v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cliente es parte integral del proceso de negocios (Una radio se puede fabricar sin el cliente, en cambio un corte de pelo no se puede realizar sin és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servicios son intangi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se pueden almacen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cupan una dimensión temporal: Se producen en el mismo momento en que se entregan al cl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elen ser más intensivos en mano de ob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4DE1-E3BC-4EC7-9C5F-991D88BF49C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blecer políticas administrativas y desarrollar recursos necesarios para satisfacer requerimientos consistentes con metas específ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nir metas, recursos necesarios y políticas básicas para el éxi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para asegurar la obtención y uso  eficiente de recursos para cumplir objet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ificación agregada (anual), decisiones de producción, personal, inventario, marketing, finanza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C86A-25EB-44A7-AEF9-C8A6D93742A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adas a tareas específicas, a lo que se hace día a d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B626-FF8F-4CA1-88D2-321AEC04278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Picture 1028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6201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667D-F2B2-4EAC-8FA9-3EF17CC7B0E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conceptos de largo, mediano y corto plazo son relativos al período que toma cada ciclo del negocio. La magnitud de éstos cambia según la indust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Electrónica de Consum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de Retail (Supermercado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factor “Incertidumbre” está presente en toda decisión y puede llegar a ser muy importante. Además varía según el nivel de dec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6D1F-3C10-4840-8FD6-DB2AF88D35A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tipo de electrodomésticos fabricaremos y comercializaremo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Dónde ubicaremos nuestros restaurant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roducir en los próximos 12 meses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ersonal contrataremos para la temporada de ventas alta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a materia prima importada necesitamos para el próximo perío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6ED8-8851-41E8-A3F1-F98816833DD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Qué es la Gestión de Operacion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udio de los conceptos, métodos y herramientas necesarias para enfrentar y resolver los problemas relacionados a la producción de BIENES y SERV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encuentra al centro de toda organización producti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a empresa tiene algo que vender o proveer (satisfacer una  necesidad) y esto debe ser produci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1121-27A4-41A7-852A-EBAC36F65F8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l es el número de camiones necesarios para transportar fruta en la siguiente tempora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trabajos a maquinaria en fábricas (¿Qué hacer, y en qué máquinas, las próximas 2 horas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didos de repuestos y materias pri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vehículos (¿Qué camiones despachamos durante la próxima hora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producción de leche y queso en una planta (¿Cuánto producir hoy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1C02-FD0F-4A87-A25D-837B1102FEB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gregación y desagregación de información y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5" name="Group 31"/>
          <p:cNvGrpSpPr/>
          <p:nvPr/>
        </p:nvGrpSpPr>
        <p:grpSpPr>
          <a:xfrm>
            <a:off x="1371600" y="3047760"/>
            <a:ext cx="7229160" cy="2925720"/>
            <a:chOff x="1371600" y="3047760"/>
            <a:chExt cx="7229160" cy="2925720"/>
          </a:xfrm>
        </p:grpSpPr>
        <p:grpSp>
          <p:nvGrpSpPr>
            <p:cNvPr id="276" name="Group 4"/>
            <p:cNvGrpSpPr/>
            <p:nvPr/>
          </p:nvGrpSpPr>
          <p:grpSpPr>
            <a:xfrm>
              <a:off x="1846080" y="3047760"/>
              <a:ext cx="6308640" cy="2925720"/>
              <a:chOff x="1846080" y="3047760"/>
              <a:chExt cx="6308640" cy="2925720"/>
            </a:xfrm>
          </p:grpSpPr>
          <p:grpSp>
            <p:nvGrpSpPr>
              <p:cNvPr id="277" name="Group 5"/>
              <p:cNvGrpSpPr/>
              <p:nvPr/>
            </p:nvGrpSpPr>
            <p:grpSpPr>
              <a:xfrm>
                <a:off x="4131720" y="3048120"/>
                <a:ext cx="1554120" cy="2651040"/>
                <a:chOff x="4131720" y="3048120"/>
                <a:chExt cx="1554120" cy="2651040"/>
              </a:xfrm>
            </p:grpSpPr>
            <p:sp>
              <p:nvSpPr>
                <p:cNvPr id="278" name="Text Box 6"/>
                <p:cNvSpPr/>
                <p:nvPr/>
              </p:nvSpPr>
              <p:spPr>
                <a:xfrm>
                  <a:off x="4131720" y="304812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ESTRATEG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Text Box 7"/>
                <p:cNvSpPr/>
                <p:nvPr/>
              </p:nvSpPr>
              <p:spPr>
                <a:xfrm>
                  <a:off x="4131720" y="405360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TACT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Text Box 8"/>
                <p:cNvSpPr/>
                <p:nvPr/>
              </p:nvSpPr>
              <p:spPr>
                <a:xfrm>
                  <a:off x="4131720" y="505944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OPERATIVO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Line 9"/>
                <p:cNvSpPr/>
                <p:nvPr/>
              </p:nvSpPr>
              <p:spPr>
                <a:xfrm flipV="1">
                  <a:off x="4497120" y="36874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Line 10"/>
                <p:cNvSpPr/>
                <p:nvPr/>
              </p:nvSpPr>
              <p:spPr>
                <a:xfrm flipV="1">
                  <a:off x="4497120" y="469332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3" name="Line 11"/>
                <p:cNvSpPr/>
                <p:nvPr/>
              </p:nvSpPr>
              <p:spPr>
                <a:xfrm>
                  <a:off x="5320080" y="368784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4" name="Line 12"/>
                <p:cNvSpPr/>
                <p:nvPr/>
              </p:nvSpPr>
              <p:spPr>
                <a:xfrm>
                  <a:off x="5320080" y="46936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85" name="Text Box 13"/>
              <p:cNvSpPr/>
              <p:nvPr/>
            </p:nvSpPr>
            <p:spPr>
              <a:xfrm>
                <a:off x="2302920" y="323064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Largo Plazo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Text Box 14"/>
              <p:cNvSpPr/>
              <p:nvPr/>
            </p:nvSpPr>
            <p:spPr>
              <a:xfrm>
                <a:off x="2302920" y="405360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Mediano Plazo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Text Box 15"/>
              <p:cNvSpPr/>
              <p:nvPr/>
            </p:nvSpPr>
            <p:spPr>
              <a:xfrm>
                <a:off x="2302920" y="524232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orto Plazo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Line 16"/>
              <p:cNvSpPr/>
              <p:nvPr/>
            </p:nvSpPr>
            <p:spPr>
              <a:xfrm flipV="1">
                <a:off x="276012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Line 17"/>
              <p:cNvSpPr/>
              <p:nvPr/>
            </p:nvSpPr>
            <p:spPr>
              <a:xfrm flipV="1">
                <a:off x="276012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Line 18"/>
              <p:cNvSpPr/>
              <p:nvPr/>
            </p:nvSpPr>
            <p:spPr>
              <a:xfrm>
                <a:off x="330876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Line 19"/>
              <p:cNvSpPr/>
              <p:nvPr/>
            </p:nvSpPr>
            <p:spPr>
              <a:xfrm>
                <a:off x="330876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Text Box 20"/>
              <p:cNvSpPr/>
              <p:nvPr/>
            </p:nvSpPr>
            <p:spPr>
              <a:xfrm>
                <a:off x="5960520" y="3048120"/>
                <a:ext cx="182844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Objetivos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liente - Producto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Text Box 21"/>
              <p:cNvSpPr/>
              <p:nvPr/>
            </p:nvSpPr>
            <p:spPr>
              <a:xfrm>
                <a:off x="6143400" y="4053600"/>
                <a:ext cx="155412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Uso Eficiente de Recursos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Text Box 22"/>
              <p:cNvSpPr/>
              <p:nvPr/>
            </p:nvSpPr>
            <p:spPr>
              <a:xfrm>
                <a:off x="5869080" y="5059440"/>
                <a:ext cx="2102760" cy="9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Acciones sobre recursos, productos y agentes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Line 23"/>
              <p:cNvSpPr/>
              <p:nvPr/>
            </p:nvSpPr>
            <p:spPr>
              <a:xfrm flipV="1">
                <a:off x="641736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Line 24"/>
              <p:cNvSpPr/>
              <p:nvPr/>
            </p:nvSpPr>
            <p:spPr>
              <a:xfrm flipV="1">
                <a:off x="641736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Line 25"/>
              <p:cNvSpPr/>
              <p:nvPr/>
            </p:nvSpPr>
            <p:spPr>
              <a:xfrm>
                <a:off x="724032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Line 26"/>
              <p:cNvSpPr/>
              <p:nvPr/>
            </p:nvSpPr>
            <p:spPr>
              <a:xfrm>
                <a:off x="724032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Line 27"/>
              <p:cNvSpPr/>
              <p:nvPr/>
            </p:nvSpPr>
            <p:spPr>
              <a:xfrm flipV="1">
                <a:off x="1846080" y="3047760"/>
                <a:ext cx="0" cy="274284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Line 28"/>
              <p:cNvSpPr/>
              <p:nvPr/>
            </p:nvSpPr>
            <p:spPr>
              <a:xfrm>
                <a:off x="8154720" y="3048120"/>
                <a:ext cx="0" cy="26514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1" name="Text Box 29"/>
            <p:cNvSpPr/>
            <p:nvPr/>
          </p:nvSpPr>
          <p:spPr>
            <a:xfrm rot="16200000">
              <a:off x="655920" y="4259520"/>
              <a:ext cx="179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INFORMAC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Text Box 30"/>
            <p:cNvSpPr/>
            <p:nvPr/>
          </p:nvSpPr>
          <p:spPr>
            <a:xfrm rot="5418000">
              <a:off x="7787160" y="418860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DECIS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017F-40F0-46A6-AC9F-582E3475301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Efectividad Operacio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eremos comprar su producto pero, d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ó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de est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BM continua sufriendo quiebres de stock en su línea Think Pad. (</a:t>
            </a: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WSJ, May 1994)</a:t>
            </a:r>
            <a:br>
              <a:rPr sz="1600"/>
            </a:b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los últimos tres a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ños, el porcentaje de productos en stock de Best Buy no ha podido superar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75%. (Como punto de comparación, ítems bien manejados superan el 90%.) Para compensar estos quiebres de stock, la compañía tiene la tendencia a mantener inventarios excesivos durante los periodos de alta demanda. Esto resulta en aumentos de sobrante y liquidaciones.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alomon Brothers Inc. Investors’ Report, June 13, 1996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penas entre a la tienda escuche un empleado gritar “A todos los que buscan la consola XBox360 esta se agoto, pero tenemos excelentes promociones en el Compaq portátil  por 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ó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 US$ 449.00”. (</a:t>
            </a: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Sunday, Dec. 18th, 2005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0AAB-BF64-4835-A5A6-4EBC87FFCCA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3352680" y="3124080"/>
            <a:ext cx="6858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3365640" y="3962520"/>
            <a:ext cx="67284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3403440" y="5181480"/>
            <a:ext cx="60984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3566880" y="4556160"/>
            <a:ext cx="24480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Oval 7"/>
          <p:cNvSpPr/>
          <p:nvPr/>
        </p:nvSpPr>
        <p:spPr>
          <a:xfrm>
            <a:off x="5105520" y="3124080"/>
            <a:ext cx="533160" cy="5335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Oval 8"/>
          <p:cNvSpPr/>
          <p:nvPr/>
        </p:nvSpPr>
        <p:spPr>
          <a:xfrm>
            <a:off x="5105520" y="3962520"/>
            <a:ext cx="533160" cy="5331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Oval 9"/>
          <p:cNvSpPr/>
          <p:nvPr/>
        </p:nvSpPr>
        <p:spPr>
          <a:xfrm>
            <a:off x="5105520" y="5105520"/>
            <a:ext cx="533160" cy="5331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5240160" y="4495680"/>
            <a:ext cx="24480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11"/>
          <p:cNvSpPr/>
          <p:nvPr/>
        </p:nvSpPr>
        <p:spPr>
          <a:xfrm>
            <a:off x="4038480" y="3352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Freeform 12"/>
          <p:cNvSpPr/>
          <p:nvPr/>
        </p:nvSpPr>
        <p:spPr>
          <a:xfrm>
            <a:off x="4038480" y="3352680"/>
            <a:ext cx="1071720" cy="838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Line 13"/>
          <p:cNvSpPr/>
          <p:nvPr/>
        </p:nvSpPr>
        <p:spPr>
          <a:xfrm>
            <a:off x="4038480" y="3352680"/>
            <a:ext cx="106704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Line 14"/>
          <p:cNvSpPr/>
          <p:nvPr/>
        </p:nvSpPr>
        <p:spPr>
          <a:xfrm flipV="1">
            <a:off x="4038480" y="3352320"/>
            <a:ext cx="10670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Line 15"/>
          <p:cNvSpPr/>
          <p:nvPr/>
        </p:nvSpPr>
        <p:spPr>
          <a:xfrm>
            <a:off x="4038480" y="41911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Line 16"/>
          <p:cNvSpPr/>
          <p:nvPr/>
        </p:nvSpPr>
        <p:spPr>
          <a:xfrm>
            <a:off x="4038480" y="4191120"/>
            <a:ext cx="10670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Freeform 17"/>
          <p:cNvSpPr/>
          <p:nvPr/>
        </p:nvSpPr>
        <p:spPr>
          <a:xfrm>
            <a:off x="4014720" y="3352680"/>
            <a:ext cx="1090800" cy="2057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Freeform 18"/>
          <p:cNvSpPr/>
          <p:nvPr/>
        </p:nvSpPr>
        <p:spPr>
          <a:xfrm>
            <a:off x="4014720" y="4191120"/>
            <a:ext cx="1090800" cy="1218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Line 19"/>
          <p:cNvSpPr/>
          <p:nvPr/>
        </p:nvSpPr>
        <p:spPr>
          <a:xfrm>
            <a:off x="4038480" y="5410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304920" y="1523880"/>
            <a:ext cx="8839080" cy="15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Una empresa productora de detergentes de limpieza cuenta con </a:t>
            </a:r>
            <a:r>
              <a:rPr b="1" lang="es-CL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productos perfectamente substitutos. El precio de venta unitario de los </a:t>
            </a:r>
            <a:r>
              <a:rPr b="1" lang="es-CL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productos es $2000. Su costo de producción es $500. Cada uno de los </a:t>
            </a:r>
            <a:r>
              <a:rPr b="1" lang="es-CL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clientes consume una caja de detergente por mes. Sus preferencias son aleatoria: con probabilidad q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un cliente elige la marca i como primera preferencia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2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1569-25E7-45B7-A02C-A59CF44D70C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Efectividad Operacional: Wal-Ma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685800" y="1440000"/>
            <a:ext cx="7772400" cy="146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3300"/>
                </a:solidFill>
                <a:latin typeface="Arial Narrow"/>
              </a:rPr>
              <a:t>Estrategia Corporativ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(Ganar ventajas competitivas otorgándole a los clientes acceso a productos de calidad, cuando y donde los necesitan, a precios competitiv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Precios Bajos Todos los Días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838080" y="3801960"/>
            <a:ext cx="2895840" cy="138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3300"/>
                </a:solidFill>
                <a:latin typeface="Arial Narrow"/>
              </a:rPr>
              <a:t>Estrategia Operac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Tiempos de Ciclo Cor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Bajos Inventar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5257800" y="3535200"/>
            <a:ext cx="3657600" cy="278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3300"/>
                </a:solidFill>
                <a:latin typeface="Arial Narrow"/>
              </a:rPr>
              <a:t>Estructura Operac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Cross Dock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IDE (ED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Ubicación Select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Sistema Modernos de Comunicación entre Tien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Sistemas de Transporte Rápido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RF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Freeform 6"/>
          <p:cNvSpPr/>
          <p:nvPr/>
        </p:nvSpPr>
        <p:spPr>
          <a:xfrm rot="16200000">
            <a:off x="6743520" y="1629720"/>
            <a:ext cx="228600" cy="3200400"/>
          </a:xfrm>
          <a:prstGeom prst="pie">
            <a:avLst/>
          </a:prstGeom>
          <a:gradFill rotWithShape="0">
            <a:gsLst>
              <a:gs pos="0">
                <a:srgbClr val="bedfbe"/>
              </a:gs>
              <a:gs pos="50000">
                <a:srgbClr val="008000"/>
              </a:gs>
              <a:gs pos="100000">
                <a:srgbClr val="bedfb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Freeform 7"/>
          <p:cNvSpPr/>
          <p:nvPr/>
        </p:nvSpPr>
        <p:spPr>
          <a:xfrm rot="5400000">
            <a:off x="2133360" y="1828440"/>
            <a:ext cx="304920" cy="2895840"/>
          </a:xfrm>
          <a:prstGeom prst="pie">
            <a:avLst/>
          </a:prstGeom>
          <a:gradFill rotWithShape="0">
            <a:gsLst>
              <a:gs pos="0">
                <a:srgbClr val="bedfbe"/>
              </a:gs>
              <a:gs pos="50000">
                <a:srgbClr val="008000"/>
              </a:gs>
              <a:gs pos="100000">
                <a:srgbClr val="bedfbe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Freeform 8"/>
          <p:cNvSpPr/>
          <p:nvPr/>
        </p:nvSpPr>
        <p:spPr>
          <a:xfrm>
            <a:off x="4280040" y="3827520"/>
            <a:ext cx="304560" cy="1371600"/>
          </a:xfrm>
          <a:prstGeom prst="pie">
            <a:avLst/>
          </a:prstGeom>
          <a:gradFill rotWithShape="0">
            <a:gsLst>
              <a:gs pos="0">
                <a:srgbClr val="bedfbe"/>
              </a:gs>
              <a:gs pos="50000">
                <a:srgbClr val="008000"/>
              </a:gs>
              <a:gs pos="100000">
                <a:srgbClr val="bedfb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1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Slide Number Placeholder 2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54F4-3225-4927-BDE5-093932D2B2D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76320" y="1123920"/>
            <a:ext cx="9005760" cy="5048280"/>
          </a:xfrm>
          <a:prstGeom prst="rect">
            <a:avLst/>
          </a:prstGeom>
          <a:ln w="0">
            <a:noFill/>
          </a:ln>
        </p:spPr>
      </p:pic>
      <p:sp>
        <p:nvSpPr>
          <p:cNvPr id="340" name="Line 4"/>
          <p:cNvSpPr/>
          <p:nvPr/>
        </p:nvSpPr>
        <p:spPr>
          <a:xfrm>
            <a:off x="31752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449280" y="6208560"/>
            <a:ext cx="803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“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mpeting on Capabilities: The New Rules of Corporate Strate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, by G. Stack, P. Evans, L.E. Shulman, HBR (1992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1066680" y="228600"/>
            <a:ext cx="7696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Efectividad Operacional: Wal-Mar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1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Slide Number Placeholder 2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F812-7980-4CF5-89AB-C1A767AE0A8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5" name="Group 2"/>
          <p:cNvGrpSpPr/>
          <p:nvPr/>
        </p:nvGrpSpPr>
        <p:grpSpPr>
          <a:xfrm>
            <a:off x="228600" y="3257640"/>
            <a:ext cx="8152920" cy="3219480"/>
            <a:chOff x="228600" y="3257640"/>
            <a:chExt cx="8152920" cy="3219480"/>
          </a:xfrm>
        </p:grpSpPr>
        <p:sp>
          <p:nvSpPr>
            <p:cNvPr id="346" name="AutoShape 3"/>
            <p:cNvSpPr/>
            <p:nvPr/>
          </p:nvSpPr>
          <p:spPr>
            <a:xfrm>
              <a:off x="300600" y="3257640"/>
              <a:ext cx="8080920" cy="31449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AutoShape 4"/>
            <p:cNvSpPr/>
            <p:nvPr/>
          </p:nvSpPr>
          <p:spPr>
            <a:xfrm>
              <a:off x="228600" y="3332160"/>
              <a:ext cx="8080560" cy="3144960"/>
            </a:xfrm>
            <a:prstGeom prst="roundRect">
              <a:avLst>
                <a:gd name="adj" fmla="val 16667"/>
              </a:avLst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8" name="AutoShape 5"/>
          <p:cNvSpPr/>
          <p:nvPr/>
        </p:nvSpPr>
        <p:spPr>
          <a:xfrm>
            <a:off x="3733920" y="1447920"/>
            <a:ext cx="5029200" cy="1371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9" name="Group 6"/>
          <p:cNvGrpSpPr/>
          <p:nvPr/>
        </p:nvGrpSpPr>
        <p:grpSpPr>
          <a:xfrm>
            <a:off x="304920" y="1552680"/>
            <a:ext cx="2854080" cy="1190520"/>
            <a:chOff x="304920" y="1552680"/>
            <a:chExt cx="2854080" cy="1190520"/>
          </a:xfrm>
        </p:grpSpPr>
        <p:sp>
          <p:nvSpPr>
            <p:cNvPr id="350" name="AutoShape 7"/>
            <p:cNvSpPr/>
            <p:nvPr/>
          </p:nvSpPr>
          <p:spPr>
            <a:xfrm>
              <a:off x="339840" y="1552680"/>
              <a:ext cx="2819160" cy="1143000"/>
            </a:xfrm>
            <a:prstGeom prst="roundRect">
              <a:avLst>
                <a:gd name="adj" fmla="val 16667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AutoShape 8"/>
            <p:cNvSpPr/>
            <p:nvPr/>
          </p:nvSpPr>
          <p:spPr>
            <a:xfrm>
              <a:off x="304920" y="1600200"/>
              <a:ext cx="2819160" cy="1143000"/>
            </a:xfrm>
            <a:prstGeom prst="roundRect">
              <a:avLst>
                <a:gd name="adj" fmla="val 16667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Text Box 9"/>
            <p:cNvSpPr/>
            <p:nvPr/>
          </p:nvSpPr>
          <p:spPr>
            <a:xfrm>
              <a:off x="432360" y="1941480"/>
              <a:ext cx="2114640" cy="414000"/>
            </a:xfrm>
            <a:prstGeom prst="rect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eaeaea"/>
                  </a:solidFill>
                  <a:latin typeface="Futura Md BT"/>
                </a:rPr>
                <a:t>   </a:t>
              </a:r>
              <a:r>
                <a:rPr b="1" lang="en-US" sz="2100" spc="-1" strike="noStrike">
                  <a:solidFill>
                    <a:srgbClr val="eaeaea"/>
                  </a:solidFill>
                  <a:latin typeface="Futura Md BT"/>
                </a:rPr>
                <a:t>Qué es RFID?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3" name="Text Box 10"/>
          <p:cNvSpPr/>
          <p:nvPr/>
        </p:nvSpPr>
        <p:spPr>
          <a:xfrm>
            <a:off x="107640" y="3578400"/>
            <a:ext cx="86115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Futura Md BT"/>
              </a:rPr>
              <a:t>RFID es una tecnología que permite almacenar y transmiti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Futura Md BT"/>
              </a:rPr>
              <a:t>automáticamente información. Una tarjeta estándar RFID está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Futura Md BT"/>
              </a:rPr>
              <a:t>compuesta de un microchip y una antena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11" descr="chip con antena"/>
          <p:cNvPicPr/>
          <p:nvPr/>
        </p:nvPicPr>
        <p:blipFill>
          <a:blip r:embed="rId1"/>
          <a:stretch/>
        </p:blipFill>
        <p:spPr>
          <a:xfrm>
            <a:off x="4127400" y="1752480"/>
            <a:ext cx="901800" cy="9144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2" descr="chip solo"/>
          <p:cNvPicPr/>
          <p:nvPr/>
        </p:nvPicPr>
        <p:blipFill>
          <a:blip r:embed="rId2"/>
          <a:stretch/>
        </p:blipFill>
        <p:spPr>
          <a:xfrm>
            <a:off x="4446720" y="2133720"/>
            <a:ext cx="99720" cy="168120"/>
          </a:xfrm>
          <a:prstGeom prst="rect">
            <a:avLst/>
          </a:prstGeom>
          <a:ln w="0">
            <a:noFill/>
          </a:ln>
        </p:spPr>
      </p:pic>
      <p:grpSp>
        <p:nvGrpSpPr>
          <p:cNvPr id="356" name="Group 13"/>
          <p:cNvGrpSpPr/>
          <p:nvPr/>
        </p:nvGrpSpPr>
        <p:grpSpPr>
          <a:xfrm>
            <a:off x="6041160" y="1813320"/>
            <a:ext cx="2036160" cy="579960"/>
            <a:chOff x="6041160" y="1813320"/>
            <a:chExt cx="2036160" cy="579960"/>
          </a:xfrm>
        </p:grpSpPr>
        <p:sp>
          <p:nvSpPr>
            <p:cNvPr id="357" name="Rectangle 14"/>
            <p:cNvSpPr/>
            <p:nvPr/>
          </p:nvSpPr>
          <p:spPr>
            <a:xfrm rot="20700000">
              <a:off x="6091200" y="1874520"/>
              <a:ext cx="533520" cy="457200"/>
            </a:xfrm>
            <a:prstGeom prst="rect">
              <a:avLst/>
            </a:prstGeom>
            <a:solidFill>
              <a:srgbClr val="ece6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Rectangle 15"/>
            <p:cNvSpPr/>
            <p:nvPr/>
          </p:nvSpPr>
          <p:spPr>
            <a:xfrm>
              <a:off x="7238880" y="2057400"/>
              <a:ext cx="838440" cy="75960"/>
            </a:xfrm>
            <a:prstGeom prst="rect">
              <a:avLst/>
            </a:prstGeom>
            <a:solidFill>
              <a:srgbClr val="ece6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359" name="AutoShape 16"/>
            <p:cNvCxnSpPr>
              <a:stCxn id="357" idx="3"/>
              <a:endCxn id="358" idx="1"/>
            </p:cNvCxnSpPr>
            <p:nvPr/>
          </p:nvCxnSpPr>
          <p:spPr>
            <a:xfrm>
              <a:off x="6614640" y="2033640"/>
              <a:ext cx="624600" cy="62640"/>
            </a:xfrm>
            <a:prstGeom prst="curvedConnector5">
              <a:avLst>
                <a:gd name="adj1" fmla="val 54671"/>
                <a:gd name="adj2" fmla="val 49710"/>
                <a:gd name="adj3" fmla="val 54671"/>
              </a:avLst>
            </a:prstGeom>
            <a:ln w="28440">
              <a:solidFill>
                <a:srgbClr val="1c1c1c"/>
              </a:solidFill>
              <a:miter/>
            </a:ln>
          </p:spPr>
        </p:cxnSp>
      </p:grpSp>
      <p:grpSp>
        <p:nvGrpSpPr>
          <p:cNvPr id="360" name="Group 17"/>
          <p:cNvGrpSpPr/>
          <p:nvPr/>
        </p:nvGrpSpPr>
        <p:grpSpPr>
          <a:xfrm>
            <a:off x="5137200" y="1571400"/>
            <a:ext cx="1002600" cy="1048320"/>
            <a:chOff x="5137200" y="1571400"/>
            <a:chExt cx="1002600" cy="1048320"/>
          </a:xfrm>
        </p:grpSpPr>
        <p:sp>
          <p:nvSpPr>
            <p:cNvPr id="361" name="Arc 18"/>
            <p:cNvSpPr/>
            <p:nvPr/>
          </p:nvSpPr>
          <p:spPr>
            <a:xfrm rot="12000000">
              <a:off x="5785560" y="1879920"/>
              <a:ext cx="217800" cy="29916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Arc 19"/>
            <p:cNvSpPr/>
            <p:nvPr/>
          </p:nvSpPr>
          <p:spPr>
            <a:xfrm rot="12000000">
              <a:off x="5539680" y="1733040"/>
              <a:ext cx="489960" cy="59832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Arc 20"/>
            <p:cNvSpPr/>
            <p:nvPr/>
          </p:nvSpPr>
          <p:spPr>
            <a:xfrm rot="12000000">
              <a:off x="5257080" y="1676520"/>
              <a:ext cx="762120" cy="83808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4" name="Group 21"/>
          <p:cNvGrpSpPr/>
          <p:nvPr/>
        </p:nvGrpSpPr>
        <p:grpSpPr>
          <a:xfrm>
            <a:off x="4995000" y="1836360"/>
            <a:ext cx="804960" cy="636120"/>
            <a:chOff x="4995000" y="1836360"/>
            <a:chExt cx="804960" cy="636120"/>
          </a:xfrm>
        </p:grpSpPr>
        <p:sp>
          <p:nvSpPr>
            <p:cNvPr id="365" name="Arc 22"/>
            <p:cNvSpPr/>
            <p:nvPr/>
          </p:nvSpPr>
          <p:spPr>
            <a:xfrm rot="2100000">
              <a:off x="5027400" y="2053080"/>
              <a:ext cx="203040" cy="17748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Arc 23"/>
            <p:cNvSpPr/>
            <p:nvPr/>
          </p:nvSpPr>
          <p:spPr>
            <a:xfrm rot="2100000">
              <a:off x="5062680" y="1950840"/>
              <a:ext cx="406440" cy="34416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Arc 24"/>
            <p:cNvSpPr/>
            <p:nvPr/>
          </p:nvSpPr>
          <p:spPr>
            <a:xfrm rot="2100000">
              <a:off x="5288760" y="1908360"/>
              <a:ext cx="406440" cy="492120"/>
            </a:xfrm>
            <a:prstGeom prst="pie">
              <a:avLst/>
            </a:pr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8" name="Text Box 25"/>
          <p:cNvSpPr/>
          <p:nvPr/>
        </p:nvSpPr>
        <p:spPr>
          <a:xfrm>
            <a:off x="380880" y="4873680"/>
            <a:ext cx="83059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Futura Md BT"/>
              </a:rPr>
              <a:t> </a:t>
            </a:r>
            <a:r>
              <a:rPr b="1" lang="es-CL" sz="2100" spc="-1" strike="noStrike">
                <a:solidFill>
                  <a:srgbClr val="000000"/>
                </a:solidFill>
                <a:latin typeface="Futura Md BT"/>
              </a:rPr>
              <a:t>Un lector electrónico emite señales que son capturadas por la antena y activan el microchip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Futura Md BT"/>
              </a:rPr>
              <a:t> </a:t>
            </a:r>
            <a:r>
              <a:rPr b="1" lang="es-CL" sz="2100" spc="-1" strike="noStrike">
                <a:solidFill>
                  <a:srgbClr val="000000"/>
                </a:solidFill>
                <a:latin typeface="Futura Md BT"/>
              </a:rPr>
              <a:t>La información del chip es transmitida de vuelta al lector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9" name="Group 26"/>
          <p:cNvGrpSpPr/>
          <p:nvPr/>
        </p:nvGrpSpPr>
        <p:grpSpPr>
          <a:xfrm>
            <a:off x="6095880" y="1947960"/>
            <a:ext cx="2600280" cy="180360"/>
            <a:chOff x="6095880" y="1947960"/>
            <a:chExt cx="2600280" cy="180360"/>
          </a:xfrm>
        </p:grpSpPr>
        <p:sp>
          <p:nvSpPr>
            <p:cNvPr id="370" name="Oval 27"/>
            <p:cNvSpPr/>
            <p:nvPr/>
          </p:nvSpPr>
          <p:spPr>
            <a:xfrm>
              <a:off x="6095880" y="1981080"/>
              <a:ext cx="76320" cy="75960"/>
            </a:xfrm>
            <a:prstGeom prst="ellipse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Oval 28"/>
            <p:cNvSpPr/>
            <p:nvPr/>
          </p:nvSpPr>
          <p:spPr>
            <a:xfrm>
              <a:off x="6291360" y="1947960"/>
              <a:ext cx="75960" cy="75960"/>
            </a:xfrm>
            <a:prstGeom prst="ellipse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Oval 29"/>
            <p:cNvSpPr/>
            <p:nvPr/>
          </p:nvSpPr>
          <p:spPr>
            <a:xfrm>
              <a:off x="6486480" y="1976400"/>
              <a:ext cx="76320" cy="75600"/>
            </a:xfrm>
            <a:prstGeom prst="ellipse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Oval 30"/>
            <p:cNvSpPr/>
            <p:nvPr/>
          </p:nvSpPr>
          <p:spPr>
            <a:xfrm>
              <a:off x="6638760" y="2000160"/>
              <a:ext cx="76320" cy="75960"/>
            </a:xfrm>
            <a:prstGeom prst="ellipse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1"/>
            <p:cNvSpPr/>
            <p:nvPr/>
          </p:nvSpPr>
          <p:spPr>
            <a:xfrm>
              <a:off x="6819840" y="2009520"/>
              <a:ext cx="76320" cy="75960"/>
            </a:xfrm>
            <a:prstGeom prst="ellipse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"/>
            <p:cNvSpPr/>
            <p:nvPr/>
          </p:nvSpPr>
          <p:spPr>
            <a:xfrm>
              <a:off x="7043760" y="2052360"/>
              <a:ext cx="76320" cy="75960"/>
            </a:xfrm>
            <a:prstGeom prst="ellipse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3"/>
            <p:cNvSpPr/>
            <p:nvPr/>
          </p:nvSpPr>
          <p:spPr>
            <a:xfrm>
              <a:off x="7224840" y="2047680"/>
              <a:ext cx="75960" cy="75960"/>
            </a:xfrm>
            <a:prstGeom prst="ellipse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4"/>
            <p:cNvSpPr/>
            <p:nvPr/>
          </p:nvSpPr>
          <p:spPr>
            <a:xfrm>
              <a:off x="7467480" y="1981080"/>
              <a:ext cx="76320" cy="75960"/>
            </a:xfrm>
            <a:prstGeom prst="ellipse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5"/>
            <p:cNvSpPr/>
            <p:nvPr/>
          </p:nvSpPr>
          <p:spPr>
            <a:xfrm>
              <a:off x="7705800" y="1981080"/>
              <a:ext cx="75960" cy="75960"/>
            </a:xfrm>
            <a:prstGeom prst="ellipse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6"/>
            <p:cNvSpPr/>
            <p:nvPr/>
          </p:nvSpPr>
          <p:spPr>
            <a:xfrm>
              <a:off x="8001000" y="1981080"/>
              <a:ext cx="76320" cy="75960"/>
            </a:xfrm>
            <a:prstGeom prst="ellipse">
              <a:avLst/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AutoShape 37"/>
            <p:cNvSpPr/>
            <p:nvPr/>
          </p:nvSpPr>
          <p:spPr>
            <a:xfrm>
              <a:off x="8315280" y="196668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1" name="Rectangle 38"/>
          <p:cNvSpPr/>
          <p:nvPr/>
        </p:nvSpPr>
        <p:spPr>
          <a:xfrm>
            <a:off x="1143000" y="6094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Wal-Mart: RFI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31B0-C282-4880-AE5F-99C1E8BE524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7440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Aplicacio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85" name="Group 3"/>
          <p:cNvGrpSpPr/>
          <p:nvPr/>
        </p:nvGrpSpPr>
        <p:grpSpPr>
          <a:xfrm>
            <a:off x="1905120" y="1676520"/>
            <a:ext cx="6933600" cy="2437920"/>
            <a:chOff x="1905120" y="1676520"/>
            <a:chExt cx="6933600" cy="2437920"/>
          </a:xfrm>
        </p:grpSpPr>
        <p:sp>
          <p:nvSpPr>
            <p:cNvPr id="386" name="AutoShape 4"/>
            <p:cNvSpPr/>
            <p:nvPr/>
          </p:nvSpPr>
          <p:spPr>
            <a:xfrm>
              <a:off x="1966320" y="1676520"/>
              <a:ext cx="6872400" cy="2381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AutoShape 5"/>
            <p:cNvSpPr/>
            <p:nvPr/>
          </p:nvSpPr>
          <p:spPr>
            <a:xfrm>
              <a:off x="1905120" y="1732680"/>
              <a:ext cx="6872040" cy="2381760"/>
            </a:xfrm>
            <a:prstGeom prst="roundRect">
              <a:avLst>
                <a:gd name="adj" fmla="val 16667"/>
              </a:avLst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8" name="Text Box 6"/>
          <p:cNvSpPr/>
          <p:nvPr/>
        </p:nvSpPr>
        <p:spPr>
          <a:xfrm>
            <a:off x="945000" y="1295280"/>
            <a:ext cx="2286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a50021"/>
                </a:solidFill>
                <a:latin typeface="Palatino Linotype"/>
              </a:rPr>
              <a:t>Baja frecuencia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9" name="Picture 7" descr="rfid card"/>
          <p:cNvPicPr/>
          <p:nvPr/>
        </p:nvPicPr>
        <p:blipFill>
          <a:blip r:embed="rId1"/>
          <a:stretch/>
        </p:blipFill>
        <p:spPr>
          <a:xfrm>
            <a:off x="2286000" y="1905120"/>
            <a:ext cx="2949480" cy="19634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pets rfid"/>
          <p:cNvPicPr/>
          <p:nvPr/>
        </p:nvPicPr>
        <p:blipFill>
          <a:blip r:embed="rId2"/>
          <a:stretch/>
        </p:blipFill>
        <p:spPr>
          <a:xfrm>
            <a:off x="5562720" y="1905120"/>
            <a:ext cx="2743200" cy="1950840"/>
          </a:xfrm>
          <a:prstGeom prst="rect">
            <a:avLst/>
          </a:prstGeom>
          <a:ln w="0">
            <a:noFill/>
          </a:ln>
        </p:spPr>
      </p:pic>
      <p:grpSp>
        <p:nvGrpSpPr>
          <p:cNvPr id="391" name="Group 9"/>
          <p:cNvGrpSpPr/>
          <p:nvPr/>
        </p:nvGrpSpPr>
        <p:grpSpPr>
          <a:xfrm>
            <a:off x="1981080" y="4476600"/>
            <a:ext cx="6857640" cy="2305080"/>
            <a:chOff x="1981080" y="4476600"/>
            <a:chExt cx="6857640" cy="2305080"/>
          </a:xfrm>
        </p:grpSpPr>
        <p:sp>
          <p:nvSpPr>
            <p:cNvPr id="392" name="AutoShape 10"/>
            <p:cNvSpPr/>
            <p:nvPr/>
          </p:nvSpPr>
          <p:spPr>
            <a:xfrm>
              <a:off x="2041560" y="4476600"/>
              <a:ext cx="6797160" cy="22518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AutoShape 11"/>
            <p:cNvSpPr/>
            <p:nvPr/>
          </p:nvSpPr>
          <p:spPr>
            <a:xfrm>
              <a:off x="1981080" y="4529880"/>
              <a:ext cx="6796800" cy="2251800"/>
            </a:xfrm>
            <a:prstGeom prst="roundRect">
              <a:avLst>
                <a:gd name="adj" fmla="val 16667"/>
              </a:avLst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4" name="Text Box 12"/>
          <p:cNvSpPr/>
          <p:nvPr/>
        </p:nvSpPr>
        <p:spPr>
          <a:xfrm>
            <a:off x="876240" y="4114800"/>
            <a:ext cx="2259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a50021"/>
                </a:solidFill>
                <a:latin typeface="Palatino Linotype"/>
              </a:rPr>
              <a:t>Alta frecuencia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5" name="Picture 13" descr="RFID Paciente 1"/>
          <p:cNvPicPr/>
          <p:nvPr/>
        </p:nvPicPr>
        <p:blipFill>
          <a:blip r:embed="rId3"/>
          <a:stretch/>
        </p:blipFill>
        <p:spPr>
          <a:xfrm>
            <a:off x="2514600" y="4648320"/>
            <a:ext cx="2895480" cy="19368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4" descr="bodegas con RFID"/>
          <p:cNvPicPr/>
          <p:nvPr/>
        </p:nvPicPr>
        <p:blipFill>
          <a:blip r:embed="rId4"/>
          <a:stretch/>
        </p:blipFill>
        <p:spPr>
          <a:xfrm>
            <a:off x="5715000" y="4664160"/>
            <a:ext cx="259092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2ECD-6455-4EE6-8BFC-AA5985F534C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55640" y="171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Aplicacio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00" name="Group 3"/>
          <p:cNvGrpSpPr/>
          <p:nvPr/>
        </p:nvGrpSpPr>
        <p:grpSpPr>
          <a:xfrm>
            <a:off x="1981080" y="1676520"/>
            <a:ext cx="6933960" cy="2437920"/>
            <a:chOff x="1981080" y="1676520"/>
            <a:chExt cx="6933960" cy="2437920"/>
          </a:xfrm>
        </p:grpSpPr>
        <p:sp>
          <p:nvSpPr>
            <p:cNvPr id="401" name="AutoShape 4"/>
            <p:cNvSpPr/>
            <p:nvPr/>
          </p:nvSpPr>
          <p:spPr>
            <a:xfrm>
              <a:off x="2042280" y="1676520"/>
              <a:ext cx="6872760" cy="2381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AutoShape 5"/>
            <p:cNvSpPr/>
            <p:nvPr/>
          </p:nvSpPr>
          <p:spPr>
            <a:xfrm>
              <a:off x="1981080" y="1732680"/>
              <a:ext cx="6872400" cy="2381760"/>
            </a:xfrm>
            <a:prstGeom prst="roundRect">
              <a:avLst>
                <a:gd name="adj" fmla="val 16667"/>
              </a:avLst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3" name="Text Box 6"/>
          <p:cNvSpPr/>
          <p:nvPr/>
        </p:nvSpPr>
        <p:spPr>
          <a:xfrm>
            <a:off x="970200" y="1295280"/>
            <a:ext cx="2990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a50021"/>
                </a:solidFill>
                <a:latin typeface="Palatino Linotype"/>
              </a:rPr>
              <a:t>Ultra alta frecuencia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4" name="Group 7"/>
          <p:cNvGrpSpPr/>
          <p:nvPr/>
        </p:nvGrpSpPr>
        <p:grpSpPr>
          <a:xfrm>
            <a:off x="2057400" y="4476600"/>
            <a:ext cx="6857640" cy="2305080"/>
            <a:chOff x="2057400" y="4476600"/>
            <a:chExt cx="6857640" cy="2305080"/>
          </a:xfrm>
        </p:grpSpPr>
        <p:sp>
          <p:nvSpPr>
            <p:cNvPr id="405" name="AutoShape 8"/>
            <p:cNvSpPr/>
            <p:nvPr/>
          </p:nvSpPr>
          <p:spPr>
            <a:xfrm>
              <a:off x="2117880" y="4476600"/>
              <a:ext cx="6797160" cy="22518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AutoShape 9"/>
            <p:cNvSpPr/>
            <p:nvPr/>
          </p:nvSpPr>
          <p:spPr>
            <a:xfrm>
              <a:off x="2057400" y="4529880"/>
              <a:ext cx="6796800" cy="2251800"/>
            </a:xfrm>
            <a:prstGeom prst="roundRect">
              <a:avLst>
                <a:gd name="adj" fmla="val 16667"/>
              </a:avLst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7" name="Text Box 10"/>
          <p:cNvSpPr/>
          <p:nvPr/>
        </p:nvSpPr>
        <p:spPr>
          <a:xfrm>
            <a:off x="996120" y="4114800"/>
            <a:ext cx="1778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a50021"/>
                </a:solidFill>
                <a:latin typeface="Palatino Linotype"/>
              </a:rPr>
              <a:t>Microonda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8" name="Picture 11" descr="forkliftrfid"/>
          <p:cNvPicPr/>
          <p:nvPr/>
        </p:nvPicPr>
        <p:blipFill>
          <a:blip r:embed="rId1"/>
          <a:stretch/>
        </p:blipFill>
        <p:spPr>
          <a:xfrm>
            <a:off x="2819520" y="1851120"/>
            <a:ext cx="1671480" cy="2166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2" descr="non line of sight"/>
          <p:cNvPicPr/>
          <p:nvPr/>
        </p:nvPicPr>
        <p:blipFill>
          <a:blip r:embed="rId2"/>
          <a:stretch/>
        </p:blipFill>
        <p:spPr>
          <a:xfrm>
            <a:off x="6019920" y="1851120"/>
            <a:ext cx="2133360" cy="2133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3" descr="RFID CAR PASE"/>
          <p:cNvPicPr/>
          <p:nvPr/>
        </p:nvPicPr>
        <p:blipFill>
          <a:blip r:embed="rId3"/>
          <a:stretch/>
        </p:blipFill>
        <p:spPr>
          <a:xfrm>
            <a:off x="2286000" y="4584600"/>
            <a:ext cx="2743200" cy="2044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4" descr="truck2"/>
          <p:cNvPicPr/>
          <p:nvPr/>
        </p:nvPicPr>
        <p:blipFill>
          <a:blip r:embed="rId4"/>
          <a:stretch/>
        </p:blipFill>
        <p:spPr>
          <a:xfrm>
            <a:off x="5943600" y="4584600"/>
            <a:ext cx="27432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ooter Placeholder 1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Slide Number Placeholder 2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9B17-5B99-439C-8A66-92322E5AD06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600200" y="1332000"/>
            <a:ext cx="7162920" cy="5373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3"/>
          <p:cNvSpPr/>
          <p:nvPr/>
        </p:nvSpPr>
        <p:spPr>
          <a:xfrm>
            <a:off x="1143000" y="426960"/>
            <a:ext cx="84582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Aplicaciones: Retai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0BFA-C2AA-4573-9405-3BA7988A935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Gesti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  <a:ea typeface="Tahoma"/>
              </a:rPr>
              <a:t>ó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6760" y="177156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o manejar procesos de negoc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pecificar medidas de desempe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ño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s-CL" sz="2000" spc="-1" strike="noStrike">
                <a:solidFill>
                  <a:srgbClr val="000000"/>
                </a:solidFill>
                <a:latin typeface="Tahoma"/>
              </a:rPr>
              <a:t>costos, calidad, tiempo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), asignar recursos, medir variabilidad, contro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o estructurar procesos y manejar recursos para desarollar las </a:t>
            </a:r>
            <a:r>
              <a:rPr b="0" i="1" lang="es-CL" sz="2400" spc="-1" strike="noStrike">
                <a:solidFill>
                  <a:srgbClr val="000000"/>
                </a:solidFill>
                <a:latin typeface="Tahoma"/>
              </a:rPr>
              <a:t>capacidades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propriadas para transformar inputs en outpu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mercado y la estrategia de la empresa determinan lo que es apropi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o manejar las interacciones entre 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se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ño y manejo de interfac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oter Placeholder 1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Slide Number Placeholder 2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F14F-5168-4D93-88C6-AC4A98E093A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6198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3"/>
          <p:cNvSpPr/>
          <p:nvPr/>
        </p:nvSpPr>
        <p:spPr>
          <a:xfrm>
            <a:off x="1066680" y="503280"/>
            <a:ext cx="8458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RFID &amp; Gestión de la Inform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oter Placeholder 1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Slide Number Placeholder 2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E571-FA68-4B47-88CE-B8D7119069B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 rot="21540000">
            <a:off x="457200" y="1215720"/>
            <a:ext cx="8296200" cy="4952880"/>
          </a:xfrm>
          <a:prstGeom prst="rect">
            <a:avLst/>
          </a:prstGeom>
          <a:ln w="0">
            <a:noFill/>
          </a:ln>
        </p:spPr>
      </p:pic>
      <p:sp>
        <p:nvSpPr>
          <p:cNvPr id="423" name="Line 4"/>
          <p:cNvSpPr/>
          <p:nvPr/>
        </p:nvSpPr>
        <p:spPr>
          <a:xfrm>
            <a:off x="31752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1066680" y="228600"/>
            <a:ext cx="7696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Efectividad Operacional: Wal-Mar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2CF1-22DD-4536-94C8-CA3F3AB735F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Gestión de Operaciones abarca todos los temas anteriores, aunque algunos parezcan de otros ámbi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visión moderna se orienta a analizar y administrar las operaciones en forma integral y global a nivel de toda la empresa (y en algunos casos a nivel de toda la cadena de agregación de valor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B60F-B595-4474-8E18-23F38E1802E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visión moderna va entonces mucho más allá de la tradicional “producción manufacturera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ólo teniendo en cuenta lo anterior se puede lograr la EXCELENC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5D57-EADA-4909-ACE5-BE03309FB6A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tod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 Definición del Problema (¿Qué tipo de decisión es?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 Gener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 Evalu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 Selec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 Imple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166E-4945-4012-AA4D-366210FDCE9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riterios de elección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a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nfia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Flexi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onceptos importantes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Trade-off o intercambi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Múltiples objetivos (institucionales vs personales)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Riesg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BNA, crecimiento, prestigio, porcentaje de mercado, etc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4258-7139-458C-86E5-CE6824BA8DF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vertir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$100.00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ternativa A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ternativa B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8% con probabilidad 0.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0% con probabilidad 0.5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2% con probabilidad 0.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maximizar el retorno esperado, elegir B (10,2%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quiere minimizar el riesgo, elegir 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FC5F-E926-4502-AFD3-12A2FB649DA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to estaría dispuesto a pagar por información adicional (IPC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ólo vale si se nos dice 8%, me cambio de B a A con una ganancia de $2.000 con probabilidad 0.2, es decir con un valor de $400 (2.000*0.2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nformación sólo vale en la medida que mejore las decis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965D-CAA6-4499-99C5-314E125CB52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Qu</a:t>
            </a:r>
            <a:r>
              <a:rPr b="0" lang="es-CL" sz="3600" spc="-1" strike="noStrike">
                <a:solidFill>
                  <a:srgbClr val="333399"/>
                </a:solidFill>
                <a:latin typeface="Tahoma"/>
                <a:ea typeface="Tahoma"/>
              </a:rPr>
              <a:t>é</a:t>
            </a: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 Hace el Gerente de Operaciones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8" name="Group 5"/>
          <p:cNvGrpSpPr/>
          <p:nvPr/>
        </p:nvGrpSpPr>
        <p:grpSpPr>
          <a:xfrm>
            <a:off x="152280" y="1905120"/>
            <a:ext cx="8839440" cy="3325680"/>
            <a:chOff x="152280" y="1905120"/>
            <a:chExt cx="8839440" cy="3325680"/>
          </a:xfrm>
        </p:grpSpPr>
        <p:sp>
          <p:nvSpPr>
            <p:cNvPr id="119" name="AutoShape 4"/>
            <p:cNvSpPr/>
            <p:nvPr/>
          </p:nvSpPr>
          <p:spPr>
            <a:xfrm>
              <a:off x="152280" y="1905120"/>
              <a:ext cx="8839440" cy="33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20" name="Picture 6" descr=""/>
            <p:cNvPicPr/>
            <p:nvPr/>
          </p:nvPicPr>
          <p:blipFill>
            <a:blip r:embed="rId1"/>
            <a:stretch/>
          </p:blipFill>
          <p:spPr>
            <a:xfrm>
              <a:off x="174600" y="1927080"/>
              <a:ext cx="8793360" cy="327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Rectangle 7"/>
            <p:cNvSpPr/>
            <p:nvPr/>
          </p:nvSpPr>
          <p:spPr>
            <a:xfrm>
              <a:off x="311040" y="2117880"/>
              <a:ext cx="1374840" cy="12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Rectangle 8"/>
            <p:cNvSpPr/>
            <p:nvPr/>
          </p:nvSpPr>
          <p:spPr>
            <a:xfrm>
              <a:off x="507240" y="2282760"/>
              <a:ext cx="95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Ratbert, t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Rectangle 9"/>
            <p:cNvSpPr/>
            <p:nvPr/>
          </p:nvSpPr>
          <p:spPr>
            <a:xfrm>
              <a:off x="371160" y="2502000"/>
              <a:ext cx="1218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tengo buena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646560" y="2720880"/>
              <a:ext cx="68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y mala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637560" y="2941560"/>
              <a:ext cx="70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noticia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Rectangle 12"/>
            <p:cNvSpPr/>
            <p:nvPr/>
          </p:nvSpPr>
          <p:spPr>
            <a:xfrm>
              <a:off x="3333600" y="2185920"/>
              <a:ext cx="2337120" cy="137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Rectangle 13"/>
            <p:cNvSpPr/>
            <p:nvPr/>
          </p:nvSpPr>
          <p:spPr>
            <a:xfrm>
              <a:off x="3420720" y="2309760"/>
              <a:ext cx="210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Las buenas noticias s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Rectangle 14"/>
            <p:cNvSpPr/>
            <p:nvPr/>
          </p:nvSpPr>
          <p:spPr>
            <a:xfrm>
              <a:off x="3421440" y="2529000"/>
              <a:ext cx="2100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que estoy abriendo un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Rectangle 15"/>
            <p:cNvSpPr/>
            <p:nvPr/>
          </p:nvSpPr>
          <p:spPr>
            <a:xfrm>
              <a:off x="3502080" y="2749680"/>
              <a:ext cx="194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central de generació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Rectangle 16"/>
            <p:cNvSpPr/>
            <p:nvPr/>
          </p:nvSpPr>
          <p:spPr>
            <a:xfrm>
              <a:off x="3515760" y="2968560"/>
              <a:ext cx="185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nuclear y tu serás mi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Rectangle 17"/>
            <p:cNvSpPr/>
            <p:nvPr/>
          </p:nvSpPr>
          <p:spPr>
            <a:xfrm>
              <a:off x="3424680" y="3189240"/>
              <a:ext cx="209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gerente de operacione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Rectangle 18"/>
            <p:cNvSpPr/>
            <p:nvPr/>
          </p:nvSpPr>
          <p:spPr>
            <a:xfrm>
              <a:off x="6219720" y="2185920"/>
              <a:ext cx="2198880" cy="12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Rectangle 19"/>
            <p:cNvSpPr/>
            <p:nvPr/>
          </p:nvSpPr>
          <p:spPr>
            <a:xfrm>
              <a:off x="6296040" y="2351160"/>
              <a:ext cx="198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Las malas noticias s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Rectangle 20"/>
            <p:cNvSpPr/>
            <p:nvPr/>
          </p:nvSpPr>
          <p:spPr>
            <a:xfrm>
              <a:off x="6468480" y="2571840"/>
              <a:ext cx="165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que tu oficina está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Rectangle 21"/>
            <p:cNvSpPr/>
            <p:nvPr/>
          </p:nvSpPr>
          <p:spPr>
            <a:xfrm>
              <a:off x="6285600" y="2790720"/>
              <a:ext cx="205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</a:rPr>
                <a:t>adentro del generador.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Rectangle 22"/>
            <p:cNvSpPr/>
            <p:nvPr/>
          </p:nvSpPr>
          <p:spPr>
            <a:xfrm>
              <a:off x="6954840" y="301140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2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DEE4-592F-4BF7-A988-513E81D5AF9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ceso de Transformaci</a:t>
            </a:r>
            <a:r>
              <a:rPr b="0" lang="es-ES_tradnl" sz="4400" spc="-1" strike="noStrike">
                <a:solidFill>
                  <a:srgbClr val="333399"/>
                </a:solidFill>
                <a:latin typeface="Tahoma"/>
                <a:ea typeface="Tahoma"/>
              </a:rPr>
              <a:t>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0" name="Group 1043"/>
          <p:cNvGrpSpPr/>
          <p:nvPr/>
        </p:nvGrpSpPr>
        <p:grpSpPr>
          <a:xfrm>
            <a:off x="1152000" y="2819520"/>
            <a:ext cx="4596480" cy="2189520"/>
            <a:chOff x="1152000" y="2819520"/>
            <a:chExt cx="4596480" cy="2189520"/>
          </a:xfrm>
        </p:grpSpPr>
        <p:sp>
          <p:nvSpPr>
            <p:cNvPr id="141" name="Text Box 1029"/>
            <p:cNvSpPr/>
            <p:nvPr/>
          </p:nvSpPr>
          <p:spPr>
            <a:xfrm>
              <a:off x="1152000" y="2819520"/>
              <a:ext cx="153108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INSUMOS: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no de Obr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nergí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Text Box 1032"/>
            <p:cNvSpPr/>
            <p:nvPr/>
          </p:nvSpPr>
          <p:spPr>
            <a:xfrm>
              <a:off x="4191120" y="2819520"/>
              <a:ext cx="155736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PRODUCTOS: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Bien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AutoShape 1034"/>
            <p:cNvSpPr/>
            <p:nvPr/>
          </p:nvSpPr>
          <p:spPr>
            <a:xfrm>
              <a:off x="2743200" y="3505320"/>
              <a:ext cx="1371600" cy="7617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4" name="Text Box 1039"/>
          <p:cNvSpPr/>
          <p:nvPr/>
        </p:nvSpPr>
        <p:spPr>
          <a:xfrm>
            <a:off x="6629400" y="3962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SERVICIO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rre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unicacio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040"/>
          <p:cNvSpPr/>
          <p:nvPr/>
        </p:nvSpPr>
        <p:spPr>
          <a:xfrm>
            <a:off x="6629400" y="1676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BIENE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elulo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ueb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nera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Zapa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ru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1042"/>
          <p:cNvSpPr/>
          <p:nvPr/>
        </p:nvSpPr>
        <p:spPr>
          <a:xfrm>
            <a:off x="6477120" y="1523880"/>
            <a:ext cx="2209680" cy="48006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B6B0-BB5F-4E8E-B7DA-6F020AC4F79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Tipos de Proceso de Negoc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838080" y="1752480"/>
          <a:ext cx="7772400" cy="3867120"/>
        </p:xfrm>
        <a:graphic>
          <a:graphicData uri="http://schemas.openxmlformats.org/drawingml/2006/table">
            <a:tbl>
              <a:tblPr/>
              <a:tblGrid>
                <a:gridCol w="2359080"/>
                <a:gridCol w="1082880"/>
                <a:gridCol w="4330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990033"/>
                          </a:solidFill>
                          <a:latin typeface="Tahoma"/>
                        </a:rPr>
                        <a:t>Ejemplos Gené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990033"/>
                          </a:solidFill>
                          <a:latin typeface="Tahoma"/>
                        </a:rPr>
                        <a:t>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990033"/>
                          </a:solidFill>
                          <a:latin typeface="Tahoma"/>
                        </a:rPr>
                        <a:t>Puntos de Entrada y Sal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cesamiento de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Ó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d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Ó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d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de la recepción hasta la entrega de la orde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ceso de Produ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de la recepción de orden de producción hasta la entrega del produ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ística de despac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du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de la recepción del producto en la bodega de despacho hasta la entrega del producto al cl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ceso de Abaste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P e Insu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de la generación de la orden de compra hasta la recepción de las materias primas e insum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ceso de Atención al Cl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de la llegada del cliente hasta su salida del sistema de atenció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arrollo de Nuevos Produc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y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de la identificación de una necesidad hasta el lanzamiento de un nuevo producto que la satisfag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clo del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n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de el gasto de fondos (costos) hasta la recepción de las retorn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1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Slide Number Placeholder 2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8508-9AED-4F96-9C8F-7EF217FB0CF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1371600" y="609480"/>
            <a:ext cx="662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El Enfoque de Proces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6320" y="1706400"/>
            <a:ext cx="89913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 visión de procesos cumple dos funciones princip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Evaluar Proces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Medidas de Desemp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Contar lo que se puede contar, medir lo que se puede medir, y lo que no se puede medir hacerlo medible”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– Galileo Galilei (1564-164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En Dios confiamos, el resto debe justificar sus datos”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–W. Edwards Deming (1900-199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Mejorar Proces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studiar mecanismos para diseñar, reestructurar y manejar procesos y así optimizar su desempeñ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63AD-3B25-4256-9D2C-B544069DCCA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Qu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  <a:ea typeface="Tahoma"/>
              </a:rPr>
              <a:t>é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Define un Buen Proces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didas Absolut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ornos, cotos, ingresos operacionales, ingresos ne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alor Presente Neto (VP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didas Relativ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orno sobre Patrimon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orno sobre Activ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orno sobre Invers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didas de Sobreviv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atios de Flujos de Caj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3300"/>
                </a:solidFill>
                <a:latin typeface="Tahoma"/>
              </a:rPr>
              <a:t>Cuales son las desventajas de usar estas medidas de desempeñ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43160" y="1447920"/>
            <a:ext cx="35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990033"/>
                </a:solidFill>
                <a:uFillTx/>
                <a:latin typeface="Times New Roman"/>
              </a:rPr>
              <a:t>Medidas Financie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 rot="21562800">
            <a:off x="492732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7109-0E5F-49BD-9FE4-853935BBEFD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54120"/>
            <a:ext cx="42926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990033"/>
                </a:solidFill>
                <a:uFillTx/>
                <a:latin typeface="Tahoma"/>
              </a:rPr>
              <a:t>Medidas Operaciona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60958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l proceso de producció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l servi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apidez, confiabilidad en las entreg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sarrollo de nuevos produ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ariedad y volu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Freeform 4"/>
          <p:cNvSpPr/>
          <p:nvPr/>
        </p:nvSpPr>
        <p:spPr>
          <a:xfrm>
            <a:off x="5943600" y="2057400"/>
            <a:ext cx="380880" cy="3809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8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6400800" y="2819520"/>
            <a:ext cx="2514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Generación de Capacidade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Ganar    Mercado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0666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Qu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  <a:ea typeface="Tahoma"/>
              </a:rPr>
              <a:t>é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Define un Buen Proceso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Rene Caldentey</cp:lastModifiedBy>
  <cp:lastPrinted>2001-04-12T20:51:56Z</cp:lastPrinted>
  <dcterms:modified xsi:type="dcterms:W3CDTF">2009-07-27T18:26:29Z</dcterms:modified>
  <cp:revision>175</cp:revision>
  <dc:subject/>
  <dc:title>Comercio Electrónico</dc:title>
</cp:coreProperties>
</file>